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gif" ContentType="image/gif"/>
  <Override PartName="/ppt/media/image6.jpeg" ContentType="image/jpeg"/>
  <Override PartName="/ppt/media/image8.png" ContentType="image/png"/>
  <Override PartName="/ppt/media/image5.gif" ContentType="image/gif"/>
  <Override PartName="/ppt/media/image9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8" name="PlaceHolder 6"/>
          <p:cNvSpPr>
            <a:spLocks noGrp="1"/>
          </p:cNvSpPr>
          <p:nvPr>
            <p:ph type="sldNum" idx="4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243C6-D37B-418E-A724-306F6451FD1E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Муниципальное бюджетное образовательное учреждение Тогучинского района Горновская начальная общеобразовательная шко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800080"/>
                </a:solidFill>
                <a:latin typeface="DejaVu Serif"/>
              </a:rPr>
              <a:t>урок математики в 4 классе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80"/>
                </a:solidFill>
                <a:latin typeface="DejaVu Serif"/>
              </a:rPr>
              <a:t>Тема</a:t>
            </a:r>
            <a:r>
              <a:rPr b="0" lang="ru-RU" sz="3200" spc="-1" strike="noStrike">
                <a:solidFill>
                  <a:srgbClr val="800080"/>
                </a:solidFill>
                <a:latin typeface="DejaVu Serif"/>
              </a:rPr>
              <a:t> </a:t>
            </a:r>
            <a:r>
              <a:rPr b="1" i="1" lang="ru-RU" sz="3200" spc="-1" strike="noStrike">
                <a:solidFill>
                  <a:srgbClr val="1f497d"/>
                </a:solidFill>
                <a:latin typeface="DejaVu Serif"/>
              </a:rPr>
              <a:t>«График движения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ff"/>
                </a:solidFill>
                <a:latin typeface="Calibri"/>
              </a:rPr>
              <a:t>учитель высшей квалификационной категории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0000ff"/>
                </a:solidFill>
                <a:latin typeface="DejaVu Serif"/>
              </a:rPr>
              <a:t>С.В.Мостовенко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098D5-7B8A-4F74-9220-6C2B6F0D9E05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cc"/>
                </a:solidFill>
                <a:latin typeface="Georgia"/>
              </a:rPr>
              <a:t>Начинается ур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cc"/>
                </a:solidFill>
                <a:latin typeface="Georgia"/>
              </a:rPr>
              <a:t>Он пойдёт ребятам впрок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cc"/>
                </a:solidFill>
                <a:latin typeface="Georgia"/>
              </a:rPr>
              <a:t>Постарайтесь всё понять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cc"/>
                </a:solidFill>
                <a:latin typeface="Georgia"/>
              </a:rPr>
              <a:t>Да и правильно считать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0E1F1-19F1-46AD-A04E-042BF6CF62DC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Georgia"/>
              </a:rPr>
              <a:t>Движение -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ходиться в движении, перемещаться, направлять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мещение кого (чего)-нибудь  в определённом направлен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менение положения тела или его част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нутреннее побуждение, вызванное каким-нибудь чувством, переживани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зда, ходьба в разных направления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ктивная деятельность  многих людей, направленная на достижение обще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1B615-8EAB-42E4-A9E7-D43516151DF1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«Блиц-турнир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стояние между двумя замками 168 км. Посыльный 4 часа мчался на лошади со скоростью 36 км/ч, а остальной путь вынужден был бежать со скоростью 8 км/ч. Сколько часов посыльный добирался до замк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(168 – 36 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  <a:ea typeface="Arial"/>
              </a:rPr>
              <a:t>∙ 4) </a:t>
            </a:r>
            <a:r>
              <a:rPr b="1" lang="en-US" sz="1200" spc="-1" strike="noStrike">
                <a:solidFill>
                  <a:srgbClr val="ff0000"/>
                </a:solidFill>
                <a:latin typeface="Calibri"/>
                <a:ea typeface="Arial"/>
              </a:rPr>
              <a:t>: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  <a:ea typeface="Arial"/>
              </a:rPr>
              <a:t> 8 + 4 = 7 (ч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ва поезда вышли одновременно навстречу друг другу из двух городов, расстояние между которыми 600 км. Скорость первого поезда 70 км/ч, а второго – 80 км/ч. Какое расстояние было между поездами через 3 часа после выход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600 – (70 + 80) 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  <a:ea typeface="Arial"/>
              </a:rPr>
              <a:t>∙ 3 = 150 (км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нец прошёл по долине 100 км, а по горной дороге – лишь 24 % этого пути. С какой скоростью шёл гонец по горной дороге, если прошёл её за 3 час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100 </a:t>
            </a:r>
            <a:r>
              <a:rPr b="1" lang="en-US" sz="1200" spc="-1" strike="noStrike">
                <a:solidFill>
                  <a:srgbClr val="ff0000"/>
                </a:solidFill>
                <a:latin typeface="Calibri"/>
                <a:ea typeface="Arial"/>
              </a:rPr>
              <a:t>: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  <a:ea typeface="Arial"/>
              </a:rPr>
              <a:t> 100 ∙ 24 </a:t>
            </a:r>
            <a:r>
              <a:rPr b="1" lang="en-US" sz="1200" spc="-1" strike="noStrike">
                <a:solidFill>
                  <a:srgbClr val="ff0000"/>
                </a:solidFill>
                <a:latin typeface="Calibri"/>
                <a:ea typeface="Arial"/>
              </a:rPr>
              <a:t>: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  <a:ea typeface="Arial"/>
              </a:rPr>
              <a:t> 3 = 8 (км/ч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4F2AC-9FF5-4D57-89B5-00B6795BA99D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Georgia"/>
              </a:rPr>
              <a:t>Что позволяет определить график движени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8D39F-5D39-4E6B-AF5B-ED22A8A080F4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36BB7-405D-4755-A475-0C77A989F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8705B-C752-4C5B-9D2A-401696B97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B9B3C3-E351-4699-862E-8B099942F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859D19-EDEB-438F-AB58-CDE873036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C352F3-6BF9-4EF5-992B-CB01D3F47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76BA58-7218-4426-942C-9A9EA5598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679C01-21B2-4711-AE77-4351555EA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70A436-892C-4B27-B30C-849C9D5EB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75F801-BBE7-463F-BF3E-0851309B7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6C465A-1FCD-4E80-B875-9E82C3074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546187-8A4D-40CA-AE06-6836F3ACF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CDAA74-ACD9-4B74-BBD1-8A1463A6A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4C573-4230-4B18-B317-CED7DA03C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ED208A-C74F-4F8D-9EDE-60B6261C0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0935D7-ADB3-400B-A515-827B675AC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AC6329-89FF-4D09-AAB0-E6AFA558D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859E7F-B9A4-49C7-AF7D-915848F36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4965EA-83C1-421E-BC05-5E3354C8E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3C9C13-AD07-45B9-B2AD-63B0F6D3B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83E2F2-D23F-4720-9803-12D39AA30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F1348C-E52E-4768-B545-6B268ED33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B2CBEA-F297-4643-80A1-44E1D2DA9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938F4E-EA56-4C97-A852-CBCD91D52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9CA79-B4C1-4FE8-919F-08A33DFCB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4A3A2D-2886-4DDD-85E6-B82BEB630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EEB31E-CE85-49EE-96C2-880D0A0BB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4EC050-361A-482F-8591-17438B7EB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E4CE1D-78DF-4082-BCAB-02253A34E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D6C0BA-2EB4-4E7C-865E-7CE895029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01CDB2-6F8A-4196-A9A6-4FDAECB78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9FCA4D-7355-46E8-A168-19C0F1197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2B8FBC-C18C-42AD-B4B0-788FB2919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900067-227D-4CA6-B2B2-10C0452F1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140B63-F539-4F03-BB69-6712D135B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66ADD0-6707-4840-9483-391AF7DF9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2D8906-860D-4557-AFFC-81B6C9593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B9F8CC-C155-467A-8685-F411528F7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05DDEE-54EB-4921-B8B6-3224FBFF2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25C059-F746-478D-9527-27D74E544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DB2355-E02E-495D-923A-359D6FEB6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1F6042-2902-48C4-BA50-32BE39C3C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EA48D0-A574-4863-B384-D70383689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DBB44C-4E7A-4A87-AB4A-6C588ABA9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F7A254-E8CC-4280-963F-814E04991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3A2049-9396-4B52-9B12-EA3160D0B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80C412-D8E1-42AD-BBEF-8832141BF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6286BC-F661-4BBD-AEEA-F7E29C4BE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0FE982-64B5-44C7-80C9-7AC2FE521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DBFF46-9C37-4C46-9F31-E35D56626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79D1D5-80C8-41DF-8DC4-D0D82E61D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B195D7-5B6C-44EA-9B16-30C80B642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AE73700-8CC9-46CB-8EB4-4D6C3F384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0D7BA87-A3C1-47CE-8B54-E47F9CC97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C30E477-4D4D-487A-8E51-1CF679361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FEFEAB2-DA19-4348-A3B1-E7088844C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B5BE19C-2897-466D-93E2-C04166927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AC06C4-E08F-4217-B50F-EF0B33002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3697F15-2EB0-45F5-BE18-574A28092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85DA413-F982-407D-BA9E-320258175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B891C0B-8E9B-4147-B56C-B1DDE4B5E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5E4B01C-EB82-4CB8-BD80-8A6771100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20EF162-D4E7-4C02-BD1D-F80CA7249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3D72382-5605-48AC-8A85-341134A00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114063F-CFD4-448E-8910-8AF0D40F5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6B46B0-FFE8-4FD0-9C2C-CB10CFDA0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301E9E-D861-4887-8F0B-C444DA9EB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63644D-3B05-461F-83CE-C51D65FC3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58FCD5-0834-4B9B-8C2B-556A16460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802CE-CA07-448B-972D-2FFD63815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3AD28B-FA90-4D3A-904D-A5A5CCC6A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1E29E4-B557-47BA-8EA3-0199DE72A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CD4B61-F5AC-4508-A660-6899D96C7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5B5403-77F9-4505-A055-E468913D8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7D93A7-8828-4D7C-845E-BF90C244C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F43766-AEA8-47F9-89C9-23C6008FB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D1A909-2075-4E79-B77A-EC2187459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47574A-7D5C-4A79-87DA-A2314B070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1D68D2-1BEA-489F-98CC-3899EC605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8C4BFB-F027-4000-AECC-8E7601FA3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A389F-950D-49FF-961E-B2BE54686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55315F-FE39-49FF-ADA7-044920A33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17D061-AD46-490B-92DE-E868F6CE1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0B4FF3-77D7-4C3E-813D-28E9F146C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628143-AA93-4361-8E69-2E40CC75A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858EB1-4AFB-49EA-80F7-9527BC260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6045EE-B57E-4B43-B97D-712448BF0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E69D5F-E113-49B1-A94B-239F755E0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D5862F-889A-4473-840C-59F92B892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F35DC6-07A2-42F1-83B7-0C5DA591A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FA64A9-6006-43F0-8A68-67C2AE315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C1EF6-0915-430F-BA0A-ECFF4C37F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CF6985-158E-416B-9FDE-E6F054871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A76CCF-696E-4AE9-A354-1692BC13F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FA2C4B-E6CC-471D-9726-787ECA382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847CDB-8718-415F-BED7-4DCCF8487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B8C822-4961-4911-B903-492A6DE66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C7F038-F4BF-4408-8DAB-4725E3A7F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4ECC74-3BFC-49CA-A1A5-0E5C34632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96B285-2648-4309-AE7F-C6819AA0F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940561-42F1-4378-92A6-84267B180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E75020-3776-48E2-B54A-61C319A8D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36E13-F20C-4735-968C-7C339037D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8FAF1C-B621-46B2-BDC5-BE8E6F7C6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3C4A5C-F79B-4BC8-9677-9E8866549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B3A6FF-A562-4C73-80ED-AB8A749C2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2AFC66-388D-499C-BE3C-AF1AA0061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CA10A6-1B41-4069-9D69-C39340F34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A394E5-64DD-4A1E-8878-727113DB8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6A7848-2804-4CAB-B099-40C6EF3D7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6FD076-8F6D-4958-9208-13AE7EE7B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A953A6-1FDC-4E60-9E19-65B9074B4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17ECD8-5E08-4F4F-ACF4-4A51B0CA8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46D46-C470-4F9F-B227-8AE145592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202467-25CE-4948-9E7E-0AD3C9603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3BC1E3-D456-4648-9C0F-AFB78A804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5D47D5-5E0E-4714-87F5-9A4F13212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B16EB1-650F-4566-B7EB-55D227287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3DE179-2BD0-47B2-A994-053307B11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698BA2-9D65-4F56-9400-389A1AA88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50FE55-B81E-461A-9CC7-5AC4EDEBE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5A12D1-46AC-472D-9CEE-65323BE17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BB52F0-9CB1-47EE-838A-402D49E64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616F84-1C57-43E9-9218-C7A80316F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57BFD-48D0-4536-94E6-3EED8995E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6751AA-0EEB-411C-9A10-34C75B0BD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A2302A-045E-44EC-B01A-CD87D21F1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1896CC-BB59-4F8F-BDBC-FC4813140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525D0E-8E19-426F-8EE3-B62FAEBCD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F40ECA-4F93-4F7E-A424-A02B80590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58F943-0596-42E8-82D7-03731657E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F28EC2-8AED-486B-9928-9DB9091BA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7646F6-F764-4EE6-B181-B0E60E999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610827-D5DE-4C0E-8EA4-C08B325B7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C9BAC2-6E96-4135-8BD0-00E892555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A54AF-04C3-46AF-8041-35D770691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1B3715-DC5B-418F-8D9D-BB9404163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821E24-A808-4564-9CEB-753918B92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8D55FA-D051-45FB-A9A0-C4C7BBCD6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B02B7A-037E-4B60-8B04-72CBAB740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536751-C235-4DAD-AC8F-C565A478B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0CA9F6-F836-4B6D-8DBB-D73F32FC0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04738D-6E33-4B2A-AB49-5B46CCCF5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06614B-BE2B-49DE-9D1D-7C6AB0C65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5F1617-AFE9-4D9B-98A6-3B2956DA1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E01CD9-11B5-49CA-B99F-973164CF6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947D8-6F6A-4F09-B3A7-550C5774C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D4C2AC-5431-454D-9C82-016496B1E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5C4B20-3957-476B-9BCC-04F77D39F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65EF79-E8EB-4BD1-AC8D-F282C2EC9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7CDC5C-3D25-4E92-8BEC-F10A13784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B575CB-9329-4A36-B5AA-E9B1773BB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163104-A919-4974-99F8-C9F37BBC3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9FD19A-0E82-42FB-AAA1-CD0107A2E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C9792B-6361-4368-BF86-F170A6559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512FA8-013A-4611-9269-A9399124A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6FB6C0-B8B1-4A38-BF64-F5F62A04B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3.xml"/><Relationship Id="rId8" Type="http://schemas.openxmlformats.org/officeDocument/2006/relationships/slideLayout" Target="../slideLayouts/slideLayout134.xml"/><Relationship Id="rId9" Type="http://schemas.openxmlformats.org/officeDocument/2006/relationships/slideLayout" Target="../slideLayouts/slideLayout135.xml"/><Relationship Id="rId10" Type="http://schemas.openxmlformats.org/officeDocument/2006/relationships/slideLayout" Target="../slideLayouts/slideLayout136.xml"/><Relationship Id="rId11" Type="http://schemas.openxmlformats.org/officeDocument/2006/relationships/slideLayout" Target="../slideLayouts/slideLayout137.xml"/><Relationship Id="rId12" Type="http://schemas.openxmlformats.org/officeDocument/2006/relationships/slideLayout" Target="../slideLayouts/slideLayout138.xml"/><Relationship Id="rId13" Type="http://schemas.openxmlformats.org/officeDocument/2006/relationships/slideLayout" Target="../slideLayouts/slideLayout139.xml"/><Relationship Id="rId14" Type="http://schemas.openxmlformats.org/officeDocument/2006/relationships/slideLayout" Target="../slideLayouts/slideLayout140.xml"/><Relationship Id="rId15" Type="http://schemas.openxmlformats.org/officeDocument/2006/relationships/slideLayout" Target="../slideLayouts/slideLayout141.xml"/><Relationship Id="rId16" Type="http://schemas.openxmlformats.org/officeDocument/2006/relationships/slideLayout" Target="../slideLayouts/slideLayout142.xml"/><Relationship Id="rId17" Type="http://schemas.openxmlformats.org/officeDocument/2006/relationships/slideLayout" Target="../slideLayouts/slideLayout143.xml"/><Relationship Id="rId18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4308D-3BB0-4620-98F4-A74C46F163CA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2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29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01EC4-5201-4FCD-9447-68B2E4F86245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6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557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58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59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7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999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60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 type="dt" idx="31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 type="ftr" idx="32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2C5FE-4085-4A21-AB1C-C856ADA63B90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2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603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04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05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06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07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08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09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10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11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12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13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14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615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616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17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18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19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20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21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22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23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24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25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26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27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28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29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30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31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32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33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34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35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36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37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38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39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40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8FB9D-EA81-4ABE-9974-B548B7E3889C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7"/>
    <p:sldLayoutId id="2147483793" r:id="rId8"/>
    <p:sldLayoutId id="2147483794" r:id="rId9"/>
    <p:sldLayoutId id="2147483795" r:id="rId10"/>
    <p:sldLayoutId id="2147483796" r:id="rId11"/>
    <p:sldLayoutId id="2147483797" r:id="rId12"/>
    <p:sldLayoutId id="2147483798" r:id="rId13"/>
    <p:sldLayoutId id="2147483799" r:id="rId14"/>
    <p:sldLayoutId id="2147483800" r:id="rId15"/>
    <p:sldLayoutId id="2147483801" r:id="rId16"/>
    <p:sldLayoutId id="2147483802" r:id="rId17"/>
    <p:sldLayoutId id="2147483803" r:id="rId18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2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683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684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685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86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87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688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689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90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 type="dt" idx="37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 type="ftr" idx="38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 type="sldNum" idx="39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A8E4C-2DA9-481B-8F2E-DBF19D2145E9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04963-99E9-4903-A7D2-2A27A44BC7C0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9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90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2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3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5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6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7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8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99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18D78-B9E9-4B59-B58F-DAD9E898FCE2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1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82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3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500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999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4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806E1-F520-4867-9633-5D8224D92C7E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6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227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8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9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0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1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2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3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4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5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6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7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8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39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240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1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2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3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4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5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6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7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8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9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0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1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2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3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4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5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6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7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8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9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0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1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2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3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4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67A80-D188-4684-9BFF-D11488FA0A60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3CB28-B6D6-468A-95D4-76321061CFE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7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348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349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50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51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dt" idx="19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ftr" idx="20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sldNum" idx="21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6019E-D2C1-4C11-9227-572289DAF571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7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95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396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97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98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399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400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01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02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03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04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405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406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07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08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409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410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11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12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13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14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415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6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9E481-9960-439A-913A-06955EB7A5E3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8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59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60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461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462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63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64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65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66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67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68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69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70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71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A7B12-1ACF-45DC-902A-B5FEA42316E5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200"/>
                </a:solidFill>
                <a:latin typeface="Comic Sans MS"/>
              </a:rPr>
              <a:t>Муниципальное бюджетное образовательное учреждение Тогучинского района Горновская начальная общеобразовательная школ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2674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dff"/>
                </a:solidFill>
                <a:latin typeface="DejaVu Serif"/>
              </a:rPr>
              <a:t>урок математики в 4 классе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6748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2674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703dff"/>
                </a:solidFill>
                <a:latin typeface="DejaVu Serif"/>
              </a:rPr>
              <a:t>Тема</a:t>
            </a:r>
            <a:r>
              <a:rPr b="0" lang="ru-RU" sz="4800" spc="-1" strike="noStrike">
                <a:solidFill>
                  <a:srgbClr val="703dff"/>
                </a:solidFill>
                <a:latin typeface="DejaVu Serif"/>
              </a:rPr>
              <a:t> </a:t>
            </a:r>
            <a:r>
              <a:rPr b="1" i="1" lang="ru-RU" sz="4800" spc="-1" strike="noStrike">
                <a:solidFill>
                  <a:srgbClr val="ff0000"/>
                </a:solidFill>
                <a:latin typeface="DejaVu Serif"/>
              </a:rPr>
              <a:t>«График движения»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267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67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267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267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267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267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2674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Comic Sans MS"/>
              </a:rPr>
              <a:t>учитель высшей квалификационной категории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2674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DejaVu Serif"/>
              </a:rPr>
              <a:t>С.В.Мостовенко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1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Text Box 19"/>
          <p:cNvSpPr/>
          <p:nvPr/>
        </p:nvSpPr>
        <p:spPr>
          <a:xfrm>
            <a:off x="609480" y="1371600"/>
            <a:ext cx="754380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Georgia"/>
              </a:rPr>
              <a:t>Начинается урок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Georgia"/>
              </a:rPr>
              <a:t>Он пойдёт ребятам впрок,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Georgia"/>
              </a:rPr>
              <a:t>Постарайтесь всё понять,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Georgia"/>
              </a:rPr>
              <a:t>Да и правильно считать!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3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7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7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7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Text Box 2"/>
          <p:cNvSpPr/>
          <p:nvPr/>
        </p:nvSpPr>
        <p:spPr>
          <a:xfrm>
            <a:off x="669960" y="457200"/>
            <a:ext cx="62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Georgia"/>
              </a:rPr>
              <a:t>И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5" name="Text Box 3"/>
          <p:cNvSpPr/>
          <p:nvPr/>
        </p:nvSpPr>
        <p:spPr>
          <a:xfrm>
            <a:off x="1371600" y="341280"/>
            <a:ext cx="3124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600      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6" name="Line 4"/>
          <p:cNvSpPr/>
          <p:nvPr/>
        </p:nvSpPr>
        <p:spPr>
          <a:xfrm>
            <a:off x="1447920" y="6858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7" name="Line 5"/>
          <p:cNvSpPr/>
          <p:nvPr/>
        </p:nvSpPr>
        <p:spPr>
          <a:xfrm>
            <a:off x="2209680" y="6094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8" name="Line 6"/>
          <p:cNvSpPr/>
          <p:nvPr/>
        </p:nvSpPr>
        <p:spPr>
          <a:xfrm>
            <a:off x="2209680" y="7621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9" name="Text Box 7"/>
          <p:cNvSpPr/>
          <p:nvPr/>
        </p:nvSpPr>
        <p:spPr>
          <a:xfrm>
            <a:off x="685800" y="1411200"/>
            <a:ext cx="3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Georgia"/>
              </a:rPr>
              <a:t>Д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0" name="Text Box 8"/>
          <p:cNvSpPr/>
          <p:nvPr/>
        </p:nvSpPr>
        <p:spPr>
          <a:xfrm>
            <a:off x="1660680" y="14079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1" name="Text Box 9"/>
          <p:cNvSpPr/>
          <p:nvPr/>
        </p:nvSpPr>
        <p:spPr>
          <a:xfrm>
            <a:off x="685800" y="224964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Georgia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2" name="Text Box 10"/>
          <p:cNvSpPr/>
          <p:nvPr/>
        </p:nvSpPr>
        <p:spPr>
          <a:xfrm>
            <a:off x="1509120" y="2246400"/>
            <a:ext cx="42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3" name="Line 11"/>
          <p:cNvSpPr/>
          <p:nvPr/>
        </p:nvSpPr>
        <p:spPr>
          <a:xfrm>
            <a:off x="1523880" y="25909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4" name="Text Box 12"/>
          <p:cNvSpPr/>
          <p:nvPr/>
        </p:nvSpPr>
        <p:spPr>
          <a:xfrm>
            <a:off x="4876920" y="20574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5" name="Text Box 13"/>
          <p:cNvSpPr/>
          <p:nvPr/>
        </p:nvSpPr>
        <p:spPr>
          <a:xfrm>
            <a:off x="2666880" y="4572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92 – 5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6" name="Text Box 14"/>
          <p:cNvSpPr/>
          <p:nvPr/>
        </p:nvSpPr>
        <p:spPr>
          <a:xfrm>
            <a:off x="1600200" y="685800"/>
            <a:ext cx="30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7" name="Text Box 15"/>
          <p:cNvSpPr/>
          <p:nvPr/>
        </p:nvSpPr>
        <p:spPr>
          <a:xfrm>
            <a:off x="1219320" y="15238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 + 54 =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8" name="Line 16"/>
          <p:cNvSpPr/>
          <p:nvPr/>
        </p:nvSpPr>
        <p:spPr>
          <a:xfrm>
            <a:off x="1981080" y="26668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9" name="Line 17"/>
          <p:cNvSpPr/>
          <p:nvPr/>
        </p:nvSpPr>
        <p:spPr>
          <a:xfrm>
            <a:off x="1981080" y="25146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0" name="Text Box 18"/>
          <p:cNvSpPr/>
          <p:nvPr/>
        </p:nvSpPr>
        <p:spPr>
          <a:xfrm>
            <a:off x="2440440" y="2438280"/>
            <a:ext cx="10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0 – 45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1" name="Text Box 19"/>
          <p:cNvSpPr/>
          <p:nvPr/>
        </p:nvSpPr>
        <p:spPr>
          <a:xfrm>
            <a:off x="685800" y="3087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Georgia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2" name="Text Box 20"/>
          <p:cNvSpPr/>
          <p:nvPr/>
        </p:nvSpPr>
        <p:spPr>
          <a:xfrm>
            <a:off x="1356480" y="3160800"/>
            <a:ext cx="93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∙ 27 =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3" name="Text Box 21"/>
          <p:cNvSpPr/>
          <p:nvPr/>
        </p:nvSpPr>
        <p:spPr>
          <a:xfrm>
            <a:off x="685800" y="3809880"/>
            <a:ext cx="66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Georgia"/>
              </a:rPr>
              <a:t>Ж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4" name="Text Box 22"/>
          <p:cNvSpPr/>
          <p:nvPr/>
        </p:nvSpPr>
        <p:spPr>
          <a:xfrm>
            <a:off x="1355760" y="3886200"/>
            <a:ext cx="214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50 –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7 + 195 =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5" name="Text Box 23"/>
          <p:cNvSpPr/>
          <p:nvPr/>
        </p:nvSpPr>
        <p:spPr>
          <a:xfrm>
            <a:off x="762120" y="4572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Georgia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6" name="Text Box 24"/>
          <p:cNvSpPr/>
          <p:nvPr/>
        </p:nvSpPr>
        <p:spPr>
          <a:xfrm>
            <a:off x="1508040" y="4648320"/>
            <a:ext cx="214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270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с – 2) ∙ 30 =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767" name=""/>
          <p:cNvGraphicFramePr/>
          <p:nvPr/>
        </p:nvGraphicFramePr>
        <p:xfrm>
          <a:off x="1143000" y="5257800"/>
          <a:ext cx="6781680" cy="1050840"/>
        </p:xfrm>
        <a:graphic>
          <a:graphicData uri="http://schemas.openxmlformats.org/drawingml/2006/table">
            <a:tbl>
              <a:tblPr/>
              <a:tblGrid>
                <a:gridCol w="847800"/>
                <a:gridCol w="847800"/>
                <a:gridCol w="847440"/>
                <a:gridCol w="847800"/>
                <a:gridCol w="847800"/>
                <a:gridCol w="847800"/>
                <a:gridCol w="847800"/>
                <a:gridCol w="847440"/>
              </a:tblGrid>
              <a:tr h="532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68" name="Text Box 54"/>
          <p:cNvSpPr/>
          <p:nvPr/>
        </p:nvSpPr>
        <p:spPr>
          <a:xfrm>
            <a:off x="4938480" y="493560"/>
            <a:ext cx="8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= 4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9" name="Text Box 55"/>
          <p:cNvSpPr/>
          <p:nvPr/>
        </p:nvSpPr>
        <p:spPr>
          <a:xfrm>
            <a:off x="4938840" y="1332000"/>
            <a:ext cx="94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 = 156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0" name="Text Box 56"/>
          <p:cNvSpPr/>
          <p:nvPr/>
        </p:nvSpPr>
        <p:spPr>
          <a:xfrm>
            <a:off x="4952880" y="224640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 = 14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1" name="Text Box 57"/>
          <p:cNvSpPr/>
          <p:nvPr/>
        </p:nvSpPr>
        <p:spPr>
          <a:xfrm>
            <a:off x="5090400" y="316080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 = 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2" name="Text Box 58"/>
          <p:cNvSpPr/>
          <p:nvPr/>
        </p:nvSpPr>
        <p:spPr>
          <a:xfrm>
            <a:off x="5089680" y="392256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= 15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3" name="Text Box 59"/>
          <p:cNvSpPr/>
          <p:nvPr/>
        </p:nvSpPr>
        <p:spPr>
          <a:xfrm>
            <a:off x="5181480" y="4608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= 9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4" name="Text Box 60"/>
          <p:cNvSpPr/>
          <p:nvPr/>
        </p:nvSpPr>
        <p:spPr>
          <a:xfrm>
            <a:off x="2500200" y="1484280"/>
            <a:ext cx="7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0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∙ 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5" name="Text Box 61"/>
          <p:cNvSpPr/>
          <p:nvPr/>
        </p:nvSpPr>
        <p:spPr>
          <a:xfrm>
            <a:off x="2438280" y="320040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3 - 29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6" name="Text Box 62"/>
          <p:cNvSpPr/>
          <p:nvPr/>
        </p:nvSpPr>
        <p:spPr>
          <a:xfrm>
            <a:off x="3581280" y="3809880"/>
            <a:ext cx="75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0 ∙ 5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7" name="Text Box 63"/>
          <p:cNvSpPr/>
          <p:nvPr/>
        </p:nvSpPr>
        <p:spPr>
          <a:xfrm>
            <a:off x="3659400" y="46483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 ∙ 12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8" name="Text Box 64"/>
          <p:cNvSpPr/>
          <p:nvPr/>
        </p:nvSpPr>
        <p:spPr>
          <a:xfrm>
            <a:off x="2743200" y="4572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9" name="Text Box 65"/>
          <p:cNvSpPr/>
          <p:nvPr/>
        </p:nvSpPr>
        <p:spPr>
          <a:xfrm>
            <a:off x="2517120" y="1523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1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0" name="Text Box 66"/>
          <p:cNvSpPr/>
          <p:nvPr/>
        </p:nvSpPr>
        <p:spPr>
          <a:xfrm>
            <a:off x="2593080" y="24382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1" name="Text Box 67"/>
          <p:cNvSpPr/>
          <p:nvPr/>
        </p:nvSpPr>
        <p:spPr>
          <a:xfrm>
            <a:off x="2593080" y="31240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2" name="Text Box 68"/>
          <p:cNvSpPr/>
          <p:nvPr/>
        </p:nvSpPr>
        <p:spPr>
          <a:xfrm>
            <a:off x="3660120" y="3886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3" name="Text Box 69"/>
          <p:cNvSpPr/>
          <p:nvPr/>
        </p:nvSpPr>
        <p:spPr>
          <a:xfrm>
            <a:off x="3736440" y="464832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4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4" name="Rectangle 70"/>
          <p:cNvSpPr/>
          <p:nvPr/>
        </p:nvSpPr>
        <p:spPr>
          <a:xfrm>
            <a:off x="1373400" y="5867280"/>
            <a:ext cx="3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Д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5" name="Rectangle 71"/>
          <p:cNvSpPr/>
          <p:nvPr/>
        </p:nvSpPr>
        <p:spPr>
          <a:xfrm>
            <a:off x="2211480" y="58672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6" name="Rectangle 72"/>
          <p:cNvSpPr/>
          <p:nvPr/>
        </p:nvSpPr>
        <p:spPr>
          <a:xfrm>
            <a:off x="3049920" y="58672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7" name="Rectangle 73"/>
          <p:cNvSpPr/>
          <p:nvPr/>
        </p:nvSpPr>
        <p:spPr>
          <a:xfrm>
            <a:off x="3886200" y="5867280"/>
            <a:ext cx="39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Ж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8" name="Rectangle 74"/>
          <p:cNvSpPr/>
          <p:nvPr/>
        </p:nvSpPr>
        <p:spPr>
          <a:xfrm>
            <a:off x="7240680" y="58672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9" name="Rectangle 75"/>
          <p:cNvSpPr/>
          <p:nvPr/>
        </p:nvSpPr>
        <p:spPr>
          <a:xfrm>
            <a:off x="5640480" y="58672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0" name="Rectangle 76"/>
          <p:cNvSpPr/>
          <p:nvPr/>
        </p:nvSpPr>
        <p:spPr>
          <a:xfrm>
            <a:off x="6477120" y="5867280"/>
            <a:ext cx="34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1" name="Rectangle 77"/>
          <p:cNvSpPr/>
          <p:nvPr/>
        </p:nvSpPr>
        <p:spPr>
          <a:xfrm>
            <a:off x="4726080" y="58672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15" dur="20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6" dur="5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37" dur="5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8" dur="5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59" dur="5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20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20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76" dur="5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2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7" dur="5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2" dur="5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7" dur="5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2" dur="5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7" dur="5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2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36" dur="5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3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4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50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50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56" dur="5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61" dur="5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4"/>
          <p:cNvSpPr/>
          <p:nvPr/>
        </p:nvSpPr>
        <p:spPr>
          <a:xfrm>
            <a:off x="2666880" y="304920"/>
            <a:ext cx="291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Georgia"/>
              </a:rPr>
              <a:t>Движение -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4" name="Text Box 6"/>
          <p:cNvSpPr/>
          <p:nvPr/>
        </p:nvSpPr>
        <p:spPr>
          <a:xfrm>
            <a:off x="60120" y="1179360"/>
            <a:ext cx="8774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ходиться в движении, перемещаться, направляться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емещение кого (чего)-нибудь  в определённом направлении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менение положения тела или его частей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нутреннее побуждение, вызванное каким-нибудь чувством, переживанием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зда, ходьба в разных направлениях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ктивная деятельность  многих людей, направленная на достижение общей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ели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95" name="Picture 7" descr="AG00165_"/>
          <p:cNvPicPr/>
          <p:nvPr/>
        </p:nvPicPr>
        <p:blipFill>
          <a:blip r:embed="rId1"/>
          <a:stretch/>
        </p:blipFill>
        <p:spPr>
          <a:xfrm>
            <a:off x="6781680" y="380880"/>
            <a:ext cx="2362320" cy="1073160"/>
          </a:xfrm>
          <a:prstGeom prst="rect">
            <a:avLst/>
          </a:prstGeom>
          <a:ln w="0">
            <a:noFill/>
          </a:ln>
        </p:spPr>
      </p:pic>
      <p:sp>
        <p:nvSpPr>
          <p:cNvPr id="79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1" dur="10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7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7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8" dur="1000"/>
                                        <p:tgtEl>
                                          <p:spTgt spid="7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7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7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3" dur="1000"/>
                                        <p:tgtEl>
                                          <p:spTgt spid="7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7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7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8" dur="1000"/>
                                        <p:tgtEl>
                                          <p:spTgt spid="7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7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7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3" dur="1000"/>
                                        <p:tgtEl>
                                          <p:spTgt spid="7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7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7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7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7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7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3" dur="1000"/>
                                        <p:tgtEl>
                                          <p:spTgt spid="7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79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79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8" dur="1000"/>
                                        <p:tgtEl>
                                          <p:spTgt spid="79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573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ffff"/>
                </a:solidFill>
                <a:latin typeface="Arial"/>
              </a:rPr>
              <a:t>«Блиц-турнир»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76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Расстояние между двумя замками 168 км. Посыльный 4 часа мчался на лошади со скоростью 36 км/ч, а остальной путь вынужден был бежать со скоростью 8 км/ч. Сколько часов посыльный добирался до замка?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0000"/>
                </a:solidFill>
                <a:latin typeface="Arial"/>
              </a:rPr>
              <a:t>(168 – 36 </a:t>
            </a:r>
            <a:r>
              <a:rPr b="1" lang="ru-RU" sz="1900" spc="-1" strike="noStrike">
                <a:solidFill>
                  <a:srgbClr val="ff0000"/>
                </a:solidFill>
                <a:latin typeface="Arial"/>
                <a:ea typeface="Arial"/>
              </a:rPr>
              <a:t>∙ 4) </a:t>
            </a:r>
            <a:r>
              <a:rPr b="1" lang="en-US" sz="1900" spc="-1" strike="noStrike">
                <a:solidFill>
                  <a:srgbClr val="ff0000"/>
                </a:solidFill>
                <a:latin typeface="Arial"/>
                <a:ea typeface="Arial"/>
              </a:rPr>
              <a:t>:</a:t>
            </a:r>
            <a:r>
              <a:rPr b="1" lang="ru-RU" sz="1900" spc="-1" strike="noStrike">
                <a:solidFill>
                  <a:srgbClr val="ff0000"/>
                </a:solidFill>
                <a:latin typeface="Arial"/>
                <a:ea typeface="Arial"/>
              </a:rPr>
              <a:t> 8 + 4 = 7 (ч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76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Два поезда вышли одновременно навстречу друг другу из двух городов, расстояние между которыми 600 км. Скорость первого поезда 70 км/ч, а второго – 80 км/ч. Какое расстояние было между поездами через 3 часа после выхода?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0000"/>
                </a:solidFill>
                <a:latin typeface="Arial"/>
              </a:rPr>
              <a:t>600 – (70 + 80) </a:t>
            </a:r>
            <a:r>
              <a:rPr b="1" lang="ru-RU" sz="1900" spc="-1" strike="noStrike">
                <a:solidFill>
                  <a:srgbClr val="ff0000"/>
                </a:solidFill>
                <a:latin typeface="Arial"/>
                <a:ea typeface="Arial"/>
              </a:rPr>
              <a:t>∙ 3 = 150 (км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76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Гонец прошёл по долине 100 км, а по горной дороге – лишь 24 % этого пути. С какой скоростью шёл гонец по горной дороге, если прошёл её за 3 часа?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0000"/>
                </a:solidFill>
                <a:latin typeface="Arial"/>
              </a:rPr>
              <a:t>100 </a:t>
            </a:r>
            <a:r>
              <a:rPr b="1" lang="en-US" sz="1900" spc="-1" strike="noStrike">
                <a:solidFill>
                  <a:srgbClr val="ff0000"/>
                </a:solidFill>
                <a:latin typeface="Arial"/>
                <a:ea typeface="Arial"/>
              </a:rPr>
              <a:t>:</a:t>
            </a:r>
            <a:r>
              <a:rPr b="1" lang="ru-RU" sz="1900" spc="-1" strike="noStrike">
                <a:solidFill>
                  <a:srgbClr val="ff0000"/>
                </a:solidFill>
                <a:latin typeface="Arial"/>
                <a:ea typeface="Arial"/>
              </a:rPr>
              <a:t> 100 ∙ 24 </a:t>
            </a:r>
            <a:r>
              <a:rPr b="1" lang="en-US" sz="1900" spc="-1" strike="noStrike">
                <a:solidFill>
                  <a:srgbClr val="ff0000"/>
                </a:solidFill>
                <a:latin typeface="Arial"/>
                <a:ea typeface="Arial"/>
              </a:rPr>
              <a:t>:</a:t>
            </a:r>
            <a:r>
              <a:rPr b="1" lang="ru-RU" sz="1900" spc="-1" strike="noStrike">
                <a:solidFill>
                  <a:srgbClr val="ff0000"/>
                </a:solidFill>
                <a:latin typeface="Arial"/>
                <a:ea typeface="Arial"/>
              </a:rPr>
              <a:t> 3 = 8 (км/ч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7" dur="500"/>
                                        <p:tgtEl>
                                          <p:spTgt spid="7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7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7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8" dur="500"/>
                                        <p:tgtEl>
                                          <p:spTgt spid="7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7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7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9" dur="500"/>
                                        <p:tgtEl>
                                          <p:spTgt spid="7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7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7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4"/>
          <p:cNvSpPr/>
          <p:nvPr/>
        </p:nvSpPr>
        <p:spPr>
          <a:xfrm>
            <a:off x="517680" y="420840"/>
            <a:ext cx="668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ем круче вверх поднимается график, тем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1" name="Text Box 5"/>
          <p:cNvSpPr/>
          <p:nvPr/>
        </p:nvSpPr>
        <p:spPr>
          <a:xfrm>
            <a:off x="4816440" y="1170000"/>
            <a:ext cx="350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больше</a:t>
            </a:r>
            <a:r>
              <a:rPr b="1" lang="ru-RU" sz="2800" spc="-1" strike="noStrike">
                <a:solidFill>
                  <a:srgbClr val="0000ff"/>
                </a:solidFill>
                <a:latin typeface="Georgi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скорость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2" name="Text Box 6"/>
          <p:cNvSpPr/>
          <p:nvPr/>
        </p:nvSpPr>
        <p:spPr>
          <a:xfrm>
            <a:off x="745200" y="2935440"/>
            <a:ext cx="630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оризонтальный график движения - это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3" name="Text Box 7"/>
          <p:cNvSpPr/>
          <p:nvPr/>
        </p:nvSpPr>
        <p:spPr>
          <a:xfrm>
            <a:off x="4357800" y="3809880"/>
            <a:ext cx="437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отсутствие движения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04" name="Picture 8" descr="AG00120_"/>
          <p:cNvPicPr/>
          <p:nvPr/>
        </p:nvPicPr>
        <p:blipFill>
          <a:blip r:embed="rId1"/>
          <a:stretch/>
        </p:blipFill>
        <p:spPr>
          <a:xfrm>
            <a:off x="1676520" y="1371600"/>
            <a:ext cx="1828800" cy="1066680"/>
          </a:xfrm>
          <a:prstGeom prst="rect">
            <a:avLst/>
          </a:prstGeom>
          <a:ln w="0">
            <a:noFill/>
          </a:ln>
        </p:spPr>
      </p:pic>
      <p:pic>
        <p:nvPicPr>
          <p:cNvPr id="805" name="Picture 10" descr="CAEIZNLK"/>
          <p:cNvPicPr/>
          <p:nvPr/>
        </p:nvPicPr>
        <p:blipFill>
          <a:blip r:embed="rId2"/>
          <a:stretch/>
        </p:blipFill>
        <p:spPr>
          <a:xfrm flipH="1" rot="21570600">
            <a:off x="2819160" y="4800240"/>
            <a:ext cx="1293840" cy="1143000"/>
          </a:xfrm>
          <a:prstGeom prst="rect">
            <a:avLst/>
          </a:prstGeom>
          <a:ln w="0">
            <a:noFill/>
          </a:ln>
        </p:spPr>
      </p:pic>
      <p:sp>
        <p:nvSpPr>
          <p:cNvPr id="80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1000"/>
                                        <p:tgtEl>
                                          <p:spTgt spid="8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8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900" fill="hold"/>
                                        <p:tgtEl>
                                          <p:spTgt spid="8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10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9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9" dur="10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8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1000" fill="hold"/>
                                        <p:tgtEl>
                                          <p:spTgt spid="8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10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00"/>
                                        <p:tgtEl>
                                          <p:spTgt spid="8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7" name="Picture 4" descr=""/>
          <p:cNvPicPr/>
          <p:nvPr/>
        </p:nvPicPr>
        <p:blipFill>
          <a:blip r:embed="rId1"/>
          <a:stretch/>
        </p:blipFill>
        <p:spPr>
          <a:xfrm>
            <a:off x="30240" y="225360"/>
            <a:ext cx="9085320" cy="6408720"/>
          </a:xfrm>
          <a:prstGeom prst="rect">
            <a:avLst/>
          </a:prstGeom>
          <a:ln w="0">
            <a:noFill/>
          </a:ln>
        </p:spPr>
      </p:pic>
      <p:sp>
        <p:nvSpPr>
          <p:cNvPr id="80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1" dur="5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Text Box 4"/>
          <p:cNvSpPr/>
          <p:nvPr/>
        </p:nvSpPr>
        <p:spPr>
          <a:xfrm>
            <a:off x="2666880" y="3841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Georgia"/>
              </a:rPr>
              <a:t>Проверь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10" name="Picture 5" descr=""/>
          <p:cNvPicPr/>
          <p:nvPr/>
        </p:nvPicPr>
        <p:blipFill>
          <a:blip r:embed="rId1"/>
          <a:stretch/>
        </p:blipFill>
        <p:spPr>
          <a:xfrm>
            <a:off x="1371600" y="1039680"/>
            <a:ext cx="6858000" cy="5119920"/>
          </a:xfrm>
          <a:prstGeom prst="rect">
            <a:avLst/>
          </a:prstGeom>
          <a:ln w="0">
            <a:noFill/>
          </a:ln>
        </p:spPr>
      </p:pic>
      <p:sp>
        <p:nvSpPr>
          <p:cNvPr id="811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08" dur="20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13" dur="20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4"/>
          <p:cNvSpPr/>
          <p:nvPr/>
        </p:nvSpPr>
        <p:spPr>
          <a:xfrm>
            <a:off x="947880" y="192240"/>
            <a:ext cx="766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Georgia"/>
              </a:rPr>
              <a:t>Что позволяет определить график движения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13" name="Picture 5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8076960" cy="4698720"/>
          </a:xfrm>
          <a:prstGeom prst="rect">
            <a:avLst/>
          </a:prstGeom>
          <a:ln w="0">
            <a:noFill/>
          </a:ln>
        </p:spPr>
      </p:pic>
      <p:sp>
        <p:nvSpPr>
          <p:cNvPr id="814" name="Text Box 6"/>
          <p:cNvSpPr/>
          <p:nvPr/>
        </p:nvSpPr>
        <p:spPr>
          <a:xfrm>
            <a:off x="5486400" y="22860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Georgi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5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32" dur="20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7" dur="20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8" dur="20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20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5-01-26T12:31:06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