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E196-1B8D-4782-AE63-CD1CA817643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DejaVu Serif"/>
              </a:rPr>
              <a:t>урок математики в 4 кла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DejaVu Serif"/>
              </a:rPr>
              <a:t>Тема</a:t>
            </a:r>
            <a:r>
              <a:rPr b="0" lang="ru-RU" sz="3200" spc="-1" strike="noStrike">
                <a:solidFill>
                  <a:srgbClr val="800080"/>
                </a:solidFill>
                <a:latin typeface="DejaVu Serif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DejaVu Serif"/>
              </a:rPr>
              <a:t>«График движ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учитель высшей квалификационной категор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EB9D-89F6-4696-9151-D0F79CE5FAB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072B-2DEE-4ED1-8E4E-6003F35B8BF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C832-FBF4-475D-A101-F26B66DDC37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Блиц-турн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(168 – 36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4)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8 + 4 = 7 (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00 – (70 + 80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3 = 150 (к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00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100 ∙ 24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3 = 8 (км/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8709-F660-460A-9453-BDE2E5F42F0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76E5-8F56-45C7-B80A-D47092E50AF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5F3-F3B6-4FD5-A306-E893B1A1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B0A-9B55-43DB-9F66-218482D9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5AA18-D0BE-441C-AA0C-B88A0841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36281-D14F-4309-8D7C-253CE96F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3277F-AE77-4AB4-9109-ED01CA5A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97203-B655-4DD6-BB89-E85F292C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99339-0175-46CF-ADB7-D85A60FF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CD5E1-3B5A-44B9-8014-224338F1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8FC01-70F5-466B-A6FF-506FA67C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AE9B7-D0B9-4BC6-9549-5363DA85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D60B8-85BA-436D-B40C-72387D51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37885-965F-4386-9642-6925E77E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1E2-BD67-468A-8B62-AF6B3A03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725D1-C0CD-4E6F-862E-595B6CAD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29576-9595-49D2-B36F-5BFA2E8C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90DF7-E460-4FD2-B733-AC64AED1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A7C76-9ED7-43AC-9AA8-01BDE9EC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FFAA1-98F5-4D46-8142-E858E09A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5F59F-C7CA-4776-98BA-7E37A0AE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77C69-9709-42DD-AB73-FEF637BA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C3D92-74E7-43F8-81E3-ACC6FFEB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8D180-38CD-45B3-AC78-51ED710E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80865-C9AD-4F84-9FA2-7B60E1D4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E81-16F4-46AE-86F7-695403D7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BC35C-92AD-44D5-B976-277A5073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04565-545A-4F46-9764-C24425BF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D1B48-BBF4-4F5E-9390-1F8FA09B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3DF4C-7E58-4DC3-B43E-A186F900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B0AA2-0986-4116-B0E2-6CC0D819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D29CD-0AE9-4FFB-B20F-E5D5C371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51A21-0EF4-4CBF-A2DC-9CD0092E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28CF3-E1E7-4D45-A1CA-824F0298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3294A-B4F5-4483-B949-AC8CD815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FF2DC-137D-4D00-96FA-3E2AA491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7B156-6416-41CD-9B30-AC8CFBEC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52060-BB0F-44A3-A020-059338F9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47593-D932-4B4F-8C94-CD098599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28172-634F-4F48-BDC2-8ABFF02D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04906-BBAD-4D66-BE50-97AA74A4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4B7D8-30B7-40F8-977D-E8F36D44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DEE2D-0120-4F56-82E0-62DF4162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C5E4A-0576-408D-9EAA-03292C6E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A6801-4437-40EB-ADF5-C9D2FEBD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9B0E9-7BAC-4D1A-A2BD-7CE65784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9171F-CD16-4E14-BCE8-DB9D4987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8430D-FEA6-4EF6-BFBC-CBA9CE49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BB9B9-CBEA-406E-803A-429A9838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DADBA-C3B7-409A-9100-D0826B90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D73C1-CE88-4715-9391-26E92477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988C7-90BF-442E-8FC4-98F78800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47C5F-4176-4FC4-9368-DB1F4CA7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9B98A-6645-4AF6-9918-89848A32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1FB7B-8D3C-48B7-B889-938A74B6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668A1-9173-44E2-A902-CCAE490E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AA848-A1FF-4093-AA56-B176B10F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20F78-D294-42F7-ADE9-20028927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E507F-58D0-4BC5-A780-41AF7833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839BB-0C67-4A7D-BC94-221C946A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AB5BA-B7E8-4579-8F99-8511C4C3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2641E-E294-445F-A736-72BB7A45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B3ED6-023F-4F6A-879C-E51A6B2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3747F-BAD4-41AF-9D0B-FB610075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9C9DE-BCE3-41B3-86B2-59F185E0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F7540-EE3D-433C-B88F-68344128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CDA58-2297-417C-8065-4C93B12E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3D8A3-D631-49D8-9817-7568EB66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B46A0-D30B-4AE9-96A8-A26FD9F5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D5A62-2B05-4326-A394-8725557C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DC4-4C30-4F82-A8EC-72146814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905BD-CABE-44F5-8EFD-971EDB5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CD0B6-9FEB-4C17-8D1C-05175DAD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F419F-D814-4A59-8D6C-AFC00F13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E0B67-138D-4B81-9C35-D8B71A3A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E63E7-F6F6-4F1F-8E71-0CFA991E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2169-504D-4000-82ED-746746E9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0DF0-9C0F-42D9-89B6-0E648BBD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D088-E7A2-415D-B122-96878153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C661-9797-475C-A3B0-8ED36287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D412-471C-4A9F-AA92-B4538967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63A-F648-4D89-9858-1621B100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88046-2C71-46B8-9602-C67D9327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E47C-C9DD-4A98-9966-526C0733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2741F-F167-4F8C-B8AF-8C0983FA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5453-7CCE-4051-B6B8-BF77A4FB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38BD6-E904-4EE6-95C8-78E729EA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E4B64-7836-4EF1-9C57-1F27CDE5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4142-EC84-49AA-AD25-72F1C735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DB1ED-06F9-4D37-A30F-44D02B5A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C0282-1100-4ACA-ABD3-796DC493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DE853-6E22-4872-A56D-C448FD8A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D8A-333B-440A-B610-8382BDDA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17F32-EB29-4BEA-836C-F110555A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BA459-BA6A-4632-B362-E8F4C059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587B-C077-4608-9941-9A658E4C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2063-D226-4352-88AA-0A9A039D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4409-E1C1-4C1D-9F8D-843CC9B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43F4B-ECAC-4D4E-937F-EEB2A8BC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CE0A-E2A1-4CA1-A911-B1869A87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090FA-D4A2-4FA0-925A-68865F97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1D9A8-3E1B-4707-988D-696E2795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56DF-5826-428E-8EE3-5F2A3013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94D-9075-47B9-8809-C2F5BFB5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C52DC-1829-4DC8-BA8E-68827A05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B7A5F-0DCD-4C9C-AECD-EC6FE789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FDCA0-BB62-4661-A1E3-C6057417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7AB10-66DC-49CC-A4F0-480F7D5D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18336-3D85-400B-A830-2E37333C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2FF0E-0454-4B1D-A790-A3473E9A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5D352-FB96-441F-BD92-F20B44B7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E022A-244A-4CB3-9CA2-A6C0A75D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F1BFE-BCFB-4E04-A408-DCD8C356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FA9F0-CD4B-46F0-959E-D3087AA6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6E9-ED66-40A4-8E83-0AA50CA9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6D5B7-A7AA-42C3-9CDC-E3552C94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BF441-A31C-4EAF-9FC9-FD561256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D9F0C-3C9E-4DD9-827D-DBA3740B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CDE52-CB76-4C4F-A39D-9D3F88A7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5D2D8-6B81-421B-A729-8CB88DE3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35B03-DAAA-4105-9D37-CADBA3E9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ED7C0-5010-4C2F-ABD8-3B18CE16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8B100-D109-497A-B477-58709869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16707-021A-4189-9AD2-DD0D6AA3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AE137-E1B8-4C61-9AAB-7BDBC1F2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9A8-0F8D-4E01-B82F-CC91E887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8607D-CB5F-4D62-A3E5-5340355E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C7D69-2121-421A-9D0E-7C3DF16D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416C7-906E-4864-BEF6-93B99A97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35B3E-AEB0-48E7-ADA7-FB105E3E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33CA4-7A35-42A2-A211-E0C3C5F8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81D5B-7492-4126-AB00-175B947A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1F0D1-A990-4408-AB83-B083D8D5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7C59E-62F7-498D-A3D9-3B686839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1044D-DBA6-4E7B-946C-8C006C58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81893-0F2E-4628-8A67-F6E193FB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7C2-C248-4188-86A9-D5C3B5A0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006FB-E3F1-46AE-8EC8-FE8EE815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274AB-2FD4-4BF3-9D3F-D47CCB01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DDCF9-23E5-4825-A6A0-81AA5856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D7B5B-F630-413A-8111-B13A95BA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EBE07-A7F3-405F-A19A-67742542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7C146-3CFF-40E3-94C2-FB867AC6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B65AD-A74C-41B4-A97B-DB61FA30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AA68B-CDDA-4EB9-8AC4-D6A3FE0E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92693-1FE9-46D9-B5A4-8745696A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B267C-70CA-4C0B-B51C-63C0E12E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B28-9766-496F-9450-09BF864C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FBCBC-9014-4D9D-955C-1F914ECE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48177-76C6-4143-AC9F-6C1C9B98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CA76F-ADED-4058-8011-80584034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25F2F-CA0F-4BF7-ADE0-F06F14D6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29800-23B9-4601-922A-9C1BC986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4E618-E82F-4647-92EC-4F05C0F9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C37A3-5E61-44AB-BCA5-906AF3BF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207A6-2D82-4505-BDD0-EBAE51B9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BD852-3C40-4BE3-8D59-88583F63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E6262-EAB3-4B06-8660-F42457BB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1E46-CBB9-421B-9DB4-490F0042FC1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5A46-7FC2-4B9D-B35B-C5410D9204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5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C63C-B117-4E98-A00F-838B481F3A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0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1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5015-BE47-4433-A004-6793D65D4B5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8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8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8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2DFD-9B79-4C20-8190-93ED36E448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FBAE-6B4A-465F-BE70-1051E6CD24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01A5-812A-49FE-8519-430EDF91811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C29A-3D5F-4AAB-B2D1-7ED969DB21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2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8B8C-A9DF-4219-BDE3-C4C9DCB4882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026B-3F62-44CF-B67D-CAC357F63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5FE0-6398-42B0-9386-5D8D65879D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1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954B-F7AB-422A-AF13-A22AB59D393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E417-A90B-4955-92B8-D2CBB6DCFE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DejaVu Serif"/>
              </a:rPr>
              <a:t>урок математики в 4 класс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DejaVu Serif"/>
              </a:rPr>
              <a:t>Тема</a:t>
            </a:r>
            <a:r>
              <a:rPr b="0" lang="ru-RU" sz="4800" spc="-1" strike="noStrike">
                <a:solidFill>
                  <a:srgbClr val="703dff"/>
                </a:solidFill>
                <a:latin typeface="DejaVu Serif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DejaVu Serif"/>
              </a:rPr>
              <a:t>«График движения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учитель высшей квалификационной категории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9"/>
          <p:cNvSpPr/>
          <p:nvPr/>
        </p:nvSpPr>
        <p:spPr>
          <a:xfrm>
            <a:off x="609480" y="137160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2"/>
          <p:cNvSpPr/>
          <p:nvPr/>
        </p:nvSpPr>
        <p:spPr>
          <a:xfrm>
            <a:off x="669960" y="4572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3"/>
          <p:cNvSpPr/>
          <p:nvPr/>
        </p:nvSpPr>
        <p:spPr>
          <a:xfrm>
            <a:off x="1371600" y="341280"/>
            <a:ext cx="312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00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Line 4"/>
          <p:cNvSpPr/>
          <p:nvPr/>
        </p:nvSpPr>
        <p:spPr>
          <a:xfrm>
            <a:off x="1447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5"/>
          <p:cNvSpPr/>
          <p:nvPr/>
        </p:nvSpPr>
        <p:spPr>
          <a:xfrm>
            <a:off x="2209680" y="60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6"/>
          <p:cNvSpPr/>
          <p:nvPr/>
        </p:nvSpPr>
        <p:spPr>
          <a:xfrm>
            <a:off x="220968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5800" y="1411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8"/>
          <p:cNvSpPr/>
          <p:nvPr/>
        </p:nvSpPr>
        <p:spPr>
          <a:xfrm>
            <a:off x="1660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685800" y="2249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10"/>
          <p:cNvSpPr/>
          <p:nvPr/>
        </p:nvSpPr>
        <p:spPr>
          <a:xfrm>
            <a:off x="1509120" y="22464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11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12"/>
          <p:cNvSpPr/>
          <p:nvPr/>
        </p:nvSpPr>
        <p:spPr>
          <a:xfrm>
            <a:off x="4876920" y="205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2666880" y="457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2 – 5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600200" y="68580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15"/>
          <p:cNvSpPr/>
          <p:nvPr/>
        </p:nvSpPr>
        <p:spPr>
          <a:xfrm>
            <a:off x="121932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+ 54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16"/>
          <p:cNvSpPr/>
          <p:nvPr/>
        </p:nvSpPr>
        <p:spPr>
          <a:xfrm>
            <a:off x="19810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17"/>
          <p:cNvSpPr/>
          <p:nvPr/>
        </p:nvSpPr>
        <p:spPr>
          <a:xfrm>
            <a:off x="19810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18"/>
          <p:cNvSpPr/>
          <p:nvPr/>
        </p:nvSpPr>
        <p:spPr>
          <a:xfrm>
            <a:off x="24404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– 4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19"/>
          <p:cNvSpPr/>
          <p:nvPr/>
        </p:nvSpPr>
        <p:spPr>
          <a:xfrm>
            <a:off x="685800" y="308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0"/>
          <p:cNvSpPr/>
          <p:nvPr/>
        </p:nvSpPr>
        <p:spPr>
          <a:xfrm>
            <a:off x="1356480" y="3160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7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21"/>
          <p:cNvSpPr/>
          <p:nvPr/>
        </p:nvSpPr>
        <p:spPr>
          <a:xfrm>
            <a:off x="685800" y="3809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22"/>
          <p:cNvSpPr/>
          <p:nvPr/>
        </p:nvSpPr>
        <p:spPr>
          <a:xfrm>
            <a:off x="1355760" y="3886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0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7 + 195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23"/>
          <p:cNvSpPr/>
          <p:nvPr/>
        </p:nvSpPr>
        <p:spPr>
          <a:xfrm>
            <a:off x="7621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508040" y="46483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 – 2) ∙ 30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143000" y="5257800"/>
          <a:ext cx="6781680" cy="1050840"/>
        </p:xfrm>
        <a:graphic>
          <a:graphicData uri="http://schemas.openxmlformats.org/drawingml/2006/table">
            <a:tbl>
              <a:tblPr/>
              <a:tblGrid>
                <a:gridCol w="847800"/>
                <a:gridCol w="847800"/>
                <a:gridCol w="847440"/>
                <a:gridCol w="847800"/>
                <a:gridCol w="847800"/>
                <a:gridCol w="847800"/>
                <a:gridCol w="847800"/>
                <a:gridCol w="84744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8" name="Text Box 54"/>
          <p:cNvSpPr/>
          <p:nvPr/>
        </p:nvSpPr>
        <p:spPr>
          <a:xfrm>
            <a:off x="4938480" y="493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= 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55"/>
          <p:cNvSpPr/>
          <p:nvPr/>
        </p:nvSpPr>
        <p:spPr>
          <a:xfrm>
            <a:off x="4938840" y="13320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 15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56"/>
          <p:cNvSpPr/>
          <p:nvPr/>
        </p:nvSpPr>
        <p:spPr>
          <a:xfrm>
            <a:off x="4952880" y="224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 1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57"/>
          <p:cNvSpPr/>
          <p:nvPr/>
        </p:nvSpPr>
        <p:spPr>
          <a:xfrm>
            <a:off x="5090400" y="316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58"/>
          <p:cNvSpPr/>
          <p:nvPr/>
        </p:nvSpPr>
        <p:spPr>
          <a:xfrm>
            <a:off x="5089680" y="3922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59"/>
          <p:cNvSpPr/>
          <p:nvPr/>
        </p:nvSpPr>
        <p:spPr>
          <a:xfrm>
            <a:off x="5181480" y="4608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=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60"/>
          <p:cNvSpPr/>
          <p:nvPr/>
        </p:nvSpPr>
        <p:spPr>
          <a:xfrm>
            <a:off x="2500200" y="1484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61"/>
          <p:cNvSpPr/>
          <p:nvPr/>
        </p:nvSpPr>
        <p:spPr>
          <a:xfrm>
            <a:off x="24382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3 -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62"/>
          <p:cNvSpPr/>
          <p:nvPr/>
        </p:nvSpPr>
        <p:spPr>
          <a:xfrm>
            <a:off x="3581280" y="380988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∙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63"/>
          <p:cNvSpPr/>
          <p:nvPr/>
        </p:nvSpPr>
        <p:spPr>
          <a:xfrm>
            <a:off x="3659400" y="46483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∙ 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64"/>
          <p:cNvSpPr/>
          <p:nvPr/>
        </p:nvSpPr>
        <p:spPr>
          <a:xfrm>
            <a:off x="274320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65"/>
          <p:cNvSpPr/>
          <p:nvPr/>
        </p:nvSpPr>
        <p:spPr>
          <a:xfrm>
            <a:off x="2517120" y="1523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66"/>
          <p:cNvSpPr/>
          <p:nvPr/>
        </p:nvSpPr>
        <p:spPr>
          <a:xfrm>
            <a:off x="2593080" y="243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67"/>
          <p:cNvSpPr/>
          <p:nvPr/>
        </p:nvSpPr>
        <p:spPr>
          <a:xfrm>
            <a:off x="2593080" y="3124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68"/>
          <p:cNvSpPr/>
          <p:nvPr/>
        </p:nvSpPr>
        <p:spPr>
          <a:xfrm>
            <a:off x="3660120" y="38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69"/>
          <p:cNvSpPr/>
          <p:nvPr/>
        </p:nvSpPr>
        <p:spPr>
          <a:xfrm>
            <a:off x="3736440" y="46483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Rectangle 70"/>
          <p:cNvSpPr/>
          <p:nvPr/>
        </p:nvSpPr>
        <p:spPr>
          <a:xfrm>
            <a:off x="1373400" y="586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Rectangle 71"/>
          <p:cNvSpPr/>
          <p:nvPr/>
        </p:nvSpPr>
        <p:spPr>
          <a:xfrm>
            <a:off x="2211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Rectangle 72"/>
          <p:cNvSpPr/>
          <p:nvPr/>
        </p:nvSpPr>
        <p:spPr>
          <a:xfrm>
            <a:off x="3049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Rectangle 73"/>
          <p:cNvSpPr/>
          <p:nvPr/>
        </p:nvSpPr>
        <p:spPr>
          <a:xfrm>
            <a:off x="3886200" y="58672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Rectangle 74"/>
          <p:cNvSpPr/>
          <p:nvPr/>
        </p:nvSpPr>
        <p:spPr>
          <a:xfrm>
            <a:off x="72406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Rectangle 75"/>
          <p:cNvSpPr/>
          <p:nvPr/>
        </p:nvSpPr>
        <p:spPr>
          <a:xfrm>
            <a:off x="5640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76"/>
          <p:cNvSpPr/>
          <p:nvPr/>
        </p:nvSpPr>
        <p:spPr>
          <a:xfrm>
            <a:off x="6477120" y="5867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Rectangle 77"/>
          <p:cNvSpPr/>
          <p:nvPr/>
        </p:nvSpPr>
        <p:spPr>
          <a:xfrm>
            <a:off x="47260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0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4"/>
          <p:cNvSpPr/>
          <p:nvPr/>
        </p:nvSpPr>
        <p:spPr>
          <a:xfrm>
            <a:off x="2666880" y="30492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60120" y="1179360"/>
            <a:ext cx="877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5" name="Picture 7" descr="AG00165_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073160"/>
          </a:xfrm>
          <a:prstGeom prst="rect">
            <a:avLst/>
          </a:prstGeom>
          <a:ln w="0">
            <a:noFill/>
          </a:ln>
        </p:spPr>
      </p:pic>
      <p:sp>
        <p:nvSpPr>
          <p:cNvPr id="7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«Блиц-турнир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(168 – 36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4)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8 + 4 = 7 (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600 – (70 + 80)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3 = 150 (к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100 ∙ 24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3 = 8 (км/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517680" y="420840"/>
            <a:ext cx="66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круче вверх поднимается график, т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4816440" y="1170000"/>
            <a:ext cx="35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е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кор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745200" y="2935440"/>
            <a:ext cx="63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ый график движения - э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4357800" y="380988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сутствие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4" name="Picture 8" descr="AG00120_"/>
          <p:cNvPicPr/>
          <p:nvPr/>
        </p:nvPicPr>
        <p:blipFill>
          <a:blip r:embed="rId1"/>
          <a:stretch/>
        </p:blipFill>
        <p:spPr>
          <a:xfrm>
            <a:off x="1676520" y="137160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0" descr="CAEIZNLK"/>
          <p:cNvPicPr/>
          <p:nvPr/>
        </p:nvPicPr>
        <p:blipFill>
          <a:blip r:embed="rId2"/>
          <a:stretch/>
        </p:blipFill>
        <p:spPr>
          <a:xfrm flipH="1" rot="21570600">
            <a:off x="2819160" y="4800240"/>
            <a:ext cx="1293840" cy="114300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30240" y="225360"/>
            <a:ext cx="9085320" cy="6408720"/>
          </a:xfrm>
          <a:prstGeom prst="rect">
            <a:avLst/>
          </a:prstGeom>
          <a:ln w="0">
            <a:noFill/>
          </a:ln>
        </p:spPr>
      </p:pic>
      <p:sp>
        <p:nvSpPr>
          <p:cNvPr id="8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4"/>
          <p:cNvSpPr/>
          <p:nvPr/>
        </p:nvSpPr>
        <p:spPr>
          <a:xfrm>
            <a:off x="2666880" y="38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0" name="Picture 5" descr=""/>
          <p:cNvPicPr/>
          <p:nvPr/>
        </p:nvPicPr>
        <p:blipFill>
          <a:blip r:embed="rId1"/>
          <a:stretch/>
        </p:blipFill>
        <p:spPr>
          <a:xfrm>
            <a:off x="1371600" y="1039680"/>
            <a:ext cx="6858000" cy="511992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4"/>
          <p:cNvSpPr/>
          <p:nvPr/>
        </p:nvSpPr>
        <p:spPr>
          <a:xfrm>
            <a:off x="947880" y="19224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3" name="Picture 5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076960" cy="469872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6"/>
          <p:cNvSpPr/>
          <p:nvPr/>
        </p:nvSpPr>
        <p:spPr>
          <a:xfrm>
            <a:off x="54864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2:31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