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9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88DA-C130-4563-804F-3A5AAEA9E19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униципальное бюджетное образовательное учреждение Тогучинского района Горновская начальная общеобразовате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DejaVu Serif"/>
              </a:rPr>
              <a:t>урок математики в 4 класс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DejaVu Serif"/>
              </a:rPr>
              <a:t>Тема</a:t>
            </a:r>
            <a:r>
              <a:rPr b="0" lang="ru-RU" sz="3200" spc="-1" strike="noStrike">
                <a:solidFill>
                  <a:srgbClr val="800080"/>
                </a:solidFill>
                <a:latin typeface="DejaVu Serif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DejaVu Serif"/>
              </a:rPr>
              <a:t>«График движ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учитель высшей квалификационной категори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DejaVu Serif"/>
              </a:rPr>
              <a:t>С.В.Мостовенк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A8C9-43E2-40EF-8958-D247462A819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Начинается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Он пойдёт ребятам впр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Постарайтесь всё поня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Да и правильно счит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6520-431F-41DE-B742-95745009303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Движение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иться в движении, перемещаться, направл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мещение кого (чего)-нибудь  в определённом направл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положения тела или его ча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ее побуждение, вызванное каким-нибудь чувством, пережи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зда, ходьба в разных направл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деятельность  многих людей, направленная на достижение общ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0C1E-CB2E-47EB-A036-97D5B34AD02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Блиц-турни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 между двумя замками 168 км. Посыльный 4 часа мчался на лошади со скоростью 36 км/ч, а остальной путь вынужден был бежать со скоростью 8 км/ч. Сколько часов посыльный добирался до зам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(168 – 36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∙ 4)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8 + 4 = 7 (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поезда вышли одновременно навстречу друг другу из двух городов, расстояние между которыми 600 км. Скорость первого поезда 70 км/ч, а второго – 80 км/ч. Какое расстояние было между поездами через 3 часа после выхо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600 – (70 + 80)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∙ 3 = 150 (к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нец прошёл по долине 100 км, а по горной дороге – лишь 24 % этого пути. С какой скоростью шёл гонец по горной дороге, если прошёл её за 3 ча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00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100 ∙ 24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3 = 8 (км/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04D5-1156-47B1-85DC-09C97805D53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Что позволяет определить график движ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BCCF-3668-4803-95CB-3956E97BC7C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A456-C642-4389-88BB-CDA160A7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FA3F-7F9B-4E7F-8059-01AD9AD6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0189C-BDE9-48DF-A641-713769EF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19718-7377-44E6-86E6-D9F0B1D3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BFDD5-5816-4CFD-9A8A-B65BA912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2B9D2-0C8D-42E8-9842-45D81423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DB914-E363-4081-B17B-BB24A8BB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0B64C-DBB6-489F-A5ED-A16BE2E2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90E9D-C572-4B81-8795-527F863D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D6AA3-733C-4720-B04D-92FABEDC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191BC-E9C3-4B7E-9F5D-F04330DF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D44FD-8D56-4D62-B859-709ED0B2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3C62-2522-4CD8-8187-06B726F8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33D6C-ECC2-49B4-9F90-D2AB9E7D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AFE9B-EF09-4234-AEAE-4A6D0E34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DB7F3-A167-4462-8098-66BC7915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2205F-E4B7-40E9-AA41-FA64121E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D39EC-D1A1-4925-BB89-E8B99CB0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AA974-AE09-4D87-ACE7-DF57CCF9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4D37E-2089-41E6-80FD-BB1404E2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05A7B-73D8-4800-8709-7673C2E3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1573C-DFE6-4CFC-9310-1E361ED3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C169E-C8D0-40C8-BDDB-6F35E993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F8F-E0BE-4441-8894-A860A288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B2F13-04A8-4CE7-8CEC-DE3C109E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5CCCF-C796-48F8-9C10-D6C66873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C0644-D5D9-4758-830B-8C0BCBC3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995B8-6E30-434F-ADB8-4FDB142F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0F45B-B3E1-4711-9094-A4576E78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B45D3-8231-4A20-A9FB-DDA023F9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30DD0-3EA8-48A7-8387-BE2A371D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10FAB-9C56-43F7-9FA4-F3A818F8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F9F83-C72F-476D-A588-14078305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D166F-F7B0-41B2-88F7-5FBB0681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93FEE-1D02-48EF-A852-78E6C73E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7AFFA-33E4-4122-BF4B-B91BB956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58D30-E46F-4E16-80CC-286B5CC2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3B683-0143-4C22-829E-CF8C9733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B1AAD-3833-4F90-A2C7-95AAC222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1B6EE-D24C-43AE-BB41-E5DC5E68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3514C-7B5B-4921-8665-39327BE0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6D009-ED8B-4813-9317-31762228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2B151-24CA-4995-807D-5EE8D3BC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2B381-144A-41EE-BBE4-1EC35DE2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A0E70-1D75-4E09-9562-D3497979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6CB14-517D-4B3C-88D4-5A59D87D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5CAB9-A65A-40A6-A46B-550F2F91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44E0A-9684-4765-8651-9E493340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65243-E824-40C9-A686-8D12757C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CC702-5058-4526-A45E-5671CD9D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65CDF-9300-4595-9A6E-3C399E9F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B9289-9A4E-4EC1-B7E3-741296FA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D9B49-E9AA-4D6F-AAB0-6E46EB2B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84A9B8-6681-4777-B287-45FF3F62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B4128-A85F-4104-83EF-C5F1382B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2E0A0-C0AC-4932-9195-831FAC5D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9B3CF-2E13-49ED-A631-D40DA7BA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048DC-4EEA-43A7-89FD-2C721C66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2D027-CA0D-4F25-A2C6-604814DF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B9AF0-2FBB-4D69-8910-BBD0E86C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1961E-8E99-49EC-B2ED-FCD0A193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59AD6-1F85-4405-97DA-F68373C6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B76AD-0BA4-405C-A9C4-E6B246B0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936456-C477-4598-A166-687FDEB9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95242-E987-44E5-A7AF-28A3F198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83CB7-4D2B-4AEC-ACAB-4AEE7B60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14ED2-8397-4D58-B6D0-A7071676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99EC5-B9CC-4C8B-AADA-84AADBCF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9397-4704-4F93-92B3-53539862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7B372-424E-43E3-AD41-864AFB5A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2F240-81EC-473C-A949-7C3A686B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91EB1-D4C2-4433-845D-7BA5BF0B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051DE-7DB8-4D3E-A095-D6B54CBB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79B4C-26C8-49F2-8281-2773A104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61A4A-A90F-47E7-BA3B-5BC3EB0F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9EDC6-B45F-4645-8C22-9F1D9F5C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AF576-558F-47D4-B6A4-4D720C60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C9291-852D-44CA-8C84-FC18FA2F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4BBF3-4F00-4063-9FA8-FEF4D95A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CB91-C392-427C-B98E-BEDBCC06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9043C-EA54-4438-BFD3-4A12D2D4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F3930-D9EF-4569-8128-D023A54A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F2972-1CF7-4211-9125-74582EA7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0CA1B-D78F-42D1-9AE2-8D2E8BC0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927AA-B2C0-4391-8556-491A747D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08208-8903-42EC-85ED-DD0026E5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9C012-D591-48B8-B771-6DA5DE76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5F994-6B8D-4235-B130-BDB7E618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D95E2-45AE-4390-A772-EF0E4E23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BA02E-1195-4FC1-9B8E-94E44E79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084-66FD-4765-A240-E7E08F5D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6F0BC-6E91-4A6F-A60D-4582DEF6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27384-CED5-4932-AD5A-E968DADA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C2F99-4DB8-4302-B685-FEC8CE5F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C80C7-8F54-4C28-8A57-BEDD3530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4B2ED-9D3A-48FF-A612-1ECA6204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E1721-84F0-4359-B46D-D76D956F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6A721-F961-45BC-AB1D-9BF0E28A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2400D-55FD-4AB9-AD00-86B043B7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8DC10-9739-4EAC-BC61-5BFCC356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353E7-B91A-4FBA-9838-6C34FA0C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2F75-3DF6-4FC1-8F01-C9C87E29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01A48-BC89-40B2-A47C-26ECD224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A0EBA-A839-4F12-9815-562783F5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394F8-AF29-4FBE-BE14-CDD872DD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55E0A-9C81-4DE9-AE2A-6225907A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9FDF8-B111-44C0-B121-AD13CF2C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2E019-6F35-4C74-8A13-CC0D8718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ACD71-6FBF-4F7A-88CC-DBF54D6E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44E62-4827-4D5D-95EC-C45428F6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F40DF-9EBD-485E-ADDC-6CFCF3C1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62B24-8CB9-48F1-A413-50E2E18F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17E7-6EAD-47E5-A7AC-6682CC4F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8B1C7-049B-49B5-A471-7E9875FD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4D1F6-7A88-40B8-BE66-603A7433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BFB19-A6DB-46DD-98C6-2612CDFD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664B4-F8D4-44FA-B2B2-5D42DFED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556D8-5B97-421E-810A-7BAD3AE0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45190-A8FA-446F-83C1-DDC61BFE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A13C6-FC2D-40B7-941A-5E17359F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0FA0F-0506-44AF-9FA6-F377DA17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C7F00-4F39-4532-851D-E839A062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C2912-7DBB-4358-A0A5-97665E4E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715-A6B7-41A6-B225-4793CC87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69E5B-B660-49CC-B4F5-DC7B753D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C0FF4-5049-458C-9011-20B213C3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66FCC-C9C2-49AA-BB1B-456DBF19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79245-73F5-4C24-B1D5-EA5D5639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2A934-24BE-4C42-AB44-8875170D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C91AA-44C7-419B-9DA7-E43C3621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25DD1-02DF-41C0-B19F-2D0F883B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2A862-CD88-4A04-979A-490828D6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4DDE6-B22E-4206-B27E-B9D87306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B7356-FB86-4807-B121-1D4E1598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35F-1110-4DA9-BC2E-B0E85059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B5E22-1DEE-4C9D-8A13-8BB7E034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9B48A-55D9-4A60-A80F-9CBD1D8E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89DF8-78A6-4B55-BB99-93A8545B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D26B2-7A2F-4C02-A6A7-4CA10F9E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4F9A6-BA31-4E53-9B9A-92530565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9EECF-B22F-4733-A6AF-C45A77CC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979BF-0E76-4152-A4E7-78A4BE75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857B8-A8E4-4A0F-B9BB-00150C01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CF608-1D6A-4F4F-B013-B71C8EC3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8B501-A0CC-4545-834A-D6BC7AAF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AD2-A17F-44EC-A411-21B6A4E0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E612C-224B-41DE-9450-AECE9BE3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1B321-D3F1-4A6A-B815-C8B8DAB0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A0F1A-C633-439C-B046-0C070B69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ED68F-142C-4955-898B-FBA610B2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07413-A834-4FB8-AA82-66E266D3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5AF8D-6B0C-4EBE-AEBB-E7DD553E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9F6B7-BD9B-4555-B3D0-340F737D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09819-F081-4CD4-9541-B60F4DC0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E0D31-C89A-4909-9C54-9F7C459E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CE241-D9AA-4D7C-8474-C7ED8880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A192-E82E-46FB-83A0-6F1E4AF303B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2B55-1EB8-4404-9F16-85B6173E6D7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5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A8E7-B933-4362-8B71-8EB2CAFDB51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0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1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1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CC87-1FBE-4B09-A011-50E0E19047E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8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8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8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C95D-CB58-4438-9596-EF763B16028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1258-24EB-461F-97DC-C00590DE49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551C-8563-4B27-8831-FC4E92831C7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D386-2D97-40AF-9CF4-7A7B0C767A0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2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4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35F1-CFE8-47E2-BC3B-903A82B2105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7E89-3741-411E-9E87-1723C98D7E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C03A-19DC-4E6A-AA04-EE63891E323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9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0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0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0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0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1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1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3C29-25D6-43B8-9F97-6774D8C5A74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9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1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2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4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7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5510-6814-492C-A0A9-00AC2F2D73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Муниципальное бюджетное образовательное учреждение Тогучинского района Горновская начальная общеобразовательная школ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DejaVu Serif"/>
              </a:rPr>
              <a:t>урок математики в 4 класс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DejaVu Serif"/>
              </a:rPr>
              <a:t>Тема</a:t>
            </a:r>
            <a:r>
              <a:rPr b="0" lang="ru-RU" sz="4800" spc="-1" strike="noStrike">
                <a:solidFill>
                  <a:srgbClr val="703dff"/>
                </a:solidFill>
                <a:latin typeface="DejaVu Serif"/>
              </a:rPr>
              <a:t> </a:t>
            </a:r>
            <a:r>
              <a:rPr b="1" i="1" lang="ru-RU" sz="4800" spc="-1" strike="noStrike">
                <a:solidFill>
                  <a:srgbClr val="ff0000"/>
                </a:solidFill>
                <a:latin typeface="DejaVu Serif"/>
              </a:rPr>
              <a:t>«График движения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учитель высшей квалификационной категории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DejaVu Serif"/>
              </a:rPr>
              <a:t>С.В.Мостовенк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19"/>
          <p:cNvSpPr/>
          <p:nvPr/>
        </p:nvSpPr>
        <p:spPr>
          <a:xfrm>
            <a:off x="609480" y="1371600"/>
            <a:ext cx="7543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Начинается уро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Он пойдёт ребятам впрок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Постарайтесь всё понять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Да и правильно считать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2"/>
          <p:cNvSpPr/>
          <p:nvPr/>
        </p:nvSpPr>
        <p:spPr>
          <a:xfrm>
            <a:off x="669960" y="457200"/>
            <a:ext cx="6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 Box 3"/>
          <p:cNvSpPr/>
          <p:nvPr/>
        </p:nvSpPr>
        <p:spPr>
          <a:xfrm>
            <a:off x="1371600" y="341280"/>
            <a:ext cx="312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00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Line 4"/>
          <p:cNvSpPr/>
          <p:nvPr/>
        </p:nvSpPr>
        <p:spPr>
          <a:xfrm>
            <a:off x="1447920" y="685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Line 5"/>
          <p:cNvSpPr/>
          <p:nvPr/>
        </p:nvSpPr>
        <p:spPr>
          <a:xfrm>
            <a:off x="2209680" y="609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Line 6"/>
          <p:cNvSpPr/>
          <p:nvPr/>
        </p:nvSpPr>
        <p:spPr>
          <a:xfrm>
            <a:off x="2209680" y="762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5800" y="14112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Text Box 8"/>
          <p:cNvSpPr/>
          <p:nvPr/>
        </p:nvSpPr>
        <p:spPr>
          <a:xfrm>
            <a:off x="166068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Text Box 9"/>
          <p:cNvSpPr/>
          <p:nvPr/>
        </p:nvSpPr>
        <p:spPr>
          <a:xfrm>
            <a:off x="685800" y="2249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Text Box 10"/>
          <p:cNvSpPr/>
          <p:nvPr/>
        </p:nvSpPr>
        <p:spPr>
          <a:xfrm>
            <a:off x="1509120" y="224640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Line 11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 Box 12"/>
          <p:cNvSpPr/>
          <p:nvPr/>
        </p:nvSpPr>
        <p:spPr>
          <a:xfrm>
            <a:off x="4876920" y="2057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Text Box 13"/>
          <p:cNvSpPr/>
          <p:nvPr/>
        </p:nvSpPr>
        <p:spPr>
          <a:xfrm>
            <a:off x="2666880" y="457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2 – 5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1600200" y="68580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 Box 15"/>
          <p:cNvSpPr/>
          <p:nvPr/>
        </p:nvSpPr>
        <p:spPr>
          <a:xfrm>
            <a:off x="1219320" y="1523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+ 54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Line 16"/>
          <p:cNvSpPr/>
          <p:nvPr/>
        </p:nvSpPr>
        <p:spPr>
          <a:xfrm>
            <a:off x="19810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17"/>
          <p:cNvSpPr/>
          <p:nvPr/>
        </p:nvSpPr>
        <p:spPr>
          <a:xfrm>
            <a:off x="198108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 Box 18"/>
          <p:cNvSpPr/>
          <p:nvPr/>
        </p:nvSpPr>
        <p:spPr>
          <a:xfrm>
            <a:off x="24404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 – 45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 Box 19"/>
          <p:cNvSpPr/>
          <p:nvPr/>
        </p:nvSpPr>
        <p:spPr>
          <a:xfrm>
            <a:off x="685800" y="308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20"/>
          <p:cNvSpPr/>
          <p:nvPr/>
        </p:nvSpPr>
        <p:spPr>
          <a:xfrm>
            <a:off x="1356480" y="31608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7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 Box 21"/>
          <p:cNvSpPr/>
          <p:nvPr/>
        </p:nvSpPr>
        <p:spPr>
          <a:xfrm>
            <a:off x="685800" y="380988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22"/>
          <p:cNvSpPr/>
          <p:nvPr/>
        </p:nvSpPr>
        <p:spPr>
          <a:xfrm>
            <a:off x="1355760" y="3886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50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7 + 195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Text Box 23"/>
          <p:cNvSpPr/>
          <p:nvPr/>
        </p:nvSpPr>
        <p:spPr>
          <a:xfrm>
            <a:off x="7621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Text Box 24"/>
          <p:cNvSpPr/>
          <p:nvPr/>
        </p:nvSpPr>
        <p:spPr>
          <a:xfrm>
            <a:off x="1508040" y="46483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7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 – 2) ∙ 30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1143000" y="5257800"/>
          <a:ext cx="6781680" cy="1050840"/>
        </p:xfrm>
        <a:graphic>
          <a:graphicData uri="http://schemas.openxmlformats.org/drawingml/2006/table">
            <a:tbl>
              <a:tblPr/>
              <a:tblGrid>
                <a:gridCol w="847800"/>
                <a:gridCol w="847800"/>
                <a:gridCol w="847440"/>
                <a:gridCol w="847800"/>
                <a:gridCol w="847800"/>
                <a:gridCol w="847800"/>
                <a:gridCol w="847800"/>
                <a:gridCol w="847440"/>
              </a:tblGrid>
              <a:tr h="53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8" name="Text Box 54"/>
          <p:cNvSpPr/>
          <p:nvPr/>
        </p:nvSpPr>
        <p:spPr>
          <a:xfrm>
            <a:off x="4938480" y="4935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= 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Text Box 55"/>
          <p:cNvSpPr/>
          <p:nvPr/>
        </p:nvSpPr>
        <p:spPr>
          <a:xfrm>
            <a:off x="4938840" y="13320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= 15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Text Box 56"/>
          <p:cNvSpPr/>
          <p:nvPr/>
        </p:nvSpPr>
        <p:spPr>
          <a:xfrm>
            <a:off x="4952880" y="2246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= 1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 Box 57"/>
          <p:cNvSpPr/>
          <p:nvPr/>
        </p:nvSpPr>
        <p:spPr>
          <a:xfrm>
            <a:off x="5090400" y="3160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=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58"/>
          <p:cNvSpPr/>
          <p:nvPr/>
        </p:nvSpPr>
        <p:spPr>
          <a:xfrm>
            <a:off x="5089680" y="39225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59"/>
          <p:cNvSpPr/>
          <p:nvPr/>
        </p:nvSpPr>
        <p:spPr>
          <a:xfrm>
            <a:off x="5181480" y="4608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= 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60"/>
          <p:cNvSpPr/>
          <p:nvPr/>
        </p:nvSpPr>
        <p:spPr>
          <a:xfrm>
            <a:off x="2500200" y="1484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Text Box 61"/>
          <p:cNvSpPr/>
          <p:nvPr/>
        </p:nvSpPr>
        <p:spPr>
          <a:xfrm>
            <a:off x="2438280" y="3200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3 - 2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62"/>
          <p:cNvSpPr/>
          <p:nvPr/>
        </p:nvSpPr>
        <p:spPr>
          <a:xfrm>
            <a:off x="3581280" y="380988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 ∙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 Box 63"/>
          <p:cNvSpPr/>
          <p:nvPr/>
        </p:nvSpPr>
        <p:spPr>
          <a:xfrm>
            <a:off x="3659400" y="46483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∙ 1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64"/>
          <p:cNvSpPr/>
          <p:nvPr/>
        </p:nvSpPr>
        <p:spPr>
          <a:xfrm>
            <a:off x="2743200" y="457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65"/>
          <p:cNvSpPr/>
          <p:nvPr/>
        </p:nvSpPr>
        <p:spPr>
          <a:xfrm>
            <a:off x="2517120" y="1523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66"/>
          <p:cNvSpPr/>
          <p:nvPr/>
        </p:nvSpPr>
        <p:spPr>
          <a:xfrm>
            <a:off x="2593080" y="243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67"/>
          <p:cNvSpPr/>
          <p:nvPr/>
        </p:nvSpPr>
        <p:spPr>
          <a:xfrm>
            <a:off x="2593080" y="3124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68"/>
          <p:cNvSpPr/>
          <p:nvPr/>
        </p:nvSpPr>
        <p:spPr>
          <a:xfrm>
            <a:off x="3660120" y="3886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69"/>
          <p:cNvSpPr/>
          <p:nvPr/>
        </p:nvSpPr>
        <p:spPr>
          <a:xfrm>
            <a:off x="3736440" y="46483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Rectangle 70"/>
          <p:cNvSpPr/>
          <p:nvPr/>
        </p:nvSpPr>
        <p:spPr>
          <a:xfrm>
            <a:off x="1373400" y="58672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Rectangle 71"/>
          <p:cNvSpPr/>
          <p:nvPr/>
        </p:nvSpPr>
        <p:spPr>
          <a:xfrm>
            <a:off x="221148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Rectangle 72"/>
          <p:cNvSpPr/>
          <p:nvPr/>
        </p:nvSpPr>
        <p:spPr>
          <a:xfrm>
            <a:off x="304992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Rectangle 73"/>
          <p:cNvSpPr/>
          <p:nvPr/>
        </p:nvSpPr>
        <p:spPr>
          <a:xfrm>
            <a:off x="3886200" y="58672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Rectangle 74"/>
          <p:cNvSpPr/>
          <p:nvPr/>
        </p:nvSpPr>
        <p:spPr>
          <a:xfrm>
            <a:off x="7240680" y="58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Rectangle 75"/>
          <p:cNvSpPr/>
          <p:nvPr/>
        </p:nvSpPr>
        <p:spPr>
          <a:xfrm>
            <a:off x="564048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Rectangle 76"/>
          <p:cNvSpPr/>
          <p:nvPr/>
        </p:nvSpPr>
        <p:spPr>
          <a:xfrm>
            <a:off x="6477120" y="58672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Rectangle 77"/>
          <p:cNvSpPr/>
          <p:nvPr/>
        </p:nvSpPr>
        <p:spPr>
          <a:xfrm>
            <a:off x="4726080" y="58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5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7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6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4"/>
          <p:cNvSpPr/>
          <p:nvPr/>
        </p:nvSpPr>
        <p:spPr>
          <a:xfrm>
            <a:off x="2666880" y="30492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Движение -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6"/>
          <p:cNvSpPr/>
          <p:nvPr/>
        </p:nvSpPr>
        <p:spPr>
          <a:xfrm>
            <a:off x="60120" y="1179360"/>
            <a:ext cx="877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иться в движении, перемещаться, направлять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ение кого (чего)-нибудь  в определённом направлен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положения тела или его част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ее побуждение, вызванное каким-нибудь чувством, пережива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зда, ходьба в разных направления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ая деятельность  многих людей, направленная на достижение обще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5" name="Picture 7" descr="AG00165_"/>
          <p:cNvPicPr/>
          <p:nvPr/>
        </p:nvPicPr>
        <p:blipFill>
          <a:blip r:embed="rId1"/>
          <a:stretch/>
        </p:blipFill>
        <p:spPr>
          <a:xfrm>
            <a:off x="6781680" y="380880"/>
            <a:ext cx="2362320" cy="1073160"/>
          </a:xfrm>
          <a:prstGeom prst="rect">
            <a:avLst/>
          </a:prstGeom>
          <a:ln w="0">
            <a:noFill/>
          </a:ln>
        </p:spPr>
      </p:pic>
      <p:sp>
        <p:nvSpPr>
          <p:cNvPr id="7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«Блиц-турнир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стояние между двумя замками 168 км. Посыльный 4 часа мчался на лошади со скоростью 36 км/ч, а остальной путь вынужден был бежать со скоростью 8 км/ч. Сколько часов посыльный добирался до замк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(168 – 36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∙ 4)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8 + 4 = 7 (ч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ва поезда вышли одновременно навстречу друг другу из двух городов, расстояние между которыми 600 км. Скорость первого поезда 70 км/ч, а второго – 80 км/ч. Какое расстояние было между поездами через 3 часа после выход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600 – (70 + 80)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∙ 3 = 150 (к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онец прошёл по долине 100 км, а по горной дороге – лишь 24 % этого пути. С какой скоростью шёл гонец по горной дороге, если прошёл её за 3 час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100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100 ∙ 24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3 = 8 (км/ч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517680" y="420840"/>
            <a:ext cx="66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круче вверх поднимается график, т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4816440" y="1170000"/>
            <a:ext cx="35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ольше</a:t>
            </a: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кор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745200" y="2935440"/>
            <a:ext cx="63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изонтальный график движения - эт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Text Box 7"/>
          <p:cNvSpPr/>
          <p:nvPr/>
        </p:nvSpPr>
        <p:spPr>
          <a:xfrm>
            <a:off x="4357800" y="380988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тсутствие движ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4" name="Picture 8" descr="AG00120_"/>
          <p:cNvPicPr/>
          <p:nvPr/>
        </p:nvPicPr>
        <p:blipFill>
          <a:blip r:embed="rId1"/>
          <a:stretch/>
        </p:blipFill>
        <p:spPr>
          <a:xfrm>
            <a:off x="1676520" y="1371600"/>
            <a:ext cx="1828800" cy="106668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0" descr="CAEIZNLK"/>
          <p:cNvPicPr/>
          <p:nvPr/>
        </p:nvPicPr>
        <p:blipFill>
          <a:blip r:embed="rId2"/>
          <a:stretch/>
        </p:blipFill>
        <p:spPr>
          <a:xfrm flipH="1" rot="21570600">
            <a:off x="2819160" y="4800240"/>
            <a:ext cx="1293840" cy="1143000"/>
          </a:xfrm>
          <a:prstGeom prst="rect">
            <a:avLst/>
          </a:prstGeom>
          <a:ln w="0">
            <a:noFill/>
          </a:ln>
        </p:spPr>
      </p:pic>
      <p:sp>
        <p:nvSpPr>
          <p:cNvPr id="8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9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4" descr=""/>
          <p:cNvPicPr/>
          <p:nvPr/>
        </p:nvPicPr>
        <p:blipFill>
          <a:blip r:embed="rId1"/>
          <a:stretch/>
        </p:blipFill>
        <p:spPr>
          <a:xfrm>
            <a:off x="30240" y="225360"/>
            <a:ext cx="9085320" cy="6408720"/>
          </a:xfrm>
          <a:prstGeom prst="rect">
            <a:avLst/>
          </a:prstGeom>
          <a:ln w="0">
            <a:noFill/>
          </a:ln>
        </p:spPr>
      </p:pic>
      <p:sp>
        <p:nvSpPr>
          <p:cNvPr id="8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4"/>
          <p:cNvSpPr/>
          <p:nvPr/>
        </p:nvSpPr>
        <p:spPr>
          <a:xfrm>
            <a:off x="2666880" y="38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роверь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0" name="Picture 5" descr=""/>
          <p:cNvPicPr/>
          <p:nvPr/>
        </p:nvPicPr>
        <p:blipFill>
          <a:blip r:embed="rId1"/>
          <a:stretch/>
        </p:blipFill>
        <p:spPr>
          <a:xfrm>
            <a:off x="1371600" y="1039680"/>
            <a:ext cx="6858000" cy="5119920"/>
          </a:xfrm>
          <a:prstGeom prst="rect">
            <a:avLst/>
          </a:prstGeom>
          <a:ln w="0">
            <a:noFill/>
          </a:ln>
        </p:spPr>
      </p:pic>
      <p:sp>
        <p:nvSpPr>
          <p:cNvPr id="8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7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2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4"/>
          <p:cNvSpPr/>
          <p:nvPr/>
        </p:nvSpPr>
        <p:spPr>
          <a:xfrm>
            <a:off x="947880" y="192240"/>
            <a:ext cx="76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Что позволяет определить график движе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3" name="Picture 5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8076960" cy="469872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6"/>
          <p:cNvSpPr/>
          <p:nvPr/>
        </p:nvSpPr>
        <p:spPr>
          <a:xfrm>
            <a:off x="548640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1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6T12:31:0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