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move the slide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B702-16BE-44E6-B292-BC07480B055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ение двузначных чисел</a:t>
            </a:r>
            <a:br>
              <a:rPr sz="1200"/>
            </a:b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урок - сказка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9EB1-AF40-4E08-8DF6-79E04CAC74B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Какие геометрические фигуры вы здесь видите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считайте только треуголь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A3D7-F931-4BDC-8FD5-9CBC138FEDC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Благодарим за помощ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5DB0-9DDD-40A3-9828-8FC220C9DF3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,  9,  10,  6,  3,  8,  3,  7,  9,  7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BD05-92BC-480A-92FD-A2AA2DE4B5F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8       53        39      75     56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33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+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2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+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3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-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3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-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24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2FE10-CDD1-4058-BA4D-9819D7B8885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1,     80,     74,     43,     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F5D3-9EAD-470A-95FB-8E475126DDE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екла я нынче 13 пирожков. Прискакал ко мне Зайка и съел 4 пирожка, а потом прибежал Волк и съел еще 5 пирожков. Сколько пирожков у меня осталось? А по сколько достанется ва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3927-F21D-45B9-9104-7A4B97B7C29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4 пирожка, по 2 пирож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DD38-6EBF-494D-ACE1-31E4F47C023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0 см   …   4 дм 5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5 см   …  6 д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2 см   …  25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0 см   …  6 д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F57D-94A5-43F2-AC6D-6D6FD1CCFD6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0 см    &lt;   4 дм 5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5 см    &lt;   6 д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 см    &gt;   25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0 см    =   6 д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F7DF-4FEE-4618-9B73-B19A6FD9120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59D7-FD64-49C2-8CE0-8A578800D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EB19-E545-4C10-9818-297266F9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3B2E-A760-4510-9E42-B29BEE75A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1760-EEF0-4E7F-8587-F0EA113D5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745D0-0CAB-466B-AFE5-1E03200F8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5B2CF0-9E30-45C1-8087-CC30DE76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F8C4D-F5A9-49EE-BE1F-2A0F2379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1BBB4-C50E-435D-B63E-8264EDC2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03E9C-DD8E-4F75-B104-46B4F82C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AD826-787D-4DFC-9581-85424C53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53C7A-4D47-4E8B-84BD-A42486F7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5254-A802-496C-AE64-C58B776E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0686C-DC8A-401E-AF05-438FBABC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FC9FD-303F-48D7-AD0E-A7B8BD94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4A171-5AD7-45BC-9D4C-EF20E9B2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BD9779-BFD7-4467-9922-C8A0D3F70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14244-2563-4FD7-8E7C-95D2FEEDB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1AC131-7B0C-4B0C-A025-DBD2B4B5D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8A7791-E255-4414-A25B-AD83C486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98A136-71BF-4C7E-BD23-3896E280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D32626-E45D-49F5-9D14-F0B8714D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E47ACC-2A91-4BA1-A850-FD848943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2490-2BE8-43AE-9570-969259E3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D87625-0035-4715-9FE3-25EAF672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148038-ABD6-4B31-AA1F-90272B11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913A3D-DDCF-4C31-B069-17B10B54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978600-A3C2-4E8C-ADE8-B92DEBD0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96436F-AE8F-42BA-931D-B9FCAB5F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5EA0D1-6540-4163-8C3C-E3E168E9C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F109D9-9788-4E20-A4D4-183825240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1CFDE7-7C81-4792-819C-AC6909281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46496C-DEC8-4FED-BDE5-B7C5DEE9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D9C95B-5C95-40EE-888F-2665CADB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B781-397B-4E9A-B488-F6E97831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407EA6-A1FB-4EC8-A944-AFD10FF7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2B16C0-246F-401B-8B20-1B27EFA8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1167D7-CE49-4C34-A3D0-AF0A6BC7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EFAD99-3B47-4247-A6F0-6BFB3B7F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B9ED19-4B11-4E84-9CE7-7D1F3EF3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A33A41-A305-49DC-AFA4-9E729A00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7A3A04-2BD5-4722-945F-40E1D8BF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B4E545-BCA8-479C-BA1F-23B7812F1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1951DF-97FA-4D67-A457-EAFEFACD1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392F82-5F33-4DFE-A6A1-6EA7117B2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B113-FDE0-4854-9ACF-EB9B1FEF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555D38-2294-4EC6-8789-9F8E9AE5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257D8A-C5AB-46E8-BC11-30754AFC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F33AF7-263A-4830-ACE2-CE647836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3CE144-8797-466A-8C24-0B870BCB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01D59A-52DA-4D35-918C-C241986F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33E54D-3126-45F5-983E-D19FFC82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F9D6B1-6542-4AC2-9AA3-CBFA4087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04E954-A8AB-4D0C-96E0-9D70FEB9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19DA1D-5AE7-4AE2-8DBB-DBFB34C7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63C8C7-6D22-45D7-ADE7-324224DC3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8CC3-98CB-4215-BF2D-959DFC3D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BEA945-A07D-4C22-9786-93CB5861E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4E8433-8ECF-4FF2-A09D-B5A48AE14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396BDE-4F72-4553-AB79-F4287E89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153023-7AF4-4720-A0ED-71A3B0A2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F3679E-80D2-480D-A2EA-7459B7B7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6EEC2C-2902-4984-9899-F37E894D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EA7704-CE53-4FA6-8CE7-A9F3C3B7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5ABA11-8FC6-4741-AB6B-67071829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42D988-0E0C-456F-8F69-83A2048F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58800B-B8B1-49FC-85D6-F0059D24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786C-3121-4B6C-BCC3-92417E67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C7226C-E9B7-4838-B2D8-59B2E3DA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BD0BE9-A7A0-4AC2-BCEA-E3790F928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BA2190-F1CD-4A6F-9D42-AC57ECA42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DC58-0875-49D7-A802-930206BE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B2CD-3B75-481D-8DF3-9BF7F775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BE6E-AF22-4789-91BF-5933C9690969}" type="datetime"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29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F189-C9E6-4C46-B7D6-707CC4813E9D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" name="TextBox 7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1C0C-229B-4782-94C8-75A45FE226E3}" type="datetime"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29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594D-9A21-4FE0-A5AB-10DE107C3499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TextBox 7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6D19-7AF3-45C9-BC27-34091B1DA51F}" type="datetime"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29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A9961-ECF6-4C32-B677-59341894B326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TextBox 12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Box 17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DC62-082B-4D82-BCD7-698ED059C250}" type="datetime"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29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1C86-CECB-4953-86AC-51FC23C4CA9C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TextBox 8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8806-B0C9-4A27-9363-6B3BF3445D93}" type="datetime"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29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08D8-C447-4423-A144-F86AF38E0095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TextBox 8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A8F4-872C-49A4-B33C-3DFB3AB804E5}" type="datetime"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29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1A13-CDB7-4B8F-ABA1-71E20DE9306B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71200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Сложение двузначных чисел</a:t>
            </a:r>
            <a:br>
              <a:rPr sz="4900"/>
            </a:br>
            <a:r>
              <a:rPr b="0" lang="ru-RU" sz="2500" spc="-1" strike="noStrike">
                <a:solidFill>
                  <a:srgbClr val="ffffff"/>
                </a:solidFill>
                <a:latin typeface="Palatino Linotype"/>
              </a:rPr>
              <a:t>урок - сказка </a:t>
            </a:r>
            <a:endParaRPr b="0" lang="en-US" sz="25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23640" y="2145960"/>
            <a:ext cx="215640" cy="423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324000" y="3213000"/>
            <a:ext cx="3508200" cy="26179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"/>
          <p:cNvPicPr/>
          <p:nvPr/>
        </p:nvPicPr>
        <p:blipFill>
          <a:blip r:embed="rId2"/>
          <a:stretch/>
        </p:blipFill>
        <p:spPr>
          <a:xfrm>
            <a:off x="4427640" y="3213000"/>
            <a:ext cx="2232000" cy="2617920"/>
          </a:xfrm>
          <a:prstGeom prst="rect">
            <a:avLst/>
          </a:prstGeom>
          <a:ln w="0">
            <a:noFill/>
          </a:ln>
        </p:spPr>
      </p:pic>
      <p:sp>
        <p:nvSpPr>
          <p:cNvPr id="323" name="Прямоугольник 3"/>
          <p:cNvSpPr/>
          <p:nvPr/>
        </p:nvSpPr>
        <p:spPr>
          <a:xfrm>
            <a:off x="3832200" y="1700280"/>
            <a:ext cx="488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Презентацию подготовил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МБОУ СОШ № 4 г.Радужный ХМАО-Юг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уртовенко Наталия Анатоль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Місце для нижнього колонтитула 3" descr=""/>
          <p:cNvPicPr/>
          <p:nvPr/>
        </p:nvPicPr>
        <p:blipFill>
          <a:blip r:embed="rId3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-Какие геометрические фигуры вы здесь видите?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- Сосчитайте только треугольников.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2195640" y="333360"/>
            <a:ext cx="4105080" cy="3486240"/>
          </a:xfrm>
          <a:prstGeom prst="rect">
            <a:avLst/>
          </a:prstGeom>
          <a:ln w="0">
            <a:noFill/>
          </a:ln>
        </p:spPr>
      </p:pic>
      <p:pic>
        <p:nvPicPr>
          <p:cNvPr id="355" name="Місце для нижнього колонтитула 3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3765600" cy="273528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-Благодарим за помощь!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58" name="Місце для нижнього колонтитула 2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216920" cy="5400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2133720" y="4292280"/>
            <a:ext cx="4959360" cy="50760"/>
          </a:xfrm>
          <a:prstGeom prst="rect">
            <a:avLst/>
          </a:prstGeom>
          <a:noFill/>
          <a:ln w="0">
            <a:noFill/>
          </a:ln>
        </p:spPr>
        <p:txBody>
          <a:bodyPr tIns="5040" bIns="5040" anchor="ctr">
            <a:normAutofit/>
          </a:bodyPr>
          <a:p>
            <a:pPr marL="272880" indent="-255240">
              <a:lnSpc>
                <a:spcPct val="80000"/>
              </a:lnSpc>
              <a:spcBef>
                <a:spcPts val="125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8" name="Місце для нижнього колонтитула 3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2987640" y="692280"/>
            <a:ext cx="2727360" cy="30258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11280" y="4508640"/>
            <a:ext cx="813744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    </a:t>
            </a: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9,  9,  10,  6,  3,  8,  3,  7,  9,  7к.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1" name="Місце для нижнього колонтитула 2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2771640" y="476280"/>
            <a:ext cx="3360960" cy="25210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9280" y="4076640"/>
            <a:ext cx="799308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 </a:t>
            </a: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28       53        39      75     56</a:t>
            </a:r>
            <a:br>
              <a:rPr sz="4900"/>
            </a:b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+</a:t>
            </a:r>
            <a:r>
              <a:rPr b="0" lang="ru-RU" sz="4900" spc="-1" strike="noStrike" u="sng">
                <a:solidFill>
                  <a:srgbClr val="ffffff"/>
                </a:solidFill>
                <a:uFillTx/>
                <a:latin typeface="Palatino Linotype"/>
              </a:rPr>
              <a:t>33 </a:t>
            </a: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   +</a:t>
            </a:r>
            <a:r>
              <a:rPr b="0" lang="ru-RU" sz="4900" spc="-1" strike="noStrike" u="sng">
                <a:solidFill>
                  <a:srgbClr val="ffffff"/>
                </a:solidFill>
                <a:uFillTx/>
                <a:latin typeface="Palatino Linotype"/>
              </a:rPr>
              <a:t>27</a:t>
            </a: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     +</a:t>
            </a:r>
            <a:r>
              <a:rPr b="0" lang="ru-RU" sz="4900" spc="-1" strike="noStrike" u="sng">
                <a:solidFill>
                  <a:srgbClr val="ffffff"/>
                </a:solidFill>
                <a:uFillTx/>
                <a:latin typeface="Palatino Linotype"/>
              </a:rPr>
              <a:t>35</a:t>
            </a: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   - </a:t>
            </a:r>
            <a:r>
              <a:rPr b="0" lang="ru-RU" sz="4900" spc="-1" strike="noStrike" u="sng">
                <a:solidFill>
                  <a:srgbClr val="ffffff"/>
                </a:solidFill>
                <a:uFillTx/>
                <a:latin typeface="Palatino Linotype"/>
              </a:rPr>
              <a:t>32</a:t>
            </a: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   -</a:t>
            </a:r>
            <a:r>
              <a:rPr b="0" lang="ru-RU" sz="4900" spc="-1" strike="noStrike" u="sng">
                <a:solidFill>
                  <a:srgbClr val="ffffff"/>
                </a:solidFill>
                <a:uFillTx/>
                <a:latin typeface="Palatino Linotype"/>
              </a:rPr>
              <a:t>24</a:t>
            </a:r>
            <a:br>
              <a:rPr sz="4900"/>
            </a:b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4" name="Місце для нижнього колонтитула 2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2124000" y="476280"/>
            <a:ext cx="4248360" cy="409896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55280" y="522936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61,     80,     74,     43,     32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7" name="Місце для нижнього колонтитула 2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2627280" y="333360"/>
            <a:ext cx="4157640" cy="295128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77600" y="3715920"/>
            <a:ext cx="7543800" cy="273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Испекла я нынче 13 пирожков. Прискакал ко мне Зайка и съел 4 пирожка, а потом прибежал Волк и съел еще 5 пирожков. Сколько пирожков у меня осталось? А по сколько достанется вам?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0" name="Місце для нижнього колонтитула 2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2340000" y="260280"/>
            <a:ext cx="4248000" cy="308772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280" y="4292280"/>
            <a:ext cx="8280360" cy="149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Palatino Linotype"/>
              </a:rPr>
              <a:t>Ответ: 4 пирожка, по 2 пирожка.</a:t>
            </a:r>
            <a:endParaRPr b="0" lang="en-US" sz="4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3" name="Місце для нижнього колонтитула 2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539280" y="476280"/>
            <a:ext cx="7689960" cy="386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40 см   …   4 дм 5 см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55 см   …  6 дм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52 см   …  25 см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60 см   …  6 дм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5435640" y="2347920"/>
            <a:ext cx="3163680" cy="3798720"/>
          </a:xfrm>
          <a:prstGeom prst="rect">
            <a:avLst/>
          </a:prstGeom>
          <a:ln w="0">
            <a:noFill/>
          </a:ln>
        </p:spPr>
      </p:pic>
      <p:pic>
        <p:nvPicPr>
          <p:cNvPr id="347" name="Місце для нижнього колонтитула 3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5435640" y="2349360"/>
            <a:ext cx="3168720" cy="38023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611280" y="404280"/>
            <a:ext cx="5184720" cy="393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58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40 см    &lt;   4 дм 5 см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  <a:p>
            <a:pPr marL="158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55 см    &lt;   6 дм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  <a:p>
            <a:pPr marL="158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52 см    &gt;   25 см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  <a:p>
            <a:pPr marL="158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60 см    =   6 дм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  <a:p>
            <a:pPr marL="15840"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51" name="Місце для нижнього колонтитула 1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27:49Z</dcterms:created>
  <dc:creator>User</dc:creator>
  <dc:description/>
  <dc:language>en-US</dc:language>
  <cp:lastModifiedBy>LEGION</cp:lastModifiedBy>
  <dcterms:modified xsi:type="dcterms:W3CDTF">2015-01-26T12:32:13Z</dcterms:modified>
  <cp:revision>22</cp:revision>
  <dc:subject/>
  <dc:title>Сложение двузначных чисел по мотиву сказки «Гуси-Лебеди»</dc:title>
</cp:coreProperties>
</file>