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41E2-CF7C-43EA-A5CD-824A4D0F58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ение двузначных чисел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рок - сказка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B571-DAC1-47C2-8603-E9E26C3201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акие геометрические фигуры вы здесь видит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считайте только треуг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B6FF-1295-4D63-8F13-6D3A610980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лагодарим за помощ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321E-FF31-4063-8FA2-469924C562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,  9,  10,  6,  3,  8,  3,  7,  9,  7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20F8-9182-4DE5-9A15-E6671438A2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       53        39      75     56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-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4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12E3-EB2E-4BFC-B5E1-79EF822F62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,     80,     74,     43,    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2D1F-C792-44E9-83AA-E955A13B95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екла я нынче 13 пирожков. Прискакал ко мне Зайка и съел 4 пирожка, а потом прибежал Волк и съел еще 5 пирожков. Сколько пирожков у меня осталось? А по сколько достанется в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8850-89F7-49AC-8B6A-DF367D5965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4 пирожка, по 2 пирож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CAAA-B47C-4AD6-B17D-73699274C9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 см   …   4 дм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 см   …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2 см   …  2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0 см   …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8ABA-6DE1-4BD2-B780-28631783CB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 см    &lt;   4 дм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5 см    &lt; 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 см    &gt;   2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 см    = 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E060-ADD6-462E-B14E-EE9BB72216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2FB-6884-4837-AC87-BAAD2696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D80-8010-47E6-A911-02C8AAA7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5A3-B428-4EB8-88B9-5E8126CD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239-17E2-426F-8FFD-EC880D0D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8AF36-67A7-46B2-A427-7CBAA86E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5DE26-B5B2-4EBF-B99C-7AFFAA25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0BBDD-180A-42C0-A8F9-5C426481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E8EAE-23A4-491B-BCC0-029A598A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59C0B-ABA7-47C8-BC58-8CC879F4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297BE-E69B-4924-A1A5-3E717F18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D52C6-79E6-47FB-B032-CC44AAC9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F15-BB94-42EC-ACA0-0848A3FB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F71BC-F933-436B-85BB-544481D0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41C9F-9742-45F1-893A-16BC8F86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78360-C11F-4CF9-96C8-F2A11208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9ED31-BD86-47C3-9614-F9EBA2E1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0F032-0153-4151-B9C6-E1CF6FE6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BFB68-E3DF-470D-A55E-C43C15F3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327CA-3E88-4210-BF49-08222A30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86DAB-CFD8-40AA-8142-6151AAFD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5402B-04D8-4ACD-AAB2-AF9A6FE7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C1247-D3D5-45C5-A399-F53D1A11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B5A-C692-40E5-ADAD-34D964B5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8B9B9-8B93-4A8B-921D-0801B2CE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404EC-B558-4D7D-98DE-796EB6FE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72395-F1EE-4F79-A72F-14298394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12F63-6DE0-471E-9094-2C4C214A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28C56-3936-4ACA-BFE8-05DF9D0A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76DA1-A474-4778-A835-5D0BA359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E5F31-F740-438B-95D1-6E02586F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8C754E-DDDD-4CD9-982F-6C57C711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990B0-7425-4654-9B80-E7767011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3828FB-FE89-4B4E-B815-59D96188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767-F97D-464C-89F9-E2BE09DF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29BC08-82DD-475D-B442-8DF3A1C0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F1775-0968-4A27-81D8-AC0B8F9C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27DB81-DDDD-4688-904C-4BF050D3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99AB23-A70C-440D-B518-BCAB2C00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EF7144-0675-42DE-B124-58BB5396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F330D8-6153-4FD5-90B8-63CACC65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E7F7E-450C-46D8-9DF9-546A9B9A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41E93F-AA3D-4C51-AD5C-BA7E1C1F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6D799B-709F-453C-9F70-F9D93AC3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C2526-E00E-4BF0-9DD0-7936E4A1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C579-C3E9-4D64-8D8D-F2CF3C08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DD4AB8-125A-496E-A585-DE3CC0F7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9A11B-9997-4069-91D8-4E524D9F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990BB-5A5E-42E8-97F1-D840C7DF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E2176-5778-49D8-BC23-307FE652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BA77C1-241F-42BE-89FE-C27C659B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27FF0-A2B2-4A27-BEF3-80F2BF3F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826771-7F04-4143-9E3E-194AF823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DD624A-180B-4FB2-B842-4D5C7200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A12F42-0184-4773-9B58-FFD81B7E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E373D-7F4B-459B-BA9B-E8E147F9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8D0-62A5-4129-BD96-D93011C4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33EA3-6025-4DF9-8E18-2C284A50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EF75C2-B0B0-4D9F-9E94-044383BC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66E50F-4CE5-4445-9769-DB58A0EE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C1A61A-DDF7-450E-AB09-AB54C708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5B8FE3-262B-44A7-8FAD-24144C1D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413924-BFA8-4337-9FBF-587EC876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3CDC8-1A93-4C85-BFE4-992F8BC4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7F6774-AD0F-4BB9-81CB-8ACD5AD3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94505F-40B8-43A0-9FF3-223F1259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9F791E-FAFF-420B-8FB6-097924C6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FC7-3608-46FC-AA3F-3D7667F3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D864CF-DF0B-4EAD-A69C-8FCC63FC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24810C-F30C-4195-85BE-7DFFF07F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7D235A-92FF-42CD-A40C-95B11853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820E-A6F0-45F5-BA96-5D3C6CE3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7FC-E531-458C-A841-DE1A4EB7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126F-A62F-4933-B838-38CD0E53DAE2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811B-4902-4206-9EDD-BA982F670D90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F29C-CECF-475D-87CF-EF053262226B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2D43-66C9-4C9B-8B50-EBAA14A1F256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4FBC-AD09-4C52-AF1E-CC12E463CFD1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6D47-9E10-40A8-B4C3-9D4E6CEEEFE2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B021-E962-45F3-8D84-751E9278DDFA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70A8-0AD5-4521-87CC-A2E7C40B1205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F489-B831-4F19-82F5-29C7B8CFA154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F9A5-D712-461F-86B4-CF2F8351DC26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1641-E61F-42AA-9BEC-D6DBA8FDC958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C86F-7984-45CE-89F3-12B85B46302D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7120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Сложение двузначных чисел</a:t>
            </a:r>
            <a:br>
              <a:rPr sz="4900"/>
            </a:br>
            <a:r>
              <a:rPr b="0" lang="ru-RU" sz="2500" spc="-1" strike="noStrike">
                <a:solidFill>
                  <a:srgbClr val="ffffff"/>
                </a:solidFill>
                <a:latin typeface="Palatino Linotype"/>
              </a:rPr>
              <a:t>урок - сказка </a:t>
            </a:r>
            <a:endParaRPr b="0" lang="en-US" sz="2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23640" y="2145960"/>
            <a:ext cx="215640" cy="42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508200" cy="2617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2232000" cy="26179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3"/>
          <p:cNvSpPr/>
          <p:nvPr/>
        </p:nvSpPr>
        <p:spPr>
          <a:xfrm>
            <a:off x="3832200" y="1700280"/>
            <a:ext cx="48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резентацию подготов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МБОУ СОШ № 4 г.Радужный ХМАО-Ю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ртовенко Наталия Анато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Місце для нижнього колонтитула 3" descr=""/>
          <p:cNvPicPr/>
          <p:nvPr/>
        </p:nvPicPr>
        <p:blipFill>
          <a:blip r:embed="rId3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-Какие геометрические фигуры вы здесь видите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- Сосчитайте только треугольников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105080" cy="3486240"/>
          </a:xfrm>
          <a:prstGeom prst="rect">
            <a:avLst/>
          </a:prstGeom>
          <a:ln w="0">
            <a:noFill/>
          </a:ln>
        </p:spPr>
      </p:pic>
      <p:pic>
        <p:nvPicPr>
          <p:cNvPr id="355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3765600" cy="27352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-Благодарим за помощь!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8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216920" cy="5400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2133720" y="4292280"/>
            <a:ext cx="4959360" cy="50760"/>
          </a:xfrm>
          <a:prstGeom prst="rect">
            <a:avLst/>
          </a:prstGeom>
          <a:noFill/>
          <a:ln w="0">
            <a:noFill/>
          </a:ln>
        </p:spPr>
        <p:txBody>
          <a:bodyPr tIns="5040" bIns="5040" anchor="ctr">
            <a:normAutofit/>
          </a:bodyPr>
          <a:p>
            <a:pPr marL="272880" indent="-255240">
              <a:lnSpc>
                <a:spcPct val="80000"/>
              </a:lnSpc>
              <a:spcBef>
                <a:spcPts val="125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8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2727360" cy="302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4508640"/>
            <a:ext cx="8137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9,  9,  10,  6,  3,  8,  3,  7,  9,  7к.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1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3360960" cy="25210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280" y="407664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28       53        39      75     56</a:t>
            </a:r>
            <a:br>
              <a:rPr sz="4900"/>
            </a:b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3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27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5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- 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2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-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24</a:t>
            </a: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4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4248360" cy="40989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280" y="5229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61,     80,     74,     43,     32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7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4157640" cy="29512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77600" y="3715920"/>
            <a:ext cx="754380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Испекла я нынче 13 пирожков. Прискакал ко мне Зайка и съел 4 пирожка, а потом прибежал Волк и съел еще 5 пирожков. Сколько пирожков у меня осталось? А по сколько достанется вам?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0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248000" cy="30877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280" y="4292280"/>
            <a:ext cx="828036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Ответ: 4 пирожка, по 2 пирожка.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3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539280" y="476280"/>
            <a:ext cx="7689960" cy="386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40 см   …   4 дм 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5 см   …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2 см   …  2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60 см   …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5435640" y="2347920"/>
            <a:ext cx="3163680" cy="3798720"/>
          </a:xfrm>
          <a:prstGeom prst="rect">
            <a:avLst/>
          </a:prstGeom>
          <a:ln w="0">
            <a:noFill/>
          </a:ln>
        </p:spPr>
      </p:pic>
      <p:pic>
        <p:nvPicPr>
          <p:cNvPr id="347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3168720" cy="3802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611280" y="404280"/>
            <a:ext cx="5184720" cy="393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40 см    &lt;   4 дм 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55 см    &lt; 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52 см    &gt;   2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60 см    = 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1" name="Місце для нижнього колонтитула 1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27:49Z</dcterms:created>
  <dc:creator>User</dc:creator>
  <dc:description/>
  <dc:language>en-US</dc:language>
  <cp:lastModifiedBy>LEGION</cp:lastModifiedBy>
  <dcterms:modified xsi:type="dcterms:W3CDTF">2015-01-26T12:32:13Z</dcterms:modified>
  <cp:revision>22</cp:revision>
  <dc:subject/>
  <dc:title>Сложение двузначных чисел по мотиву сказки «Гуси-Лебеди»</dc:title>
</cp:coreProperties>
</file>