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2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10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A1CD-30FE-49AD-8E08-924D0D7B4CE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58;.EXE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1,%20&#1082;%20&#1086;&#1090;&#1082;&#1088;&#1099;&#1090;&#1086;&#1084;&#1091;%20&#1091;&#1088;&#1086;&#1082;&#1091;.xls" TargetMode="External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yarsky"/>
              </a:rPr>
              <a:t>Линейные урав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yarsky"/>
              </a:rPr>
              <a:t>(Алгебра – 7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185F-6673-4524-991C-A5C99C9C13AA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При решении уравнения вида </a:t>
            </a:r>
            <a:r>
              <a:rPr b="0" lang="ru-RU" sz="900" spc="-1" strike="noStrike" u="sng">
                <a:solidFill>
                  <a:srgbClr val="800080"/>
                </a:solidFill>
                <a:uFillTx/>
                <a:latin typeface="Calibri"/>
              </a:rPr>
              <a:t>ах = в</a:t>
            </a:r>
            <a:r>
              <a:rPr b="0" lang="ru-RU" sz="900" spc="-1" strike="noStrike">
                <a:solidFill>
                  <a:srgbClr val="0000ff"/>
                </a:solidFill>
                <a:latin typeface="Calibri"/>
              </a:rPr>
              <a:t> возможны следующие три случая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х=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8979-D86D-4553-84FE-89F939D6D7D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х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3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ведём это уравнение к стандартному виду. Раскроем скобки в обеих частях уравнения:2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2  1=4  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Слагаемые, зависящие от х, перенесём в левую часть уравнения; числа – в правую, изменяя их знаки на противоположные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х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риведём подобные слагаемы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 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этом уравнении а=2 и в=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равнение имее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дин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орень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3A6B-3B94-4822-B923-BD2070E718A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+3)-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1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2х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м это уравнение к стандартному виду: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=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-14, или 0х=0 (где а=0, в=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видно, что при подстановке любого значения х получаем верное числовое равенство 0=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любое число является корнем этого уравнения (уравнение имее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бесконечно много корн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910D-487C-41B2-AA77-4B5260CF11B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им уравнение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3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-1)=4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(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х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+</a:t>
            </a:r>
            <a:r>
              <a:rPr b="0" lang="en-US" sz="1200" spc="-1" strike="noStrike" u="sng">
                <a:solidFill>
                  <a:srgbClr val="80008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3)+2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им это уравнение к стандартному вид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или 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-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12 или 0х=14 (где а=0, в=1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видно, что при подстановке любого значения х получаем неверное числовое равенство 0=1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уравнение корней не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9E2F-09D3-415D-941B-E2D151E9425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еши сам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а)5х-7=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б) 2(3х-1)+4=7х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)3х-(10+5х)=54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) 0,5(4-2х)=х-1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твет:х=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14AD-2CB2-45F8-9533-98D28BAA94F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=-2+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=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=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6х-2+4=7х+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х-7х=5+2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=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-3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:х=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3х-10-5х=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54+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64:(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-32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:х=-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2-х=х-1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х-х=-1,8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2х=-3,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=1,9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Ответ: х=1,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AA71-A3C8-4456-89B1-B216CC3CCCA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естов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вои знания ответив на вопросы предложенные компьют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EA87-0F84-47C3-B499-ED5377DD1A8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 уравнения и компьютер оценит твою рабо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50DC-2E1A-499A-A4A6-5AC580AD121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расстраивайся, если компьютер тебя не оценил. Вернись к слайду №4, попробуй начать всё сначала и у тебя обязательно всё получит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912C-B981-40F1-83DF-0DE639BC55D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Если ты прошёл тест, решил самостоятельную работу и учитель тебя похвалил, попробуй свои силы при решении следующих уравнени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A312-1B84-4CAF-9D75-A2AE7C338D9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Электронный  учеб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ставила: учитель математики-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ерегул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У «СОШ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008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A6DF-54C3-4392-81A2-2C04F9F9FFB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EF8C-C029-459D-96C6-3E7D21FDADA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Дорогой друг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Твоему вниманию представлен электронный учебник, где ты можешь найти необходимые сведенья для решения линейных уравнений. Освоив способы решения, ты можешь проверить свои знания, решив тестовые задания и самостоятельную работу, после чего компьютер поставит тебе оце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          </a:t>
            </a:r>
            <a:r>
              <a:rPr b="0" lang="ru-RU" sz="1200" spc="-1" strike="noStrike">
                <a:solidFill>
                  <a:srgbClr val="800080"/>
                </a:solidFill>
                <a:latin typeface="Boyarsky"/>
              </a:rPr>
              <a:t>Желаю удач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BAA1-7357-4080-9763-E84396D503D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уравнением с одной неизвестной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Корнем уравн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зывают значение переменной , при котором уравнение обращается в верное числовое раве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Решить уравн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значает найти все его корни или доказать, что корней 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, которые имеют одни и те же корни, называются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равносильными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, которые не имеют корней, также                             считаются равноси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116F-0B92-4C77-8649-0F23D35ED1E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Определе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равнение вид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а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х = в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(где х – переменная, а и в – некоторые числа) называется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линейным уравнением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 одной переменн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ая особенность такого уравнения –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еременная 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ход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уравнение обязательно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первой степ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E858-86AB-436D-A188-B07C0FD1A18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мер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ные уравнения являются линейными, так как имеют вид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а х =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3  х=7   (где а=3, в=7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-2 х=5  (где а=?, в=?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0х=-3 (где а=?, в=?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0х=0  (где а=?, в=?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линейные уравнения приводятся к виду 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а  х = 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помощью тождественных преобразо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F802-C3D3-4932-8547-1B3DF0EDF13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равнении </a:t>
            </a:r>
            <a:r>
              <a:rPr b="0" lang="ru-RU" sz="1200" spc="-1" strike="noStrike" u="sng">
                <a:solidFill>
                  <a:srgbClr val="800080"/>
                </a:solidFill>
                <a:uFillTx/>
                <a:latin typeface="Calibri"/>
              </a:rPr>
              <a:t>2(3х-5)=х-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еременная х входит в первой степени. Поэтому это уравнение является линейным. Приведём это уравнение к стандартному виду. В левой части раскроем скобки: 2 3х-2 5=х-3 или 6х-10=х-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несём слагаемые, содержащие х, в левую часть уравнения; числа – в правую. Приведём подобные слагаемые. Получаем: 6х-х=10-3 или 5х=7. Линейное уравнение имеет вид ах=в (где а=5, в=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4949-7E9D-4CBB-A7C5-D5BEA7AF6B9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80"/>
                </a:solidFill>
                <a:latin typeface="Calibri"/>
              </a:rPr>
              <a:t>При решении уравнений не забудь следующие свойств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уравнении перенести слагаемые из одной части в другую, изменив его знак, то получится уравнение, равносильное данн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бе части уравнения умножить или разделить на одно и то же отличное от нуля число, то получится уравнение равносильное д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229F-354E-44EA-BE40-62A5F7F7F80C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енные уравнения не являются линейны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х+7=0 (так как содержит переменную х во второй степен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5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= 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объясни 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(х-3)=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5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(объясни с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343D-36CF-41B8-9BED-037985C76DC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E50-88CA-4446-BB8B-999011B3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902-844F-4B08-912A-8404BC71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987E-73F5-4F5C-89F7-FA1139B3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71CF-FE13-4E44-90B8-4F76AE83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87E2-A905-4F20-8B8F-B2531B85B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D1CD-4BA9-4107-8F1F-F5FA405E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30FF-2E31-4769-AC0E-4C49A3F1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32A0-8B98-4EF6-BEE2-6B40EA76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338B-E234-4F8F-9296-31D0865D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73D8-690D-4468-A88F-E9E145A9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9B18-4CF3-400C-B3B4-E1F50D57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E24B-A798-4199-B4A7-D21C73A1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9FFC-2EC7-481E-80A9-2CAF0F78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7FBD-C7B6-4F76-97C9-F048FF85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2709-058D-46B4-BC5B-56E47B23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81E7-374C-45A3-B8BC-A2FAF420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DBB4-E881-4610-8225-AF39C4D6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7983-2549-45FD-944F-EA3638F3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CEE-4D75-4541-8350-4B9BC648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FB8-54AF-429C-B070-76685DCD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57A-702E-4822-9FEB-E2D2C21D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071-AA90-411A-AD1B-90AA1256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FA2F-D2E7-4AE3-B5E3-6E1EEBEB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EBE-8A05-4855-80FF-68D7429E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F74C-C82E-4F16-AD45-975BB42B20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9DAA-E264-4DD0-870D-A7254D211C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&#1058;&#1077;&#1089;&#1058;.EXE" TargetMode="External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50;&#1085;&#1080;&#1075;&#1072;1,%20&#1082;%20&#1086;&#1090;&#1082;&#1088;&#1099;&#1090;&#1086;&#1084;&#1091;%20&#1091;&#1088;&#1086;&#1082;&#1091;.xls" TargetMode="External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Boyarsky"/>
              </a:rPr>
              <a:t>Линейные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yarsky"/>
              </a:rPr>
              <a:t>(Алгебра – 7 класс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Выбери меня"/>
          <p:cNvPicPr/>
          <p:nvPr/>
        </p:nvPicPr>
        <p:blipFill>
          <a:blip r:embed="rId1"/>
          <a:stretch/>
        </p:blipFill>
        <p:spPr>
          <a:xfrm>
            <a:off x="7236000" y="40464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956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ах=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276720" y="4221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дин кор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9"/>
          <p:cNvSpPr/>
          <p:nvPr/>
        </p:nvSpPr>
        <p:spPr>
          <a:xfrm>
            <a:off x="2050920" y="3357720"/>
            <a:ext cx="158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3708360" y="3141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, в = 0 -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т кор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1"/>
          <p:cNvSpPr/>
          <p:nvPr/>
        </p:nvSpPr>
        <p:spPr>
          <a:xfrm>
            <a:off x="1763640" y="3500280"/>
            <a:ext cx="15829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3132000" y="1916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 = 0, в = 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множество корн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13"/>
          <p:cNvSpPr/>
          <p:nvPr/>
        </p:nvSpPr>
        <p:spPr>
          <a:xfrm flipV="1">
            <a:off x="1692360" y="2349360"/>
            <a:ext cx="165564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5076720" y="3213000"/>
            <a:ext cx="14472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Line 15"/>
          <p:cNvSpPr/>
          <p:nvPr/>
        </p:nvSpPr>
        <p:spPr>
          <a:xfrm flipH="1">
            <a:off x="3635280" y="4365720"/>
            <a:ext cx="21600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826920" y="189000"/>
            <a:ext cx="67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При решении уравнения вида </a:t>
            </a:r>
            <a:r>
              <a:rPr b="0" lang="ru-RU" sz="3600" spc="-1" strike="noStrike" u="sng">
                <a:solidFill>
                  <a:srgbClr val="703dff"/>
                </a:solidFill>
                <a:uFillTx/>
                <a:latin typeface="Comic Sans MS"/>
              </a:rPr>
              <a:t>ах = в</a:t>
            </a:r>
            <a:r>
              <a:rPr b="0" lang="ru-RU" sz="3600" spc="-1" strike="noStrike">
                <a:solidFill>
                  <a:srgbClr val="00b200"/>
                </a:solidFill>
                <a:latin typeface="Comic Sans MS"/>
              </a:rPr>
              <a:t> возможны следующие три случая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6822360" y="429264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  =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23"/>
              <p:cNvSpPr txBox="1"/>
              <p:nvPr/>
            </p:nvSpPr>
            <p:spPr>
              <a:xfrm>
                <a:off x="7596360" y="3933720"/>
                <a:ext cx="5191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eqArr>
                      <m:e>
                        <m:f>
                          <m:num>
                            <m:r>
                              <m:t xml:space="preserve">а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07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х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3)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риведём это уравнение к стандартному виду. Раскроем скобки в обеих частях уравнения:2 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-2  1=4  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Слагаемые, зависящие от х, перенесём в левую часть уравнения; числа – в правую, изменяя их знаки на противоположные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х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. Приведём подобные слагаемые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 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В этом уравнении а=2 и в=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Уравнение имее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дин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корень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4"/>
              <p:cNvSpPr txBox="1"/>
              <p:nvPr/>
            </p:nvSpPr>
            <p:spPr>
              <a:xfrm>
                <a:off x="6443640" y="2637000"/>
                <a:ext cx="18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6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8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0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12"/>
              <p:cNvSpPr txBox="1"/>
              <p:nvPr/>
            </p:nvSpPr>
            <p:spPr>
              <a:xfrm>
                <a:off x="0" y="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0" name="Rectangle 15"/>
          <p:cNvSpPr/>
          <p:nvPr/>
        </p:nvSpPr>
        <p:spPr>
          <a:xfrm>
            <a:off x="49323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6"/>
              <p:cNvSpPr txBox="1"/>
              <p:nvPr/>
            </p:nvSpPr>
            <p:spPr>
              <a:xfrm>
                <a:off x="7308720" y="26370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7"/>
              <p:cNvSpPr txBox="1"/>
              <p:nvPr/>
            </p:nvSpPr>
            <p:spPr>
              <a:xfrm>
                <a:off x="5796000" y="2637000"/>
                <a:ext cx="18720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8"/>
              <p:cNvSpPr txBox="1"/>
              <p:nvPr/>
            </p:nvSpPr>
            <p:spPr>
              <a:xfrm>
                <a:off x="4859280" y="2637000"/>
                <a:ext cx="18756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0"/>
              <p:cNvSpPr txBox="1"/>
              <p:nvPr/>
            </p:nvSpPr>
            <p:spPr>
              <a:xfrm>
                <a:off x="4427640" y="4869000"/>
                <a:ext cx="306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eqAr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9"/>
              <p:cNvSpPr txBox="1"/>
              <p:nvPr/>
            </p:nvSpPr>
            <p:spPr>
              <a:xfrm>
                <a:off x="0" y="6573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Rectangle 22"/>
          <p:cNvSpPr/>
          <p:nvPr/>
        </p:nvSpPr>
        <p:spPr>
          <a:xfrm>
            <a:off x="0" y="6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23"/>
              <p:cNvSpPr txBox="1"/>
              <p:nvPr/>
            </p:nvSpPr>
            <p:spPr>
              <a:xfrm>
                <a:off x="0" y="389268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9" name="Rectangle 26"/>
          <p:cNvSpPr/>
          <p:nvPr/>
        </p:nvSpPr>
        <p:spPr>
          <a:xfrm>
            <a:off x="4717440" y="4941360"/>
            <a:ext cx="62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Picture 27" descr="42r1"/>
          <p:cNvPicPr/>
          <p:nvPr/>
        </p:nvPicPr>
        <p:blipFill>
          <a:blip r:embed="rId1"/>
          <a:stretch/>
        </p:blipFill>
        <p:spPr>
          <a:xfrm>
            <a:off x="5435640" y="5157720"/>
            <a:ext cx="1571760" cy="100008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+3)-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1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2х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одим это уравнение к стандартному виду: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или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=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-14, или 0х=0 (где а=0, в=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что при подстановке любого значения х получаем верное числовое равенство 0=0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любое число является корнем этого уравнения (уравнение имее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бесконечно много корней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Picture 4" descr="46r3"/>
          <p:cNvPicPr/>
          <p:nvPr/>
        </p:nvPicPr>
        <p:blipFill>
          <a:blip r:embed="rId1"/>
          <a:stretch/>
        </p:blipFill>
        <p:spPr>
          <a:xfrm>
            <a:off x="6227640" y="5157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м уравнение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3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-1)=4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(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х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+</a:t>
            </a:r>
            <a:r>
              <a:rPr b="0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3)+2х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водим это уравнение к стандартному виду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2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 или 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-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+12 или 0х=14 (где а=0, в=1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видно, что при подстановке любого значения х получаем неверное числовое равенство 0=14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этому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уравнение корней не име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8" name="Picture 4" descr="17r2"/>
          <p:cNvPicPr/>
          <p:nvPr/>
        </p:nvPicPr>
        <p:blipFill>
          <a:blip r:embed="rId1"/>
          <a:stretch/>
        </p:blipFill>
        <p:spPr>
          <a:xfrm>
            <a:off x="5796000" y="50846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Реши сам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а)5х-7=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б) 2(3х-1)+4=7х+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)3х-(10+5х)=54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г) 0,5(4-2х)=х-1,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                                        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твет:х=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2" name="Picture 5" descr="star54[1]"/>
          <p:cNvPicPr/>
          <p:nvPr/>
        </p:nvPicPr>
        <p:blipFill>
          <a:blip r:embed="rId1"/>
          <a:stretch/>
        </p:blipFill>
        <p:spPr>
          <a:xfrm>
            <a:off x="6732720" y="90792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star54[1]"/>
          <p:cNvPicPr/>
          <p:nvPr/>
        </p:nvPicPr>
        <p:blipFill>
          <a:blip r:embed="rId2"/>
          <a:stretch/>
        </p:blipFill>
        <p:spPr>
          <a:xfrm>
            <a:off x="2987640" y="5516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star54[1]"/>
          <p:cNvPicPr/>
          <p:nvPr/>
        </p:nvPicPr>
        <p:blipFill>
          <a:blip r:embed="rId3"/>
          <a:stretch/>
        </p:blipFill>
        <p:spPr>
          <a:xfrm>
            <a:off x="1979640" y="620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star54[1]"/>
          <p:cNvPicPr/>
          <p:nvPr/>
        </p:nvPicPr>
        <p:blipFill>
          <a:blip r:embed="rId4"/>
          <a:stretch/>
        </p:blipFill>
        <p:spPr>
          <a:xfrm>
            <a:off x="7020000" y="292428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star54[1]"/>
          <p:cNvPicPr/>
          <p:nvPr/>
        </p:nvPicPr>
        <p:blipFill>
          <a:blip r:embed="rId5"/>
          <a:stretch/>
        </p:blipFill>
        <p:spPr>
          <a:xfrm>
            <a:off x="7380360" y="5084640"/>
            <a:ext cx="863640" cy="763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1" descr="star54[1]"/>
          <p:cNvPicPr/>
          <p:nvPr/>
        </p:nvPicPr>
        <p:blipFill>
          <a:blip r:embed="rId6"/>
          <a:stretch/>
        </p:blipFill>
        <p:spPr>
          <a:xfrm>
            <a:off x="684360" y="3933720"/>
            <a:ext cx="863280" cy="763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=-2+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x=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т: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х=1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) 6х-2+4=7х+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6х-7х=5+2-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х=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-3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т:х=-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)3х-10-5х=5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54+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6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64:(-2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-32  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Ответ:х=-3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) 2-х=х-1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х-х=-1,8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-2х=-3,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=1,9</a:t>
            </a: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   Ответ: х=1,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Тестовая рабо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920" y="3573360"/>
            <a:ext cx="842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верь свои знания ответив на вопросы предложенные компьютер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4" descr="14m4"/>
          <p:cNvPicPr/>
          <p:nvPr/>
        </p:nvPicPr>
        <p:blipFill>
          <a:blip r:embed="rId2"/>
          <a:stretch/>
        </p:blipFill>
        <p:spPr>
          <a:xfrm>
            <a:off x="324000" y="765000"/>
            <a:ext cx="1800000" cy="14036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2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Самостоятельная рабо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8920" y="2349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еши уравнения и компьютер оценит твою рабо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8" name="Picture 4" descr="255"/>
          <p:cNvPicPr/>
          <p:nvPr/>
        </p:nvPicPr>
        <p:blipFill>
          <a:blip r:embed="rId2"/>
          <a:stretch/>
        </p:blipFill>
        <p:spPr>
          <a:xfrm>
            <a:off x="5435640" y="3716280"/>
            <a:ext cx="1123920" cy="13813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ar3[1]"/>
          <p:cNvPicPr/>
          <p:nvPr/>
        </p:nvPicPr>
        <p:blipFill>
          <a:blip r:embed="rId3"/>
          <a:stretch/>
        </p:blipFill>
        <p:spPr>
          <a:xfrm rot="19750200">
            <a:off x="539640" y="691920"/>
            <a:ext cx="1224000" cy="8650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6870600" cy="38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dff"/>
                </a:solidFill>
                <a:latin typeface="Comic Sans MS"/>
              </a:rPr>
              <a:t>Не расстраивайся, если компьютер тебя не оценил. Вернись к слайду №4, попробуй начать всё сначала и у тебя обязательно всё получится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2" name="Picture 6" descr="people1[1]"/>
          <p:cNvPicPr/>
          <p:nvPr/>
        </p:nvPicPr>
        <p:blipFill>
          <a:blip r:embed="rId1"/>
          <a:stretch/>
        </p:blipFill>
        <p:spPr>
          <a:xfrm>
            <a:off x="395280" y="189000"/>
            <a:ext cx="1352520" cy="1512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f72[1]"/>
          <p:cNvPicPr/>
          <p:nvPr/>
        </p:nvPicPr>
        <p:blipFill>
          <a:blip r:embed="rId2"/>
          <a:stretch/>
        </p:blipFill>
        <p:spPr>
          <a:xfrm>
            <a:off x="6877080" y="4941720"/>
            <a:ext cx="1224000" cy="116208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476280"/>
            <a:ext cx="676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uk-UA" sz="4400" spc="-1" strike="noStrike">
              <a:solidFill>
                <a:srgbClr val="00b2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Если ты прошёл тест, решил самостоятельную работу и учитель тебя похвалил, попробуй свои силы при решении следующих уравнений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555920" y="3087360"/>
            <a:ext cx="6040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1. Реши уравнение: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|3х + 8|=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. Найди значение параметра а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 котором уравнение </a:t>
            </a:r>
            <a:r>
              <a:rPr b="1" lang="ru-RU" sz="2000" spc="-1" strike="noStrike">
                <a:solidFill>
                  <a:srgbClr val="00b200"/>
                </a:solidFill>
                <a:latin typeface="Comic Sans MS"/>
              </a:rPr>
              <a:t>(3а + 1) х = 2а+6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еет корень х=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059280" y="494172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6"/>
          <p:cNvSpPr/>
          <p:nvPr/>
        </p:nvSpPr>
        <p:spPr>
          <a:xfrm rot="20629200">
            <a:off x="4081680" y="51526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200"/>
                </a:solidFill>
                <a:latin typeface="Comic Sans MS"/>
              </a:rPr>
              <a:t>Удачи тебе</a:t>
            </a:r>
            <a:r>
              <a:rPr b="0" i="1" lang="ru-RU" sz="3200" spc="-1" strike="noStrike">
                <a:solidFill>
                  <a:srgbClr val="00b2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лектронный  учебн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Составила: учитель математики-информати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Терегулова И.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МОУ «СОШ №1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                       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008 год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4" descr="35"/>
          <p:cNvPicPr/>
          <p:nvPr/>
        </p:nvPicPr>
        <p:blipFill>
          <a:blip r:embed="rId1"/>
          <a:stretch/>
        </p:blipFill>
        <p:spPr>
          <a:xfrm>
            <a:off x="4067280" y="1773360"/>
            <a:ext cx="1511280" cy="13096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4"/>
          <p:cNvSpPr txBox="1"/>
          <p:nvPr/>
        </p:nvSpPr>
        <p:spPr>
          <a:xfrm rot="20243400">
            <a:off x="1560240" y="1696680"/>
            <a:ext cx="5976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елаю удачи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2" name="Picture 6" descr="dis2[1]"/>
          <p:cNvPicPr/>
          <p:nvPr/>
        </p:nvPicPr>
        <p:blipFill>
          <a:blip r:embed="rId1"/>
          <a:stretch/>
        </p:blipFill>
        <p:spPr>
          <a:xfrm>
            <a:off x="539640" y="692280"/>
            <a:ext cx="1224000" cy="15127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newy25"/>
          <p:cNvPicPr/>
          <p:nvPr/>
        </p:nvPicPr>
        <p:blipFill>
          <a:blip r:embed="rId2"/>
          <a:stretch/>
        </p:blipFill>
        <p:spPr>
          <a:xfrm>
            <a:off x="6588000" y="4005360"/>
            <a:ext cx="1349640" cy="16556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800280"/>
            <a:ext cx="6870600" cy="16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Дорогой друг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704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Твоему вниманию представлен электронный учебник, где ты можешь найти необходимые сведенья для решения линейных уравнений. Освоив способы решения, ты можешь проверить свои знания, решив тестовые задания и самостоятельную работу, после чего компьютер поставит тебе оценку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          </a:t>
            </a:r>
            <a:r>
              <a:rPr b="0" lang="ru-RU" sz="2800" spc="-1" strike="noStrike">
                <a:solidFill>
                  <a:srgbClr val="703dff"/>
                </a:solidFill>
                <a:latin typeface="Boyarsky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4" descr="people12[1]"/>
          <p:cNvPicPr/>
          <p:nvPr/>
        </p:nvPicPr>
        <p:blipFill>
          <a:blip r:embed="rId1"/>
          <a:stretch/>
        </p:blipFill>
        <p:spPr>
          <a:xfrm>
            <a:off x="7380360" y="4724280"/>
            <a:ext cx="936720" cy="1479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teddy37"/>
          <p:cNvPicPr/>
          <p:nvPr/>
        </p:nvPicPr>
        <p:blipFill>
          <a:blip r:embed="rId2"/>
          <a:stretch/>
        </p:blipFill>
        <p:spPr>
          <a:xfrm>
            <a:off x="395280" y="404640"/>
            <a:ext cx="581040" cy="704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венство между двумя алгебраическими выражениями с одной переменной называют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уравнением с одной неизвестной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86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Корнем уравне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зывают значение переменной , при котором уравнение обращается в верное числовое равенств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Решить уравнен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значает найти все его корни или доказать, что корней не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которые имеют одни и те же корни, называются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равносильными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равнения, которые не имеют корней, также                             считаются равносильным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763640" y="189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Основные понят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17r1"/>
          <p:cNvPicPr/>
          <p:nvPr/>
        </p:nvPicPr>
        <p:blipFill>
          <a:blip r:embed="rId1"/>
          <a:stretch/>
        </p:blipFill>
        <p:spPr>
          <a:xfrm>
            <a:off x="7093080" y="5157720"/>
            <a:ext cx="952200" cy="9525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Определен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уравнение вида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а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</a:rPr>
              <a:t>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х = в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(где х – переменная, а и в – некоторые числа) называется </a:t>
            </a:r>
            <a:r>
              <a:rPr b="0" lang="ru-RU" sz="2400" spc="-1" strike="noStrike" u="sng">
                <a:solidFill>
                  <a:srgbClr val="00b200"/>
                </a:solidFill>
                <a:uFillTx/>
                <a:latin typeface="Comic Sans MS"/>
              </a:rPr>
              <a:t>линейным уравнением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с одной переменн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3200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личительная особенность такого уравнения –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переменная 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ходит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в уравнение обязательно </a:t>
            </a: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в первой степ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ar12[1]"/>
          <p:cNvPicPr/>
          <p:nvPr/>
        </p:nvPicPr>
        <p:blipFill>
          <a:blip r:embed="rId1"/>
          <a:stretch/>
        </p:blipFill>
        <p:spPr>
          <a:xfrm>
            <a:off x="7093080" y="1197000"/>
            <a:ext cx="1295280" cy="68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18m5"/>
          <p:cNvPicPr/>
          <p:nvPr/>
        </p:nvPicPr>
        <p:blipFill>
          <a:blip r:embed="rId2"/>
          <a:stretch/>
        </p:blipFill>
        <p:spPr>
          <a:xfrm>
            <a:off x="1476360" y="2852640"/>
            <a:ext cx="1371600" cy="13334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8"/>
              <p:cNvSpPr txBox="1"/>
              <p:nvPr/>
            </p:nvSpPr>
            <p:spPr>
              <a:xfrm>
                <a:off x="5508720" y="1197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89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еречисленные уравнения являются линейными, так как имеют вид 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а х =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3  х=7   (где а=3, в=7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-2 х=5  (где а=?, в=?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0х=-3 (где а=?, в=?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)0х=0  (где а=?, в=?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 линейные уравнения приводятся к виду  </a:t>
            </a:r>
            <a:r>
              <a:rPr b="0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а  х = в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 помощью тождественных преобразова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1835280" y="270828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8"/>
              <p:cNvSpPr txBox="1"/>
              <p:nvPr/>
            </p:nvSpPr>
            <p:spPr>
              <a:xfrm>
                <a:off x="6948360" y="2349360"/>
                <a:ext cx="11448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908000" y="314172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2"/>
              <p:cNvSpPr txBox="1"/>
              <p:nvPr/>
            </p:nvSpPr>
            <p:spPr>
              <a:xfrm>
                <a:off x="1835280" y="3645000"/>
                <a:ext cx="11412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3"/>
              <p:cNvSpPr txBox="1"/>
              <p:nvPr/>
            </p:nvSpPr>
            <p:spPr>
              <a:xfrm>
                <a:off x="1763640" y="400536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14"/>
              <p:cNvSpPr txBox="1"/>
              <p:nvPr/>
            </p:nvSpPr>
            <p:spPr>
              <a:xfrm>
                <a:off x="1332000" y="4797360"/>
                <a:ext cx="114120" cy="1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95" name="Picture 15" descr="пёсик"/>
          <p:cNvPicPr/>
          <p:nvPr/>
        </p:nvPicPr>
        <p:blipFill>
          <a:blip r:embed="rId1"/>
          <a:stretch/>
        </p:blipFill>
        <p:spPr>
          <a:xfrm>
            <a:off x="6012000" y="522936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2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уравнении </a:t>
            </a:r>
            <a:r>
              <a:rPr b="0" lang="ru-RU" sz="2400" spc="-1" strike="noStrike" u="sng">
                <a:solidFill>
                  <a:srgbClr val="703dff"/>
                </a:solidFill>
                <a:uFillTx/>
                <a:latin typeface="Comic Sans MS"/>
              </a:rPr>
              <a:t>2(3х-5)=х-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переменная х входит в первой степени. Поэтому это уравнение является линейным. Приведём это уравнение к стандартному виду. В левой части раскроем скобки: 2 3х-2 5=х-3 или 6х-10=х-3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несём слагаемые, содержащие х, в левую часть уравнения; числа – в правую. Приведём подобные слагаемые. Получаем: 6х-х=10-3 или 5х=7. Линейное уравнение имеет вид ах=в (где а=5, в=7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4"/>
              <p:cNvSpPr txBox="1"/>
              <p:nvPr/>
            </p:nvSpPr>
            <p:spPr>
              <a:xfrm>
                <a:off x="6443640" y="306864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6"/>
              <p:cNvSpPr txBox="1"/>
              <p:nvPr/>
            </p:nvSpPr>
            <p:spPr>
              <a:xfrm>
                <a:off x="7164360" y="3068640"/>
                <a:ext cx="114480" cy="1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3" name="Picture 8" descr="33"/>
          <p:cNvPicPr/>
          <p:nvPr/>
        </p:nvPicPr>
        <p:blipFill>
          <a:blip r:embed="rId1"/>
          <a:stretch/>
        </p:blipFill>
        <p:spPr>
          <a:xfrm>
            <a:off x="6156360" y="5445000"/>
            <a:ext cx="1066680" cy="100008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При решении уравнений не забудь следующие свойств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в уравнении перенести слагаемые из одной части в другую, изменив его знак, то получится уравнение, равносильное данном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обе части уравнения умножить или разделить на одно и то же отличное от нуля число, то получится уравнение равносильное данно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4" descr="2"/>
          <p:cNvPicPr/>
          <p:nvPr/>
        </p:nvPicPr>
        <p:blipFill>
          <a:blip r:embed="rId3"/>
          <a:stretch/>
        </p:blipFill>
        <p:spPr>
          <a:xfrm>
            <a:off x="-108000" y="0"/>
            <a:ext cx="1495440" cy="1781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3c6"/>
          <p:cNvPicPr/>
          <p:nvPr/>
        </p:nvPicPr>
        <p:blipFill>
          <a:blip r:embed="rId4"/>
          <a:stretch/>
        </p:blipFill>
        <p:spPr>
          <a:xfrm>
            <a:off x="6588000" y="5013360"/>
            <a:ext cx="1428840" cy="14382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Пример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еречисленные уравнения не являются линейным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+6х+7=0 (так как содержит переменную х во второй степени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5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 3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(объясни с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(х-3)=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mic Sans MS"/>
              </a:rPr>
              <a:t>5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(объясни сам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4" descr="43r1"/>
          <p:cNvPicPr/>
          <p:nvPr/>
        </p:nvPicPr>
        <p:blipFill>
          <a:blip r:embed="rId1"/>
          <a:stretch/>
        </p:blipFill>
        <p:spPr>
          <a:xfrm>
            <a:off x="611280" y="836640"/>
            <a:ext cx="1495440" cy="16668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4:04:24Z</dcterms:created>
  <dc:creator>User</dc:creator>
  <dc:description/>
  <dc:language>en-US</dc:language>
  <cp:lastModifiedBy>LEGION</cp:lastModifiedBy>
  <dcterms:modified xsi:type="dcterms:W3CDTF">2015-01-26T12:32:59Z</dcterms:modified>
  <cp:revision>24</cp:revision>
  <dc:subject/>
  <dc:title>Линейные уравнения</dc:title>
</cp:coreProperties>
</file>