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5.gif" ContentType="image/gif"/>
  <Override PartName="/ppt/media/image4.gif" ContentType="image/gif"/>
  <Override PartName="/ppt/media/image3.gif" ContentType="image/gif"/>
  <Override PartName="/ppt/media/image2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10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A813-0FC0-4489-92BB-586DCE3E0FF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hyperlink" Target="file:///&#1058;&#1077;&#1089;&#1058;.EXE" TargetMode="External"/><Relationship Id="rId2" Type="http://schemas.openxmlformats.org/officeDocument/2006/relationships/slide" Target="../slides/slide16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file:///&#1050;&#1085;&#1080;&#1075;&#1072;1,%20&#1082;%20&#1086;&#1090;&#1082;&#1088;&#1099;&#1090;&#1086;&#1084;&#1091;%20&#1091;&#1088;&#1086;&#1082;&#1091;.xls" TargetMode="External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yarsky"/>
              </a:rPr>
              <a:t>Линейные урав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yarsky"/>
              </a:rPr>
              <a:t>(Алгебра – 7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1344-1C9A-4B1B-9AC8-FFB763B7F41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Calibri"/>
              </a:rPr>
              <a:t>При решении уравнения вида </a:t>
            </a:r>
            <a:r>
              <a:rPr b="0" lang="ru-RU" sz="900" spc="-1" strike="noStrike" u="sng">
                <a:solidFill>
                  <a:srgbClr val="800080"/>
                </a:solidFill>
                <a:uFillTx/>
                <a:latin typeface="Calibri"/>
              </a:rPr>
              <a:t>ах = в</a:t>
            </a:r>
            <a:r>
              <a:rPr b="0" lang="ru-RU" sz="900" spc="-1" strike="noStrike">
                <a:solidFill>
                  <a:srgbClr val="0000ff"/>
                </a:solidFill>
                <a:latin typeface="Calibri"/>
              </a:rPr>
              <a:t> возможны следующие три случая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х=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427E-8E84-490E-BF18-86C21BAE87F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им уравнение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2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3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-1)=4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х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+3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ведём это уравнение к стандартному виду. Раскроем скобки в обеих частях уравнения:2 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-2  1=4  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Слагаемые, зависящие от х, перенесём в левую часть уравнения; числа – в правую, изменяя их знаки на противоположные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х 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Приведём подобные слагаемы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х 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этом уравнении а=2 и в=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Уравнение имеет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дин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корень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AB5E-15DE-4BDA-A483-4604343D63A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им уравнение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2(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3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-1)=4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+3)-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14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+2х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им это уравнение к стандартному виду: 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2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х=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-14, или 0х=0 (где а=0, в=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видно, что при подстановке любого значения х получаем верное числовое равенство 0=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любое число является корнем этого уравнения (уравнение имеет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бесконечно много корн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217F-1CF9-4834-96D1-984452AF86D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им уравнение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2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3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-1)=4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+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3)+2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им это уравнение к стандартному вид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или 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-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+12 или 0х=14 (где а=0, в=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видно, что при подстановке любого значения х получаем неверное числовое равенство 0=1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уравнение корней не им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58D8-6952-4D0C-BDFC-6D32DE0AF9E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Реши сам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а)5х-7=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твет:х=?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б) 2(3х-1)+4=7х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твет:х=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)3х-(10+5х)=54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твет:х=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г) 0,5(4-2х)=х-1,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               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твет:х=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C0D0-05CD-4F1A-AF00-E82A181570E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=-2+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: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х=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6х-2+4=7х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х-7х=5+2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х=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-3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вет:х=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3х-10-5х=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2х=54+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2х=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64:(-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-32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вет:х=-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2-х=х-1,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х-х=-1,8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2х=-3,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1,9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Ответ: х=1,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C237-1E52-4AA3-B5B6-44E1A2B949C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естов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вои знания ответив на вопросы предложенные компьют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429A-E8DD-4CDC-B607-64491C31731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и уравнения и компьютер оценит твою рабо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DD87-1337-4CA5-8C47-92C5DFC146C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 расстраивайся, если компьютер тебя не оценил. Вернись к слайду №4, попробуй начать всё сначала и у тебя обязательно всё получитс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1F04-DC03-4878-A188-9354FAC6CFA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Если ты прошёл тест, решил самостоятельную работу и учитель тебя похвалил, попробуй свои силы при решении следующих уравнен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7E9E-6A6B-4DA6-ADF5-AB642F1D1BA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Электронный  учеб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оставила: учитель математики-инфор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ерегулова И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МОУ «СОШ №1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2008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C448-6591-43A1-926C-FE9F7BF1B99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Желаю удач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DC55-1DAD-4EB6-916F-59D2E8DD770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Дорогой друг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Boyarsky"/>
              </a:rPr>
              <a:t>Твоему вниманию представлен электронный учебник, где ты можешь найти необходимые сведенья для решения линейных уравнений. Освоив способы решения, ты можешь проверить свои знания, решив тестовые задания и самостоятельную работу, после чего компьютер поставит тебе оцен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Boyarsky"/>
              </a:rPr>
              <a:t>          </a:t>
            </a:r>
            <a:r>
              <a:rPr b="0" lang="ru-RU" sz="1200" spc="-1" strike="noStrike">
                <a:solidFill>
                  <a:srgbClr val="800080"/>
                </a:solidFill>
                <a:latin typeface="Boyarsky"/>
              </a:rPr>
              <a:t>Желаю удач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B1D5-1BD1-4A36-AD43-ABE49C00658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енство между двумя алгебраическими выражениями с одной переменной называют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уравнением с одной неизвестной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Корнем уравн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зывают значение переменной , при котором уравнение обращается в верное числовое раве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Решить уравн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значает найти все его корни или доказать, что корней 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я, которые имеют одни и те же корни, называются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равносильными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я, которые не имеют корней, также                             считаются равносиль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D35C-0020-42CE-B3A7-BF21CD5F1B1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пределени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равнение вида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а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х = в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(где х – переменная, а и в – некоторые числа) называетс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линейным уравнением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с одной переменно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ая особенность такого уравнения –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еременная 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ход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уравнение обязательно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 первой степ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521C-081D-4F34-8D6F-35257FB75E6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мер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ные уравнения являются линейными, так как имеют вид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а х =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3  х=7   (где а=3, в=7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-2 х=5  (где а=?, в=?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0х=-3 (где а=?, в=?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0х=0  (где а=?, в=?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линейные уравнения приводятся к виду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а  х =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помощью тождественных преобразо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718B-8003-473C-AC92-49CE67BDFFE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равнении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2(3х-5)=х-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еременная х входит в первой степени. Поэтому это уравнение является линейным. Приведём это уравнение к стандартному виду. В левой части раскроем скобки: 2 3х-2 5=х-3 или 6х-10=х-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несём слагаемые, содержащие х, в левую часть уравнения; числа – в правую. Приведём подобные слагаемые. Получаем: 6х-х=10-3 или 5х=7. Линейное уравнение имеет вид ах=в (где а=5, в=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81F7-1B5B-4365-BE7E-EB8792AD07F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При решении уравнений не забудь следующие свойств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уравнении перенести слагаемые из одной части в другую, изменив его знак, то получится уравнение, равносильное данно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бе части уравнения умножить или разделить на одно и то же отличное от нуля число, то получится уравнение равносильное данн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524F-E4E6-4316-AD7F-7137B0567FB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ные уравнения не являются линейны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6х+7=0 (так как содержит переменную х во второй степен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5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3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(объясни с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(х-3)=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5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(объясни с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2704-FACE-451A-9860-33CCA5642D3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3131-B845-4A53-ADAA-7D87B72B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1708-E3D4-4863-A3B0-8F9BB742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94DC-4F34-4101-885B-47C871EB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09A0-1A5B-4924-923C-44AF46AE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CF1C-6E58-4A2F-9AA0-A8DEEC85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67C2-CF60-4AAF-ABB3-FABE4454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6F5C-416C-464A-9809-51D03B81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9A60-A838-4D72-AF75-5BB0A81D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B051-AC2A-47EA-B538-C4F83117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305E-5DEB-4029-B401-DF41C3CF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0FDC-CABC-4A6A-BF32-A330BF90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3711-3846-4528-AC56-E627C2E2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B728-34B0-4960-88E3-BADDB0E6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15FC-66A6-4783-9C34-17B07F2A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6E58-DC7A-4267-95C2-1C2189B2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8805-9C6D-4A93-8DD3-DAF65F72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988A-CF23-4199-9260-1A18F02C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7BFA-DC8F-4E48-9F46-28D48C05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5DAF-2699-4626-BEDD-1F04B7F9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754B-1EC0-43FE-9F6A-62D3FCFA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5D07-9AAC-4580-B2F3-EA51611E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4848-7C0B-4120-8E48-8845A535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366F-1FD9-4770-AEF3-D1800BA2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8391-BF68-4365-B5DF-1A43581F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255B-2843-4325-B638-78540EA430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C4B2-5338-4B0B-BA11-F7B6855349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58;&#1077;&#1089;&#1058;.EXE" TargetMode="Externa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50;&#1085;&#1080;&#1075;&#1072;1,%20&#1082;%20&#1086;&#1090;&#1082;&#1088;&#1099;&#1090;&#1086;&#1084;&#1091;%20&#1091;&#1088;&#1086;&#1082;&#1091;.xls" TargetMode="External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Boyarsky"/>
              </a:rPr>
              <a:t>Линейные урав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yarsky"/>
              </a:rPr>
              <a:t>(Алгебра – 7 класс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4" descr="Выбери меня"/>
          <p:cNvPicPr/>
          <p:nvPr/>
        </p:nvPicPr>
        <p:blipFill>
          <a:blip r:embed="rId1"/>
          <a:stretch/>
        </p:blipFill>
        <p:spPr>
          <a:xfrm>
            <a:off x="7236000" y="404640"/>
            <a:ext cx="1523880" cy="15242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956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ах=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3276720" y="42210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а = 0 –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дин корен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9"/>
          <p:cNvSpPr/>
          <p:nvPr/>
        </p:nvSpPr>
        <p:spPr>
          <a:xfrm>
            <a:off x="2050920" y="3357720"/>
            <a:ext cx="158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3708360" y="314172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а = 0, в = 0 -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т корн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11"/>
          <p:cNvSpPr/>
          <p:nvPr/>
        </p:nvSpPr>
        <p:spPr>
          <a:xfrm>
            <a:off x="1763640" y="3500280"/>
            <a:ext cx="158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3132000" y="19162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а = 0, в = 0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множество корн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13"/>
          <p:cNvSpPr/>
          <p:nvPr/>
        </p:nvSpPr>
        <p:spPr>
          <a:xfrm flipV="1">
            <a:off x="1692360" y="2349360"/>
            <a:ext cx="16556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4"/>
          <p:cNvSpPr/>
          <p:nvPr/>
        </p:nvSpPr>
        <p:spPr>
          <a:xfrm flipH="1">
            <a:off x="5076720" y="3213000"/>
            <a:ext cx="14472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15"/>
          <p:cNvSpPr/>
          <p:nvPr/>
        </p:nvSpPr>
        <p:spPr>
          <a:xfrm flipH="1">
            <a:off x="3635280" y="4365720"/>
            <a:ext cx="21600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826920" y="189000"/>
            <a:ext cx="67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200"/>
                </a:solidFill>
                <a:latin typeface="Comic Sans MS"/>
              </a:rPr>
              <a:t>При решении уравнения вида </a:t>
            </a:r>
            <a:r>
              <a:rPr b="0" lang="ru-RU" sz="3600" spc="-1" strike="noStrike" u="sng">
                <a:solidFill>
                  <a:srgbClr val="703dff"/>
                </a:solidFill>
                <a:uFillTx/>
                <a:latin typeface="Comic Sans MS"/>
              </a:rPr>
              <a:t>ах = в</a:t>
            </a:r>
            <a:r>
              <a:rPr b="0" lang="ru-RU" sz="3600" spc="-1" strike="noStrike">
                <a:solidFill>
                  <a:srgbClr val="00b200"/>
                </a:solidFill>
                <a:latin typeface="Comic Sans MS"/>
              </a:rPr>
              <a:t> возможны следующие три случая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6822360" y="429264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 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3"/>
              <p:cNvSpPr txBox="1"/>
              <p:nvPr/>
            </p:nvSpPr>
            <p:spPr>
              <a:xfrm>
                <a:off x="7596360" y="3933720"/>
                <a:ext cx="5191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eqArr>
                      <m:e>
                        <m:f>
                          <m:num>
                            <m:r>
                              <m:t xml:space="preserve">а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8207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м уравнение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3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-1)=4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х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+3)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иведём это уравнение к стандартному виду. Раскроем скобки в обеих частях уравнения:2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-2  1=4  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 ил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. Слагаемые, зависящие от х, перенесём в левую часть уравнения; числа – в правую, изменяя их знаки на противоположные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х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. Приведём подобные слагаемые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х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В этом уравнении а=2 и в=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Уравнение имеет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дин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корень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6443640" y="2637000"/>
                <a:ext cx="18720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6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8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10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2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0" name="Rectangle 15"/>
          <p:cNvSpPr/>
          <p:nvPr/>
        </p:nvSpPr>
        <p:spPr>
          <a:xfrm>
            <a:off x="493236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16"/>
              <p:cNvSpPr txBox="1"/>
              <p:nvPr/>
            </p:nvSpPr>
            <p:spPr>
              <a:xfrm>
                <a:off x="7308720" y="2637000"/>
                <a:ext cx="18756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17"/>
              <p:cNvSpPr txBox="1"/>
              <p:nvPr/>
            </p:nvSpPr>
            <p:spPr>
              <a:xfrm>
                <a:off x="5796000" y="2637000"/>
                <a:ext cx="18720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8"/>
              <p:cNvSpPr txBox="1"/>
              <p:nvPr/>
            </p:nvSpPr>
            <p:spPr>
              <a:xfrm>
                <a:off x="4859280" y="2637000"/>
                <a:ext cx="18756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20"/>
              <p:cNvSpPr txBox="1"/>
              <p:nvPr/>
            </p:nvSpPr>
            <p:spPr>
              <a:xfrm>
                <a:off x="4427640" y="4869000"/>
                <a:ext cx="306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19"/>
              <p:cNvSpPr txBox="1"/>
              <p:nvPr/>
            </p:nvSpPr>
            <p:spPr>
              <a:xfrm>
                <a:off x="0" y="6573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Rectangle 22"/>
          <p:cNvSpPr/>
          <p:nvPr/>
        </p:nvSpPr>
        <p:spPr>
          <a:xfrm>
            <a:off x="0" y="6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23"/>
              <p:cNvSpPr txBox="1"/>
              <p:nvPr/>
            </p:nvSpPr>
            <p:spPr>
              <a:xfrm>
                <a:off x="0" y="389268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9" name="Rectangle 26"/>
          <p:cNvSpPr/>
          <p:nvPr/>
        </p:nvSpPr>
        <p:spPr>
          <a:xfrm>
            <a:off x="4717440" y="4941360"/>
            <a:ext cx="62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0" name="Picture 27" descr="42r1"/>
          <p:cNvPicPr/>
          <p:nvPr/>
        </p:nvPicPr>
        <p:blipFill>
          <a:blip r:embed="rId1"/>
          <a:stretch/>
        </p:blipFill>
        <p:spPr>
          <a:xfrm>
            <a:off x="5435640" y="5157720"/>
            <a:ext cx="1571760" cy="100008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м уравнени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2(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3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-1)=4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+3)-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14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+2х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водим это уравнение к стандартному виду: 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2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 ил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х=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-14, или 0х=0 (где а=0, в=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чевидно, что при подстановке любого значения х получаем верное числовое равенство 0=0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этому любое число является корнем этого уравнения (уравнение имеет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бесконечно много корней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Picture 4" descr="46r3"/>
          <p:cNvPicPr/>
          <p:nvPr/>
        </p:nvPicPr>
        <p:blipFill>
          <a:blip r:embed="rId1"/>
          <a:stretch/>
        </p:blipFill>
        <p:spPr>
          <a:xfrm>
            <a:off x="6227640" y="51577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м уравнение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3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-1)=4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+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3)+2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водим это уравнение к стандартному виду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 или 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-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+12 или 0х=14 (где а=0, в=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чевидно, что при подстановке любого значения х получаем неверное числовое равенство 0=1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этому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уравнение корней не име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8" name="Picture 4" descr="17r2"/>
          <p:cNvPicPr/>
          <p:nvPr/>
        </p:nvPicPr>
        <p:blipFill>
          <a:blip r:embed="rId1"/>
          <a:stretch/>
        </p:blipFill>
        <p:spPr>
          <a:xfrm>
            <a:off x="5796000" y="508464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Реши сам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а)5х-7=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х=?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б) 2(3х-1)+4=7х+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х=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)3х-(10+5х)=54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х=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                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г) 0,5(4-2х)=х-1,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                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х=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2" name="Picture 5" descr="star54[1]"/>
          <p:cNvPicPr/>
          <p:nvPr/>
        </p:nvPicPr>
        <p:blipFill>
          <a:blip r:embed="rId1"/>
          <a:stretch/>
        </p:blipFill>
        <p:spPr>
          <a:xfrm>
            <a:off x="6732720" y="90792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star54[1]"/>
          <p:cNvPicPr/>
          <p:nvPr/>
        </p:nvPicPr>
        <p:blipFill>
          <a:blip r:embed="rId2"/>
          <a:stretch/>
        </p:blipFill>
        <p:spPr>
          <a:xfrm>
            <a:off x="2987640" y="551664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star54[1]"/>
          <p:cNvPicPr/>
          <p:nvPr/>
        </p:nvPicPr>
        <p:blipFill>
          <a:blip r:embed="rId3"/>
          <a:stretch/>
        </p:blipFill>
        <p:spPr>
          <a:xfrm>
            <a:off x="1979640" y="62064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star54[1]"/>
          <p:cNvPicPr/>
          <p:nvPr/>
        </p:nvPicPr>
        <p:blipFill>
          <a:blip r:embed="rId4"/>
          <a:stretch/>
        </p:blipFill>
        <p:spPr>
          <a:xfrm>
            <a:off x="7020000" y="292428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star54[1]"/>
          <p:cNvPicPr/>
          <p:nvPr/>
        </p:nvPicPr>
        <p:blipFill>
          <a:blip r:embed="rId5"/>
          <a:stretch/>
        </p:blipFill>
        <p:spPr>
          <a:xfrm>
            <a:off x="7380360" y="508464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star54[1]"/>
          <p:cNvPicPr/>
          <p:nvPr/>
        </p:nvPicPr>
        <p:blipFill>
          <a:blip r:embed="rId6"/>
          <a:stretch/>
        </p:blipFill>
        <p:spPr>
          <a:xfrm>
            <a:off x="684360" y="3933720"/>
            <a:ext cx="863280" cy="76356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x=-2+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x=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1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Отве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: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х=1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) 6х-2+4=7х+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х-7х=5+2-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х=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-3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Ответ:х=-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)3х-10-5х=5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2х=54+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2х=6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64:(-2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-32 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Ответ:х=-3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) 2-х=х-1,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х-х=-1,8-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2х=-3,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1,9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  Ответ: х=1,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Тестовая рабо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920" y="3573360"/>
            <a:ext cx="8424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верь свои знания ответив на вопросы предложенные компьютер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Picture 4" descr="14m4"/>
          <p:cNvPicPr/>
          <p:nvPr/>
        </p:nvPicPr>
        <p:blipFill>
          <a:blip r:embed="rId2"/>
          <a:stretch/>
        </p:blipFill>
        <p:spPr>
          <a:xfrm>
            <a:off x="324000" y="765000"/>
            <a:ext cx="1800000" cy="140364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8920" y="2349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 уравнения и компьютер оценит твою работ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8" name="Picture 4" descr="255"/>
          <p:cNvPicPr/>
          <p:nvPr/>
        </p:nvPicPr>
        <p:blipFill>
          <a:blip r:embed="rId2"/>
          <a:stretch/>
        </p:blipFill>
        <p:spPr>
          <a:xfrm>
            <a:off x="5435640" y="3716280"/>
            <a:ext cx="1123920" cy="1381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star3[1]"/>
          <p:cNvPicPr/>
          <p:nvPr/>
        </p:nvPicPr>
        <p:blipFill>
          <a:blip r:embed="rId3"/>
          <a:stretch/>
        </p:blipFill>
        <p:spPr>
          <a:xfrm rot="19750200">
            <a:off x="539640" y="691920"/>
            <a:ext cx="1224000" cy="86508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6870600" cy="38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Не расстраивайся, если компьютер тебя не оценил. Вернись к слайду №4, попробуй начать всё сначала и у тебя обязательно всё получится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2" name="Picture 6" descr="people1[1]"/>
          <p:cNvPicPr/>
          <p:nvPr/>
        </p:nvPicPr>
        <p:blipFill>
          <a:blip r:embed="rId1"/>
          <a:stretch/>
        </p:blipFill>
        <p:spPr>
          <a:xfrm>
            <a:off x="395280" y="189000"/>
            <a:ext cx="1352520" cy="1512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f72[1]"/>
          <p:cNvPicPr/>
          <p:nvPr/>
        </p:nvPicPr>
        <p:blipFill>
          <a:blip r:embed="rId2"/>
          <a:stretch/>
        </p:blipFill>
        <p:spPr>
          <a:xfrm>
            <a:off x="6877080" y="4941720"/>
            <a:ext cx="1224000" cy="116208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15640" y="476280"/>
            <a:ext cx="6769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00b2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Если ты прошёл тест, решил самостоятельную работу и учитель тебя похвалил, попробуй свои силы при решении следующих уравнений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1555920" y="3087360"/>
            <a:ext cx="6040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. Реши уравнение: </a:t>
            </a: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|3х + 8|=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. Найди значение параметра а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и котором уравнение </a:t>
            </a: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(3а + 1) х = 2а+6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меет корень х=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059280" y="494172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6"/>
          <p:cNvSpPr/>
          <p:nvPr/>
        </p:nvSpPr>
        <p:spPr>
          <a:xfrm rot="20629200">
            <a:off x="4081680" y="51526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200"/>
                </a:solidFill>
                <a:latin typeface="Comic Sans MS"/>
              </a:rPr>
              <a:t>Удачи тебе</a:t>
            </a:r>
            <a:r>
              <a:rPr b="0" i="1" lang="ru-RU" sz="3200" spc="-1" strike="noStrike">
                <a:solidFill>
                  <a:srgbClr val="00b2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Электронный  учебн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Составила: учитель математики-информати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                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Терегулова И.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                  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МОУ «СОШ №1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                      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2008 год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35"/>
          <p:cNvPicPr/>
          <p:nvPr/>
        </p:nvPicPr>
        <p:blipFill>
          <a:blip r:embed="rId1"/>
          <a:stretch/>
        </p:blipFill>
        <p:spPr>
          <a:xfrm>
            <a:off x="4067280" y="1773360"/>
            <a:ext cx="1511280" cy="13096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WordArt 4"/>
          <p:cNvSpPr txBox="1"/>
          <p:nvPr/>
        </p:nvSpPr>
        <p:spPr>
          <a:xfrm rot="20243400">
            <a:off x="1560240" y="1696680"/>
            <a:ext cx="5976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елаю удачи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92" name="Picture 6" descr="dis2[1]"/>
          <p:cNvPicPr/>
          <p:nvPr/>
        </p:nvPicPr>
        <p:blipFill>
          <a:blip r:embed="rId1"/>
          <a:stretch/>
        </p:blipFill>
        <p:spPr>
          <a:xfrm>
            <a:off x="539640" y="692280"/>
            <a:ext cx="1224000" cy="1512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newy25"/>
          <p:cNvPicPr/>
          <p:nvPr/>
        </p:nvPicPr>
        <p:blipFill>
          <a:blip r:embed="rId2"/>
          <a:stretch/>
        </p:blipFill>
        <p:spPr>
          <a:xfrm>
            <a:off x="6588000" y="4005360"/>
            <a:ext cx="1349640" cy="165564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000" y="-800280"/>
            <a:ext cx="6870600" cy="16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Дорогой друг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7704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Boyarsky"/>
              </a:rPr>
              <a:t>Твоему вниманию представлен электронный учебник, где ты можешь найти необходимые сведенья для решения линейных уравнений. Освоив способы решения, ты можешь проверить свои знания, решив тестовые задания и самостоятельную работу, после чего компьютер поставит тебе оценку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Boyarsky"/>
              </a:rPr>
              <a:t>          </a:t>
            </a:r>
            <a:r>
              <a:rPr b="0" lang="ru-RU" sz="2800" spc="-1" strike="noStrike">
                <a:solidFill>
                  <a:srgbClr val="703dff"/>
                </a:solidFill>
                <a:latin typeface="Boyarsky"/>
              </a:rPr>
              <a:t>Желаю удачи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4" descr="people12[1]"/>
          <p:cNvPicPr/>
          <p:nvPr/>
        </p:nvPicPr>
        <p:blipFill>
          <a:blip r:embed="rId1"/>
          <a:stretch/>
        </p:blipFill>
        <p:spPr>
          <a:xfrm>
            <a:off x="7380360" y="4724280"/>
            <a:ext cx="936720" cy="1479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teddy37"/>
          <p:cNvPicPr/>
          <p:nvPr/>
        </p:nvPicPr>
        <p:blipFill>
          <a:blip r:embed="rId2"/>
          <a:stretch/>
        </p:blipFill>
        <p:spPr>
          <a:xfrm>
            <a:off x="395280" y="404640"/>
            <a:ext cx="581040" cy="7048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венство между двумя алгебраическими выражениями с одной переменной называют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уравнением с одной неизвестной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7986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Корнем уравнен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называют значение переменной , при котором уравнение обращается в верное числовое равенств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Решить уравнени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значает найти все его корни или доказать, что корней н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равнения, которые имеют одни и те же корни, называются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равносильными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равнения, которые не имеют корней, также                             считаются равносильны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763640" y="18900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Основные понят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17r1"/>
          <p:cNvPicPr/>
          <p:nvPr/>
        </p:nvPicPr>
        <p:blipFill>
          <a:blip r:embed="rId1"/>
          <a:stretch/>
        </p:blipFill>
        <p:spPr>
          <a:xfrm>
            <a:off x="7093080" y="5157720"/>
            <a:ext cx="952200" cy="95256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пределение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уравнение вида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</a:rPr>
              <a:t>а 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</a:rPr>
              <a:t>х = в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(где х – переменная, а и в – некоторые числа) называется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</a:rPr>
              <a:t>линейным уравнением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с одной переменно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3200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личительная особенность такого уравнения –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переменная х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ходит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в уравнение обязательно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 первой степе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4" descr="ar12[1]"/>
          <p:cNvPicPr/>
          <p:nvPr/>
        </p:nvPicPr>
        <p:blipFill>
          <a:blip r:embed="rId1"/>
          <a:stretch/>
        </p:blipFill>
        <p:spPr>
          <a:xfrm>
            <a:off x="7093080" y="1197000"/>
            <a:ext cx="1295280" cy="68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18m5"/>
          <p:cNvPicPr/>
          <p:nvPr/>
        </p:nvPicPr>
        <p:blipFill>
          <a:blip r:embed="rId2"/>
          <a:stretch/>
        </p:blipFill>
        <p:spPr>
          <a:xfrm>
            <a:off x="1476360" y="2852640"/>
            <a:ext cx="1371600" cy="13334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8"/>
              <p:cNvSpPr txBox="1"/>
              <p:nvPr/>
            </p:nvSpPr>
            <p:spPr>
              <a:xfrm>
                <a:off x="5508720" y="1197000"/>
                <a:ext cx="1141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Пример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989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речисленные уравнения являются линейными, так как имеют вид  </a:t>
            </a:r>
            <a:r>
              <a:rPr b="0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а х = 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3  х=7   (где а=3, в=7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) -2 х=5  (где а=?, в=?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) 0х=-3 (где а=?, в=?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)0х=0  (где а=?, в=?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 линейные уравнения приводятся к виду  </a:t>
            </a:r>
            <a:r>
              <a:rPr b="0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а  х = 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с помощью тождественных преобразова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7928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1835280" y="2708280"/>
                <a:ext cx="1141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8"/>
              <p:cNvSpPr txBox="1"/>
              <p:nvPr/>
            </p:nvSpPr>
            <p:spPr>
              <a:xfrm>
                <a:off x="6948360" y="234936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0"/>
              <p:cNvSpPr txBox="1"/>
              <p:nvPr/>
            </p:nvSpPr>
            <p:spPr>
              <a:xfrm>
                <a:off x="1908000" y="314172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2"/>
              <p:cNvSpPr txBox="1"/>
              <p:nvPr/>
            </p:nvSpPr>
            <p:spPr>
              <a:xfrm>
                <a:off x="1835280" y="3645000"/>
                <a:ext cx="1141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13"/>
              <p:cNvSpPr txBox="1"/>
              <p:nvPr/>
            </p:nvSpPr>
            <p:spPr>
              <a:xfrm>
                <a:off x="1763640" y="400536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14"/>
              <p:cNvSpPr txBox="1"/>
              <p:nvPr/>
            </p:nvSpPr>
            <p:spPr>
              <a:xfrm>
                <a:off x="1332000" y="4797360"/>
                <a:ext cx="11412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95" name="Picture 15" descr="пёсик"/>
          <p:cNvPicPr/>
          <p:nvPr/>
        </p:nvPicPr>
        <p:blipFill>
          <a:blip r:embed="rId1"/>
          <a:stretch/>
        </p:blipFill>
        <p:spPr>
          <a:xfrm>
            <a:off x="6012000" y="522936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425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уравнении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2(3х-5)=х-3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еременная х входит в первой степени. Поэтому это уравнение является линейным. Приведём это уравнение к стандартному виду. В левой части раскроем скобки: 2 3х-2 5=х-3 или 6х-10=х-3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енесём слагаемые, содержащие х, в левую часть уравнения; числа – в правую. Приведём подобные слагаемые. Получаем: 6х-х=10-3 или 5х=7. Линейное уравнение имеет вид ах=в (где а=5, в=7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4"/>
              <p:cNvSpPr txBox="1"/>
              <p:nvPr/>
            </p:nvSpPr>
            <p:spPr>
              <a:xfrm>
                <a:off x="6443640" y="306864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6"/>
              <p:cNvSpPr txBox="1"/>
              <p:nvPr/>
            </p:nvSpPr>
            <p:spPr>
              <a:xfrm>
                <a:off x="7164360" y="306864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03" name="Picture 8" descr="33"/>
          <p:cNvPicPr/>
          <p:nvPr/>
        </p:nvPicPr>
        <p:blipFill>
          <a:blip r:embed="rId1"/>
          <a:stretch/>
        </p:blipFill>
        <p:spPr>
          <a:xfrm>
            <a:off x="6156360" y="5445000"/>
            <a:ext cx="1066680" cy="100008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При решении уравнений не забудь следующие свойств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62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в уравнении перенести слагаемые из одной части в другую, изменив его знак, то получится уравнение, равносильное данному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обе части уравнения умножить или разделить на одно и то же отличное от нуля число, то получится уравнение равносильное данном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4" descr="2"/>
          <p:cNvPicPr/>
          <p:nvPr/>
        </p:nvPicPr>
        <p:blipFill>
          <a:blip r:embed="rId3"/>
          <a:stretch/>
        </p:blipFill>
        <p:spPr>
          <a:xfrm>
            <a:off x="-108000" y="0"/>
            <a:ext cx="1495440" cy="1781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3c6"/>
          <p:cNvPicPr/>
          <p:nvPr/>
        </p:nvPicPr>
        <p:blipFill>
          <a:blip r:embed="rId4"/>
          <a:stretch/>
        </p:blipFill>
        <p:spPr>
          <a:xfrm>
            <a:off x="6588000" y="5013360"/>
            <a:ext cx="1428840" cy="143820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00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4360" y="2637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ечисленные уравнения не являются линейным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6х+7=0 (так как содержит переменную х во второй степени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5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= 3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(объясни сам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(х-3)=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5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(объясни сам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4" descr="43r1"/>
          <p:cNvPicPr/>
          <p:nvPr/>
        </p:nvPicPr>
        <p:blipFill>
          <a:blip r:embed="rId1"/>
          <a:stretch/>
        </p:blipFill>
        <p:spPr>
          <a:xfrm>
            <a:off x="611280" y="836640"/>
            <a:ext cx="1495440" cy="166680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4:04:24Z</dcterms:created>
  <dc:creator>User</dc:creator>
  <dc:description/>
  <dc:language>en-US</dc:language>
  <cp:lastModifiedBy>LEGION</cp:lastModifiedBy>
  <dcterms:modified xsi:type="dcterms:W3CDTF">2015-01-26T12:32:59Z</dcterms:modified>
  <cp:revision>24</cp:revision>
  <dc:subject/>
  <dc:title>Линейные уравнения</dc:title>
</cp:coreProperties>
</file>