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92B4-3A89-4113-B8F2-61AD3E15A6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11A1-CC82-45BD-BDA8-A0BAD759FE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163C-0A87-4C0B-B2F7-13851142FA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C9A8-DA4B-4FA0-8C40-1E33B0D159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A1ED-5529-452C-B18B-2340B72E66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B53D-960B-43E4-872A-41F685DAD2D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5CAF-09FD-4200-9313-AEC1BA7C68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A099-BC46-4157-BA7A-969A6FCBC2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C3E7-0F56-4319-9E00-3B57C40B71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2EB7-7C54-44DC-B7E0-43908CD01A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8D29-0527-435D-8C16-AF55905C18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522-B392-43DE-8419-80AF203C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40F-D71E-49DE-8EA1-09EA5FBB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62F-0384-404E-B970-63D3454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251-4829-4BBF-9A19-F6956147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B601-D6B0-4145-99A7-32D164FC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DE70-4F98-40B9-BBB2-D2F869B5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64B6-BDAE-4914-B6C3-EE7F7B84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A716-D95C-46AC-B4C1-51F218EF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5CAA-B6BD-4048-ADCF-DE02D935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B395-70ED-425B-B675-B21EE35E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070E-0F84-45C4-8709-EDFD64C3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6FC-A195-48AB-97E6-E3369903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6894-67D5-448C-87AE-5D37C83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0E7B-7B4D-4887-BB69-2269C69D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879E-9896-4A7E-B876-A7642F46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F10F-33EF-4DDE-8EEB-289EE386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A422-A982-4AD6-9B92-C8699184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CCE-574C-47D3-96B4-C0BFC0AD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1EB-F572-42DB-BD05-29E11BF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981-6224-45A9-A223-3AB07502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23F-28BD-49CB-A71E-33E9E618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557-6E3E-4396-A48B-F30C2ED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75E-F7E1-4010-856C-0BB2360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CE6-B3E3-414D-BE53-FA4BF6E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4950-8571-4040-A87B-F0C85B5F3D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B10A-2F16-4643-8720-DED4862FB3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9:00:56Z</dcterms:modified>
  <cp:revision>6</cp:revision>
  <dc:subject/>
  <dc:title>PowerPoint Presentation</dc:title>
</cp:coreProperties>
</file>