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8DD6-09F6-4713-ADA4-91802920895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3784-6A0C-4164-9AE5-87D2D1A348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3C09-9B0E-4EBE-90C3-A805210BFF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8651-74F3-49BE-9751-E701BD9E25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5201-90A8-42F4-86B1-DA46E12115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73DF-B8EC-45EF-AB8C-A0E56A00BB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26FB-CEE3-44F7-A5C8-2EFF93A57B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2F69-04E1-4762-8F46-AC83AFBB34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7EEF-C420-4661-9840-608BBB76045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DBAF-5647-4086-A599-0E54CA367E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6D2C-6F3A-46F9-8BBA-6AE302A868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04C-D1BD-4CC4-BF4D-BDAA63B9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D85-6969-4249-AF86-980D8827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A0D-4C9E-474C-9A5D-0B5A04A7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8C1-161A-4A33-9B19-DC24A413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DE85-507C-40A1-AD86-07387B30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B86F-5D4C-43D4-9EFA-9F47026B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9E6A-F3D8-4223-B6FD-278AFE73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B6A2-566E-4B0B-9F6F-4282FC4F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573F-C64B-4F94-877E-531C2165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5BB1-BD9D-4DC2-97F2-2B2BEEBA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69AA-3608-423A-9C97-A8F9A7D5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12B-07FD-48DC-BDD5-7051ADED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77DF-049F-4F5C-8C91-79D153BE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B74F-1ABA-4D5D-B8A9-BE02373F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D505-0F52-4849-9B6D-F707B154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82E7-C28F-4CB1-BFC6-00287053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E09B-E4DE-41E9-8076-572DA5C2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831-6A80-46A0-B96C-359D2C4C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413-AF48-47D3-AF04-8EFB8838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ADC-6D0E-4F07-9B3D-36157BEE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838-669C-4C70-8B82-C62599A7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B6B-5F3E-412E-84AF-64BFEE26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ECD-CB90-476E-86F4-48CFE3E3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3DE-F936-4BC4-86DD-83D11F93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E328-69D3-474B-A5A2-4D6C99D4E2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E773-4A8C-4D4A-A05F-018671951B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9:00:56Z</dcterms:modified>
  <cp:revision>6</cp:revision>
  <dc:subject/>
  <dc:title>PowerPoint Presentation</dc:title>
</cp:coreProperties>
</file>