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57019-E30A-4A0C-BFCE-9EFD575A7B3F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е отношения и валютные сист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водная лек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57572-4E21-464E-BD8E-4E30D9061D1A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е системы: мировая, международная, национальна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BB6DD-799B-4751-AC9C-A6D2E6B33F84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н лек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е отношения в системе международных экономических отнош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е системы: мировая, международная, национальная. Основные структурные элемен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циональная валютная система Российской Федер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2E1FA-0189-405B-9C13-1CFCF9BEAB96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е отношения в системе международных экономических отношений.</a:t>
            </a:r>
            <a:br>
              <a:rPr sz="18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овы основные формы международных экономических связей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8670A-2BF4-4E54-875C-3CF91AC78AA6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Валютные отношения в системе международных экономических отношений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е валютные отношения – совокупность экономических отношений, складывающихся при функционировании валюты в мировом хозяйстве и обслуживающих взаимный обмен результатами деятельности национальных хозяйст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ни производны по отношению к основным формам международных экономических отнош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ни оказывают активное обратное воздействие на функционирование всех форм международных экономических отношений и мирового хозяйства как целостной систе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9332D-1552-4AF4-B65E-E5E0DE85037A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алютные системы: мировая, международная, национальна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ая систе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экономической точки зрения – исторически конкретная совокупность валютных отношений, сложившаяся на основе интернационализации хозяйственных связ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организационно-юридической точки зрения – конкретная государственно-правовая форма организации валютных отнош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302E3-F9C5-4D83-BE7B-5AFCBB06DC6F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алютные системы: мировая, международная, национальная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овая валютная систе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ая (региональная) валютная систе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циональная валютная систе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6808B-8E83-40FD-B0FE-D8EDF6D89464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е системы: мировая, международная, национальна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FB9FA-5EA2-40B5-9214-7AD0CEB550FB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е системы: мировая, международная, национальна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C0466-2EFF-4E7E-96C0-69C7DAA1897B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е системы: мировая, международная, национальна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43366-88A6-4BAE-811B-9EF6E2CED4EE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C1331-3107-45C9-969F-6C4424F53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BB1A4-13D2-4ADC-9DE3-1C8846267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BE461-DEF0-4952-B8E4-5175C7DD2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640D9-7CEE-4D08-AF4C-7B73F59C5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65179-4FBD-45DC-8A19-870E75DB9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16036-14C4-4C4D-A3A7-92F9DEFE8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8F4FB-DFBE-45EF-A4FB-6523F0036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D7C62-7D68-463B-947A-27B7CBECB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7BC2B-679D-4BDC-AA75-390C4CE87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AF06F-A6CC-4031-A82E-F7F2686C3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4A50A-61C6-4DCF-8288-1D84C5217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95091-9EFA-492C-9E55-014F60974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4352D-4400-45A0-8E11-917897C15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60405-A9BE-43F8-B713-0A8C00D65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367ED-C5EE-49D5-9D8E-E5B7A586B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CAD55-D38D-43A8-A253-48567E09B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F2C21-FBBA-444F-850F-96121FD6A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623AB-34A5-4A03-BA7A-0EAB37EE8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F3F4F-92E7-46AF-B3F8-877953C15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92CB5-602C-4378-BB38-371CAE0ED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996CA-AEBC-4BEC-A59B-D43354C0E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EE331-C372-4997-AAE6-D08804F25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FAD75-D674-4BE8-B923-46DDE7CA5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357E6-CEB8-4026-8D11-76AFD0A24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03CCD-ED7D-4DE4-8846-A5CD126D8F0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BE929-CF98-44C7-A967-6CFE5171ED5C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dbbd71"/>
                </a:solidFill>
                <a:latin typeface="Arial"/>
              </a:rPr>
              <a:t>Валютные отношения и валютные системы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водная лекц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Валютные системы: мировая, международная, национальная.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457200" y="1600200"/>
          <a:ext cx="8229600" cy="49165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2024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Режим национального валютного рынка и рынка золот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Режим мировых валютных рынков и рынков золот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990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ациональные органы, обслуживающие и регламентирующие валютные отношения стран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Международные организации, осуществляющие межгосударственное валютное регулировани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6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План лекции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алютные отношения в системе международных экономических отношени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алютные системы: мировая, международная, национальная. Основные структурные элемент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циональная валютная система Российской Федерац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bbd71"/>
                </a:solidFill>
                <a:latin typeface="Arial"/>
              </a:rPr>
              <a:t>Валютные отношения в системе международных экономических отношений.</a:t>
            </a:r>
            <a:br>
              <a:rPr sz="4000"/>
            </a:br>
            <a:endParaRPr b="0" lang="en-US" sz="2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6" name="Oval 4"/>
          <p:cNvSpPr/>
          <p:nvPr/>
        </p:nvSpPr>
        <p:spPr>
          <a:xfrm rot="21468600">
            <a:off x="826560" y="2349360"/>
            <a:ext cx="2508480" cy="2735280"/>
          </a:xfrm>
          <a:prstGeom prst="ellipse">
            <a:avLst/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ационально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хозяйство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аковы основные формы международных экономических связей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Oval 8"/>
          <p:cNvSpPr/>
          <p:nvPr/>
        </p:nvSpPr>
        <p:spPr>
          <a:xfrm>
            <a:off x="5148360" y="2492280"/>
            <a:ext cx="2736720" cy="3097440"/>
          </a:xfrm>
          <a:prstGeom prst="ellipse">
            <a:avLst/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ационально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хозяйство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Oval 9"/>
          <p:cNvSpPr/>
          <p:nvPr/>
        </p:nvSpPr>
        <p:spPr>
          <a:xfrm rot="21468600">
            <a:off x="1042560" y="2565360"/>
            <a:ext cx="2508480" cy="2735280"/>
          </a:xfrm>
          <a:prstGeom prst="ellipse">
            <a:avLst/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ационально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хозяйство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Line 10"/>
          <p:cNvSpPr/>
          <p:nvPr/>
        </p:nvSpPr>
        <p:spPr>
          <a:xfrm flipV="1">
            <a:off x="2916360" y="2565000"/>
            <a:ext cx="3240000" cy="142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Line 11"/>
          <p:cNvSpPr/>
          <p:nvPr/>
        </p:nvSpPr>
        <p:spPr>
          <a:xfrm flipV="1">
            <a:off x="3348000" y="3068280"/>
            <a:ext cx="2160720" cy="144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Line 12"/>
          <p:cNvSpPr/>
          <p:nvPr/>
        </p:nvSpPr>
        <p:spPr>
          <a:xfrm flipV="1">
            <a:off x="3564000" y="3645000"/>
            <a:ext cx="1584360" cy="71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Line 13"/>
          <p:cNvSpPr/>
          <p:nvPr/>
        </p:nvSpPr>
        <p:spPr>
          <a:xfrm flipV="1">
            <a:off x="3564000" y="4220640"/>
            <a:ext cx="1584360" cy="7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Line 14"/>
          <p:cNvSpPr/>
          <p:nvPr/>
        </p:nvSpPr>
        <p:spPr>
          <a:xfrm>
            <a:off x="3276720" y="4869000"/>
            <a:ext cx="2087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bbd71"/>
                </a:solidFill>
                <a:latin typeface="Arial"/>
              </a:rPr>
              <a:t>Валютные отношения в системе международных экономических отношений.</a:t>
            </a:r>
            <a:endParaRPr b="0" lang="en-US" sz="2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Международные валютные отношения – совокупность экономических отношений, складывающихся при функционировании валюты в мировом хозяйстве и обслуживающих взаимный обмен результатами деятельности национальных хозяйств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ни производны по отношению к основным формам международных экономических отношени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ни оказывают активное обратное воздействие на функционирование всех форм международных экономических отношений и мирового хозяйства как целостной систем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Валютные системы: мировая, международная, национальная.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алютная систем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 экономической точки зрения – исторически конкретная совокупность валютных отношений, сложившаяся на основе интернационализации хозяйственных связе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 организационно-юридической точки зрения – конкретная государственно-правовая форма организации валютных отношени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Валютные системы: мировая, международная, национальная.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ировая валютная систем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еждународная (региональная) валютная систем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циональная валютная систем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Валютные системы: мировая, международная, национальная.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457200" y="1600200"/>
          <a:ext cx="8229600" cy="45306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6322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СНОВНЫЕ СТРУКТУРНЫЕ ЭЛЕМЕНТЫ ВАЛЮТНОЙ СИСТЕМ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АЦИОНАЛЬНАЯ                    МИРОВА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5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ациональная валют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Резервные валюты, международные счетные денежные единицы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4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тепень конвертируемости национальной валюты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Условия взаимной конвертируемости валют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7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Валютные системы: мировая, международная, национальная.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457200" y="1600200"/>
          <a:ext cx="8229600" cy="48196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541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аритет национальной валют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Унифицированный режим валютных паритето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41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Режим курса национальной валют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Регламентация режимов валютных курсо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507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Международная валютная ликвидность стран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Межгосударственное регулирование международной валютной ликвидност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0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Валютные системы: мировая, международная, национальная.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457200" y="1600200"/>
          <a:ext cx="8229600" cy="50925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2024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алютные ограничени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Межгосударственное регулирование валютных ограничени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347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Международные кредитные средства обращения, регламентация правил их использовани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Унификация правил использования международных кредитных средств обращения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024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Регламентация форм международных расчето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Унификация основных форм международных расчето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3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EGION</dc:creator>
  <dc:description/>
  <dc:language>en-US</dc:language>
  <cp:lastModifiedBy>LEGION</cp:lastModifiedBy>
  <dcterms:modified xsi:type="dcterms:W3CDTF">2014-11-10T09:00:56Z</dcterms:modified>
  <cp:revision>6</cp:revision>
  <dc:subject/>
  <dc:title>PowerPoint Presentation</dc:title>
</cp:coreProperties>
</file>