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485-DF24-4ED9-B483-BFB9C153B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езок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ина 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813D-3DA1-4A53-9913-C1C980C46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1F70-2401-456A-B63B-300F718CB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9359-03AD-4092-BF59-4E0E553E2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0774-9FD7-43F4-A827-5942A5130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BD3A-D925-4559-BF07-E292347FF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зи длины отрез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№№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8;  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8546-8092-4511-90D6-315B9EF02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Кос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248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A06D-60FB-4F17-8F56-E108DE6FA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Махов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</a:t>
            </a: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176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5F4D-A831-4CA5-91C1-5200DDC38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Лок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45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1CDD-7595-499F-821D-B10C6FC0B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6AB7-EE46-49D9-86EF-46A81D420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Найдите правильные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FA4F-9D12-49E8-925C-E2D943943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рсия дво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 зависит от условия  задачи. В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чертеж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FD5-FF29-4419-9249-3716A1DBA6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асть прямой, ограниченная двумя точ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чки М и К- концы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Запись МК или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F8A9-FBE0-46E0-B0F9-E58750E24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C29A-3222-4001-876D-154FEC7D8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DA67-905E-4920-8185-8ED3CDD3D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82AC-48AD-45CD-9516-5E398CEFD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менты, необходимы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B06C-6DDF-4C8E-A42E-454709AF0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Единицы измерения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22B-B6DE-4D9C-B4AE-53A351CEF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ертите отрез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6 см 8 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на нем точку А так, чтоб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 = 4 см 3 мм. Чему равна длина отрезка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FB8C-7AE0-4299-B701-24531DC18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6A8-1F29-4AA2-9BDD-4AA74200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418-97E5-42BE-B557-5CD592E4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E8F-E253-4C30-8EF1-412687EF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DE4-39A8-4285-9542-23728FBC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0CD-05AB-4ECF-97D6-1080E9C9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C779-7906-4615-A48D-6A2B1967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4409-8E7F-42F9-B440-D1627DFD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AFE4-85C4-4997-8C40-CB1CCD5C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208E-F593-4975-B89D-3BA2BEBF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C552-EC03-4B9A-BB77-6D669F24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5FBC-5357-4CA3-BFD2-AD0BBD0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D74-1718-4CFA-986C-EE00ECC2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A864-EFC9-4E10-8A2A-6344BA2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F114-0A53-42F0-B63B-24346AF2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9AA4-95BA-4C54-93D7-AE4BCB21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67E-FCE9-4A11-8D15-64809B89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1BD8-2403-4757-BDC1-F1167D6C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868-BFEA-41A4-A77C-87B8D5E9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2BF-C23B-4986-AA72-D598E51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C80-D6AB-4678-A28A-F98E07CB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AEE-C050-4873-AFFA-C6D2AECE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2B9-9262-410E-B2F6-F06CC0FF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398-9598-4822-8683-624E4E3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AE0-B450-4EA0-A259-11FC5C13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9513-B404-4502-B592-824397F779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3719-7A02-4B05-92CD-50A0839B5E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DRAFTSMN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5" name="Picture 4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14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1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22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8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9" name="Picture 4" descr="SHFTY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G00317_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803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802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801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54" name="Rectangle 5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8" descr="BOY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3521160" y="5227560"/>
            <a:ext cx="2849400" cy="604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>
              <a:gd name="textAreaLeft" fmla="*/ 0 w 4540320"/>
              <a:gd name="textAreaRight" fmla="*/ 4540320 w 454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>
              <a:gd name="textAreaLeft" fmla="*/ 0 w 640080"/>
              <a:gd name="textAreaRight" fmla="*/ 640440 w 640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AG00317_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4"/>
          <p:cNvCxnSpPr>
            <a:stCxn id="116" idx="4"/>
            <a:endCxn id="117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26" name="Freeform 15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4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3" name="Picture 4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4" name="Line 5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PINCBOX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OMPSSS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80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LANDS093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LANDS079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LANDS043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LANDS063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4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LEGION</cp:lastModifiedBy>
  <dcterms:modified xsi:type="dcterms:W3CDTF">2015-01-26T12:34:44Z</dcterms:modified>
  <cp:revision>11</cp:revision>
  <dc:subject/>
  <dc:title>Отрезок. Длина  отрезка.</dc:title>
</cp:coreProperties>
</file>