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0E47-CA66-48C8-B700-5B5AED54BD8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дан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КОУ «Верх-Жилинская О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976C2-2570-4A56-8B7E-304B34A5A79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8a44d"/>
                </a:solidFill>
                <a:latin typeface="Calibri"/>
              </a:rPr>
              <a:t>С</a:t>
            </a: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войство касательной:</a:t>
            </a:r>
            <a:br>
              <a:rPr sz="2000"/>
            </a:br>
            <a:br>
              <a:rPr sz="2000"/>
            </a:b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Касательная к окружности перпендикулярна к радиусу, проведенному в точку кас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касательная к окружности с центром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точка ка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OM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3386-1D3C-46D4-B152-5326933B52F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5968"/>
                </a:solidFill>
                <a:latin typeface="Calibri"/>
              </a:rPr>
              <a:t>Признак касательной:</a:t>
            </a:r>
            <a:br>
              <a:rPr sz="2000"/>
            </a:br>
            <a:br>
              <a:rPr sz="1800"/>
            </a:b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1200" spc="-1" strike="noStrike">
                <a:solidFill>
                  <a:srgbClr val="215968"/>
                </a:solidFill>
                <a:latin typeface="Calibri"/>
              </a:rPr>
              <a:t>асате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диуса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O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– прямая, которая проходит через точку </a:t>
            </a: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–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942F1-731A-4FCA-BF3D-4782A57A1A1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5968"/>
                </a:solidFill>
                <a:latin typeface="Calibri"/>
              </a:rPr>
              <a:t>Свойство касательных, </a:t>
            </a:r>
            <a:br>
              <a:rPr sz="1800"/>
            </a:br>
            <a:r>
              <a:rPr b="0" i="1" lang="ru-RU" sz="1800" spc="-1" strike="noStrike">
                <a:solidFill>
                  <a:srgbClr val="215968"/>
                </a:solidFill>
                <a:latin typeface="Calibri"/>
              </a:rPr>
              <a:t>проходящих через одну точк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▼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По свойству касатель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,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рямоуго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О=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Arial"/>
              </a:rPr>
              <a:t>∆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СО–по гипотенузе и катет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А – обща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ОВ=ОС – радиу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АВ=АС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4B583-906F-44E5-A2A8-868F46F6D9BC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заимное расположение прямой и окру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69CC3-F090-4303-93D6-609AC711335F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в точк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диуса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, которая не проходит через центр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 от центра окружности до прямой обозначим букво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AB097-6597-4B58-90EA-2A28A2F19A47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l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меньше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а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две общие точки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2DC6-B6FE-44A9-8DAF-59EA56F4A2A9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=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равно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радиусу окружности, то прямая и окружность имеют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только одну общую точ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41EE-6098-4773-868A-72FC90BB41E1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озможны три случая</a:t>
            </a:r>
            <a:r>
              <a:rPr b="0" lang="ru-RU" sz="1200" spc="-1" strike="noStrike">
                <a:solidFill>
                  <a:srgbClr val="88a44d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&gt;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Если расстояние от центра окружности до прямой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больш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адиуса окружности, то прямая и окружность </a:t>
            </a: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не имеют общих точек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95BA-3ACC-4E1E-8415-4EE782321216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15968"/>
                </a:solidFill>
                <a:latin typeface="Calibri"/>
              </a:rPr>
              <a:t>Касательная к окруж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пределение: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П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6DF8E-AF3C-4E60-8894-C5897F651A1D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215968"/>
                </a:solidFill>
                <a:latin typeface="Calibri"/>
              </a:rPr>
              <a:t>Выясните взаимное расположение прямой и окружности, есл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15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11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5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2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,2 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7 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7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,5 д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 см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= 4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 м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х точек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– секущ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ямая - кас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9739-B931-4A72-8F4E-C4DE9670C318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15968"/>
                </a:solidFill>
                <a:latin typeface="Calibri"/>
              </a:rPr>
              <a:t>Решите № 63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BC-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дра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 = 6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ность с центром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уса 5 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кущие из прям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A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B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C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4DB1-3BB5-4288-B73B-7548148752F5}" type="slidenum">
              <a:rPr b="1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2CA0-78B3-4579-8E1E-9F94FD829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91BE-0D2F-4888-A037-55DF32373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173623-8889-4449-957D-195D61837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ED6B6E-92EA-4CD4-84B1-DE38DA575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C780EC-899F-4BD1-9A13-1D5C65B7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BE9F0C-E6D4-4A2F-9129-997151BB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E8B38-16B5-4387-BE66-4322E36A6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6D87CD-CEF1-49AF-9A80-AE91803C6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279D6E-80E6-45CC-8AE3-9656A8736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9EE71-1CFF-4BD9-8EC0-A300E422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CB660C-3181-4D15-A6BD-651884AA5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F3CF942-8EDF-4C24-91BC-F43666D94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0725-AB3F-49E0-A18A-AABC444FE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AB1AA6-7600-41E7-88F9-8537E3A12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29455-C090-4F82-A6A8-0837F366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FAFBE7-6D88-42E2-91A6-89B4EE0F0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970112-AEBD-4BDB-8A59-647D49041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4F1B65-FB03-4D95-A762-FEDF9EDF5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90F52E-0791-4040-B262-37FBDE23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8F884C-04CC-4CB5-B708-BF4967F7D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C76718-246A-463E-AC60-0FAB0EA4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910D09-1FAD-40A4-9499-28E08B662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E8A4E7-C19C-40BA-A3DC-15DFF3B2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10E2-70E7-4E5F-A5E5-21638D48B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63B6CE-1DE2-4CF8-8FAE-38EF5245D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4EBA6-D72B-482F-8EFB-3F8D74BF4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2036D-2A12-4851-B933-F703D929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0A67A7-7C94-4B19-ACCD-DFA8E2015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FB414-1E63-4304-ABCA-EA6F8DDCE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CD47DD-53B1-406A-AAA0-D7122C6AA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E3473-05E3-4415-8D6D-CF5886E5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DFBA4B-42DC-4468-9498-B706D7AFD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54D41-E61F-40F4-914F-BBA10EF47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47D04C-5E99-4A78-93B3-2DE140B8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BE475-EE82-4CF2-94D9-F5AC0934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B7D2F-1849-47CF-A78C-C9AE13F4E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C4694-7627-4658-9310-A8CAD8E34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77A1B-02E0-40CE-B0BB-B7A4424FD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A58588-8224-4993-871E-43A93188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7B6A04-267D-4775-BB65-50494DB70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D71014-B94C-4853-8101-7C0B58A8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33535D-1A55-45DE-8E9B-FC5701ED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05D0150-5992-4D18-A2BD-84832599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EFFB1-7B09-4A52-BC27-4935DC15A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D31379-A3BB-46C1-BD7D-68A75F98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02DF9-ECB9-4B5F-B0C2-6C262FAD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E84F1F-1290-433F-8EB5-33059D810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07B792-9FA7-44A0-BF6C-77B5E818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281CF51-7AD5-4052-A582-FD2AF2806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34B882-6C55-4D9E-B165-3A44DA8C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019F459-3052-48A8-BC5F-726FCAB7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4A011-1754-44DE-8F81-204220B9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C8BF1-60CE-4992-9CC1-8D2A85F47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E2CB1-D0DB-4D93-BF05-60AB38A7A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E4B4F-ABFA-4BE9-B425-F0EA59A8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E19F-3FC0-484B-98F5-141C409BA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435C-B0EB-4526-AED3-5E3EC52B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543B-5BA4-4EAE-8212-8863C6F21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5E0AE-BCC6-46D8-B2CB-618E8238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D79F3-4486-4D3C-B814-E7CC83731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7CAF2-AEDE-474C-9AFA-14AF979F4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33DB9-CC23-4F53-BDB3-86FECE4AB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08996-C242-4631-9441-9FD41900C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3E5FF-AE29-4535-A019-4F00A9139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7C207-C373-4395-88B6-6E1C8C93F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B56FB-DBC1-4FC1-ACF4-DA9484E3F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63B6A1-F710-4C40-8BA5-D80DD5FD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93E9-CB73-48CB-9EDD-A5BA2EA17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5B60-FCE1-4A88-86B5-654C4411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FCFC7-0C0D-4552-8B4D-2D8007E09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10949-FA25-4726-A0F4-FFDA6819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F7751-BE69-427E-B221-FFC1EFF11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20F1C-C295-4B02-BAC2-E646600AF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582B6-9ABD-4A80-8FF4-B7A890468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29972-EAF9-4D4B-922A-D254D8174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DF50-1051-4137-B3B8-62C805BAA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521972-14F9-4AFA-8350-A9F28F5AC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F9F1C-E9A4-428C-A541-1CC8A4806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78B-55A1-4389-8174-05B34902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AB916-0D7A-41EA-8CB0-FDA540D12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BC97C7-2195-4129-A6E4-4F852820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B20B2-2005-4014-B03C-FB8A1DBD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F0ECD-DCE2-4070-B104-2290A2AF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D18FF-36C1-4E9F-8AB8-7180AB31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7CD2E9-9427-4C6C-A7D0-C3665DE90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5417F-8A6A-4B45-845F-37ED11DE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23A988-A7B9-4FDC-9E7C-FA411DD11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DDE150-28C3-40FD-9113-BD8C91C82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13864-AEC1-4F5D-929F-E969DB44F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CAD-959A-4E6D-851C-2ADDDC23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E9A5B5-CB79-412D-BBF2-97DD30B5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1CF60-84DD-4073-9AE1-7ADA46CF7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457BF-79B6-46F9-BAAC-849B31B6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1C7C0-BAA4-49BF-B1CB-F2ED185E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E27DC-3577-44DB-8D37-B5598AC4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8DAC4-B283-47E5-A909-C859F29E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3383A-5D7D-49A9-A76E-97B725023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0CD6D5-8162-432D-B897-9721F9A6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D72AE-EC26-45FF-8DB6-22509071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34F93-5AD5-4638-A2D1-63626CE4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5CC-7530-48A8-80EC-0E08DB4B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08341-204B-42FF-999F-22F4C1D7C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04F5D4-9619-4D63-B0E0-01C30FA34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29D18-9BF6-4BDA-B77F-807D79E0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2382F-93E3-476A-B9A8-FDD703964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C0009D-3971-47D6-85E8-7148F0875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F3017-D8D6-4862-92AA-9AEB3F52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3CDCC-98C0-44E0-99F9-798D1D0D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C6BD4-0E42-4306-838D-3AE39FBF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D4BD2-9BC9-445D-B5D1-2E5C7C01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7C8602-7DF3-4E82-AD95-6CE24B26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530F-6AFA-43B8-A519-26D3B85A9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E408B3-CE54-49ED-BF98-902D2C14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B2B70A-51AE-45F2-8CF1-FF6A7BEE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7E1E3-B3FE-48EA-8DF7-D8330B39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C5A84C-A930-4537-87A5-19F597E9D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8E26E-8315-4148-920D-397FA54E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6519AA-6A49-44C2-8062-2A53B3286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E91EF-CE2C-4C85-9B0E-17F3AD2BB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39FA5-2DE8-45D9-8AEE-E15857C1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D7594-5C77-4293-8DB6-3993FA8C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6FF0F8-5A24-45EB-9B65-432B62FB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745A-FD13-415C-BF7C-9B9212BA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4000E-F360-49BD-9F9D-08E0BF9E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6DA6E8-1DFF-4D45-B164-A3EA0E8ED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E63F72-CAD8-4399-BBCC-A3F03D1D7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122D3F-2C00-4272-8549-392B12D73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9F53A-AFB7-4348-8845-F904ACEA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DEF08-6ED2-4BD6-AF58-C624CC4A5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C5DCC-A6C3-4F17-A52C-0F1D2BBC2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9EB2A-41E1-428F-934F-14D1FA980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7E16C2-61ED-4861-AFED-7A7FE9D3F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819F77-9DB1-4DB1-B111-EA2C18653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C6B0-2D09-4512-810A-5D7D9A38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63D373-0B9A-49F7-9A54-47C4C9A9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C1C93-6170-403E-A97C-9B187F82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A73FB7-5872-4607-9E84-0DFF39DA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B88437-758A-4B10-86F6-82B13690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67D88F-E78C-4DCD-8B7B-A23F0B02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F4396-89C2-4089-9B9A-3990A5DBB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7971B3-47E2-4A6D-975E-DC51C4062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EC931-2F2D-4DEF-A7AD-941D1317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8691C1F-E8CB-4A73-8972-81A38084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8CEE7BB-1163-4274-8AC7-63A39745B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AE7C-B4F6-490E-8FCD-E2763ACFEE31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FEE0-1199-4F06-A579-CFEBE5D428E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7561-5717-4013-A845-684FBC5425A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2CDD-B74B-4CAF-BA67-22E4AD025DA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B1D3F-0128-4AD3-B12E-2B10F851C9B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426F7-9212-4EB5-8CCC-F08CCC5AE238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1682D-03CA-46E7-A8DE-78E56129CD4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1EED-FBCB-4E37-B3D6-EF3E5ED9979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0561-4050-4D0E-9E1E-F7139223605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FAC5-1D5E-40CB-B860-2938F8FE02B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5DA1-9B1A-449E-82F3-4EA182AD04D0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673C-9C0F-495B-A00A-819F019374B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2700360" y="4652640"/>
            <a:ext cx="597528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d16349"/>
                </a:solidFill>
                <a:latin typeface="Georgia"/>
              </a:rPr>
              <a:t>Взаимное расположение прямой и окружности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755280" y="115920"/>
            <a:ext cx="8064360" cy="26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b9899"/>
                </a:solidFill>
                <a:latin typeface="Georgia"/>
              </a:rPr>
              <a:t>С</a:t>
            </a:r>
            <a:r>
              <a:rPr b="1" lang="ru-RU" sz="4400" spc="-1" strike="noStrike">
                <a:solidFill>
                  <a:srgbClr val="435e40"/>
                </a:solidFill>
                <a:latin typeface="Georgia"/>
              </a:rPr>
              <a:t>войство касательной:</a:t>
            </a:r>
            <a:br>
              <a:rPr sz="4400"/>
            </a:br>
            <a:br>
              <a:rPr sz="4400"/>
            </a:br>
            <a:r>
              <a:rPr b="0" i="1" lang="ru-RU" sz="2800" spc="-1" strike="noStrike">
                <a:solidFill>
                  <a:srgbClr val="435e40"/>
                </a:solidFill>
                <a:latin typeface="Georgia"/>
              </a:rPr>
              <a:t>Касательная к окружности перпендикулярна к радиусу, проведенному в точку касания.</a:t>
            </a:r>
            <a:endParaRPr b="0" lang="en-US" sz="2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948960" y="2997000"/>
            <a:ext cx="3754440" cy="309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касательная к окружности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– точка касания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-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0" name="Object 14"/>
              <p:cNvSpPr txBox="1"/>
              <p:nvPr/>
            </p:nvSpPr>
            <p:spPr>
              <a:xfrm>
                <a:off x="1351080" y="5373720"/>
                <a:ext cx="284292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1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8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9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0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11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7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7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4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308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300" spc="-1" strike="noStrike">
                <a:solidFill>
                  <a:srgbClr val="435e40"/>
                </a:solidFill>
                <a:latin typeface="Georgia"/>
              </a:rPr>
              <a:t>Признак касательной:</a:t>
            </a:r>
            <a:br>
              <a:rPr sz="4300"/>
            </a:br>
            <a:br>
              <a:rPr sz="4000"/>
            </a:br>
            <a:r>
              <a:rPr b="0" lang="ru-RU" sz="2900" spc="-1" strike="noStrike">
                <a:solidFill>
                  <a:srgbClr val="435e40"/>
                </a:solidFill>
                <a:latin typeface="Georgia"/>
              </a:rPr>
              <a:t>Если прямая проходит через конец радиуса, лежащий на окружности, и перпендикулярна радиусу, то она является к</a:t>
            </a:r>
            <a:r>
              <a:rPr b="0" i="1" lang="ru-RU" sz="2900" spc="-1" strike="noStrike">
                <a:solidFill>
                  <a:srgbClr val="435e40"/>
                </a:solidFill>
                <a:latin typeface="Georgia"/>
              </a:rPr>
              <a:t>асательной.</a:t>
            </a:r>
            <a:endParaRPr b="0" lang="en-US" sz="29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250920" y="3357720"/>
            <a:ext cx="47527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радиуса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OM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m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– прямая, которая проходит через точку </a:t>
            </a: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Georgia"/>
              </a:rPr>
              <a:t>m</a:t>
            </a:r>
            <a:r>
              <a:rPr b="1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r>
              <a:rPr b="0" lang="ru-RU" sz="2700" spc="-1" strike="noStrike" u="sng">
                <a:solidFill>
                  <a:srgbClr val="000000"/>
                </a:solidFill>
                <a:uFillTx/>
                <a:latin typeface="Georgia"/>
              </a:rPr>
              <a:t>– касательная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671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1" name="Object 11"/>
              <p:cNvSpPr txBox="1"/>
              <p:nvPr/>
            </p:nvSpPr>
            <p:spPr>
              <a:xfrm>
                <a:off x="1476360" y="4869000"/>
                <a:ext cx="18939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⊥</m:t>
                    </m:r>
                    <m:r>
                      <m:rPr>
                        <m:lit/>
                        <m:nor/>
                      </m:rPr>
                      <m:t xml:space="preserve">O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2" name="Oval 4"/>
          <p:cNvSpPr/>
          <p:nvPr/>
        </p:nvSpPr>
        <p:spPr>
          <a:xfrm>
            <a:off x="5364000" y="342900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Line 5"/>
          <p:cNvSpPr/>
          <p:nvPr/>
        </p:nvSpPr>
        <p:spPr>
          <a:xfrm>
            <a:off x="4932360" y="342900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6"/>
          <p:cNvSpPr/>
          <p:nvPr/>
        </p:nvSpPr>
        <p:spPr>
          <a:xfrm>
            <a:off x="6641640" y="4888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Line 7"/>
          <p:cNvSpPr/>
          <p:nvPr/>
        </p:nvSpPr>
        <p:spPr>
          <a:xfrm>
            <a:off x="6877080" y="342900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8"/>
          <p:cNvSpPr/>
          <p:nvPr/>
        </p:nvSpPr>
        <p:spPr>
          <a:xfrm>
            <a:off x="6732720" y="3429000"/>
            <a:ext cx="144360" cy="144360"/>
          </a:xfrm>
          <a:prstGeom prst="rect">
            <a:avLst/>
          </a:prstGeom>
          <a:solidFill>
            <a:srgbClr val="646b8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9"/>
          <p:cNvSpPr/>
          <p:nvPr/>
        </p:nvSpPr>
        <p:spPr>
          <a:xfrm>
            <a:off x="6640560" y="292572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10"/>
          <p:cNvSpPr/>
          <p:nvPr/>
        </p:nvSpPr>
        <p:spPr>
          <a:xfrm>
            <a:off x="4984920" y="335772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7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7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7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7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5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7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249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35e40"/>
                </a:solidFill>
                <a:latin typeface="Georgia"/>
              </a:rPr>
              <a:t>Свойство касательных, </a:t>
            </a:r>
            <a:br>
              <a:rPr sz="3600"/>
            </a:br>
            <a:r>
              <a:rPr b="0" i="1" lang="ru-RU" sz="3600" spc="-1" strike="noStrike">
                <a:solidFill>
                  <a:srgbClr val="435e40"/>
                </a:solidFill>
                <a:latin typeface="Georgia"/>
              </a:rPr>
              <a:t>проходящих через одну точку:</a:t>
            </a:r>
            <a:endParaRPr b="0" lang="en-US" sz="3600" spc="-1" strike="noStrike">
              <a:solidFill>
                <a:srgbClr val="7b9899"/>
              </a:solidFill>
              <a:latin typeface="Georg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21"/>
              <p:cNvSpPr txBox="1"/>
              <p:nvPr/>
            </p:nvSpPr>
            <p:spPr>
              <a:xfrm>
                <a:off x="5292720" y="2133720"/>
                <a:ext cx="2287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t xml:space="preserve">,</m:t>
                    </m:r>
                    <m:r>
                      <m:t xml:space="preserve">∠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e>
                      <m:sup>
                        <m:r>
                          <m:t xml:space="preserve">o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787640" y="1700280"/>
            <a:ext cx="410508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▼  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По свойству касательной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, 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рямоугольные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О=</a:t>
            </a:r>
            <a:r>
              <a:rPr b="0" lang="ru-RU" sz="1700" spc="-1" strike="noStrike">
                <a:solidFill>
                  <a:srgbClr val="000000"/>
                </a:solidFill>
                <a:latin typeface="Georgia"/>
                <a:ea typeface="Arial"/>
              </a:rPr>
              <a:t>∆</a:t>
            </a: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СО–по гипотенузе и катету: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А – общая,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ОВ=ОС – радиусы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АВ=АС и 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261720"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Georgia"/>
                <a:ea typeface="Arial"/>
              </a:rPr>
              <a:t>▲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3" name="Oval 6"/>
          <p:cNvSpPr/>
          <p:nvPr/>
        </p:nvSpPr>
        <p:spPr>
          <a:xfrm>
            <a:off x="539640" y="4292640"/>
            <a:ext cx="1511280" cy="1441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Line 7"/>
          <p:cNvSpPr/>
          <p:nvPr/>
        </p:nvSpPr>
        <p:spPr>
          <a:xfrm>
            <a:off x="1258920" y="5013360"/>
            <a:ext cx="31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8"/>
          <p:cNvSpPr/>
          <p:nvPr/>
        </p:nvSpPr>
        <p:spPr>
          <a:xfrm flipH="1" flipV="1">
            <a:off x="610920" y="4076640"/>
            <a:ext cx="331308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9"/>
          <p:cNvSpPr/>
          <p:nvPr/>
        </p:nvSpPr>
        <p:spPr>
          <a:xfrm flipH="1">
            <a:off x="684360" y="5013360"/>
            <a:ext cx="3240000" cy="936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10"/>
          <p:cNvSpPr/>
          <p:nvPr/>
        </p:nvSpPr>
        <p:spPr>
          <a:xfrm flipV="1">
            <a:off x="1258920" y="429264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11"/>
          <p:cNvSpPr/>
          <p:nvPr/>
        </p:nvSpPr>
        <p:spPr>
          <a:xfrm>
            <a:off x="1258920" y="5013360"/>
            <a:ext cx="21744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13"/>
          <p:cNvSpPr/>
          <p:nvPr/>
        </p:nvSpPr>
        <p:spPr>
          <a:xfrm>
            <a:off x="834480" y="467208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14"/>
          <p:cNvSpPr/>
          <p:nvPr/>
        </p:nvSpPr>
        <p:spPr>
          <a:xfrm>
            <a:off x="1276920" y="3808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5"/>
          <p:cNvSpPr/>
          <p:nvPr/>
        </p:nvSpPr>
        <p:spPr>
          <a:xfrm>
            <a:off x="1203840" y="575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6"/>
          <p:cNvSpPr/>
          <p:nvPr/>
        </p:nvSpPr>
        <p:spPr>
          <a:xfrm>
            <a:off x="3651840" y="452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7"/>
          <p:cNvSpPr/>
          <p:nvPr/>
        </p:nvSpPr>
        <p:spPr>
          <a:xfrm>
            <a:off x="1403280" y="4365720"/>
            <a:ext cx="2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8"/>
          <p:cNvSpPr/>
          <p:nvPr/>
        </p:nvSpPr>
        <p:spPr>
          <a:xfrm>
            <a:off x="1404720" y="53737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9"/>
          <p:cNvSpPr/>
          <p:nvPr/>
        </p:nvSpPr>
        <p:spPr>
          <a:xfrm>
            <a:off x="2771640" y="4724280"/>
            <a:ext cx="287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20"/>
          <p:cNvSpPr/>
          <p:nvPr/>
        </p:nvSpPr>
        <p:spPr>
          <a:xfrm>
            <a:off x="179280" y="1557360"/>
            <a:ext cx="4680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трезки касательных к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кружности, проведенные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з одной точки, равны 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ляют равные углы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 прямой, проходящей через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ту точку и центр окружност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7" name="Object 23"/>
              <p:cNvSpPr txBox="1"/>
              <p:nvPr/>
            </p:nvSpPr>
            <p:spPr>
              <a:xfrm>
                <a:off x="5508720" y="4653000"/>
                <a:ext cx="53766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⇓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8" name="Object 25"/>
              <p:cNvSpPr txBox="1"/>
              <p:nvPr/>
            </p:nvSpPr>
            <p:spPr>
              <a:xfrm>
                <a:off x="6300720" y="5157720"/>
                <a:ext cx="1656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=∠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6" dur="2000"/>
                                        <p:tgtEl>
                                          <p:spTgt spid="7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9" dur="2000"/>
                                        <p:tgtEl>
                                          <p:spTgt spid="7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7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5" dur="2000"/>
                                        <p:tgtEl>
                                          <p:spTgt spid="7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7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1" dur="2000"/>
                                        <p:tgtEl>
                                          <p:spTgt spid="7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10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3" nodeType="afterEffect" fill="hold" presetClass="entr" presetID="5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7" dur="10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7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7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55280" y="620640"/>
            <a:ext cx="7558200" cy="1728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00"/>
                </a:solidFill>
                <a:latin typeface="Georgia"/>
              </a:rPr>
              <a:t>Взаимное расположение прямой и окружности</a:t>
            </a:r>
            <a:endParaRPr b="0" lang="en-US" sz="48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7" name="Oval 5"/>
          <p:cNvSpPr/>
          <p:nvPr/>
        </p:nvSpPr>
        <p:spPr>
          <a:xfrm>
            <a:off x="3635280" y="3500280"/>
            <a:ext cx="2737080" cy="2665440"/>
          </a:xfrm>
          <a:prstGeom prst="ellipse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7"/>
          <p:cNvSpPr/>
          <p:nvPr/>
        </p:nvSpPr>
        <p:spPr>
          <a:xfrm>
            <a:off x="4842000" y="4208400"/>
            <a:ext cx="336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8"/>
          <p:cNvSpPr/>
          <p:nvPr/>
        </p:nvSpPr>
        <p:spPr>
          <a:xfrm>
            <a:off x="5003640" y="4797360"/>
            <a:ext cx="136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0"/>
          <p:cNvSpPr/>
          <p:nvPr/>
        </p:nvSpPr>
        <p:spPr>
          <a:xfrm flipH="1">
            <a:off x="4500360" y="3573360"/>
            <a:ext cx="934920" cy="251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1"/>
          <p:cNvSpPr/>
          <p:nvPr/>
        </p:nvSpPr>
        <p:spPr>
          <a:xfrm flipH="1">
            <a:off x="3634920" y="3500280"/>
            <a:ext cx="1368360" cy="1081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4932360" y="4797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13"/>
          <p:cNvSpPr/>
          <p:nvPr/>
        </p:nvSpPr>
        <p:spPr>
          <a:xfrm>
            <a:off x="3329640" y="4240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14"/>
          <p:cNvSpPr/>
          <p:nvPr/>
        </p:nvSpPr>
        <p:spPr>
          <a:xfrm>
            <a:off x="4914000" y="30146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15"/>
          <p:cNvSpPr/>
          <p:nvPr/>
        </p:nvSpPr>
        <p:spPr>
          <a:xfrm>
            <a:off x="5418720" y="3087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16"/>
          <p:cNvSpPr/>
          <p:nvPr/>
        </p:nvSpPr>
        <p:spPr>
          <a:xfrm>
            <a:off x="4358160" y="6021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17"/>
          <p:cNvSpPr/>
          <p:nvPr/>
        </p:nvSpPr>
        <p:spPr>
          <a:xfrm>
            <a:off x="6372360" y="4581360"/>
            <a:ext cx="54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18"/>
          <p:cNvSpPr/>
          <p:nvPr/>
        </p:nvSpPr>
        <p:spPr>
          <a:xfrm>
            <a:off x="521280" y="3879720"/>
            <a:ext cx="2239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 –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радиу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иаметр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 -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д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Дано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179280" y="1557360"/>
            <a:ext cx="43927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в точке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радиуса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, которая не проходит через центр </a:t>
            </a: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О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сстояние от центра окружности до прямой обозначим буквой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2" name="Oval 11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3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4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Line 15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7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8"/>
          <p:cNvSpPr/>
          <p:nvPr/>
        </p:nvSpPr>
        <p:spPr>
          <a:xfrm>
            <a:off x="7290000" y="337500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19"/>
          <p:cNvSpPr/>
          <p:nvPr/>
        </p:nvSpPr>
        <p:spPr>
          <a:xfrm>
            <a:off x="6426720" y="3375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20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680" y="1484280"/>
            <a:ext cx="403848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1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l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меньше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а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две общие точки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Oval 5"/>
          <p:cNvSpPr/>
          <p:nvPr/>
        </p:nvSpPr>
        <p:spPr>
          <a:xfrm>
            <a:off x="5400720" y="2084400"/>
            <a:ext cx="2952720" cy="288288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Line 6"/>
          <p:cNvSpPr/>
          <p:nvPr/>
        </p:nvSpPr>
        <p:spPr>
          <a:xfrm flipV="1">
            <a:off x="6804000" y="3068640"/>
            <a:ext cx="100800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Line 7"/>
          <p:cNvSpPr/>
          <p:nvPr/>
        </p:nvSpPr>
        <p:spPr>
          <a:xfrm>
            <a:off x="4932360" y="3068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8"/>
          <p:cNvSpPr/>
          <p:nvPr/>
        </p:nvSpPr>
        <p:spPr>
          <a:xfrm flipV="1">
            <a:off x="6804000" y="30686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11"/>
          <p:cNvSpPr/>
          <p:nvPr/>
        </p:nvSpPr>
        <p:spPr>
          <a:xfrm>
            <a:off x="6156360" y="30686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l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12"/>
          <p:cNvSpPr/>
          <p:nvPr/>
        </p:nvSpPr>
        <p:spPr>
          <a:xfrm>
            <a:off x="6804000" y="3068640"/>
            <a:ext cx="73080" cy="144360"/>
          </a:xfrm>
          <a:prstGeom prst="rect">
            <a:avLst/>
          </a:prstGeom>
          <a:solidFill>
            <a:srgbClr val="d1634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Line 13"/>
          <p:cNvSpPr/>
          <p:nvPr/>
        </p:nvSpPr>
        <p:spPr>
          <a:xfrm>
            <a:off x="5867280" y="3068640"/>
            <a:ext cx="936720" cy="10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14"/>
          <p:cNvSpPr/>
          <p:nvPr/>
        </p:nvSpPr>
        <p:spPr>
          <a:xfrm>
            <a:off x="55087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15"/>
          <p:cNvSpPr/>
          <p:nvPr/>
        </p:nvSpPr>
        <p:spPr>
          <a:xfrm>
            <a:off x="7648560" y="256536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6"/>
          <p:cNvSpPr/>
          <p:nvPr/>
        </p:nvSpPr>
        <p:spPr>
          <a:xfrm>
            <a:off x="179280" y="5583240"/>
            <a:ext cx="885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ямая АВ называется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екущей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по отношению к окружности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1000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" dur="500" autoRev="1" fill="hold"/>
                                        <p:tgtEl>
                                          <p:spTgt spid="6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5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2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равно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 радиусу окружности, то прямая и окружность имеют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только одну общую точку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Line 6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8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10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Line 17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18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19"/>
          <p:cNvSpPr/>
          <p:nvPr/>
        </p:nvSpPr>
        <p:spPr>
          <a:xfrm>
            <a:off x="6640560" y="2276640"/>
            <a:ext cx="4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6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1000"/>
                                        <p:tgtEl>
                                          <p:spTgt spid="6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озможны три случая</a:t>
            </a: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3</a:t>
            </a:r>
            <a:r>
              <a:rPr b="1" lang="ru-RU" sz="3600" spc="-1" strike="noStrike">
                <a:solidFill>
                  <a:srgbClr val="000000"/>
                </a:solidFill>
                <a:latin typeface="Georgia"/>
              </a:rPr>
              <a:t>) </a:t>
            </a:r>
            <a:r>
              <a:rPr b="1" lang="en-US" sz="3600" spc="-1" strike="noStrike">
                <a:solidFill>
                  <a:srgbClr val="000000"/>
                </a:solidFill>
                <a:latin typeface="Georgia"/>
              </a:rPr>
              <a:t>s&gt;r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Если расстояние от центра окружности до прямой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больше 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радиуса окружности, то прямая и окружность </a:t>
            </a:r>
            <a:r>
              <a:rPr b="0" i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не имеют общих точек</a:t>
            </a:r>
            <a:r>
              <a:rPr b="0" i="1" lang="ru-RU" sz="24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7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Line 5"/>
          <p:cNvSpPr/>
          <p:nvPr/>
        </p:nvSpPr>
        <p:spPr>
          <a:xfrm>
            <a:off x="4932360" y="227664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7"/>
          <p:cNvSpPr/>
          <p:nvPr/>
        </p:nvSpPr>
        <p:spPr>
          <a:xfrm>
            <a:off x="6156360" y="3068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&gt;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Line 8"/>
          <p:cNvSpPr/>
          <p:nvPr/>
        </p:nvSpPr>
        <p:spPr>
          <a:xfrm>
            <a:off x="6877080" y="2276640"/>
            <a:ext cx="0" cy="187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9"/>
          <p:cNvSpPr/>
          <p:nvPr/>
        </p:nvSpPr>
        <p:spPr>
          <a:xfrm>
            <a:off x="6732720" y="227664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Line 12"/>
          <p:cNvSpPr/>
          <p:nvPr/>
        </p:nvSpPr>
        <p:spPr>
          <a:xfrm flipH="1">
            <a:off x="5579640" y="4149720"/>
            <a:ext cx="1297080" cy="7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13"/>
          <p:cNvSpPr/>
          <p:nvPr/>
        </p:nvSpPr>
        <p:spPr>
          <a:xfrm>
            <a:off x="5921640" y="409572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6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1000"/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35e40"/>
                </a:solidFill>
                <a:latin typeface="Georgia"/>
              </a:rPr>
              <a:t>Касательная к окружности</a:t>
            </a:r>
            <a:endParaRPr b="0" lang="en-US" sz="40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94932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Georgia"/>
              </a:rPr>
              <a:t>Определение:</a:t>
            </a: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 П</a:t>
            </a:r>
            <a:r>
              <a:rPr b="0" i="1" lang="ru-RU" sz="2300" spc="-1" strike="noStrike">
                <a:solidFill>
                  <a:srgbClr val="000000"/>
                </a:solidFill>
                <a:latin typeface="Georgia"/>
              </a:rPr>
              <a:t>рямая, имеющая с окружностью только одну общую точку, называется касательной к окружности, а их общая точка называется точкой касания прямой и окружност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8" name="Oval 4"/>
          <p:cNvSpPr/>
          <p:nvPr/>
        </p:nvSpPr>
        <p:spPr>
          <a:xfrm>
            <a:off x="5364000" y="2708280"/>
            <a:ext cx="2953080" cy="2881440"/>
          </a:xfrm>
          <a:prstGeom prst="ellipse">
            <a:avLst/>
          </a:prstGeom>
          <a:solidFill>
            <a:srgbClr val="d1634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Line 5"/>
          <p:cNvSpPr/>
          <p:nvPr/>
        </p:nvSpPr>
        <p:spPr>
          <a:xfrm>
            <a:off x="4932360" y="2708280"/>
            <a:ext cx="3672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6"/>
          <p:cNvSpPr/>
          <p:nvPr/>
        </p:nvSpPr>
        <p:spPr>
          <a:xfrm>
            <a:off x="6641640" y="41673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 Box 7"/>
          <p:cNvSpPr/>
          <p:nvPr/>
        </p:nvSpPr>
        <p:spPr>
          <a:xfrm>
            <a:off x="6084720" y="3375000"/>
            <a:ext cx="69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Line 8"/>
          <p:cNvSpPr/>
          <p:nvPr/>
        </p:nvSpPr>
        <p:spPr>
          <a:xfrm>
            <a:off x="6877080" y="2708280"/>
            <a:ext cx="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9"/>
          <p:cNvSpPr/>
          <p:nvPr/>
        </p:nvSpPr>
        <p:spPr>
          <a:xfrm>
            <a:off x="6732720" y="2708280"/>
            <a:ext cx="144360" cy="144360"/>
          </a:xfrm>
          <a:prstGeom prst="rect">
            <a:avLst/>
          </a:prstGeom>
          <a:solidFill>
            <a:srgbClr val="d1634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10"/>
          <p:cNvSpPr/>
          <p:nvPr/>
        </p:nvSpPr>
        <p:spPr>
          <a:xfrm>
            <a:off x="6640560" y="2205000"/>
            <a:ext cx="59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1"/>
          <p:cNvSpPr/>
          <p:nvPr/>
        </p:nvSpPr>
        <p:spPr>
          <a:xfrm>
            <a:off x="4984920" y="2637000"/>
            <a:ext cx="45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640" y="96840"/>
            <a:ext cx="8785080" cy="117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435e40"/>
                </a:solidFill>
                <a:latin typeface="Georgia"/>
              </a:rPr>
              <a:t>Выясните взаимное расположение прямой и окружности, если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88" name=""/>
          <p:cNvSpPr txBox="1"/>
          <p:nvPr/>
        </p:nvSpPr>
        <p:spPr>
          <a:xfrm>
            <a:off x="948960" y="2924280"/>
            <a:ext cx="375444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15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11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5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2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3,2 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7 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7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,5 д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r =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4 см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s = 4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0 м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858920" y="2923920"/>
            <a:ext cx="375444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бщих точек не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– секущ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прямая - касательная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0" name="Line 6"/>
          <p:cNvSpPr/>
          <p:nvPr/>
        </p:nvSpPr>
        <p:spPr>
          <a:xfrm>
            <a:off x="4716360" y="2708280"/>
            <a:ext cx="0" cy="345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6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6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6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6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6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6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1000" fill="hold"/>
                                        <p:tgtEl>
                                          <p:spTgt spid="6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6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435e40"/>
                </a:solidFill>
                <a:latin typeface="Georgia"/>
              </a:rPr>
              <a:t>Решите № 633.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Дано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BC-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квадрат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AB = 6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Окружность с центром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радиуса 5 см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           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Найти: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секущие из прямых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OA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AB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BC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, АС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4" name="Line 6"/>
          <p:cNvSpPr/>
          <p:nvPr/>
        </p:nvSpPr>
        <p:spPr>
          <a:xfrm>
            <a:off x="1187280" y="4653000"/>
            <a:ext cx="338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6083280" y="3068640"/>
            <a:ext cx="230508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8"/>
          <p:cNvSpPr/>
          <p:nvPr/>
        </p:nvSpPr>
        <p:spPr>
          <a:xfrm>
            <a:off x="4932360" y="1989000"/>
            <a:ext cx="2232000" cy="223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13"/>
          <p:cNvSpPr/>
          <p:nvPr/>
        </p:nvSpPr>
        <p:spPr>
          <a:xfrm flipH="1">
            <a:off x="6083280" y="306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14"/>
          <p:cNvSpPr/>
          <p:nvPr/>
        </p:nvSpPr>
        <p:spPr>
          <a:xfrm flipV="1">
            <a:off x="6083280" y="306828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16"/>
          <p:cNvSpPr/>
          <p:nvPr/>
        </p:nvSpPr>
        <p:spPr>
          <a:xfrm>
            <a:off x="5796000" y="270828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17"/>
          <p:cNvSpPr/>
          <p:nvPr/>
        </p:nvSpPr>
        <p:spPr>
          <a:xfrm>
            <a:off x="8172360" y="263700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18"/>
          <p:cNvSpPr/>
          <p:nvPr/>
        </p:nvSpPr>
        <p:spPr>
          <a:xfrm>
            <a:off x="8101080" y="54640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19"/>
          <p:cNvSpPr/>
          <p:nvPr/>
        </p:nvSpPr>
        <p:spPr>
          <a:xfrm>
            <a:off x="5867280" y="5445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Oval 20"/>
          <p:cNvSpPr/>
          <p:nvPr/>
        </p:nvSpPr>
        <p:spPr>
          <a:xfrm>
            <a:off x="4211640" y="1413000"/>
            <a:ext cx="3673440" cy="3456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22"/>
          <p:cNvSpPr/>
          <p:nvPr/>
        </p:nvSpPr>
        <p:spPr>
          <a:xfrm flipV="1">
            <a:off x="6084720" y="3068280"/>
            <a:ext cx="0" cy="18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23"/>
          <p:cNvSpPr/>
          <p:nvPr/>
        </p:nvSpPr>
        <p:spPr>
          <a:xfrm flipH="1">
            <a:off x="6084360" y="3068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24"/>
          <p:cNvSpPr/>
          <p:nvPr/>
        </p:nvSpPr>
        <p:spPr>
          <a:xfrm>
            <a:off x="5730840" y="2655720"/>
            <a:ext cx="71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6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6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6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6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6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6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7T18:08:31Z</dcterms:created>
  <dc:creator>Ладанова И.В</dc:creator>
  <dc:description/>
  <dc:language>en-US</dc:language>
  <cp:lastModifiedBy>LEGION</cp:lastModifiedBy>
  <dcterms:modified xsi:type="dcterms:W3CDTF">2015-01-26T12:35:08Z</dcterms:modified>
  <cp:revision>19</cp:revision>
  <dc:subject/>
  <dc:title>Взаимное расположение прямой и окружности</dc:title>
</cp:coreProperties>
</file>