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applause.wav" ContentType="audio/x-wav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B64E-B330-4B67-A2B8-68255BC6AC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5C30-070D-4C34-88BB-2A6E40BFC70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E53-623D-43D7-A4DD-717CE5B337B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5400-2F6C-430D-9A95-C4CFE9E6BF4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Упростите  выра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5BBB-8D91-4830-A646-932F135A350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Самостоятельная 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8EA0-72DC-4F72-8C51-9C78BA183A1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CCF1-9AFF-4438-89BD-1E70F274837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1200"/>
            </a:b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Г.В.Лейбниц</a:t>
            </a:r>
            <a:r>
              <a:rPr b="1" i="1" lang="ru-RU" sz="1000" spc="-1" strike="noStrike">
                <a:solidFill>
                  <a:srgbClr val="800080"/>
                </a:solidFill>
                <a:latin typeface="Monotype Corsiv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2415-5B18-49E5-9013-5338932DE48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12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1100" spc="-1" strike="noStrike">
                <a:solidFill>
                  <a:srgbClr val="1f497d"/>
                </a:solidFill>
                <a:latin typeface="Monotype Corsiva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04CD-237C-4504-948F-9F6F79C8549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№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1200"/>
            </a:b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DCDD-0409-4551-87DB-B0BD8A33B9A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E6EB-8A3B-4BE1-ACAE-F8D3EC1370A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CBD1-25CF-47B5-89A3-786B1138BAA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Monotype Corsiva"/>
              </a:rPr>
              <a:t>Лаборатория  </a:t>
            </a:r>
            <a:br>
              <a:rPr sz="1600"/>
            </a:br>
            <a:r>
              <a:rPr b="1" i="1" lang="ru-RU" sz="16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80"/>
                </a:solidFill>
                <a:uFillTx/>
                <a:latin typeface="Monotype Corsiva"/>
              </a:rPr>
              <a:t>Возьмите  на  замет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1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1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1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1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1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2AC6-6577-4E74-A457-1185E742BD6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2375-52D5-4F2A-AC9C-3B57E7ECED2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12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1FD6-C24B-452B-9FB0-BBE0CCE7B3D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189-E55C-40B0-9C99-14180A5F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39F-AB11-48EB-8C08-29437F83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6DB-B753-4EE1-86F5-953148EF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D07-898B-4B30-AAD4-8E0B80A9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56BE-2923-4AC0-8E35-64C401FD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0915-6FD3-4CA6-AE9E-07450E14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4D37-3406-443C-B33C-9B4D6ED6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3243-D68C-41AF-8C0C-C9BEDFFB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09EB-D140-4E7F-93BA-35E05B6A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2185-95AD-4101-A069-690EF1C9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ED1E-EEB2-4097-A008-5177D01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765-E92B-4B23-9C6D-D5121C77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C4B9-5D6C-4900-ABA0-5895572B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3D6F-039E-48E1-B3C6-A271A9A3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84B9-EB96-4965-90C1-6042C638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2EBF-A506-497B-B9A4-CCC5355D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814D-B389-4D49-9AC6-FEC933A1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453-41DC-46FF-B183-0C82D332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CA8-2EFB-4ABC-8F7F-196C3687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BFC-83F5-49E2-8E77-620F9B03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CC6-7334-48C9-AA73-91B5784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EE7-196A-47DD-AFE1-2E24F7A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D84-6CF8-46AB-9AB7-CE9BD2D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C93-6FCA-4302-86A4-37A2E75A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3F3F-809A-4121-8885-0189308AA7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E027-06AB-47CA-A59C-82A15F81C4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02800"/>
            <a:ext cx="777240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666600"/>
                </a:solidFill>
                <a:latin typeface="Monotype Corsiva"/>
              </a:rPr>
              <a:t>Степень с рациональным показателем и ее свойства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995640" y="5157360"/>
            <a:ext cx="48960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33"/>
                </a:solidFill>
                <a:latin typeface="Monotype Corsiva"/>
              </a:rPr>
              <a:t>МОУ  СОШ  № 256  г.Фокин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MYNET040"/>
          <p:cNvPicPr/>
          <p:nvPr/>
        </p:nvPicPr>
        <p:blipFill>
          <a:blip r:embed="rId1"/>
          <a:stretch/>
        </p:blipFill>
        <p:spPr>
          <a:xfrm>
            <a:off x="324000" y="3521160"/>
            <a:ext cx="3771720" cy="3336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Заполните  пропуски  так,  чтобы  получилось  верное  равенство: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1446120" y="2401920"/>
                <a:ext cx="5413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1692360" y="4862520"/>
                <a:ext cx="68421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p>
                            <m:f>
                              <m:num/>
                              <m:den/>
                            </m:f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Text Box 4"/>
          <p:cNvSpPr/>
          <p:nvPr/>
        </p:nvSpPr>
        <p:spPr>
          <a:xfrm>
            <a:off x="938520" y="31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635280" y="249228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5724360" y="256536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869080" y="2852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6060a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780000" y="5157720"/>
            <a:ext cx="57600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009800" y="5589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535cd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471840" y="239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8"/>
              <p:cNvSpPr txBox="1"/>
              <p:nvPr/>
            </p:nvSpPr>
            <p:spPr>
              <a:xfrm>
                <a:off x="3564000" y="2492280"/>
                <a:ext cx="7351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31"/>
          <p:cNvSpPr/>
          <p:nvPr/>
        </p:nvSpPr>
        <p:spPr>
          <a:xfrm>
            <a:off x="4984920" y="390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35"/>
          <p:cNvSpPr/>
          <p:nvPr/>
        </p:nvSpPr>
        <p:spPr>
          <a:xfrm>
            <a:off x="5076720" y="5157720"/>
            <a:ext cx="576360" cy="13669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9"/>
              <p:cNvSpPr txBox="1"/>
              <p:nvPr/>
            </p:nvSpPr>
            <p:spPr>
              <a:xfrm>
                <a:off x="3708360" y="5084640"/>
                <a:ext cx="720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0"/>
              <p:cNvSpPr txBox="1"/>
              <p:nvPr/>
            </p:nvSpPr>
            <p:spPr>
              <a:xfrm>
                <a:off x="5076720" y="5157720"/>
                <a:ext cx="7257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7" name="Picture 41" descr="AG00373_"/>
          <p:cNvPicPr/>
          <p:nvPr/>
        </p:nvPicPr>
        <p:blipFill>
          <a:blip r:embed="rId1"/>
          <a:stretch/>
        </p:blipFill>
        <p:spPr>
          <a:xfrm>
            <a:off x="7164360" y="2781360"/>
            <a:ext cx="1440000" cy="1384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2"/>
          <p:cNvSpPr/>
          <p:nvPr/>
        </p:nvSpPr>
        <p:spPr>
          <a:xfrm>
            <a:off x="0" y="47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625aa"/>
                </a:solidFill>
                <a:uFillTx/>
                <a:latin typeface="Monotype Corsiva"/>
              </a:rPr>
              <a:t>Лаборатория    </a:t>
            </a:r>
            <a:r>
              <a:rPr b="1" i="1" lang="ru-RU" sz="4400" spc="-1" strike="noStrike" u="sng">
                <a:solidFill>
                  <a:srgbClr val="bb0319"/>
                </a:solidFill>
                <a:uFillTx/>
                <a:latin typeface="Monotype Corsiva"/>
              </a:rPr>
              <a:t>«Исследование  степени»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336600"/>
            <a:ext cx="777240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06060a"/>
                </a:solidFill>
                <a:latin typeface="Monotype Corsiva"/>
              </a:rPr>
              <a:t>Сократите  дробь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4" descr="CRCTR122"/>
          <p:cNvPicPr/>
          <p:nvPr/>
        </p:nvPicPr>
        <p:blipFill>
          <a:blip r:embed="rId1"/>
          <a:stretch/>
        </p:blipFill>
        <p:spPr>
          <a:xfrm>
            <a:off x="7575480" y="260280"/>
            <a:ext cx="156852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1187280" y="1197000"/>
                <a:ext cx="216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1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6"/>
          <p:cNvSpPr/>
          <p:nvPr/>
        </p:nvSpPr>
        <p:spPr>
          <a:xfrm>
            <a:off x="362160" y="1557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1042920" y="2421000"/>
                <a:ext cx="221148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13"/>
              <p:cNvSpPr txBox="1"/>
              <p:nvPr/>
            </p:nvSpPr>
            <p:spPr>
              <a:xfrm>
                <a:off x="900000" y="4653000"/>
                <a:ext cx="35658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14"/>
          <p:cNvSpPr/>
          <p:nvPr/>
        </p:nvSpPr>
        <p:spPr>
          <a:xfrm rot="10800000">
            <a:off x="3347640" y="980280"/>
            <a:ext cx="4226040" cy="1871640"/>
          </a:xfrm>
          <a:prstGeom prst="cloudCallout">
            <a:avLst>
              <a:gd name="adj1" fmla="val -48837"/>
              <a:gd name="adj2" fmla="val 37106"/>
            </a:avLst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426420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7"/>
              <p:cNvSpPr txBox="1"/>
              <p:nvPr/>
            </p:nvSpPr>
            <p:spPr>
              <a:xfrm>
                <a:off x="3708360" y="1268280"/>
                <a:ext cx="825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18"/>
          <p:cNvSpPr/>
          <p:nvPr/>
        </p:nvSpPr>
        <p:spPr>
          <a:xfrm>
            <a:off x="290880" y="3213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AutoShape 19"/>
          <p:cNvSpPr/>
          <p:nvPr/>
        </p:nvSpPr>
        <p:spPr>
          <a:xfrm rot="10476600">
            <a:off x="3058560" y="2276280"/>
            <a:ext cx="3824280" cy="1800000"/>
          </a:xfrm>
          <a:prstGeom prst="cloudCallout">
            <a:avLst>
              <a:gd name="adj1" fmla="val -74828"/>
              <a:gd name="adj2" fmla="val 86305"/>
            </a:avLst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0"/>
              <p:cNvSpPr txBox="1"/>
              <p:nvPr/>
            </p:nvSpPr>
            <p:spPr>
              <a:xfrm>
                <a:off x="3492360" y="3068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2" name="Text Box 21"/>
          <p:cNvSpPr/>
          <p:nvPr/>
        </p:nvSpPr>
        <p:spPr>
          <a:xfrm>
            <a:off x="290880" y="4941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0319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22"/>
          <p:cNvSpPr/>
          <p:nvPr/>
        </p:nvSpPr>
        <p:spPr>
          <a:xfrm rot="14628000">
            <a:off x="4424040" y="3190320"/>
            <a:ext cx="3240360" cy="3440160"/>
          </a:xfrm>
          <a:prstGeom prst="cloudCallout">
            <a:avLst>
              <a:gd name="adj1" fmla="val 72888"/>
              <a:gd name="adj2" fmla="val 97032"/>
            </a:avLst>
          </a:prstGeom>
          <a:solidFill>
            <a:srgbClr val="a3f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4572000" y="4581360"/>
                <a:ext cx="216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AutoShape 24"/>
          <p:cNvSpPr/>
          <p:nvPr/>
        </p:nvSpPr>
        <p:spPr>
          <a:xfrm rot="10800000">
            <a:off x="4932000" y="2636280"/>
            <a:ext cx="4211640" cy="1871640"/>
          </a:xfrm>
          <a:prstGeom prst="cloudCallout">
            <a:avLst>
              <a:gd name="adj1" fmla="val -18453"/>
              <a:gd name="adj2" fmla="val 128708"/>
            </a:avLst>
          </a:prstGeom>
          <a:solidFill>
            <a:srgbClr val="fdc0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518800" y="3141720"/>
            <a:ext cx="321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b0319"/>
                </a:solidFill>
                <a:latin typeface="Monotype Corsiva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999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666600"/>
                </a:solidFill>
                <a:latin typeface="Monotype Corsiva"/>
              </a:rPr>
              <a:t>Упростите  выражение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250920" y="1459080"/>
                <a:ext cx="6626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Picture 15" descr="CBIZ038"/>
          <p:cNvPicPr/>
          <p:nvPr/>
        </p:nvPicPr>
        <p:blipFill>
          <a:blip r:embed="rId1"/>
          <a:stretch/>
        </p:blipFill>
        <p:spPr>
          <a:xfrm>
            <a:off x="826920" y="2938320"/>
            <a:ext cx="4672080" cy="3919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6"/>
          <p:cNvSpPr/>
          <p:nvPr/>
        </p:nvSpPr>
        <p:spPr>
          <a:xfrm>
            <a:off x="1763640" y="371628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625aa"/>
                </a:solidFill>
                <a:latin typeface="Monotype Corsiv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WordArt 17"/>
          <p:cNvSpPr txBox="1"/>
          <p:nvPr/>
        </p:nvSpPr>
        <p:spPr>
          <a:xfrm>
            <a:off x="5292720" y="2276640"/>
            <a:ext cx="367200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Отлично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Самостоятельная  работ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а р и а н т 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1  Вычислит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№</a:t>
                      </a:r>
                      <a:r>
                        <a:rPr b="1" i="1" lang="ru-RU" sz="3600" spc="-1" strike="noStrike">
                          <a:solidFill>
                            <a:srgbClr val="666600"/>
                          </a:solidFill>
                          <a:latin typeface="Monotype Corsiva"/>
                        </a:rPr>
                        <a:t>2 Упростите  выражение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ea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79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8"/>
              <p:cNvSpPr txBox="1"/>
              <p:nvPr/>
            </p:nvSpPr>
            <p:spPr>
              <a:xfrm>
                <a:off x="971640" y="2276640"/>
                <a:ext cx="230508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0,4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80"/>
              <p:cNvSpPr txBox="1"/>
              <p:nvPr/>
            </p:nvSpPr>
            <p:spPr>
              <a:xfrm>
                <a:off x="5292720" y="2421000"/>
                <a:ext cx="26640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,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  <m:sup>
                            <m:r>
                              <m:t xml:space="preserve">0,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,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Rectangle 8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85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4"/>
              <p:cNvSpPr txBox="1"/>
              <p:nvPr/>
            </p:nvSpPr>
            <p:spPr>
              <a:xfrm>
                <a:off x="0" y="4521240"/>
                <a:ext cx="453564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Rectangle 88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87"/>
              <p:cNvSpPr txBox="1"/>
              <p:nvPr/>
            </p:nvSpPr>
            <p:spPr>
              <a:xfrm>
                <a:off x="4788000" y="4579920"/>
                <a:ext cx="435600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p>
                                    <m:r>
                                      <m:t xml:space="preserve">0,5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0,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0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00"/>
                </a:solidFill>
                <a:latin typeface="Monotype Corsiva"/>
              </a:rPr>
              <a:t>Домашнее  задание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173400" cy="5040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"/>
          <p:cNvSpPr/>
          <p:nvPr/>
        </p:nvSpPr>
        <p:spPr>
          <a:xfrm>
            <a:off x="402120" y="2421000"/>
            <a:ext cx="35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28 (а, в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11280" y="335772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630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280360" cy="26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Monotype Corsiva"/>
              </a:rPr>
              <a:t>«Люди,  незнакомые  с  алгеброй,  не  могут  представить  себе  тех  удивительных  вещей,  которых  можно  достигнуть…  при  помощи  названной  науки».</a:t>
            </a:r>
            <a:br>
              <a:rPr sz="3600"/>
            </a:br>
            <a:r>
              <a:rPr b="1" i="1" lang="ru-RU" sz="3600" spc="-1" strike="noStrike">
                <a:solidFill>
                  <a:srgbClr val="cc9900"/>
                </a:solidFill>
                <a:latin typeface="Monotype Corsiva"/>
              </a:rPr>
              <a:t>Г.В.Лейбниц</a:t>
            </a: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000" y="3645000"/>
            <a:ext cx="784692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Алгебра  открывает  перед  нами  двери  в  лабораторный  комплек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80606"/>
                </a:solidFill>
                <a:latin typeface="Monotype Corsiva"/>
              </a:rPr>
              <a:t>«СТЕПЕНЬ  С  РАЦИОНАЛЬНЫМ  ПОКАЗАТЕЛЕМ»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r>
              <a:rPr b="1" i="1" lang="ru-RU" sz="4400" spc="-1" strike="noStrike" u="sng">
                <a:solidFill>
                  <a:srgbClr val="b80606"/>
                </a:solidFill>
                <a:uFillTx/>
                <a:latin typeface="Monotype Corsiva"/>
              </a:rPr>
              <a:t>«Основы»</a:t>
            </a:r>
            <a:r>
              <a:rPr b="1" i="1" lang="ru-RU" sz="4400" spc="-1" strike="noStrike" u="sng">
                <a:solidFill>
                  <a:srgbClr val="999900"/>
                </a:solidFill>
                <a:uFillTx/>
                <a:latin typeface="Monotype Corsiva"/>
              </a:rPr>
              <a:t>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7720"/>
                </a:solidFill>
                <a:latin typeface="Monotype Corsiva"/>
              </a:rPr>
              <a:t>Дайте  определение  степени  с  дробным  показател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4031"/>
                </a:solidFill>
                <a:latin typeface="Monotype Corsiva"/>
              </a:rPr>
              <a:t>Для  какого  дробного  показателя  определена  степень  с  основанием  равным  нулю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Monotype Corsiva"/>
              </a:rPr>
              <a:t>Определяется  ли  степень  с  дробным  показателем  для  отрицательного  основания</a:t>
            </a:r>
            <a:r>
              <a:rPr b="1" i="1" lang="ru-RU" sz="3200" spc="-1" strike="noStrike">
                <a:solidFill>
                  <a:srgbClr val="999900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96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1.  Представьте  число  64  в  виде  степени  с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основанием  -2; 2; 8.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2.  Куб  какого  числа  равен  64?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№ 3.  Представьте  число  64  в  виде  степени  с    </a:t>
            </a:r>
            <a:br>
              <a:rPr sz="3600"/>
            </a:b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           рациональным  показателем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1403280" y="4005360"/>
            <a:ext cx="2138400" cy="1849320"/>
          </a:xfrm>
          <a:prstGeom prst="ellipse">
            <a:avLst/>
          </a:prstGeom>
          <a:solidFill>
            <a:srgbClr val="fffff3"/>
          </a:solidFill>
          <a:ln w="507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80606"/>
                </a:solidFill>
                <a:latin typeface="Monotype Corsiva"/>
              </a:rPr>
              <a:t>64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3132000" y="4005360"/>
            <a:ext cx="2232000" cy="576000"/>
          </a:xfrm>
          <a:prstGeom prst="line">
            <a:avLst/>
          </a:prstGeom>
          <a:ln w="414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64000" y="3573360"/>
            <a:ext cx="1800360" cy="62568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940360" y="3645000"/>
            <a:ext cx="7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2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7093080" y="4365720"/>
            <a:ext cx="180000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796000" y="551664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334800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3203640" y="4653000"/>
            <a:ext cx="3816360" cy="2887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9480" y="443700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8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203640" y="5300640"/>
            <a:ext cx="2592360" cy="504720"/>
          </a:xfrm>
          <a:prstGeom prst="line">
            <a:avLst/>
          </a:prstGeom>
          <a:ln w="4140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405480" y="558972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2771640" y="5516640"/>
            <a:ext cx="576360" cy="720720"/>
          </a:xfrm>
          <a:prstGeom prst="line">
            <a:avLst/>
          </a:prstGeom>
          <a:ln w="4140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3441240" y="5950080"/>
            <a:ext cx="17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4096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79280" y="5950080"/>
            <a:ext cx="1800360" cy="625320"/>
          </a:xfrm>
          <a:prstGeom prst="rect">
            <a:avLst/>
          </a:prstGeom>
          <a:solidFill>
            <a:srgbClr val="d2f7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23"/>
          <p:cNvSpPr/>
          <p:nvPr/>
        </p:nvSpPr>
        <p:spPr>
          <a:xfrm flipH="1">
            <a:off x="684000" y="5229360"/>
            <a:ext cx="1223640" cy="720720"/>
          </a:xfrm>
          <a:prstGeom prst="line">
            <a:avLst/>
          </a:prstGeom>
          <a:ln w="414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73960" y="59500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( - 2 ) </a:t>
            </a:r>
            <a:r>
              <a:rPr b="1" i="1" lang="ru-RU" sz="3600" spc="-1" strike="noStrike" baseline="30000">
                <a:solidFill>
                  <a:srgbClr val="06060a"/>
                </a:solidFill>
                <a:latin typeface="Monotype Corsiv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степень  с  дробным  показателем  в  виде  корн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692360" y="1557360"/>
                <a:ext cx="10810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1692360" y="2637000"/>
                <a:ext cx="12207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005360"/>
                <a:ext cx="16002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1835280" y="4437000"/>
                <a:ext cx="14605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1763640" y="5445000"/>
                <a:ext cx="23050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у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 Box 13"/>
          <p:cNvSpPr/>
          <p:nvPr/>
        </p:nvSpPr>
        <p:spPr>
          <a:xfrm>
            <a:off x="1082880" y="198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2916360" y="1773360"/>
                <a:ext cx="934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4" name="Text Box 16"/>
          <p:cNvSpPr/>
          <p:nvPr/>
        </p:nvSpPr>
        <p:spPr>
          <a:xfrm>
            <a:off x="1116000" y="292428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3059280" y="2781360"/>
                <a:ext cx="17269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18"/>
          <p:cNvSpPr/>
          <p:nvPr/>
        </p:nvSpPr>
        <p:spPr>
          <a:xfrm>
            <a:off x="1082880" y="4076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2688480" y="4149720"/>
            <a:ext cx="39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е  имеет  смыс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082880" y="5013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1"/>
              <p:cNvSpPr txBox="1"/>
              <p:nvPr/>
            </p:nvSpPr>
            <p:spPr>
              <a:xfrm>
                <a:off x="3419640" y="4724280"/>
                <a:ext cx="115236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0" name="Text Box 22"/>
          <p:cNvSpPr/>
          <p:nvPr/>
        </p:nvSpPr>
        <p:spPr>
          <a:xfrm>
            <a:off x="1082880" y="5877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f7720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3"/>
              <p:cNvSpPr txBox="1"/>
              <p:nvPr/>
            </p:nvSpPr>
            <p:spPr>
              <a:xfrm>
                <a:off x="4140360" y="5516640"/>
                <a:ext cx="2160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едставьте  в  виде  степени  с  дробным  показателем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95640" y="1916280"/>
                <a:ext cx="1152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2340000" y="2637000"/>
                <a:ext cx="151128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2195640" y="3429000"/>
                <a:ext cx="11808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2195640" y="4724280"/>
                <a:ext cx="1512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268360" y="5589720"/>
                <a:ext cx="23767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у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3"/>
          <p:cNvSpPr/>
          <p:nvPr/>
        </p:nvSpPr>
        <p:spPr>
          <a:xfrm>
            <a:off x="1659240" y="2060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3348000" y="1628640"/>
                <a:ext cx="630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5"/>
          <p:cNvSpPr/>
          <p:nvPr/>
        </p:nvSpPr>
        <p:spPr>
          <a:xfrm>
            <a:off x="165924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3924360" y="2492280"/>
                <a:ext cx="6811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1692360" y="3860640"/>
            <a:ext cx="4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9"/>
              <p:cNvSpPr txBox="1"/>
              <p:nvPr/>
            </p:nvSpPr>
            <p:spPr>
              <a:xfrm>
                <a:off x="3708360" y="3429000"/>
                <a:ext cx="1246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" name="Text Box 20"/>
          <p:cNvSpPr/>
          <p:nvPr/>
        </p:nvSpPr>
        <p:spPr>
          <a:xfrm>
            <a:off x="1659240" y="4869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851280" y="4437000"/>
                <a:ext cx="25210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" name="Text Box 22"/>
          <p:cNvSpPr/>
          <p:nvPr/>
        </p:nvSpPr>
        <p:spPr>
          <a:xfrm>
            <a:off x="1659240" y="58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3"/>
              <p:cNvSpPr txBox="1"/>
              <p:nvPr/>
            </p:nvSpPr>
            <p:spPr>
              <a:xfrm>
                <a:off x="4643280" y="5516640"/>
                <a:ext cx="3888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1,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9" name="Picture 24" descr="CRCTR142"/>
          <p:cNvPicPr/>
          <p:nvPr/>
        </p:nvPicPr>
        <p:blipFill>
          <a:blip r:embed="rId1"/>
          <a:stretch/>
        </p:blipFill>
        <p:spPr>
          <a:xfrm>
            <a:off x="6464160" y="1628640"/>
            <a:ext cx="2679840" cy="3240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999900"/>
                </a:solidFill>
                <a:uFillTx/>
                <a:latin typeface="Monotype Corsiva"/>
              </a:rPr>
              <a:t>Лаборатория  </a:t>
            </a:r>
            <a:br>
              <a:rPr sz="4000"/>
            </a:br>
            <a:r>
              <a:rPr b="1" i="1" lang="ru-RU" sz="4000" spc="-1" strike="noStrike" u="sng">
                <a:solidFill>
                  <a:srgbClr val="b80606"/>
                </a:solidFill>
                <a:uFillTx/>
                <a:latin typeface="Monotype Corsiva"/>
              </a:rPr>
              <a:t>«Действия  над  степенями»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9900"/>
                </a:solidFill>
                <a:uFillTx/>
                <a:latin typeface="Monotype Corsiva"/>
              </a:rPr>
              <a:t>Возьмите  на  заметк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Расстояние  от  Земли  до  туманности  Андромеды  выражается  число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95000000000000000000 = 95 </a:t>
            </a:r>
            <a:r>
              <a:rPr b="1" i="1" lang="el-GR" sz="3200" spc="-1" strike="noStrike">
                <a:solidFill>
                  <a:srgbClr val="06060a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06060a"/>
                </a:solidFill>
                <a:latin typeface="Monotype Corsiva"/>
              </a:rPr>
              <a:t>18</a:t>
            </a: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,  оно  называется 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квинтилли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Масса  Солнца  в  граммах  выражается  числом  1983 </a:t>
            </a:r>
            <a:r>
              <a:rPr b="1" i="1" lang="el-GR" sz="3200" spc="-1" strike="noStrike">
                <a:solidFill>
                  <a:srgbClr val="5544b8"/>
                </a:solidFill>
                <a:latin typeface="Monotype Corsiva"/>
              </a:rPr>
              <a:t>·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 10 </a:t>
            </a:r>
            <a:r>
              <a:rPr b="1" i="1" lang="ru-RU" sz="3200" spc="-1" strike="noStrike" baseline="30000">
                <a:solidFill>
                  <a:srgbClr val="5544b8"/>
                </a:solidFill>
                <a:latin typeface="Monotype Corsiva"/>
              </a:rPr>
              <a:t>30  </a:t>
            </a:r>
            <a:r>
              <a:rPr b="1" i="1" lang="ru-RU" sz="3200" spc="-1" strike="noStrike">
                <a:solidFill>
                  <a:srgbClr val="5544b8"/>
                </a:solidFill>
                <a:latin typeface="Monotype Corsiva"/>
              </a:rPr>
              <a:t>гр. – </a:t>
            </a:r>
            <a:r>
              <a:rPr b="1" i="1" lang="ru-RU" sz="3200" spc="-1" strike="noStrike">
                <a:solidFill>
                  <a:srgbClr val="b80606"/>
                </a:solidFill>
                <a:latin typeface="Monotype Corsiva"/>
              </a:rPr>
              <a:t>нональ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9900"/>
                </a:solidFill>
                <a:latin typeface="Monotype Corsiv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Упростите выражения  и  вычислите  их  значения,  применяя  свойства  степени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5" name="Picture 4" descr="CBIZ098"/>
          <p:cNvPicPr/>
          <p:nvPr/>
        </p:nvPicPr>
        <p:blipFill>
          <a:blip r:embed="rId1"/>
          <a:stretch/>
        </p:blipFill>
        <p:spPr>
          <a:xfrm>
            <a:off x="0" y="2997360"/>
            <a:ext cx="2165400" cy="363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3564000" y="2205000"/>
                <a:ext cx="19540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4"/>
              <p:cNvSpPr txBox="1"/>
              <p:nvPr/>
            </p:nvSpPr>
            <p:spPr>
              <a:xfrm>
                <a:off x="3635280" y="3645000"/>
                <a:ext cx="28418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 Box 6"/>
          <p:cNvSpPr/>
          <p:nvPr/>
        </p:nvSpPr>
        <p:spPr>
          <a:xfrm>
            <a:off x="3026160" y="256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5508720" y="2276640"/>
            <a:ext cx="1214280" cy="1214280"/>
          </a:xfrm>
          <a:prstGeom prst="diamond">
            <a:avLst/>
          </a:prstGeom>
          <a:solidFill>
            <a:srgbClr val="abf7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3026160" y="4005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5867280" y="2276640"/>
                <a:ext cx="4320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AutoShape 18"/>
          <p:cNvSpPr/>
          <p:nvPr/>
        </p:nvSpPr>
        <p:spPr>
          <a:xfrm>
            <a:off x="6443640" y="3716280"/>
            <a:ext cx="1214640" cy="1214640"/>
          </a:xfrm>
          <a:prstGeom prst="diamond">
            <a:avLst/>
          </a:prstGeom>
          <a:solidFill>
            <a:srgbClr val="fae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588000" y="400536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12,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026160" y="5445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00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3635280" y="4954680"/>
                <a:ext cx="3313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AutoShape 23"/>
          <p:cNvSpPr/>
          <p:nvPr/>
        </p:nvSpPr>
        <p:spPr>
          <a:xfrm>
            <a:off x="6948360" y="5157720"/>
            <a:ext cx="1214640" cy="1214640"/>
          </a:xfrm>
          <a:prstGeom prst="diamond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7381440" y="54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60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7640" y="98064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6060a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060a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06060a"/>
                </a:solidFill>
                <a:latin typeface="Monotype Corsiva"/>
              </a:rPr>
              <a:t>Применяя  свойства  степеней сравните  выражения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0" name="Picture 4" descr="PROGR038"/>
          <p:cNvPicPr/>
          <p:nvPr/>
        </p:nvPicPr>
        <p:blipFill>
          <a:blip r:embed="rId1"/>
          <a:stretch/>
        </p:blipFill>
        <p:spPr>
          <a:xfrm>
            <a:off x="179280" y="561960"/>
            <a:ext cx="3327480" cy="3324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4952880" y="2079720"/>
                <a:ext cx="32022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и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1"/>
              <p:cNvSpPr txBox="1"/>
              <p:nvPr/>
            </p:nvSpPr>
            <p:spPr>
              <a:xfrm>
                <a:off x="5029200" y="4040280"/>
                <a:ext cx="2058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8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4178520" y="2924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400560" y="361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178520" y="4365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4968720" y="5477040"/>
                <a:ext cx="2519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и  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7" name="Text Box 15"/>
          <p:cNvSpPr/>
          <p:nvPr/>
        </p:nvSpPr>
        <p:spPr>
          <a:xfrm>
            <a:off x="4178520" y="56610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5aa"/>
                </a:solidFill>
                <a:latin typeface="Monotype Corsiva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5651640" y="429264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6012000" y="2852640"/>
            <a:ext cx="79200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5796000" y="5661000"/>
            <a:ext cx="720720" cy="360360"/>
          </a:xfrm>
          <a:prstGeom prst="rect">
            <a:avLst/>
          </a:prstGeom>
          <a:solidFill>
            <a:srgbClr val="cde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6060a"/>
                </a:solidFill>
                <a:latin typeface="Monotype Corsiv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23:46:37Z</dcterms:created>
  <dc:creator>Марина</dc:creator>
  <dc:description/>
  <dc:language>en-US</dc:language>
  <cp:lastModifiedBy>LEGION</cp:lastModifiedBy>
  <dcterms:modified xsi:type="dcterms:W3CDTF">2015-01-26T12:35:35Z</dcterms:modified>
  <cp:revision>12</cp:revision>
  <dc:subject/>
  <dc:title>Степень с рациональным показателем и ее свойства.</dc:title>
</cp:coreProperties>
</file>