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gif" ContentType="image/gif"/>
  <Override PartName="/ppt/media/image9.png" ContentType="image/png"/>
  <Override PartName="/ppt/media/image6.gif" ContentType="image/gif"/>
  <Override PartName="/ppt/media/image7.gif" ContentType="image/gif"/>
  <Override PartName="/ppt/media/image8.gif" ContentType="image/gif"/>
  <Override PartName="/ppt/media/image11.png" ContentType="image/png"/>
  <Override PartName="/ppt/media/image12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7DE7-F87C-4AFE-A10A-09CAE83B96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«</a:t>
            </a: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Организация процесса самообразования в педагогической деятельности учителя»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alibri"/>
              </a:rPr>
              <a:t>Автор: заместитель директора по методической работе Гаврилова А.В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F1AD7-6B54-41ED-8CE7-5FEFDBF505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5 этап – выбор формы самообразования</a:t>
            </a:r>
            <a:br>
              <a:rPr sz="16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формы самообразования можно условно поделить на две группы: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дивидуальная и группов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 индивидуальной форме инициатором является сам учитель, однако руководители методических и административных структур могут инициировать и стимулировать этот процесс. Групповая форма в виде деятельности методического объединения, семинаров, практикумов, курсов повышения квалификации обеспечивает обратную связь между результатами индивидуального самообразования и самим учите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852CF-2026-4098-B2FB-A1C3ABEB66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6 этап – составление плана самообразования</a:t>
            </a:r>
            <a:br>
              <a:rPr sz="18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сновании выбранной темы учитель разрабатывает личный план работы над поставленной перед собой проблем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 плане указыва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вание тем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агаемый результа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работ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ки выполнения каждого этап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я и мероприятия, проводимые в процессе работы над тем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 демонстрации результата проделанной рабо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 отчета по проделанной рабо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3529A-5B7D-45F9-9B27-9B730160C4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7 этап – определение результата самообразования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ая деятельность предполагает создание некого продукта. Поэтому в личном плане самообразования учителя обязательно должен быть список результатов, которые должны быть достигнуты за определенный ср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имеры результат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качества преподавания предмета (указать показатели, по которым будет определяться эффективность и качество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анные или изданные методические пособия, статьи, учебники, программы, сценарии, исслед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новых форм, методов и приемов обу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лады, выступлени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дидактических материалов, тестов, наглядност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пакета тестового материала в электронном ви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5350E-CCFC-4B3E-AC76-4CF69CA2A8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8 этап – анализ и оценка деятельности в процессе самообразования, подготовка отчет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ми отчетных работ могут бы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бщение опыт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ла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 и анализ отчетной документ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и результатов работ перед педагогическим коллекти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кончании работы над темой каждый учитель должен написать отчет с анализом, выводами и рекомендациями для других учи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9F64E-C0A1-43B4-A2FE-5555D5D500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Источники самообраз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левиден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Газеты, журнал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Литература (методическая, научно-популярная, публицистическая, художественная и др.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Интерне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Видео, аудио информация на различных носителя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Платные курс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Семинары и конферен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Мастер-класс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Мероприятия по обмену опыто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Экскурсии, театры, выставки, музеи, концерт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Курсы повышения квалифика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Путешествия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038F3-9BFC-4536-9BEB-C53B3D8D69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спитание, полученное человеком, закончено, достигло своей цели, когда человек настолько созрел, что обладает силой и волей самого себя образовывать в течение дальнейшей жизни и знает способ и средства, как он это может осуществить в качестве индивидуума, воздействующего на мир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Дистерве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AC13D-E70C-4E46-97A7-B54E34BFD1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словиях реформирования школы, в процессе массового перехода учебных заведений на использование современных технологий обучения и воспитания, способствующих повышению качества образовательного процесса, корректируется работа по совершенствованию профессионального мастерства учител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ршенствование качества обучения в школе напрямую зависит от уровня подготовки педагог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должен включаться в режим развития, одним из компонентов которого является процесс самообраз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BA4BA-3FB2-4603-A23A-9F97BF7E6F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Самообразование учителя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енаправленная познавательная деятельность, управляемая самой личностью, с целью приобретения систематических знаний в области педагог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амообразование учителя есть необходимое условие профессиональной деятельности педаго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57FEE-6AFB-4A9A-9700-F296FC5F77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0000"/>
                </a:solidFill>
                <a:latin typeface="Calibri"/>
              </a:rPr>
              <a:t>Потребности, мотивы, побуждающие учителя к самообразованию :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Ежедневная работа с информацией. Готовясь к уроку, выступлению, родительскому собранию, классному часу, общешкольному мероприятию, олимпиаде и др. у учителя возникает необходимость поиска и анализа новой информации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• Желание творчества. Учитель – профессия творческая. Творческий человек не сможет из года в год работать по одному и тому же пожелтевшему поурочному плану или сценарию, читать одни и те же доклады. Должно появиться желание большего. Работа должна быть интересной и доставлять удовольствие.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• Стремительный рост современной науки. Особенно психологии и педагогики. В эпоху автомобилей негоже пользоваться телегой.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• Изменения, происходящие в жизни общества. Эти изменения в первую очередь отражаются на учениках, формируют их мировоззрение, и соответственно, очень часто, формируют образ учителя как «несовременного человека»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• Конкуренция. Не секрет, что многие родители, приводя ребенка в школу, просятся в класс к конкретному учителю, предметнику или классному руководителю. Если учитель на хорошем счету у администрации, методического совета, отдела народного образования, он имеет больше прав в выборе классов, нагрузки и др.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• Общественное мнение. Учителю не безразлично, считают его «хорошим» или «плохим». Плохим учителем быть обидно.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• Материальное стимулирование. Категория учителя, мнение аттестационной комиссии, премии, надбавки, а может быть даже звания и правительственные награды – все это зависит от квалификации и мастерства учителя. Без постоянного усвоения новых знаний этого не добиться.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• Интерес. Учиться просто интересно. Говорят : «Врачу – исцелися сам!» Как человек, который ежедневно учит, не будет постоянно учиться . Вправе ли он тогда преподавать?</a:t>
            </a:r>
            <a:br>
              <a:rPr sz="1000"/>
            </a:b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5D107-34CF-4385-A67E-C3E4A8C697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1 этап – выбор направления самообразования</a:t>
            </a:r>
            <a:br>
              <a:rPr sz="18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фика педагогической деятельности такова, что для эффективной деятельности учитель должен владеть знанием собственного предмета, методиками его преподавания, психологией и педагогикой, иметь общий высокий уровень культуры, знать приемы риторики, основы мониторинга, обладать большой эрудицией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ями самообразования могут бы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онально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о-педагогическо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о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ческо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о-компьютерные технологи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оровьесбереж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ое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E7974-8C10-4D76-863D-49F7ECA976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2 этап – выбор темы самообразования</a:t>
            </a:r>
            <a:br>
              <a:rPr sz="18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ых вариантов тем огромное количество. Каждый учитель выбирает тему самообразования исходя из своих потребностей и методической 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нтерактивные методики на уроках …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ехнология проектного метода обучения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ехнология развития критического мышления через чтение и письмо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КТ на уроках…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доровьесберегающие технологии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ортфолио учителя и учащихся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нтегрированные уроки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иды контроля за знаниями учащихся, усовершенствование форм и методов контроля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Работа с одаренными детьми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Дифференцированное обучени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8E886-7D70-418B-BE25-2C2C185806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3 этап – формулировка цели и задач самообразования</a:t>
            </a:r>
            <a:br>
              <a:rPr sz="18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ями самообразования могут бы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уровня своей эрудиции, правовой и общей культу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и внедрение новых педагогических технолог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и внедрение новых форм, методов и приемов обу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ршенствование своих знаний в области педагогической псих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ри этом цель должна звучать емко, отражать и уточнять тему самообразования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самообразования – это шаги по достижению цели само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08A0A-E5CD-409B-A990-F1312BC463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4 этап – определение круга источников информации</a:t>
            </a:r>
            <a:br>
              <a:rPr sz="18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итывая, что учитель самостоятельно добывает знания, источниками информации могут бы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левидени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азеты, журнал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литература (методическая, научно-популярная, публицистическая, художественная и др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ы сети Интерне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идео, аудио информация на различных носителя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ные курс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инары и конференци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стер-класс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роприятия по обмену опыто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курсии, театры, выставки, музеи, концер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сы повышения квалификаци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и коллег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44F04-2DF9-4074-A796-17EAC50A3F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94ED-5402-455F-AC26-C6B1E0669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1303-43DD-4F7F-B67B-734110709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6DBF-A17E-4074-9000-B265D617B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1DDF-EB9B-4348-B902-9C0D6152B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0713-D982-4976-B704-DC7726349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C75D-0D1E-4E6B-A6ED-70E62F627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FB9D-1E14-4F51-B427-288AB042F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DD24-1AC0-4EF8-B9AE-DCF6A0E02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E0E1-91DC-443C-88BE-4BCC65531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13E2-FDA9-4E28-B776-47E01A75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8E4D-A68E-414D-8236-956A2EC6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809B-B8FE-429A-AB5F-BA93E7B9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05B42-B6EC-4195-ADAF-109F19DE18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142640"/>
            <a:ext cx="7772400" cy="34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«</a:t>
            </a: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Организация процесса самообразования в педагогической деятельности учителя»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56760" y="5143320"/>
            <a:ext cx="835812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тор: заместитель директора по методической работе Гаврилова А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47224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5 этап – выбор формы самообразования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формы самообразования можно условно поделить на две группы: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ндивидуальная и группов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 индивидуальной форме инициатором является сам учитель, однако руководители методических и административных структур могут инициировать и стимулировать этот процесс. Групповая форма в виде деятельности методического объединения, семинаров, практикумов, курсов повышения квалификации обеспечивает обратную связь между результатами индивидуального самообразования и самим учител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7572240" y="5429160"/>
            <a:ext cx="981360" cy="83844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3296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6 этап – составление плана самообразования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основании выбранной темы учитель разрабатывает личный план работы над поставленной перед собой проблем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плане указыва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вание тем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ч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полагаемый результа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апы работ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оки выполнения каждого этап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йствия и мероприятия, проводимые в процессе работы над тем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 демонстрации результата проделанной рабо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а отчета по проделанной рабо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7858080" y="5500800"/>
            <a:ext cx="819360" cy="75240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7 этап – определение результата самообразовани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85840" y="928800"/>
            <a:ext cx="847224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бая деятельность предполагает создание некого продукта. Поэтому в личном плане самообразования учителя обязательно должен быть список результатов, которые должны быть достигнуты за определенный сро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меры результат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ышение качества преподавания предмета (указать показатели, по которым будет определяться эффективность и качество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анные или изданные методические пособия, статьи, учебники, программы, сценарии, исслед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ка новых форм, методов и приемов обуч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лады, выступлен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ка дидактических материалов, тестов, нагляднос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ка пакета тестового материала в электронном ви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8001000" y="5643720"/>
            <a:ext cx="890640" cy="91908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8 этап – анализ и оценка деятельности в процессе самообразования, подготовка отчет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13840" y="160020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ами отчетных работ могут бы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бщение опы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ла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бор и анализ отчетной документ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зентации результатов работ перед педагогическим коллекти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окончании работы над темой каждый учитель должен написать отчет с анализом, выводами и рекомендациями для других уч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7500960" y="5500800"/>
            <a:ext cx="1238400" cy="92376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2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Источники самообраз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левидени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Газеты, журнал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Литература (методическая, научно-популярная, публицистическая, художественная и др.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Интерне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Видео, аудио информация на различных носителях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Платные курс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Семинары и конференци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Мастер-класс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Мероприятия по обмену опытом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Экскурсии, театры, выставки, музеи, концерт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Курсы повышения квалификаци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Путешествия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57120" y="1071360"/>
            <a:ext cx="850104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Воспитание, полученное человеком, закончено, достигло своей цели, когда человек настолько созрел, что обладает силой и волей самого себя образовывать в течение дальнейшей жизни и знает способ и средства, как он это может осуществить в качестве индивидуума, воздействующего на мир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. Дистерве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2571840" y="4429080"/>
            <a:ext cx="2714400" cy="192888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условиях реформирования школы, в процессе массового перехода учебных заведений на использование современных технологий обучения и воспитания, способствующих повышению качества образовательного процесса, корректируется работа по совершенствованию профессионального мастерства учител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ершенствование качества обучения в школе напрямую зависит от уровня подготовки педагог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должен включаться в режим развития, одним из компонентов которого является процесс самообраз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C:\Documents and Settings\Администратор\Мои документы\Мои рисунки\картинки\CLIPART\image023.gif"/>
          <p:cNvPicPr/>
          <p:nvPr/>
        </p:nvPicPr>
        <p:blipFill>
          <a:blip r:embed="rId1"/>
          <a:stretch/>
        </p:blipFill>
        <p:spPr>
          <a:xfrm>
            <a:off x="8001000" y="214200"/>
            <a:ext cx="719280" cy="71460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Самообразование учител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енаправленная познавательная деятельность, управляемая самой личностью, с целью приобретения систематических знаний в области педагог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амообразование учителя есть необходимое условие профессиональной деятельности педаго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5" descr="C:\Documents and Settings\Чупров Леонид\Мои документы\А. наглядность\Анимации исторические\MAN50.gif"/>
          <p:cNvPicPr/>
          <p:nvPr/>
        </p:nvPicPr>
        <p:blipFill>
          <a:blip r:embed="rId1"/>
          <a:stretch/>
        </p:blipFill>
        <p:spPr>
          <a:xfrm>
            <a:off x="7572240" y="5072040"/>
            <a:ext cx="965160" cy="11430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отребности, мотивы, побуждающие учителя к самообразованию 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жедневная работа с информацией. Готовясь к уроку, выступлению, родительскому собранию, классному часу, общешкольному мероприятию, олимпиаде и др. у учителя возникает необходимость поиска и анализа новой информации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• Желание творчества. Учитель – профессия творческая. Творческий человек не сможет из года в год работать по одному и тому же пожелтевшему поурочному плану или сценарию, читать одни и те же доклады. Должно появиться желание большего. Работа должна быть интересной и доставлять удовольствие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• Стремительный рост современной науки. Особенно психологии и педагогики. В эпоху автомобилей негоже пользоваться телегой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• Изменения, происходящие в жизни общества. Эти изменения в первую очередь отражаются на учениках, формируют их мировоззрение, и соответственно, очень часто, формируют образ учителя как «несовременного человека»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• Конкуренция. Не секрет, что многие родители, приводя ребенка в школу, просятся в класс к конкретному учителю, предметнику или классному руководителю. Если учитель на хорошем счету у администрации, методического совета, отдела народного образования, он имеет больше прав в выборе классов, нагрузки и др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• Общественное мнение. Учителю не безразлично, считают его «хорошим» или «плохим». Плохим учителем быть обидно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• Материальное стимулирование. Категория учителя, мнение аттестационной комиссии, премии, надбавки, а может быть даже звания и правительственные награды – все это зависит от квалификации и мастерства учителя. Без постоянного усвоения новых знаний этого не добиться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• Интерес. Учиться просто интересно. Говорят : «Врачу – исцелися сам!» Как человек, который ежедневно учит, не будет постоянно учиться . Вправе ли он тогда преподавать?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57120" y="274680"/>
            <a:ext cx="832968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1 этап – выбор направления самообразования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5840" y="1197000"/>
            <a:ext cx="861048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ецифика педагогической деятельности такова, что для эффективной деятельности учитель должен владеть знанием собственного предмета, методиками его преподавания, психологией и педагогикой, иметь общий высокий уровень культуры, знать приемы риторики, основы мониторинга, обладать большой эрудицией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авлениями самообразования могут бы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фессионально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сихолого-педагогическо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сихологическо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тодическо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ормационно-компьютерные технолог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доровьесбереж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овое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C:\Documents and Settings\Администратор\Мои документы\Мои рисунки\картинки\CLIPART\ресурсы\Анимированные рисунки\Люди\Работа, профессии\business_laptop.gif"/>
          <p:cNvPicPr/>
          <p:nvPr/>
        </p:nvPicPr>
        <p:blipFill>
          <a:blip r:embed="rId1"/>
          <a:stretch/>
        </p:blipFill>
        <p:spPr>
          <a:xfrm>
            <a:off x="7858080" y="5357880"/>
            <a:ext cx="857160" cy="73332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9680" y="213840"/>
            <a:ext cx="818676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2 этап – выбор темы самообразования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47260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можных вариантов тем огромное количество. Каждый учитель выбирает тему самообразования исходя из своих потребностей и методической 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Интерактивные методики на уроках …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Технология проектного метода обучения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Технология развития критического мышления через чтение и письмо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ИКТ на уроках…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Здоровьесберегающие технологии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Портфолио учителя и учащихся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Интегрированные уроки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Виды контроля за знаниями учащихся, усовершенствование форм и методов контроля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Работа с одаренными детьми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Дифференцированное обучение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C:\Documents and Settings\Администратор\Мои документы\Мои рисунки\картинки\CLIPART\ресурсы\Анимированные рисунки\Люди\Работа, профессии\image127.gif"/>
          <p:cNvPicPr/>
          <p:nvPr/>
        </p:nvPicPr>
        <p:blipFill>
          <a:blip r:embed="rId1"/>
          <a:stretch/>
        </p:blipFill>
        <p:spPr>
          <a:xfrm>
            <a:off x="7786800" y="5500800"/>
            <a:ext cx="928440" cy="84276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85816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3 этап – формулировка цели и задач самообразования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ями самообразования могут бы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ышение уровня своей эрудиции, правовой и общей культу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учение и внедрение новых педагогических технолог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учение и внедрение новых форм, методов и приемов обуч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ершенствование своих знаний в области педагогической псих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этом цель должна звучать емко, отражать и уточнять тему самообраз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чи самообразования – это шаги по достижению цели самообра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C:\Documents and Settings\Администратор\Мои документы\Мои рисунки\картинки\CLIPART\ресурсы\Анимированные рисунки\Люди\За компьютером\computador05.gif"/>
          <p:cNvPicPr/>
          <p:nvPr/>
        </p:nvPicPr>
        <p:blipFill>
          <a:blip r:embed="rId1"/>
          <a:stretch/>
        </p:blipFill>
        <p:spPr>
          <a:xfrm>
            <a:off x="7715160" y="5286240"/>
            <a:ext cx="1176480" cy="95724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3840" y="285480"/>
            <a:ext cx="8472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4 этап – определение круга источников информации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14200" y="1197000"/>
            <a:ext cx="8715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ывая, что учитель самостоятельно добывает знания, источниками информации могут бы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евид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азеты, журнал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литература (методическая, научно-популярная, публицистическая, художественная и др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риалы сети Интерне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идео, аудио информация на различных носителя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атные курс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минары и конференц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стер-класс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роприятия по обмену опыт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курсии, театры, выставки, музеи, концер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урсы повышения квалификац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оки коллег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7786800" y="5143680"/>
            <a:ext cx="804600" cy="112860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6T15:05:10Z</dcterms:created>
  <dc:creator>Speed_XP</dc:creator>
  <dc:description/>
  <dc:language>en-US</dc:language>
  <cp:lastModifiedBy>LEGION</cp:lastModifiedBy>
  <dcterms:modified xsi:type="dcterms:W3CDTF">2015-01-26T13:55:29Z</dcterms:modified>
  <cp:revision>16</cp:revision>
  <dc:subject/>
  <dc:title> «Организация процесса самообразования в педагогической деятельности учителя»  </dc:title>
</cp:coreProperties>
</file>