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36C7-4CC9-4D0C-8045-B87057773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Организация процесса самообразования в педагогической деятельности учителя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Автор: заместитель директора по методической работе Гаврилова А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C805-831B-4F9A-8042-656E8F1FC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5 этап – выбор формы самообразования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самообразования можно условно поделить на две группы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5B04-E652-4C0E-84E5-6F56F54289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этап – составление плана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лане указы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т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выполнения каждого этап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и мероприятия, проводимые в процессе работы над 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емонстрации результат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тчета п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1DDD-39F6-471A-A399-BBC8CFA0E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7 этап – определение результата самообразов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ы результа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, выступл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дидактических материалов, тестов, нагляд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акета тестового материала в электро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E7C-069D-4A87-97E9-9008BA343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8 этап – анализ и оценка деятельности в процессе самообразования, подготовка отче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ми отчетных работ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отчетной докум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и результатов работ перед педагогическ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1D8E-42A1-4768-9815-DA4F48928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и само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Газеты, журнал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Литература (методическая, научно-популярная, публицистическая, художественная и др.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Интерн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Видео, аудио информация на различных носителя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латные кур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Семинары и конферен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астер-клас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ероприятия по обмену опы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Экскурсии, театры, выставки, музеи, концер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рсы повышения квалифик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утешеств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D249-F494-449A-92EA-6839142B7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E943-402A-4D82-92F2-D11D77698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BB33-13B6-48BD-8DD6-63C616D1D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амообразование учите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49A0-9A1A-49CB-8EE5-58E9B6CEE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отребности, мотивы, побуждающие учителя к самообразованию 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6C26-2AAF-49CE-B4F9-77A558466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 этап – выбор направления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-компьютер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0927-3FBB-4182-BC7A-E3F433931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этап – выбор темы самообразования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активные методики на уроках 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проектного метода обуч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развития критического мышления через чтение и письм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КТ на уроках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доровьесберегающие технолог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ртфолио учителя и учащих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грированные уро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ды контроля за знаниями учащихся, усовершенствование форм и методов контрол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бота с одаренными детьм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фференцированное 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CDA3-61BA-4D34-8F72-93E2358DD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 этап – формулировка цели и задач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своей эрудиции, правовой и обще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педагогиче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своих знаний в области педагогическ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цель должна звучать емко, отражать и уточнять тему самообраз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самообразования – это шаги по достижению цели сам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D010-0A62-4DD3-99D4-AED622E52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4 этап – определение круга источников информации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еты, журнал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тература (методическая, научно-популярная, публицистическая, художественная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сети Интерн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ео, аудио информация на различных нос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е кур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 и конферен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о обмену опыто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, театры, выставки, музеи, конце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колле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97D9-0EFF-4920-B82C-9A24B2DCD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F61-3663-4176-A7FB-8D9276EF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038-E211-47DF-9729-DFCD8A93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B08-A4A5-4710-B223-1D9842D2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4E4-9980-4060-8F71-A5FE97E2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946-0E09-4976-987B-42076A7E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CB5-A411-452D-9A44-4B323C1E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EA7-C33A-42A6-91C1-B185068F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DD3-3E6D-4E04-9B5B-3FD60FB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959-2D79-4E96-A8EC-5D40E9A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8CE-678A-4BB6-8D23-3E3B837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BEA-C978-436D-9B9E-2B1B25C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C3B-F55A-4E47-9337-15145A9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D361-4A2C-4435-94E5-1C39E2B80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рганизация процесса самообразования в педагогической деятельности учителя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заместитель директора по методической работе Гаврил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 этап – выбор формы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ормы самообразования можно условно поделить на две группы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72240" y="542916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этап – составление плана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ане указ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858080" y="5500800"/>
            <a:ext cx="81936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 этап – определение результата само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928800"/>
            <a:ext cx="8472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ы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, высту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дидактических материалов, тестов, нагля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акета тестового материала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001000" y="5643720"/>
            <a:ext cx="89064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 этап – анализ и оценка деятельности в процессе самообразования, подготовка отч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отчетных работ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оп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отче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00960" y="550080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точник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Газеты, журн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Литература (методическая, научно-популярная, публицистическая, художественная и др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нтерн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идео, аудио информация на различных носител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латные 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еминары и конферен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астер-клас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ероприятия по обмену опы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кскурсии, театры, выставки, музеи, концер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утеше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571840" y="4429080"/>
            <a:ext cx="27144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Администратор\Мои документы\Мои рисунки\картинки\CLIPART\image023.gif"/>
          <p:cNvPicPr/>
          <p:nvPr/>
        </p:nvPicPr>
        <p:blipFill>
          <a:blip r:embed="rId1"/>
          <a:stretch/>
        </p:blipFill>
        <p:spPr>
          <a:xfrm>
            <a:off x="8001000" y="214200"/>
            <a:ext cx="719280" cy="714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амообразование уч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требности, мотивы, побуждающие учителя к самообразованию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этап – выбор направления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197000"/>
            <a:ext cx="86104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о-педаг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компьютерные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Администратор\Мои документы\Мои рисунки\картинки\CLIPART\ресурсы\Анимированные рисунки\Люди\Работа, профессии\business_laptop.gif"/>
          <p:cNvPicPr/>
          <p:nvPr/>
        </p:nvPicPr>
        <p:blipFill>
          <a:blip r:embed="rId1"/>
          <a:stretch/>
        </p:blipFill>
        <p:spPr>
          <a:xfrm>
            <a:off x="7858080" y="5357880"/>
            <a:ext cx="857160" cy="7333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этап – выбор темы самообразования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72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активные методики на уроках 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проектного метода обуч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через чтение и письм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КТ на уроках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учителя и учащихс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грированные уро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иды контроля за знаниями учащихся, усовершенствование форм и методов контрол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та с одаренными деть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фференцированное обуч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 этап – формулировка цели и задач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ровня своей эрудиции, правовой и обще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своих знаний в области педагогическ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цель должна звучать емко, отражать и уточнять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самообразования – это шаги по достижению цели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715160" y="5286240"/>
            <a:ext cx="1176480" cy="9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 этап – определение круга источников информ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зеты, журн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ература (методическая, научно-популярная, публицистическая, художественна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сети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ео, аудио информация на различных носит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ные кур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 и 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о обмену опы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, театры, выставки, музеи, конце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и колле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786800" y="5143680"/>
            <a:ext cx="804600" cy="11286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LEGION</cp:lastModifiedBy>
  <dcterms:modified xsi:type="dcterms:W3CDTF">2015-01-26T13:55:29Z</dcterms:modified>
  <cp:revision>16</cp:revision>
  <dc:subject/>
  <dc:title> «Организация процесса самообразования в педагогической деятельности учителя»  </dc:title>
</cp:coreProperties>
</file>