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57DD-9213-45C6-9110-7358617D9D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ВЫПОЛНЕНИЯ ЗАДАНИЙ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ДЛЯ ФОРМИРОВАНИЯ И РАЗВИТИЯ УЧЕБНЫХ УМЕНИЙ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1BB8-0DD5-4FEB-BB7D-6F3F906BBE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EA4E-8C3F-4D8C-AF66-516E7C858C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эс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% к общему объему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(актуализация заявленной темы эс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формулировка те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содержащий заключительное суждение (умозаключ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8D3-EFA0-4E3A-B6F8-710C631A2B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  Работа с источник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DF9-B929-4D89-BC59-EE69F84F22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 Как составить рассказ об исторической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7B8C-6453-4CD0-AD15-AACE6BEC24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D6E-1864-4E3D-950B-1795F74608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Как нужно запоминать определения терминов и закономерност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A1A8-0C1A-4C4A-9500-C1473F515B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Как составить план текст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D860-6286-4D0E-B2DC-CD43C646F6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Как составить конспек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EC78-0CAD-4584-9C02-04AD519173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Как составить схем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DE87-64BD-4402-A2DB-A1CDEB3EB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. Как заполнить таблиц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D368-28DC-4C11-9280-AB1A247F0B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. Как составить аннотаци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D92D-E206-4D39-8C33-A935EF470B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Как составить рефера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BF47-003D-45B1-82DB-1C109BFA44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Как написать домашнее эсс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66A5-214B-4CF6-8227-90B22F4569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686-3ED4-4964-A8BC-9B37640B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F2E-0C43-43F0-B156-D6715098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D38-0120-4EFB-B335-F18697EF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DA9-87A3-4463-9B77-0D4E2F74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D8E4-AD90-4789-80BA-15669395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E217-D9D1-496D-A94F-7BE4246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DAEA-E613-4DED-BCF9-3AE0D1E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BD44-685A-41EF-81B9-2464332A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AE64-A69B-4D3D-A677-7F40DD15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7D4D-F1D1-4BEA-8F00-AE8EC602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F30F-BB62-4ACA-B3D9-CCA984EE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7D1-552F-4892-86E1-F101DF0E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4F05-7AE1-4E93-BB46-08DA79B2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0347-44A7-4D03-8770-7BF062AF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2855-48E6-4195-8DD0-CFA68BDE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B402-94AB-4E30-AE48-1BD83E59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6CF8-3F97-45C4-8227-267B4FEC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919-420A-44E7-82F6-46BF09D3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9F4-4FBF-48D3-94CF-178D244A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223-3022-4B49-BECD-5126DFD7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8F9-C0CF-4181-B827-823F433A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6A3-157B-40A8-BC27-4342115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4AE-5963-4200-9CCC-CE1A167C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E34-FD58-4E7F-B817-31145E16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6AE2-2918-4F28-86A7-BD9FEB973C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C76F-5484-4320-9891-E31EFAB2D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8D47-7D6B-48CD-A7FF-F56197A59D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840A-8529-40D7-8F76-49940B082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85880" y="1316160"/>
            <a:ext cx="7499160" cy="232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86080" y="3886200"/>
            <a:ext cx="4486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42960" y="1357200"/>
          <a:ext cx="8229600" cy="3840120"/>
        </p:xfrm>
        <a:graphic>
          <a:graphicData uri="http://schemas.openxmlformats.org/drawingml/2006/table">
            <a:tbl>
              <a:tblPr/>
              <a:tblGrid>
                <a:gridCol w="5686560"/>
                <a:gridCol w="25430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емент струк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к общему объему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(актуализация заявленной темы эсс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з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формулировка тез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вод, содержащий заключительное суждение (умозаключ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07880" y="79200"/>
            <a:ext cx="8467920" cy="168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85920" y="5643360"/>
            <a:ext cx="70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42960" y="1428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Е. Вяземский, О.Ю. Стрелова Методические рекомендации учителю истории. Основы профессионального мастерства. М.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221472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 на уроках истории и обществозн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ytva.taba.ru/NP_konferenciya_2012/Sekciya_3/534786_Formirovanie_universalnyh_uchebnyh_deystviy_na_urokah_istorii_i_obschestvoznaniy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17520" y="79200"/>
            <a:ext cx="8515440" cy="1341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41280" y="23760"/>
            <a:ext cx="8406000" cy="133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1424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17:33Z</dcterms:created>
  <dc:creator>Comp</dc:creator>
  <dc:description/>
  <dc:language>en-US</dc:language>
  <cp:lastModifiedBy>LEGION</cp:lastModifiedBy>
  <dcterms:modified xsi:type="dcterms:W3CDTF">2015-01-26T13:58:38Z</dcterms:modified>
  <cp:revision>12</cp:revision>
  <dc:subject/>
  <dc:title>Слайд 1</dc:title>
</cp:coreProperties>
</file>