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D028-3DCD-4555-8BBB-331AD45B79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ВЫПОЛНЕНИЯ ЗАДАНИЙ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ДЛЯ ФОРМИРОВАНИЯ И РАЗВИТИЯ УЧЕБНЫХ УМЕНИЙ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D4B-2F78-418E-B64B-10FCBD5712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4CB8-81B2-4973-96F0-A46833ADF3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эс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% к общему объему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(актуализация заявленной темы эс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формулировка те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содержащий заключительное суждение (умозаключ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85A1-FBD2-4CF6-AA19-1FC87E82EF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  Работа с источник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9DC4-0808-4BD6-9D0C-67ADF375E8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 Как составить рассказ об исторической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5420-9166-4E47-8027-417242A50E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FD45-C73C-4501-99A7-27B6615D8E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Как нужно запоминать определения терминов и закономерност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AD04-CE41-4AF6-943F-F67360D7A8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Как составить план текст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7B82-E2E0-4BD8-A195-07B448D6E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Как составить конспек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435E-2398-4ADC-85B9-AE00CEEED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Как составить схем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D9F2-C459-4CDF-9206-35857790E2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. Как заполнить таблиц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5F8-AD37-4456-BBD7-2ADF4AD4CF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. Как составить аннотаци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6475-F942-46DF-AD03-C47FA246F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Как составить рефера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9484-C6D7-4EE8-B444-46FEB94DE3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Как написать домашнее эсс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E0E3-6E48-41A5-9AE3-6A44964DD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267-5C52-4ACE-86D9-EAFFE87D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B03-C568-4E86-A373-C42C0B36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EA3-8A0C-48B7-8492-29753C18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FAE-A159-48E1-A0AF-BBB8E917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7AA3-31CF-49BF-9DCA-E4707DD8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EEAC-D5F3-42B8-A880-C463A768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68D0-8BAA-41D4-96D2-0A39A438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F28D-4422-4F03-BE1A-975352F4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89DE-E971-45BA-BF8C-A980CAEC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B11A-7D4F-4347-853D-5434EE73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F3CF-F071-4ABA-BA66-05175026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C9C-8BEB-4DEE-A774-47C1EDBE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09A0-F7F4-4F19-8594-127F1BA9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0EC3-D3C8-418B-9C3A-7B02AA8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0483-9B82-478E-A703-79C6034B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5D64-8B50-4C4D-9973-1EBFE1E2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6096-D4C6-4B59-9736-6101B016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77F-26A1-42F0-9E33-8CC671DF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BC5-6537-49AA-AFF0-85D03D9F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3DA-DBB4-4C19-ACAA-CF23A889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277-4FA0-4485-9C62-B30C4EB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5F7-82EC-4A24-8E96-A892A500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5F4-B381-4A14-B1E8-2785422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FB2-389B-4CB3-B3C5-EAF717ED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076F-5B7C-4A41-9C16-8F15A247CA8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0F94-FCE4-4E24-AF21-6E2820EF7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8D0B-9F35-419D-8A3B-51175A4ADC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DA20-69CA-44EF-8A7B-228BF21E4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85880" y="1316160"/>
            <a:ext cx="7499160" cy="232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86080" y="3886200"/>
            <a:ext cx="4486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42960" y="1357200"/>
          <a:ext cx="8229600" cy="3840120"/>
        </p:xfrm>
        <a:graphic>
          <a:graphicData uri="http://schemas.openxmlformats.org/drawingml/2006/table">
            <a:tbl>
              <a:tblPr/>
              <a:tblGrid>
                <a:gridCol w="5686560"/>
                <a:gridCol w="25430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емент струк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к общему объему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(актуализация заявленной темы эсс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з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формулировка тез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вод, содержащий заключительное суждение (умозаключ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07880" y="79200"/>
            <a:ext cx="8467920" cy="168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85920" y="5643360"/>
            <a:ext cx="70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42960" y="1428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Е. Вяземский, О.Ю. Стрелова Методические рекомендации учителю истории. Основы профессионального мастерства. М.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221472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 на уроках истории и обществозн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ytva.taba.ru/NP_konferenciya_2012/Sekciya_3/534786_Formirovanie_universalnyh_uchebnyh_deystviy_na_urokah_istorii_i_obschestvoznaniy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17520" y="79200"/>
            <a:ext cx="8515440" cy="1341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41280" y="23760"/>
            <a:ext cx="8406000" cy="133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1424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17:33Z</dcterms:created>
  <dc:creator>Comp</dc:creator>
  <dc:description/>
  <dc:language>en-US</dc:language>
  <cp:lastModifiedBy>LEGION</cp:lastModifiedBy>
  <dcterms:modified xsi:type="dcterms:W3CDTF">2015-01-26T13:58:38Z</dcterms:modified>
  <cp:revision>12</cp:revision>
  <dc:subject/>
  <dc:title>Слайд 1</dc:title>
</cp:coreProperties>
</file>