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777C-2F75-4A4F-BE8E-0CC300F675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ВЫПОЛНЕНИЯ ЗАДАНИЙ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ДЛЯ ФОРМИРОВАНИЯ И РАЗВИТИЯ УЧЕБНЫХ УМЕНИЙ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9D44-5FA1-4E71-BE4B-DD9634A8DA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C93-3C77-4B61-91F6-14A356FF8A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эс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% к общему объему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(актуализация заявленной темы эс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формулировка те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содержащий заключительное суждение (умозаключ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522-F5A1-4025-9EEB-FB43967404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  Работа с источ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00E5-A12E-4648-AC0B-6232823F2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Как составить рассказ об истори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A0F1-E0D8-4138-8000-586A8BEA16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646D-DC16-4B01-811D-C3BE4DF92F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ак нужно запоминать определения терминов и закономерност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6478-FD5B-4A68-9C1B-FC74BD21E8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Как составить план текст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BC4E-6EB9-4484-8C2D-C9CD2EFF5D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Как составить конспек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430E-EFCA-4874-8458-26FC6DC79A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Как составить схем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E918-FFCB-4505-9CEB-5F5BB0BE7E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. Как заполнить таблиц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360B-91EA-4940-BA00-0C5CE9B89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. Как составить аннотац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0CF3-A47C-4DBD-A060-CB5D83DF2F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Как составить рефер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1D49-E672-496B-BA02-94A7FF43A2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Как написать домашнее э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9AB8-6D3D-4FF5-AD07-3D8D99A0A0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820-329C-466F-854F-FD061452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8D8-8BC9-4A64-886B-CB15C8B7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06E-49D9-4B5B-ABDE-1A73660D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F96-1D60-4525-AB7F-C3935A85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F943-5E83-46E0-AB81-87160647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38C8-6755-4412-83D9-8EA7A822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1B6D-9F1A-4905-B774-301594FD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8DE7-E761-4B8D-9981-DE530BB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1DD4-2F9E-4E2C-BBC6-97AE2949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34A5-F021-4DFF-BA5A-CBF9B11A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C9AA-E2BF-4C2A-9563-3EB6F89D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975-2CC9-4BDB-A010-D82FE4BA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D75B-3688-41CD-A908-7E33F04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F33B-0D87-4910-95B1-7D41AB9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F779-F982-4F2A-A8AF-80D6A2C9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05BC-62C0-482E-8695-87C9B7B9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9CBB-5073-4F37-B4AB-2AD24983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F90-F264-4D00-9258-7205251F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9FF-03A5-468F-A856-ECFE78F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F8D-631B-4027-9D97-7413ABB9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02D-6ED4-48E4-9E5A-86EA56C0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0B4-7DED-4116-8735-2626F91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776-36C2-4732-967C-D569734F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111-ABE8-491A-82AA-8EB5D7C1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305A-AAC5-4B71-BA19-C5EBF37645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6CCE-FEDE-4D83-964C-B579F966E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C8AF-014C-4127-BBE1-76F78EC83A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6D40-63A1-49A9-A65E-59F7ED11B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5880" y="1316160"/>
            <a:ext cx="749916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86080" y="3886200"/>
            <a:ext cx="4486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42960" y="1357200"/>
          <a:ext cx="8229600" cy="3840120"/>
        </p:xfrm>
        <a:graphic>
          <a:graphicData uri="http://schemas.openxmlformats.org/drawingml/2006/table">
            <a:tbl>
              <a:tblPr/>
              <a:tblGrid>
                <a:gridCol w="5686560"/>
                <a:gridCol w="254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емент струк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общему объему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(актуализация заявленной темы эсс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формулировка тез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, содержащий заключительное суждение (умозаклю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07880" y="79200"/>
            <a:ext cx="8467920" cy="168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85920" y="5643360"/>
            <a:ext cx="70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2960" y="1428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Е. Вяземский, О.Ю. Стрелова Методические рекомендации учителю истории. Основы профессионального мастерства. М.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221472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 на уроках истории и обществозн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ytva.taba.ru/NP_konferenciya_2012/Sekciya_3/534786_Formirovanie_universalnyh_uchebnyh_deystviy_na_urokah_istorii_i_obschestvoznaniy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515440" cy="134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406000" cy="13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1424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LEGION</cp:lastModifiedBy>
  <dcterms:modified xsi:type="dcterms:W3CDTF">2015-01-26T13:58:38Z</dcterms:modified>
  <cp:revision>12</cp:revision>
  <dc:subject/>
  <dc:title>Слайд 1</dc:title>
</cp:coreProperties>
</file>