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6281-7B60-4561-A8F6-06F8901707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3BED-47FF-47C6-BB90-B1A2628AF39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сти́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долгосрочные вложения капитала с целью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являются неотъемлемой составной частью современной экономики. От кредитов инвестиции отличаются степенью риска для инвестора (кредитора) — кредит и проценты необходимо возвращать в оговоренные сроки независимо от прибыльности проекта, инвестиции возвращаются и приносят доход только в прибыльных проектах. Если проект убыточен — инвестиции могут быть утрач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B218-DC9C-4C99-BB3C-AE3A9F0EA25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инвест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т разные классификации инвести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 объекту инвестирования выделяю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альн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рямая покупка реального капитала в различных формах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орме материальных активов (основных фондов, земли), оплата строительства или реконструк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питальный ремонт основных фонд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ожения в нематериальные активы: патенты, лицензии, права пользования, авторские права, товарные знаки, ноу-хау, человеческий капитал (воспитание, образование, наука) и т. д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3E28-2E1F-4B15-BCF2-E561A9E5BB4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ассификация инвестиций (по объекту инвестирован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нансов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косвенная покупка капитала через финансовые активы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ные бума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ные креди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зинг (для лизингодателя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кулятивн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окупка активов исключительно ради возможного изменения цены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ю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агоценные металлы (в виде обезличенных металлических счетов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ные бумаги (акции, облигации, сертификаты институтов совместного инвестирования и т.п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4067-72EA-4B91-9B7F-0FF72A546EB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инвест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основным целям инвестир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ямые инвестиции (вложение денежных средств с целью участия в управлении предприятие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тфельные инвестиции (инвестиции в ценные бумаги, формируемые в виде портфеля ценных бума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срокам влож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осрочные (до одного год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есрочные (1-3 год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госрочные (свыше 3-5 лет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форме собственности на инвестиционные 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остра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еша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E137-672B-413C-8EA1-491741C815F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я или спекуля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ь между инвестицией и спекуляцией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чение дохода за счёт разницы между ценами покупки и продаж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размыта. Обычно критерием разграничения указывают фактор времени. Если операция длится более года — это инвестиция, и экономический эффект она даст через значительный срок после вложения. Если до года — это спекуля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E6BC-31F2-4F3B-98D4-AF2192ED37D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вестирование, сбережение, потребл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зиции монетарной теории денег, средства можно направить на потребление или сбережение. Простое сбережение изымает средства из оборота и создаёт предпосылки для кризисов. Инвестирование вовлекает сбережения в оборот. Оно может происходить напрямую или косвенно (размещение временно свободных средств на депозит в банк, который уже сам инвестиру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EF90-A339-4AA5-94BD-59FB5473CA9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читается, что для привлечения инвестиций предприятие долж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ть хорошо отработанный и перспективный план деятельности на будущее. Инвесторы хотят знать, что их вклады принесут в дальнейшем прибыл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ть хорошую репутацию в обществе. Инвестируя в теневое предприятие, инвесторы рискуют остаться без прибыли, поэтому выбирают только те предприятия, которые вызывают довер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сти открытую, то есть прозрачную деятельность. Для этого необходимы бухгалтерская отчётность и работа со С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е зависит от внутренней политики, проводимой в той стране, в которой находится предприятие. Для вкладов инвесторы выбирают наиболее стабильные стра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FA01-E606-459D-9849-D9F653F52F8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характеризуются, среди прочего, двумя взаимосвязанным параметрами: риском и прибыльностью (доходностью). Как правило, чем выше риск инвестиций, тем выше должна быть их ожидаемая доход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инвестиционного риска показывает вероятность потери инвестиций и дохода от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общего, интегрального риска складывается из семи видов риска: законодательного, политического, социального, экономического, финансового, криминального, экологичес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редний риск страны принимается за единицу, а реальные показатели регионов могут откло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4101-C5F5-4604-A334-B96E4F21926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90F-6F1A-4F9C-BA8B-C9E401D1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20E-9BD6-4FCD-A9F8-7F52854F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F06-3F85-4233-B1CC-D4B1C3F6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BB2E-196C-4001-9A63-FDF56D61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4674-1FA6-4724-9411-89686190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498E-BA44-497B-85E7-C009047E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AE7F-845A-4605-AAB8-22E44DB8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FE3B-4EF6-4558-ADCF-BA7748FB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3E5F-554E-42FC-A772-D64E0A0D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8603-F2DE-428A-A8AE-21B7735D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F2BC-F749-4D3D-9878-4BF0E501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BFD-1762-4FD9-B06A-3D124152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7AF3-2F8C-4D68-9326-96697E8D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B7F8-815E-446F-848E-8686B580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4178-0283-479E-BABF-ABC87F64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A67A-7314-4141-B11D-9BE11E74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E3DD-D625-40C1-9D64-BD786459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13E-F9AE-4BFF-A088-50F02023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CD7-54DC-4F83-A907-62F9668A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91E-C176-4865-830B-A06F691A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480-BF83-4107-B817-E206428C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E35-531D-43F2-BA31-EF30FB8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DEC-CBC9-4549-930A-B388CC79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F57-92A1-486C-A992-485F3D44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0E96-9F49-412A-96B8-D818EC3FCE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6EC8-DAB8-490F-A350-F3513CC6EA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63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вестиции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932360" y="5805360"/>
            <a:ext cx="39924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134036m"/>
          <p:cNvPicPr/>
          <p:nvPr/>
        </p:nvPicPr>
        <p:blipFill>
          <a:blip r:embed="rId1"/>
          <a:stretch/>
        </p:blipFill>
        <p:spPr>
          <a:xfrm>
            <a:off x="324000" y="333360"/>
            <a:ext cx="3673440" cy="2616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вестици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вести́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 — долгосрочные вложения капитала с целью получения дох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вестиции являются неотъемлемой составной частью современной экономики. От кредитов инвестиции отличаются степенью риска для инвестора (кредитора) — кредит и проценты необходимо возвращать в оговоренные сроки независимо от прибыльности проекта, инвестиции возвращаются и приносят доход только в прибыльных проектах. Если проект убыточен — инвестиции могут быть утраче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0-37468-investing"/>
          <p:cNvPicPr/>
          <p:nvPr/>
        </p:nvPicPr>
        <p:blipFill>
          <a:blip r:embed="rId1"/>
          <a:stretch/>
        </p:blipFill>
        <p:spPr>
          <a:xfrm>
            <a:off x="468360" y="18900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лассификация инвестиций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уществуют разные классификации инвести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объекту инвестирования выделяют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еальн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прямая покупка реального капитала в различных формах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форме материальных активов (основных фондов, земли), оплата строительства или реконструкц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питальный ремонт основных фон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ожения в нематериальные активы: патенты, лицензии, права пользования, авторские права, товарные знаки, ноу-хау, человеческий капитал (воспитание, образование, наука) и т. д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Классификация инвестиций (по объекту инвестирования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инансов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косвенная покупка капитала через финансовые активы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ные бума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оставленные креди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изинг (для лизингодателя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пекулятивн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покупка активов исключительно ради возможного изменения цены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лю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рагоценные металлы (в виде обезличенных металлических счетов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ные бумаги (акции, облигации, сертификаты институтов совместного инвестирования и т.п.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лассификация инвестиций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основным целям инвестирован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ямые инвестиции (вложение денежных средств с целью участия в управлении предприятием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ртфельные инвестиции (инвестиции в ценные бумаги, формируемые в виде портфеля ценных бумаг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срокам вложен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аткосрочные (до одного года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реднесрочные (1-3 года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олгосрочные (свыше 3-5 лет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форме собственности на инвестиционные ресурс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аст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осударстве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ностра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меша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вестиция или спекуляци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92000" y="1599840"/>
            <a:ext cx="5194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ань между инвестицией и спекуляцией(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лучение дохода за счёт разницы между ценами покупки и продаж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размыта. Обычно критерием разграничения указывают фактор времени. Если операция длится более года — это инвестиция, и экономический эффект она даст через значительный срок после вложения. Если до года — это спекуляц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2038_news"/>
          <p:cNvPicPr/>
          <p:nvPr/>
        </p:nvPicPr>
        <p:blipFill>
          <a:blip r:embed="rId1"/>
          <a:stretch/>
        </p:blipFill>
        <p:spPr>
          <a:xfrm>
            <a:off x="468360" y="162864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Безымянный56"/>
          <p:cNvPicPr/>
          <p:nvPr/>
        </p:nvPicPr>
        <p:blipFill>
          <a:blip r:embed="rId2"/>
          <a:stretch/>
        </p:blipFill>
        <p:spPr>
          <a:xfrm>
            <a:off x="468360" y="407664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Инвестирование, сбережение, потребление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позиции монетарной теории денег, средства можно направить на потребление или сбережение. Простое сбережение изымает средства из оборота и создаёт предпосылки для кризисов. Инвестирование вовлекает сбережения в оборот. Оно может происходить напрямую или косвенно (размещение временно свободных средств на депозит в банк, который уже сам инвестирует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451933_source"/>
          <p:cNvPicPr/>
          <p:nvPr/>
        </p:nvPicPr>
        <p:blipFill>
          <a:blip r:embed="rId1"/>
          <a:stretch/>
        </p:blipFill>
        <p:spPr>
          <a:xfrm>
            <a:off x="6012000" y="1557360"/>
            <a:ext cx="2925720" cy="2193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1d5c45645880"/>
          <p:cNvPicPr/>
          <p:nvPr/>
        </p:nvPicPr>
        <p:blipFill>
          <a:blip r:embed="rId2"/>
          <a:stretch/>
        </p:blipFill>
        <p:spPr>
          <a:xfrm>
            <a:off x="6443640" y="3933720"/>
            <a:ext cx="2055960" cy="244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Услов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читается, что для привлечения инвестиций предприятие должно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меть хорошо отработанный и перспективный план деятельности на будущее. Инвесторы хотят знать, что их вклады принесут в дальнейшем прибыл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меть хорошую репутацию в обществе. Инвестируя в теневое предприятие, инвесторы рискуют остаться без прибыли, поэтому выбирают только те предприятия, которые вызывают довер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сти открытую, то есть прозрачную деятельность. Для этого необходимы бухгалтерская отчётность и работа со СМ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ногое зависит от внутренней политики, проводимой в той стране, в которой находится предприятие. Для вкладов инвесторы выбирают наиболее стабильные стран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иск и прибыл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132000" y="1599840"/>
            <a:ext cx="5554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вестиции характеризуются, среди прочего, двумя взаимосвязанным параметрами: риском и прибыльностью (доходностью). Как правило, чем выше риск инвестиций, тем выше должна быть их ожидаемая доходнос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личина инвестиционного риска показывает вероятность потери инвестиций и дохода от ни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личина общего, интегрального риска складывается из семи видов риска: законодательного, политического, социального, экономического, финансового, криминального, экологического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 этом средний риск страны принимается за единицу, а реальные показатели регионов могут отклонять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1259248492_rosssiya-pomozhet"/>
          <p:cNvPicPr/>
          <p:nvPr/>
        </p:nvPicPr>
        <p:blipFill>
          <a:blip r:embed="rId1"/>
          <a:stretch/>
        </p:blipFill>
        <p:spPr>
          <a:xfrm>
            <a:off x="250920" y="1557360"/>
            <a:ext cx="2813040" cy="3240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9:59:54Z</dcterms:created>
  <dc:creator>User</dc:creator>
  <dc:description/>
  <dc:language>en-US</dc:language>
  <cp:lastModifiedBy>LEGION</cp:lastModifiedBy>
  <dcterms:modified xsi:type="dcterms:W3CDTF">2014-11-10T09:07:59Z</dcterms:modified>
  <cp:revision>12</cp:revision>
  <dc:subject/>
  <dc:title>Инвестиции</dc:title>
</cp:coreProperties>
</file>