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8BA4-ECBE-4706-9FC9-5187AA38E1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урок в начальной школе в условиях ФГ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лавская Е.Г.- учитель начальных классов первой квалификационной категории МБОУСОШ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9B7B-6686-4DB4-84E8-F48108B6D1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Calibri"/>
              </a:rPr>
              <a:t>Типология уро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знакомления учащихся с новым материалом или сообщения  (изучения) новы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закрепления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выработки и закрепления умений и навы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бобщения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проверки знаний, умений и навыков (контрольны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FF67-E4B4-4B8E-909D-C3D97EA1B3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Комбинированный ур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й работы и опрос учащихс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вого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проверка усво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новых знаний в ходе тренировочных упражн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торение ранее изученного в виде бесе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и оценка знаний учащихся; задание на дом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B8AF-BB8E-46ED-B2F2-CD1CAAA2EC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Структура урока в начальных класса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 этап. Организация класса (оргмо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I этап. Актуализация ранее усвоенных знаний и умений (повтор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II этап. Формирование новых знаний и умений (изучение нового матери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V этап. Применение полученных знаний и умений (решение учебных зада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 этап.  Рефлексия. Итог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0785-AAB9-4852-8E96-91FA96F72F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Формы организаци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овая (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еньевая,дифференцированно-группов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E1EF-D7AE-4629-A4B7-D196EE6CA4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Особенности организации коллективной рабо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участник занятий попеременно выступает в своеобразной роли то «ученика», то «учител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жайшая цель каждого участника занятий и «ученика» и «учителя» – учить всему тому, что он знает или изучает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каждого участника занятий имеет отчетливо общественно полезную краску, так как он не только учится, но и постоянно обучает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принцип работы–все по очереди учат каждого и каждый все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отвечает не только за свои знания, но также за знания и успехи товарищей по учебно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совпадение и единство коллективных и личных, индивидуальных интересов: чем лучше и больше я обучаю других, тем больше и лучше знаю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26EB-C084-48A0-83C1-1D8A4362D3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279f"/>
                </a:solidFill>
                <a:latin typeface="Calibri"/>
              </a:rPr>
              <a:t>Требования к современному уро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Точное и творческое выполнение программно-методических требований к уроку; грамотное определение типа урока, его места в разделе, курсе, системе внутрикурсовых связей, видение особенностей каждого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Учет реальных учебных возможностей учащихся уровня их воспитанности, уровня сформированности классного коллектива, учет интересов, склонностей, потребностей и запросов учащихся; целенаправленность в ликвидации пробелов в зн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одумывание и решение в единстве задач образования, воспитания и развития; выделение важнейших, доминирующих задач урока, их конкретизация с учетом особенностей и возможностей коллект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ыбор рациональной структуры и темпа проведения урока, обеспечивающих успешное решение поставленных задач и экономное использование времен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Концентрация внимания учащихся на усвоении важнейших понятий, положений, выделение главного в содержании обуче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Обеспечение практической направленности учебного процесса, создание реальных возможностей применения учащимися полученных знаний, умений и навыков, не допуская формального усвоения теоретических с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054F-E418-4F25-9808-FD21571771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3294"/>
                </a:solidFill>
                <a:latin typeface="Calibri"/>
              </a:rPr>
              <a:t>Требования к современному уро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Расширение арсенала выбора методов преимущественно за счет методов активного, проблемного обучения, которые способны активизировать познавательную деятельность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Сочетание общеклассных форм работы на уроке с групповыми и индивидуальными, стремление к организации учебного труда как коллектив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Формирование у всех учащихся осознанного и активного отношения к своей учебной деятельности, навыков рациональной организации учебного труда на уроке; использование воспитательных и развивающих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 Общение с учащимися на основе сочетания высокой требовательности с уважением к личности школьника, опора в работе на классный коллектив, стремление добиваться действенного воспитательного влияния личности самого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. Соблюдение благоприятных для работы на уроке гигиенических и эстетически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. Определение содержания и объема домашних заданий, не допуская перегрузк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4. Четкое следование замыслу плана урока и одновременная готовность гибко перестраивать его ход при изменении учебных ситу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FD4A-687A-4D24-965D-ECA87BB506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Calibri"/>
              </a:rPr>
              <a:t>Подготовка учителя к урок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роектирование (обдумывание)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Определение темы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Определение целей урока (обучающая, развивающая, воспитатель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Отбор содержания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Определение типа и формы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 Выполнение всех заданий, отобранных к у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Выбор форм организаци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Определение методических приемов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Определение наглядных пособий и средств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. Описание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 Оснащение урока необходимыми средствами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F163-AB48-45F0-8CD6-4FCB0EC1BC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Дополнительные формы организаци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умы, практические занятия, предметные у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FA8E-3854-422F-A5AF-7387214AB4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80"/>
                </a:solidFill>
                <a:latin typeface="Calibri"/>
              </a:rPr>
              <a:t>Вспомогательные формы организации урок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ульт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нятия в круж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убы 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BB7A-6807-4F31-B042-2CFBDE133D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Классно-урочная система.</a:t>
            </a:r>
            <a:br>
              <a:rPr sz="1400"/>
            </a:br>
            <a:r>
              <a:rPr b="1" lang="ru-RU" sz="1400" spc="-1" strike="noStrike">
                <a:solidFill>
                  <a:srgbClr val="38279f"/>
                </a:solidFill>
                <a:latin typeface="Calibri"/>
              </a:rPr>
              <a:t>Преимущества урока  как  формы организации педагогического процесса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четание фронтальной,  групповой  и  индивидуальной 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учителю систематически и последовательно излагать материал,  управлять развитием познавательных способностей и формировать научное мировоззрение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имулирует другие виды деятельности школьников, в том числе внеклассную и домашню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уроке  ученики овладевают не только системой знаний,  умений и навыков,  но и самими методами познаватель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позволяет эффективно решать воспитательные задачи через содержание и методы педагогической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5C29-B909-4745-B97F-64FA32CF71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3294"/>
                </a:solidFill>
                <a:latin typeface="Calibri"/>
              </a:rPr>
              <a:t>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-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такая форма организации педагогического процесса,  при которой педагог в течение точно  установленного времени руководит коллективной познавательной и иной деятельностью постоянной группы учащихся (класса) с учетом особенностей  каждого  из них, используя виды, средства и методы работы, создающие благоприятные условия для того, чтобы все ученики овладевали  основами изучаемого предмета непосредственно в процессе обучения,  а также для воспитания и развития познавательных способностей и  духовных  сил школьн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762F-995F-43E5-BE59-6440B59D4E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Специфические признак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группа учащихс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 деятельностью  школьников  с учетом особенностей каждого из н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основами изучаемого непосредственно на уро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F68A-237F-4346-9DCB-5FA2DB531C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Организационные основания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     Работают все и работает кажд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    Интересно мнение каждого и радуют успехи кажд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     Все благодарны каждому за его участие, и каждый благодарен всем за свое продвижение к зна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    Доверие к учителю как к руководителю групповой работы, но каждый имеет право на инициативное пред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     Все и каждый имеют право высказать мнение относительно проведенного зан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A31E-F08D-40BB-A17A-E8EC026066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Система организационных правил на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 Доводить педагогические требования до своего логического кон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Сопровождать педагогическое требование инструкцией, раскрывающей легкий способ исполнения требуем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 Раскрывать положительную программу действий и избегать негативных требований, т.е. требований не делать чего-либ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Не предъявлять детям непосильных треб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Переакцентировать внимание детей с общего требования на его д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1D3B-FE92-42AA-BAC5-C3CC8BF8AC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Правила совместного общения на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     НЕ произносить резких, категоричных сужд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   НЕ подчеркивать интеллектуальное превосходство кого-либ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    НЕ пренебрегать мнением друг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   НЕ перебивать выступающего, но и самому быть лаконичным и четким в высказыв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   НЕ допускать фамильярности по отношению к кому-либ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     Отмечать индивидуально-ценностное в работе кажд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     Выражать благодарность в адрес присутствую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EBA5-81EB-44B8-94C5-11EB897331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учи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еленаправленность его деятельности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характер отношений с учащими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ндивидуально-личностный подход к учащим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дифференцированный подход к обучен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умение педагога приводить в соответствие содержание учебного материала, методы обучения и формы 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низации познавательной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и развитию общеучебных навыков и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по развитию познавательного интере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знаний, умений и навыков и вооружению учащихся способами познаватель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фокусированность усилий на формировании понят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звитие общих способностей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бъективность оценки знаний учащихся, соединение использования оценки и отмет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ффективность усилий, развивающих лич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ффективность воспитывающих влия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87ED-4CAB-4D97-A56A-18451C2791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 учащего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уровень самостоятельности, самодеятельности учащихся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тношение учащихся к учебному труд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тношение учащихся к предмету, к учителю, друг к друг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бъективная направленность деятельности учеников на образование и развитие своей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наличие у учащихся познавательного интер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оспитательная и развивающая подвижка личности, возникшая в ходе уро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знание учениками фактического материала и уровень его усво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12B8-9C70-4FF2-A71B-A4F3F2F2B0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DA0-712E-4E79-9F33-0B92CC14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63FD-091B-4C6B-8304-9C9CA0DD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15D-D146-48AF-8741-DC8018C6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63F-88F9-4D73-98B6-5E5FC1A3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52C8-1235-411C-A39F-FD120A67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DACD-5120-4B46-9728-3E6BC261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C170-93A9-47AC-9FA1-96917FD2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6249-C516-4FF8-A50F-20C8DFE2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E755-9E08-4E78-9264-92E5A05C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66B9-34AD-4D19-B786-A34C7EDF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1607-596C-4F9E-9AC6-CAFE3FCB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006F-1F0A-4433-A96A-547766ED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8806-8546-4A77-8B06-486CC009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2132-68A1-4646-A701-DE6B03C5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8DC4-A0D3-4FAA-9A3D-27FC4987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76B5-0873-4BEA-B561-3CEDCC56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63F2-D82D-4F2B-BD05-924835EC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925-DC0A-4895-B3E3-7BBFDF1D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1CF-40F7-4CE2-8270-B9317633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6FD-968C-4EA4-B67C-28A07394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6C39-65C1-467B-BA9E-8776C14F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65A-EA81-4D73-A943-C303DC53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6F0-63A6-417A-B3B0-7028D470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7B1D-6FD8-463C-8DBC-45802789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2C81-4C0D-45C1-807B-1DBA8A1BFA0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3050-C6B6-4538-9C6F-FB4DC2F110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C:\Documents and Settings\Admin\Рабочий стол\для шаблонов\цветы\Безимени-1пп.gif"/>
          <p:cNvPicPr/>
          <p:nvPr/>
        </p:nvPicPr>
        <p:blipFill>
          <a:blip r:embed="rId2"/>
          <a:stretch/>
        </p:blipFill>
        <p:spPr>
          <a:xfrm>
            <a:off x="6380280" y="4500720"/>
            <a:ext cx="2763720" cy="21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Admin\Рабочий стол\для шаблонов\цветы\Безимени-1пп.gif"/>
          <p:cNvPicPr/>
          <p:nvPr/>
        </p:nvPicPr>
        <p:blipFill>
          <a:blip r:embed="rId2"/>
          <a:stretch/>
        </p:blipFill>
        <p:spPr>
          <a:xfrm>
            <a:off x="6380280" y="4500720"/>
            <a:ext cx="2763720" cy="217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\Рабочий стол\для шаблонов\цветы\коричнев.gif"/>
          <p:cNvPicPr/>
          <p:nvPr/>
        </p:nvPicPr>
        <p:blipFill>
          <a:blip r:embed="rId3"/>
          <a:stretch/>
        </p:blipFill>
        <p:spPr>
          <a:xfrm>
            <a:off x="7215120" y="6551640"/>
            <a:ext cx="90972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1F40-1135-4C34-8574-81C77EE97E3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46CA-8A8F-4FDA-AB3E-8AECFA5F3E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2920" y="177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временный урок в начальной школе в условиях ФГ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708000" y="4149720"/>
            <a:ext cx="497844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плавская Е.Г.- учитель начальных классов первой квалификационной категории МБОУСОШ№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C:\Documents and Settings\Admin\Рабочий стол\для шаблонов\цветы\Безимени-1пп.gif"/>
          <p:cNvPicPr/>
          <p:nvPr/>
        </p:nvPicPr>
        <p:blipFill>
          <a:blip r:embed="rId1"/>
          <a:stretch/>
        </p:blipFill>
        <p:spPr>
          <a:xfrm>
            <a:off x="0" y="0"/>
            <a:ext cx="5500800" cy="43340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Типология уро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знакомления учащихся с новым материалом или сообщения  (изучения) новых зна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закрепления зна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выработки и закрепления умений и навы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бобщения з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проверки знаний, умений и навыков (контрольны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Комбинированны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 домашней работы и опрос учащихся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учение нового материал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ичная проверка усвое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репление новых знаний в ходе тренировочных упражнен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торение ранее изученного в виде бесед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 и оценка знаний учащихся; задание на дом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spcBef>
                <a:spcPts val="700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alibri"/>
              </a:rPr>
              <a:t>Структура урока в начальных класс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 этап. Организация класса (оргмом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I этап. Актуализация ранее усвоенных знаний и умений (повторе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II этап. Формирование новых знаний и умений (изучение нового материа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V этап. Применение полученных знаний и умений (решение учебных задач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V этап.  Рефлексия. Итог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Формы организаци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упповая (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еньевая,дифференцированно-группова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00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Особенности организации коллективн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участник занятий попеременно выступает в своеобразной роли то «ученика», то «учител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лижайшая цель каждого участника занятий и «ученика» и «учителя» – учить всему тому, что он знает или изучает с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ятельность каждого участника занятий имеет отчетливо общественно полезную краску, так как он не только учится, но и постоянно обучает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ой принцип работы–все по очереди учат каждого и каждый все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отвечает не только за свои знания, но также за знания и успехи товарищей по учебной рабо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ое совпадение и единство коллективных и личных, индивидуальных интересов: чем лучше и больше я обучаю других, тем больше и лучше знаю с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279f"/>
                </a:solidFill>
                <a:latin typeface="Calibri"/>
              </a:rPr>
              <a:t>Требования к современному уро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Точное и творческое выполнение программно-методических требований к уроку; грамотное определение типа урока, его места в разделе, курсе, системе внутрикурсовых связей, видение особенностей каждого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Учет реальных учебных возможностей учащихся уровня их воспитанности, уровня сформированности классного коллектива, учет интересов, склонностей, потребностей и запросов учащихся; целенаправленность в ликвидации пробелов в знани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 Продумывание и решение в единстве задач образования, воспитания и развития; выделение важнейших, доминирующих задач урока, их конкретизация с учетом особенностей и возможностей коллекти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Выбор рациональной структуры и темпа проведения урока, обеспечивающих успешное решение поставленных задач и экономное использование времени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 Концентрация внимания учащихся на усвоении важнейших понятий, положений, выделение главного в содержании обучения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. Обеспечение практической направленности учебного процесса, создание реальных возможностей применения учащимися полученных знаний, умений и навыков, не допуская формального усвоения теоретических свед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3294"/>
                </a:solidFill>
                <a:latin typeface="Calibri"/>
              </a:rPr>
              <a:t>Требования к современному уро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. Расширение арсенала выбора методов преимущественно за счет методов активного, проблемного обучения, которые способны активизировать познавательную деятельность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. Сочетание общеклассных форм работы на уроке с групповыми и индивидуальными, стремление к организации учебного труда как коллектив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. Формирование у всех учащихся осознанного и активного отношения к своей учебной деятельности, навыков рациональной организации учебного труда на уроке; использование воспитательных и развивающих возможн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1. Общение с учащимися на основе сочетания высокой требовательности с уважением к личности школьника, опора в работе на классный коллектив, стремление добиваться действенного воспитательного влияния личности самого учите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2. Соблюдение благоприятных для работы на уроке гигиенических и эстетических услов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3. Определение содержания и объема домашних заданий, не допуская перегрузки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4. Четкое следование замыслу плана урока и одновременная готовность гибко перестраивать его ход при изменении учебных ситуац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Подготовка учителя к урок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Проектирование (обдумывание)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Определение темы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Определение целей урока (обучающая, развивающая, воспитательна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Отбор содержания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Определение типа и формы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 Выполнение всех заданий, отобранных к уро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 Выбор форм организации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8. Определение методических приемов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9. Определение наглядных пособий и средств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0. Описание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. Оснащение урока необходимыми средствами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Дополнительные формы организации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92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кур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кумы, практические занятия, предметные ур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олнительные зан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Вспомогательные формы организации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32000" y="2174760"/>
            <a:ext cx="5184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акультати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нятия в круж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убы по интерес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Классно-урочная система.</a:t>
            </a:r>
            <a:br>
              <a:rPr sz="2800"/>
            </a:br>
            <a:r>
              <a:rPr b="1" lang="ru-RU" sz="2800" spc="-1" strike="noStrike">
                <a:solidFill>
                  <a:srgbClr val="38279f"/>
                </a:solidFill>
                <a:latin typeface="Calibri"/>
              </a:rPr>
              <a:t>Преимущества урока  как  формы организации педагогического процесс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фронтальной,  групповой  и  индивидуальной  работ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зволяет учителю систематически и последовательно излагать материал,  управлять развитием познавательных способностей и формировать научное мировоззрение учащихс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имулирует другие виды деятельности школьников, в том числе внеклассную и домашню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ке  ученики овладевают не только системой знаний,  умений и навыков,  но и самими методами познавательной деятель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позволяет эффективно решать воспитательные задачи через содержание и методы педагогической деяте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c3294"/>
                </a:solidFill>
                <a:latin typeface="Calibri"/>
              </a:rPr>
              <a:t>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такая форма организации педагогического процесса,  при которой педагог в течение точно  установленного времени руководит коллективной познавательной и иной деятельностью постоянной группы учащихся (класса) с учетом особенностей  каждого  из них, используя виды, средства и методы работы, создающие благоприятные условия для того, чтобы все ученики овладевали  основами изучаемого предмета непосредственно в процессе обучения,  а также для воспитания и развития познавательных способностей и  духовных  сил школьник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Специфические признак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ая группа учащихся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оводство  деятельностью  школьников  с учетом особенностей каждого из них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владение основами изучаемого непосредственно на уро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Организационные основания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     Работают все и работает кажды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    Интересно мнение каждого и радуют успехи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     Все благодарны каждому за его участие, и каждый благодарен всем за свое продвижение к знания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    Доверие к учителю как к руководителю групповой работы, но каждый имеет право на инициативное предлож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     Все и каждый имеют право высказать мнение относительно проведенного занят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Система организационных правил на уро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 Доводить педагогические требования до своего логического конц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Сопровождать педагогическое требование инструкцией, раскрывающей легкий способ исполнения требуемо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 Раскрывать положительную программу действий и избегать негативных требований, т.е. требований не делать чего-либ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Не предъявлять детям непосильных требов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Переакцентировать внимание детей с общего требования на его дет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Правила совместного общения на уро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     НЕ произносить резких, категоричных сужде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   НЕ подчеркивать интеллектуальное превосходство кого-либ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    НЕ пренебрегать мнением друг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   НЕ перебивать выступающего, но и самому быть лаконичным и четким в высказывания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   НЕ допускать фамильярности по отношению к кому-либ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     Отмечать индивидуально-ценностное в работе кажд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     Выражать благодарность в адрес присутствующ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уч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еленаправленность его деятельности на уроке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характер отношений с учащими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ндивидуально-личностный подход к учащим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ифференцированный подход к обучению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мение педагога приводить в соответствие содержание учебного материала, методы обучения и формы ор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анизации познавательной деятельности уча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и развитию общеучебных навыков и умен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по развитию познавательного интерес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знаний, умений и навыков и вооружению учащихся способами познавательной деятельност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фокусированность усилий на формировании понят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звитие общих способностей уча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бъективность оценки знаний учащихся, соединение использования оценки и отметк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эффективность усилий, развивающих личность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эффективность воспитывающих влия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 уча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6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ровень самостоятельности, самодеятельности учащихся на урок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тношение учащихся к учебному труд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тношение учащихся к предмету, к учителю, друг к друг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ъективная направленность деятельности учеников на образование и развитие своей лич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личие у учащихся познавательного интере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оспитательная и развивающая подвижка личности, возникшая в ходе уро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нание учениками фактического материала и уровень его усво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5:36:49Z</dcterms:created>
  <dc:creator>Федотова Виктория Александровна</dc:creator>
  <dc:description/>
  <dc:language>en-US</dc:language>
  <cp:lastModifiedBy>LEGION</cp:lastModifiedBy>
  <dcterms:modified xsi:type="dcterms:W3CDTF">2015-01-26T13:59:18Z</dcterms:modified>
  <cp:revision>15</cp:revision>
  <dc:subject/>
  <dc:title>Слайд 1</dc:title>
</cp:coreProperties>
</file>