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4D12-9CAA-43A5-BBE4-26D9107FE6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A6CA-A48B-44D4-81CE-FD0E1716D2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5A86-2DE6-4279-A5F0-72BC1723F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413A-663B-4034-9D4C-45E1D4E91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80AC-C881-419C-A0BD-C851E28E6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0803-4836-4FB8-BAD8-38D73DB531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C628-C3B6-4668-B255-14551F75A2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2D8E-C29C-4268-B704-0B32A8B45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A6FC-A8B2-4DFD-805F-DE5146B9EF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BDA4-CFA7-470B-87B1-B5C8105EDE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84EC-9697-4AFA-8D89-B15C3B386B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E6F9-FCD5-4EE7-B070-69083A52CE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1400"/>
            </a:br>
            <a:r>
              <a:rPr b="1" lang="ru-RU" sz="14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62A1-621D-4236-BB94-EFCA518FC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D82D-D897-451A-AF3F-676EB2E049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C42B-F675-4BB4-BBE5-78A135728C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AD20-F2DB-4FD2-A681-7B70A05A8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B04A-611C-4583-81C5-7C6811C567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075F-0C03-43BE-9D69-F7133BC64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5E26-6FB6-4B6F-B8D5-0A32F72E2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6661-B4FB-4745-9859-12810C16D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CCB-6DF4-46AA-BDAB-2B33BA28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4EF-5EAE-49A2-A9D4-56DE3EDD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D4B-9B10-47D9-8499-D51DB2DE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764-634D-41CA-8938-BD771096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DE95-4C30-4CC8-93B5-4DCCBCAF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DECD-1AEF-4D77-B9FD-12D6F0D2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83CD-8363-4E44-A63D-C92267BA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902A-6217-4AE9-A847-E61F97B1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7C21-B07E-4B9E-BAC8-FC8E6326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4118-2D69-4B7F-BAE1-BBAF3EAE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AA03-824A-4511-9B28-B0329EC8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795-430F-49F0-AE93-AEEF878D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83E3-7C04-42EF-A851-BE75796E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D6EB-5F9D-4EB4-8C7A-FA85E65B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F328-11CA-49CE-B873-B28951E6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3921-FC2E-48C4-9078-206CCB6A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0161-F570-4520-AA8A-58731A5D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934-8652-47AB-831F-45561626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1D61-EB91-4AD0-804B-6FB83853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915-C084-436F-895F-CEF3EAAD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01B-8266-4183-851B-F2F177E9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702-4DD9-4DDC-BB58-8529E5C3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F73-5B1D-40CA-BD5C-0948D57E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BA2-C4A3-43CC-A856-A91131A1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BF27-7ADC-4FE1-9A5A-70A166795D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43C1-A466-4477-8BCC-EFF1701BF9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цветы\коричнев.gif"/>
          <p:cNvPicPr/>
          <p:nvPr/>
        </p:nvPicPr>
        <p:blipFill>
          <a:blip r:embed="rId3"/>
          <a:stretch/>
        </p:blipFill>
        <p:spPr>
          <a:xfrm>
            <a:off x="7215120" y="6551640"/>
            <a:ext cx="90972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236E-AC32-4150-A9E2-75770034501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2CCF-FD2E-4881-AD75-C50186F6B8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08000" y="4149720"/>
            <a:ext cx="4978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C:\Documents and Settings\Admin\Рабочий стол\для шаблонов\цветы\Безимени-1пп.gif"/>
          <p:cNvPicPr/>
          <p:nvPr/>
        </p:nvPicPr>
        <p:blipFill>
          <a:blip r:embed="rId1"/>
          <a:stretch/>
        </p:blipFill>
        <p:spPr>
          <a:xfrm>
            <a:off x="0" y="0"/>
            <a:ext cx="5500800" cy="43340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2000" y="2174760"/>
            <a:ext cx="5184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2800"/>
            </a:b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5:36:49Z</dcterms:created>
  <dc:creator>Федотова Виктория Александровна</dc:creator>
  <dc:description/>
  <dc:language>en-US</dc:language>
  <cp:lastModifiedBy>LEGION</cp:lastModifiedBy>
  <dcterms:modified xsi:type="dcterms:W3CDTF">2015-01-26T13:59:18Z</dcterms:modified>
  <cp:revision>15</cp:revision>
  <dc:subject/>
  <dc:title>Слайд 1</dc:title>
</cp:coreProperties>
</file>