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547C-33EA-4E0D-A95A-7AF8BD3E74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конферен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Мастерство учител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апреля 201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292D-ABC0-4C65-8EA2-05C44424341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7C9A-9B90-4434-B9EB-C3BEFB8417A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5E80-9338-4C8C-878A-ADAE8BF903E2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A521-61D6-45E9-AD85-659A69C1B9E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C33F-50FD-409D-8041-8D0DF111A4D4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4927-CEE7-4F6A-A612-90EED3EE1F5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еш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можно увидеть, осмыслить, применить в реа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утрен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57AF-9F03-4247-9F5F-73EF3D1A1896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еловековедческ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дагог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воздействовать на личность и социу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7946-BD3B-4989-9C4C-9F572D128A0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данной концепции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нтроп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1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хнолог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EB6B-B530-4015-8ECD-D9F618DCF5E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1B04-3BC0-46CA-B72B-11855895BE1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стер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виде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наиболее безболезнен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одолев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конфликтные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2420-DE35-4C25-A995-FA1AD823A85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иджело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DE5B-4BC4-419E-B9C8-6556D14E008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1400"/>
            </a:b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Так, В.М. Шепель  выделяет 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три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следующих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комплекса</a:t>
            </a:r>
            <a:r>
              <a:rPr b="0" i="1" lang="ru-RU" sz="11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) природные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муникаб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мпатичность (способность к сопереживанию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равственные ц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сихологическое здоровь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бор технологий об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D425-3519-4DB8-905C-5390B0BB267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рица персонального имиджа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й настрой с опорой на «я-концепцию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и физиогном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сы и причёс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нес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одеж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ореч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регуляц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19E4-CD31-4CBA-AC12-4AEA7F6C396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я педагогов шко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6A91-2DBA-4E23-AF6A-44FC46149AC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A8B1-61B0-4CE6-A09A-43E1D2AE195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ABE1-D1B5-4CD1-AA66-A604308A75C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-гимн «Я – чуд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2EF5-0455-4271-BC61-7C51D7C9216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х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6752-22E6-4518-8BB3-3E8D10FEBF6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ACDD-EA11-46F4-8E79-F1CE026BB4F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14A5-23EE-4A76-82AC-904186646B8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0519-C1DB-48E9-AE60-74343CF065E1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BCC9-8666-45AD-A70D-9ECFFF01656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81FB-BE6B-482A-ABAE-811651F691FB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3647-247B-4404-8E21-1430CD9D4F1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жпредметными поня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9A1C-7CB4-4D05-B3F3-1D1069C3C939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64B5-3F07-48BE-AD38-C549BBABEAF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6195-C136-42DF-8968-E950BC3E6779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A9D-89AD-467A-ADBC-402C890F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F96-ACE6-48E1-B763-AFDB12A1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891-2F8B-42F3-B575-470568DB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AAA8-44D2-4CFA-9CA9-1F3BFD33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F62C-C918-4F1F-A16C-0EDD36F7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338B-A525-42FA-9B3C-058A0721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7AF4-5EB7-4DB7-8C27-B3EFF9CB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34CA-4EA8-4D26-854F-B33969A2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F9D5-87A3-47F6-91A5-1728668A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9108-A226-4276-AB86-3E2BAD1A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FC01-6390-44FD-B93B-50A8ADE3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741-8C13-49EF-8BDF-C6117780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FEAE-C334-45B8-8499-0D6DDC9C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8543-DF17-48ED-B067-10D1352C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2A65-1E17-4C19-8F07-F1C101E9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451D-5D55-4315-AB83-6416840A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640D-8C07-4317-91A5-476ECF0B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531-6511-49D2-91D1-4D98CFC2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B65-BE8A-4DA8-B958-B9EE69B0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39B-8535-404C-9774-F2AB27C3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EEF-BA4B-4553-8950-01D97BD8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327-3C42-4725-B395-9FDE32FA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609-D2E5-4157-AAB6-B7A54C72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F04-00B6-44FA-A6C8-275DB5AB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E79F-39C6-4891-B2FE-F566E87AE9E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4F8D-C712-416D-84A8-1487A4C23E3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едагогическая конференция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«Мастерство учителя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25 апреля 2012 г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1240" y="1379520"/>
            <a:ext cx="82483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04280" y="2604960"/>
            <a:ext cx="833148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15440" y="2373120"/>
            <a:ext cx="87282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8920" y="2565360"/>
            <a:ext cx="872820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еш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ожно увидеть, осмыслить, применить в реальной практическ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«человековедческой компетентност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едагога»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 педагог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воздействовать на личность и социу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j0299125"/>
          <p:cNvPicPr/>
          <p:nvPr/>
        </p:nvPicPr>
        <p:blipFill>
          <a:blip r:embed="rId1"/>
          <a:stretch/>
        </p:blipFill>
        <p:spPr>
          <a:xfrm>
            <a:off x="7956720" y="5084640"/>
            <a:ext cx="928440" cy="1524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В основе данной концепции лежит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антропологическ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2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технолог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4" descr="j0217698"/>
          <p:cNvPicPr/>
          <p:nvPr/>
        </p:nvPicPr>
        <p:blipFill>
          <a:blip r:embed="rId1"/>
          <a:stretch/>
        </p:blipFill>
        <p:spPr>
          <a:xfrm>
            <a:off x="7620120" y="1066680"/>
            <a:ext cx="1218960" cy="11811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j0292020"/>
          <p:cNvPicPr/>
          <p:nvPr/>
        </p:nvPicPr>
        <p:blipFill>
          <a:blip r:embed="rId1"/>
          <a:stretch/>
        </p:blipFill>
        <p:spPr>
          <a:xfrm>
            <a:off x="7238880" y="5267160"/>
            <a:ext cx="1676520" cy="15908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фликтолог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онфликт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Мастерство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двиде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 наиболее безболезненно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одолева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конфликтные ситу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иджелог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236016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21520" y="957960"/>
            <a:ext cx="780516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ак, В.М. Шепель  выделяет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следующих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омплекса</a:t>
            </a: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1) природные качеств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оммуникабельность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эмпатичность (способность к сопереживанию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равственные ценност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психологическое здоровь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абор технологий общ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трица персонального имиджа педагога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остный настрой с опорой на «я-концепцию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мика и физиогноми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лосы и причёс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инесик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зайн одежд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сноречи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ика пове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регуляц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ступления педагогов школы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1160" y="832680"/>
            <a:ext cx="780588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ртобиот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ртобиотик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сберегающие технолог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ини-гимн «Я – чудо!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Рисунок 3" descr="FGOS85.jpg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5661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дхо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c15ad2c79a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12560" y="1149120"/>
            <a:ext cx="8185680" cy="10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04280" y="2212560"/>
            <a:ext cx="833148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02480" y="698760"/>
            <a:ext cx="81741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39840" y="2343240"/>
            <a:ext cx="83311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9960" y="768240"/>
            <a:ext cx="8179200" cy="10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4280" y="2736720"/>
            <a:ext cx="8331480" cy="33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жпредметными понятия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73400" y="914400"/>
            <a:ext cx="8174880" cy="10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33112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5:02:42Z</dcterms:created>
  <dc:creator>Анна</dc:creator>
  <dc:description/>
  <dc:language>en-US</dc:language>
  <cp:lastModifiedBy>LEGION</cp:lastModifiedBy>
  <dcterms:modified xsi:type="dcterms:W3CDTF">2015-01-26T14:02:39Z</dcterms:modified>
  <cp:revision>8</cp:revision>
  <dc:subject/>
  <dc:title>Педагогическая конференция  «Мастерство учителя»</dc:title>
</cp:coreProperties>
</file>