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gif" ContentType="image/gif"/>
  <Override PartName="/ppt/media/image3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AEFC-5E33-4BD0-B80E-3DE63E7A8B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ерспективы использования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технологий в учеб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     приёмы      работы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нтерактивной до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 проекции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14BA-2CAC-4C38-B169-B13E06B60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Экранная клавиатура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5F2-89EF-4A99-8FF7-58750834BA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авый клик мыш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CFDA-34A3-4F5B-B037-2A14ED1B94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ель инструментов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0A8E-7D52-41E0-9BE6-A76332BF0D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ь новый или существующий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текущую страницу как шабл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орт в различных формат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равить файл по электронной поч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печатать файл или изменить свойства печ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менить или повторить предыдущие дейст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онировать, вырезать, копировать, вставить или удалить выбранные объекты или все объекты на страниц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дактировать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правописание всех текстов в файл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далить текущую стран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текущий вид (Сортировщик страниц, Галерея, Вложения или Во весь экран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крыть боковую пан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пустить панель инструментов захвата экрана или Затенения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штаб для приближения или удаления содержимого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бавить пустую страницу, шаблон, рисунок, файл Flash или ссы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шрифта (жирный, подчеркнутый, курси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объекта (цвет, ширина линии, заливка, прозрачност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репить свойства и положение объек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цвет фона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ть формы, линии и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о, художественное перо и ласт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делить, изменить порядок, сгруппировать и разгруппировать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я о программе Notebook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наличие обно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ABCD-0838-462E-B3F9-E10A72FAF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День 2-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AAE-D29C-466B-9F24-E42BCA7E5A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личное ПО и интерактивная доска SM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(файлы), созданные в любом приложе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 презентации PowerPoint, Microsoft Word, Microsoft Excel;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, рисунки, анимированные кар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 программы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V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0A00-D9E8-40ED-9977-3675F5E3C6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A41-AE15-47F5-B046-C51A98070E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ограммное обеспечение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5F0C-E3DF-4DEB-8958-CC38676F1F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92F9-7726-4E3E-8FA3-C8126B9434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ы в Not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 вы можете передвигать пальцем или мышью на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ebook,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ы добавляете его на страницу Notebook одним из следующих способ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ечатать тек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и написать на доск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еометрическую форму при помощи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ь картинку из Коллекции Noteboo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го компьютера ил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FCE-EFF6-4D27-B827-71204DF9C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Режим работы</a:t>
            </a:r>
            <a:r>
              <a:rPr b="0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9780-1DC4-4C1D-B509-9B482445C8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изменять и передвигать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любой объект на странице Notebook, чтобы изменить его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ыделенных объектов есть две «ручки»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199-6C93-45DA-83B7-5F56232B69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FE38-5107-4D2F-9C9F-DACE230D70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961-B565-4D78-85A2-F643E2E680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207-7A03-4415-B3E5-411D8D450B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472-5DCA-488A-85E0-351D74289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лезные ссылки для анимированных карти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r-kartinok.ucoz.ru/forum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ifpark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pinfo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if.vukogurt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wall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demp3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p3ex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usicfilesarea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B692-DD0B-402C-88FC-6363FC4B60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воении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хнологий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1B58-0FAD-4A6E-910F-6F6279D3B5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488b"/>
                </a:solidFill>
                <a:latin typeface="Calibri"/>
              </a:rPr>
              <a:t>Что даёт использование мультимедийных средств обучения нового поколения  в обучен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е привязываясь к своему компьют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енно повышается уровень компьютерной компетенции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ольникам  учиться становится интересно и увлека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B05D-A6E0-454B-9D01-F4E7B146FB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ая доска SMART Board 6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9CF0-A0DC-438D-B20D-016EE7B632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Как работать с программами на интерактивной доске SMART Board?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EAC-7C74-42E4-9363-A745F461C3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либровка интерактивной дос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31DC-A414-4930-8270-992C1DC1B1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BFD-257A-476C-BDD0-F9BE75CBEF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Марк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18D5-9962-4141-A1EA-B79CD296F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669D-7FCB-40CD-8E59-93083AC3EF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757-3239-4CF3-82D0-895D039E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DDA-F66C-437A-8C13-2D2E67F2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D50-E990-4E56-9B30-B49DB1FA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6EF-D544-4D8B-9CBE-A0E9D5F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0D00-1B65-4942-AA0A-4B29FD98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F47F-E582-47A7-A586-1BD01572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27B-141A-4384-811C-BB273661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4F71-428E-4537-96BF-F0F8EC8C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6C48-C1EE-4E76-807A-0ED4A156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0DB0-8DA6-4B55-833E-C95791C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FBE0-3987-4A5A-9D57-0584AC87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DA8-955C-47DB-931E-DBFE905C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56E-2B2B-42FA-AFE6-69B32A23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4525-6B47-47FF-8A43-16194A03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0984-5E80-4440-97A9-076255C6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F21-FDF1-4BFC-A057-2F204112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54B2-F07F-4C60-A946-5575BD3F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A1FBE-64C5-4168-8A42-8F3195F4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EA2DC-4366-412E-82AA-577C5E5F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FA24-D9C7-4C9C-B338-FEA90969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6C365-BFBB-4E16-9863-71537FF3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9AB02-7C1D-4CBB-8BB5-9959DD1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A98-8DDA-4F13-A747-4350A95F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6BD7-D9AF-47AF-87E0-0FA7963B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9DD59-0ED6-4DB5-A65C-8BF89F96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36623-2945-404C-9D7C-3C8D10B0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AB39-0105-4C28-BF6A-8513C917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CAE4B-D8FC-43A9-B88D-FD82BCCA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12D73-49F5-4322-91F7-788861E4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6578-C93E-40D3-8E94-C079801D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A75D6-650E-4C01-A03D-AA8A64C8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172FA-129D-43E6-B5CB-00544D4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52C90-5341-4650-8E0B-D759B6EB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675-9650-4C06-A169-9752B80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CE30C-3A3A-4D2D-AE75-8271C05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973D-3635-4816-86B0-33A8B43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6656-A44E-4423-BCD6-529B9465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DC0A-4F3D-42E7-A58A-3D85081F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8F05E-9F11-4D6D-9428-4209C7CE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D1810-9F58-41EA-B42E-4EF6472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71D41-1C69-4991-BF07-F31DE26E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AEA8F-1BB8-4155-9CDF-0A284E6D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4950-4774-48DA-888B-DECDCFED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99B9-666B-4BB1-9FA8-2125F36C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D52-D54B-4C35-ADAF-C46EF7D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96BE4-AF43-48C9-8F98-175898E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9A755-191B-4F03-8A25-C9828E22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79F6E-BA76-46C8-A3D5-B3197AFD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1C82-7037-4948-BCD5-30E4203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F2D5-491A-4FF8-8C07-808DD233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B755-074B-4B29-AF2C-C74505E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2DCD-7114-4FA4-8562-627B8E25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7DBD7-371E-4379-A60C-E3E182D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EE4FA-649E-49F2-8A39-802211E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863BA-7F54-4C46-90A4-102A4B06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78A-B1AA-4C94-94BD-0E7CCBD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89D0-E3E0-40B9-B901-F426930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F94A2-080F-4098-BBD3-76D0A47A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FC457-9FA2-4A48-941D-B3A91499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2C5C-EB85-488A-8CE5-E2428106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0369-7C06-4244-A84A-9E9019F5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D3C2-FF7A-4143-83D5-68EC1956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778C2-4C22-4AEB-8164-F4E30285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C1376-FFFC-4011-A06F-6FFB8351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6BA2-DE87-4527-B75B-E95A599E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A13BB-1AA4-4244-834A-8E239E4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0FD-0060-4B11-81B0-79B7D468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0F45-1E66-4F45-9DC0-469721C9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BD9C1-B23A-4734-898F-1E6DB34E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A28B5-8826-4F97-8BBC-C92D51C6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4158A-D316-4078-9CE7-1ACF6FB8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FF11-DD5B-4469-9B14-29D759B4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0AE0F-113A-4191-A358-0CC1952B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6DB13-A1EE-408F-B876-933DA99B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E7E9-B4D9-4593-A45B-703AB293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D2934-9396-4DAA-BFA0-5FB24B32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40931-21F8-4E2A-B005-9B5BDE5D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84D-A784-446E-8DB9-2FD9D0F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528F-B848-4FB8-A716-1A5A11FC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BA4C-D451-4ACB-B60E-42F57A7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F6FD8-01E1-4F75-BD9B-1652D176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123B-5763-463E-B404-2611679D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0833-87D5-4425-BF4C-6F6F2FA3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17D9-BAC5-46CB-9E3E-3C3262D0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D0E-6095-4D1E-841C-C350B54913C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E5C7-040F-45E8-99D2-50020A6FE25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8069-B840-4E3C-B8DE-4832FA328F9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B03D-D65C-42EA-9DE8-C0EA349121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01C8-2DFD-4FBE-A776-06AE0317303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3AC-D396-4B1D-8046-0C9FA232C95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970A-2C7E-4ABF-BCEA-D257B1CAA8F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BAAE-A160-408B-83AD-0E824C1216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79C4-819D-4E32-91B2-88A1733059B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57AB-DA85-48D7-8BCC-8674D8D4D1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C63-99B9-4F3A-9592-4F1F6584BF2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0E83-DDB3-4581-A71D-3B3758A1CA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1CE-FE99-4C4B-9BDA-65553104F4A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92A1-1A6E-4432-A8A0-E60EC546719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mir-kartinok.ucoz.ru/forum/2" TargetMode="External"/><Relationship Id="rId3" Type="http://schemas.openxmlformats.org/officeDocument/2006/relationships/hyperlink" Target="http://mir-kartinok.ucoz.ru/forum/2" TargetMode="External"/><Relationship Id="rId4" Type="http://schemas.openxmlformats.org/officeDocument/2006/relationships/hyperlink" Target="http://mir-kartinok.ucoz.ru/forum/2" TargetMode="External"/><Relationship Id="rId5" Type="http://schemas.openxmlformats.org/officeDocument/2006/relationships/hyperlink" Target="http://mir-kartinok.ucoz.ru/forum/2" TargetMode="External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4"/>
          <p:cNvPicPr/>
          <p:nvPr/>
        </p:nvPicPr>
        <p:blipFill>
          <a:blip r:embed="rId1"/>
          <a:stretch/>
        </p:blipFill>
        <p:spPr>
          <a:xfrm>
            <a:off x="5572080" y="378612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1757160"/>
          </a:xfrm>
          <a:prstGeom prst="rect">
            <a:avLst/>
          </a:prstGeom>
          <a:solidFill>
            <a:srgbClr val="fdd7ba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спективы использован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активных технологий в учебном процесс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00160" y="2356920"/>
            <a:ext cx="557208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сновные      приёмы      работы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 интерактивной доской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ямой проекции SMART Boa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042920" y="3838680"/>
            <a:ext cx="4249800" cy="1067400"/>
          </a:xfrm>
          <a:prstGeom prst="rect">
            <a:avLst/>
          </a:prstGeom>
          <a:noFill/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нат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У школы № 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0080" y="142560"/>
            <a:ext cx="74977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кранная клавиатур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Picture 6" descr="klava"/>
          <p:cNvPicPr/>
          <p:nvPr/>
        </p:nvPicPr>
        <p:blipFill>
          <a:blip r:embed="rId1"/>
          <a:stretch/>
        </p:blipFill>
        <p:spPr>
          <a:xfrm>
            <a:off x="2214720" y="714240"/>
            <a:ext cx="5238720" cy="2038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431640" y="2571840"/>
            <a:ext cx="856944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603520" y="63482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экранной клави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ый клик мышью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6" descr="knopkamishi"/>
          <p:cNvPicPr/>
          <p:nvPr/>
        </p:nvPicPr>
        <p:blipFill>
          <a:blip r:embed="rId1"/>
          <a:stretch/>
        </p:blipFill>
        <p:spPr>
          <a:xfrm>
            <a:off x="1187280" y="1214280"/>
            <a:ext cx="3384720" cy="14734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429000" y="3000240"/>
            <a:ext cx="5256360" cy="24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786040" y="601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использования правой кнопки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4395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анель инструментов Notebook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0" t="0" r="0" b="90044"/>
          <a:stretch/>
        </p:blipFill>
        <p:spPr>
          <a:xfrm>
            <a:off x="714240" y="571680"/>
            <a:ext cx="8247240" cy="620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table"/>
          <p:cNvPicPr/>
          <p:nvPr/>
        </p:nvPicPr>
        <p:blipFill>
          <a:blip r:embed="rId2"/>
          <a:stretch/>
        </p:blipFill>
        <p:spPr>
          <a:xfrm>
            <a:off x="679320" y="1214280"/>
            <a:ext cx="4178520" cy="56167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5076720" y="1700280"/>
            <a:ext cx="38163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535640" y="6014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инструментами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6" descr=""/>
          <p:cNvPicPr/>
          <p:nvPr/>
        </p:nvPicPr>
        <p:blipFill>
          <a:blip r:embed="rId1"/>
          <a:srcRect l="0" t="0" r="65323" b="94109"/>
          <a:stretch/>
        </p:blipFill>
        <p:spPr>
          <a:xfrm>
            <a:off x="2214720" y="93600"/>
            <a:ext cx="5905440" cy="763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071720" y="64296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14240" y="1589040"/>
          <a:ext cx="8286840" cy="5153040"/>
        </p:xfrm>
        <a:graphic>
          <a:graphicData uri="http://schemas.openxmlformats.org/drawingml/2006/table">
            <a:tbl>
              <a:tblPr/>
              <a:tblGrid>
                <a:gridCol w="1408320"/>
                <a:gridCol w="6878520"/>
              </a:tblGrid>
              <a:tr h="42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мен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7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крыть новый или существующий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текущую страницу как шаблон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орт в различных формата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равить файл по электронной почт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печатать файл или изменить свойства печ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менить или повторить предыдущие действия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лонировать, вырезать, копировать, вставить или удалить выбранные объекты или все объекты на страниц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едактировать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правописание всех текстов в файл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Удалить текущую страниц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текущий вид (Сортировщик страниц, Галерея, Вложения или Во весь экран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крыть боковую панел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пустить панель инструментов захвата экрана или Затенения экран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сштаб для приближения или удаления содержимого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бавить пустую страницу, шаблон, рисунок, файл Flash или ссыл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шрифта (жирный, подчеркнутый, курсив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объекта (цвет, ширина линии, заливка, прозрачност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крепить свойства и положение объек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цвет фона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здать формы, линии и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о, художественное перо и ласти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делить, изменить порядок, сгруппировать и разгруппировать о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нформация о программе Notebook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наличие обно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1779480" cy="399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День 2-ой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28920" y="2928960"/>
            <a:ext cx="5545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976400" y="121428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4"/>
          <p:cNvPicPr/>
          <p:nvPr/>
        </p:nvPicPr>
        <p:blipFill>
          <a:blip r:embed="rId1"/>
          <a:stretch/>
        </p:blipFill>
        <p:spPr>
          <a:xfrm>
            <a:off x="5072040" y="78588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6143760" y="1763640"/>
            <a:ext cx="2857320" cy="2237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5112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Различное ПО и интерактивная доска SMART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57160" y="100008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ументы (файлы), созданные в любом приложени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   презентации PowerPoint, Microsoft Word, Microsoft Excel; и т.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то, рисунки, анимированные картинк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ающие программы н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V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1071720" y="71424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у, как на экран,  можно выводи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928800" y="3002040"/>
          <a:ext cx="3071880" cy="23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3002040"/>
                    <a:ext cx="30718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11" descr=""/>
          <p:cNvPicPr/>
          <p:nvPr/>
        </p:nvPicPr>
        <p:blipFill>
          <a:blip r:embed="rId8"/>
          <a:stretch/>
        </p:blipFill>
        <p:spPr>
          <a:xfrm>
            <a:off x="557208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гнатова\Мои документы\Таллинн\Изображение 081.jpg"/>
          <p:cNvPicPr/>
          <p:nvPr/>
        </p:nvPicPr>
        <p:blipFill>
          <a:blip r:embed="rId9"/>
          <a:stretch/>
        </p:blipFill>
        <p:spPr>
          <a:xfrm>
            <a:off x="2381400" y="4286160"/>
            <a:ext cx="3333600" cy="2500560"/>
          </a:xfrm>
          <a:prstGeom prst="rect">
            <a:avLst/>
          </a:prstGeom>
          <a:ln w="57240">
            <a:solidFill>
              <a:srgbClr val="c58d01"/>
            </a:solidFill>
            <a:miter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3"/>
          <a:srcRect l="48481" t="56045" r="0" b="0"/>
          <a:stretch/>
        </p:blipFill>
        <p:spPr>
          <a:xfrm>
            <a:off x="428760" y="5000760"/>
            <a:ext cx="2286000" cy="992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671508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рограммное обеспечение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14680" y="2214720"/>
            <a:ext cx="4535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"/>
          <p:cNvPicPr/>
          <p:nvPr/>
        </p:nvPicPr>
        <p:blipFill>
          <a:blip r:embed="rId1"/>
          <a:srcRect l="84335" t="0" r="0" b="0"/>
          <a:stretch/>
        </p:blipFill>
        <p:spPr>
          <a:xfrm>
            <a:off x="7164360" y="189000"/>
            <a:ext cx="1682640" cy="6192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33440" y="285840"/>
            <a:ext cx="5543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071720" y="4786200"/>
            <a:ext cx="585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9160" cy="642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Объекты в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71360" y="1143000"/>
            <a:ext cx="7862760" cy="32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что вы можете передвигать пальцем или мышью на страниц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Notebook, э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ек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ы добавляете его на страницу Notebook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ечатать тек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исовать или написать на доске маркер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ть геометрическую форму при помощи панели инструментов Noteb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естить картинку из Коллекции Noteboo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шего компьютера или Интерне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6858000" y="1968480"/>
            <a:ext cx="1714680" cy="9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rcRect l="16929" t="6933" r="136" b="31047"/>
          <a:stretch/>
        </p:blipFill>
        <p:spPr>
          <a:xfrm>
            <a:off x="1428840" y="4857840"/>
            <a:ext cx="7000920" cy="1285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9" descr="0-005.jpg"/>
          <p:cNvPicPr/>
          <p:nvPr/>
        </p:nvPicPr>
        <p:blipFill>
          <a:blip r:embed="rId3"/>
          <a:stretch/>
        </p:blipFill>
        <p:spPr>
          <a:xfrm>
            <a:off x="7572240" y="3143160"/>
            <a:ext cx="1024200" cy="1524240"/>
          </a:xfrm>
          <a:prstGeom prst="rect">
            <a:avLst/>
          </a:prstGeom>
          <a:ln w="38160">
            <a:solidFill>
              <a:srgbClr val="c58d01"/>
            </a:solidFill>
            <a:miter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3610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Режим работы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643040" y="92880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71800" y="3714840"/>
            <a:ext cx="5500440" cy="32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 прям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SMART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омпоненты и основны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либровка доски,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ртуальная клавиатура,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равая кнопка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меры работы с  интерактивной доской  прямой проекции SMART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3714840" y="2857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День 1- 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1"/>
          <p:cNvPicPr/>
          <p:nvPr/>
        </p:nvPicPr>
        <p:blipFill>
          <a:blip r:embed="rId1"/>
          <a:srcRect l="0" t="0" r="0" b="3447"/>
          <a:stretch/>
        </p:blipFill>
        <p:spPr>
          <a:xfrm>
            <a:off x="6572160" y="615960"/>
            <a:ext cx="1643040" cy="240012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изменять и передвигать объект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5960" y="3499920"/>
            <a:ext cx="6291360" cy="30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ерите любой объект на странице Notebook, чтобы изменить его свойс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выделенных объектов есть две «ручки» и выпадающее мен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604960" y="1071720"/>
            <a:ext cx="50133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5828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2314"/>
                </a:solidFill>
                <a:latin typeface="Corbel"/>
              </a:rPr>
              <a:t>Фигуры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429000" y="957960"/>
            <a:ext cx="485784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1857240" y="857160"/>
            <a:ext cx="1214640" cy="5662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1663560" y="214200"/>
            <a:ext cx="640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9"/>
          <p:cNvPicPr/>
          <p:nvPr/>
        </p:nvPicPr>
        <p:blipFill>
          <a:blip r:embed="rId1"/>
          <a:stretch/>
        </p:blipFill>
        <p:spPr>
          <a:xfrm>
            <a:off x="1714680" y="1538280"/>
            <a:ext cx="6162480" cy="15336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1809720" y="3429000"/>
            <a:ext cx="597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10"/>
          <p:cNvPicPr/>
          <p:nvPr/>
        </p:nvPicPr>
        <p:blipFill>
          <a:blip r:embed="rId2"/>
          <a:stretch/>
        </p:blipFill>
        <p:spPr>
          <a:xfrm>
            <a:off x="1332000" y="4786200"/>
            <a:ext cx="7451640" cy="1670040"/>
          </a:xfrm>
          <a:prstGeom prst="rect">
            <a:avLst/>
          </a:prstGeom>
          <a:ln w="0">
            <a:noFill/>
          </a:ln>
        </p:spPr>
      </p:pic>
      <p:sp>
        <p:nvSpPr>
          <p:cNvPr id="44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анель инструментов захвата экран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3" name="Picture 7" descr="panelka"/>
          <p:cNvPicPr/>
          <p:nvPr/>
        </p:nvPicPr>
        <p:blipFill>
          <a:blip r:embed="rId1"/>
          <a:stretch/>
        </p:blipFill>
        <p:spPr>
          <a:xfrm>
            <a:off x="357120" y="3214800"/>
            <a:ext cx="1511280" cy="13078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429000" y="1214280"/>
            <a:ext cx="533412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4520" y="62769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выделения области для копирования и  её с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rcRect l="48481" t="56045" r="0" b="0"/>
          <a:stretch/>
        </p:blipFill>
        <p:spPr>
          <a:xfrm>
            <a:off x="285840" y="1714680"/>
            <a:ext cx="31255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979640" y="357120"/>
          <a:ext cx="6516720" cy="4857840"/>
        </p:xfrm>
        <a:graphic>
          <a:graphicData uri="http://schemas.openxmlformats.org/drawingml/2006/table">
            <a:tbl>
              <a:tblPr/>
              <a:tblGrid>
                <a:gridCol w="3340080"/>
                <a:gridCol w="3176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або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и тащите, чтобы выделить область, которую вы хотите захватить. Отпустите палец, когда нужная область выд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внутри окна, которое вы хотите захватить. Отпустите палец, когда нужное окно станет заштрихован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йдите к изображению на экране, которое вы хотите сохранить и нажмите кнопку, чтобы захватить весь эк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65"/>
          <p:cNvSpPr/>
          <p:nvPr/>
        </p:nvSpPr>
        <p:spPr>
          <a:xfrm>
            <a:off x="1108080" y="5445000"/>
            <a:ext cx="78930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rcRect l="39549" t="35157" r="47267" b="25782"/>
          <a:stretch/>
        </p:blipFill>
        <p:spPr>
          <a:xfrm>
            <a:off x="2857680" y="1000080"/>
            <a:ext cx="1828800" cy="42861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0" t="0" r="27997" b="0"/>
          <a:stretch/>
        </p:blipFill>
        <p:spPr>
          <a:xfrm>
            <a:off x="7143840" y="1428840"/>
            <a:ext cx="1714320" cy="1944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олезные ссылки для анимированных картинок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28840" y="928440"/>
            <a:ext cx="721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ir-kartinok.ucoz.ru/forum/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gifpark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dopinfo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gif.vukogurt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unhome.ru/wallpa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demp3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mp3ex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musicfilesarea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1359000" y="4429080"/>
            <a:ext cx="7499160" cy="5000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Полезные ссылки для скачивания музыки в формате </a:t>
            </a:r>
            <a:r>
              <a:rPr b="0" lang="en-US" sz="2300" spc="-1" strike="noStrike">
                <a:solidFill>
                  <a:srgbClr val="572314"/>
                </a:solidFill>
                <a:latin typeface="Gill Sans MT"/>
              </a:rPr>
              <a:t>mp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5" descr="99.gif"/>
          <p:cNvPicPr/>
          <p:nvPr/>
        </p:nvPicPr>
        <p:blipFill>
          <a:blip r:embed="rId6"/>
          <a:stretch/>
        </p:blipFill>
        <p:spPr>
          <a:xfrm>
            <a:off x="5929200" y="2143080"/>
            <a:ext cx="10670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5" descr="99.gif"/>
          <p:cNvPicPr/>
          <p:nvPr/>
        </p:nvPicPr>
        <p:blipFill>
          <a:blip r:embed="rId7"/>
          <a:stretch/>
        </p:blipFill>
        <p:spPr>
          <a:xfrm>
            <a:off x="5934240" y="500076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42800" y="1428480"/>
            <a:ext cx="4000680" cy="32144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пехов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освоении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активных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ологий!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Рисунок 6" descr="lin-rot-r.gif"/>
          <p:cNvPicPr/>
          <p:nvPr/>
        </p:nvPicPr>
        <p:blipFill>
          <a:blip r:embed="rId1"/>
          <a:stretch/>
        </p:blipFill>
        <p:spPr>
          <a:xfrm>
            <a:off x="2214720" y="5214960"/>
            <a:ext cx="5715000" cy="3816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7" descr="47.gif"/>
          <p:cNvPicPr/>
          <p:nvPr/>
        </p:nvPicPr>
        <p:blipFill>
          <a:blip r:embed="rId2"/>
          <a:stretch/>
        </p:blipFill>
        <p:spPr>
          <a:xfrm>
            <a:off x="4572000" y="557208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notebook_school"/>
          <p:cNvPicPr/>
          <p:nvPr/>
        </p:nvPicPr>
        <p:blipFill>
          <a:blip r:embed="rId1"/>
          <a:stretch/>
        </p:blipFill>
        <p:spPr>
          <a:xfrm>
            <a:off x="4357800" y="3384720"/>
            <a:ext cx="4572000" cy="3330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9000"/>
              </a:srgbClr>
            </a:outerShdw>
          </a:effectLst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7858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Что даёт использование мультимедийных средств обучения нового поколения  в обучении?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1018800"/>
            <a:ext cx="828684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не привязываясь к своему компьютер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щественно повышается уровень компьютерной компетенции учите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кольникам  учиться становится интересно и увлекательн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нтерактивная доска SMART Board 600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357720" y="1357200"/>
            <a:ext cx="5572080" cy="58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kak"/>
          <p:cNvPicPr/>
          <p:nvPr/>
        </p:nvPicPr>
        <p:blipFill>
          <a:blip r:embed="rId1"/>
          <a:stretch/>
        </p:blipFill>
        <p:spPr>
          <a:xfrm>
            <a:off x="1000080" y="1643040"/>
            <a:ext cx="2303640" cy="210816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1143000" y="1500120"/>
            <a:ext cx="2308320" cy="208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работать с программами на интерактивной доске SMART Board?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643200" y="2286000"/>
            <a:ext cx="5143680" cy="407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70920"/>
            <a:ext cx="7499520" cy="11430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либровка интерактивной дос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SMART Bo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Picture 6" descr="ekran_kalibrovki"/>
          <p:cNvPicPr/>
          <p:nvPr/>
        </p:nvPicPr>
        <p:blipFill>
          <a:blip r:embed="rId1"/>
          <a:stretch/>
        </p:blipFill>
        <p:spPr>
          <a:xfrm>
            <a:off x="785880" y="2500200"/>
            <a:ext cx="3143160" cy="2646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928800" y="5357880"/>
            <a:ext cx="7786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32422" t="12894" r="0" b="13868"/>
          <a:stretch/>
        </p:blipFill>
        <p:spPr>
          <a:xfrm>
            <a:off x="4000680" y="1214280"/>
            <a:ext cx="5010120" cy="40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rcRect l="60255" t="8007" r="31691" b="79301"/>
          <a:stretch/>
        </p:blipFill>
        <p:spPr>
          <a:xfrm>
            <a:off x="2000160" y="1285920"/>
            <a:ext cx="7858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"/>
          <p:cNvCxnSpPr/>
          <p:nvPr/>
        </p:nvCxnSpPr>
        <p:spPr>
          <a:xfrm flipH="1" flipV="1">
            <a:off x="6143040" y="3285360"/>
            <a:ext cx="2500920" cy="7866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3"/>
          <p:cNvPicPr/>
          <p:nvPr/>
        </p:nvPicPr>
        <p:blipFill>
          <a:blip r:embed="rId1"/>
          <a:stretch/>
        </p:blipFill>
        <p:spPr>
          <a:xfrm>
            <a:off x="258840" y="4357800"/>
            <a:ext cx="324144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3643200" y="1000080"/>
            <a:ext cx="4753080" cy="298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5"/>
          <p:cNvPicPr/>
          <p:nvPr/>
        </p:nvPicPr>
        <p:blipFill>
          <a:blip r:embed="rId2"/>
          <a:stretch/>
        </p:blipFill>
        <p:spPr>
          <a:xfrm>
            <a:off x="1143000" y="16430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3670200" y="3286080"/>
            <a:ext cx="53308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Маркер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462040" y="64468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маркерами и ласт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6:22Z</dcterms:created>
  <dc:creator>Игнатова</dc:creator>
  <dc:description/>
  <dc:language>en-US</dc:language>
  <cp:lastModifiedBy>LEGION</cp:lastModifiedBy>
  <dcterms:modified xsi:type="dcterms:W3CDTF">2015-01-26T14:07:38Z</dcterms:modified>
  <cp:revision>99</cp:revision>
  <dc:subject/>
  <dc:title>Перспективы использования интерактивных технологий в учебном процессе</dc:title>
</cp:coreProperties>
</file>