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FC5F-8756-4250-9103-5AB1AD85F3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A85A-11DA-4E4F-B67D-D608452FEA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70FA-B139-4DDE-96E9-7BE47633BA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268D-EF5A-4A98-B85E-2B01E7C383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Моя сем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, потому что у нас в семье все дружные и очень меня люб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очень люблю свою семью и дорожу ею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Наша семья дружная и креп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Вот такая у меня интересная и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1859c"/>
                </a:solidFill>
                <a:latin typeface="Arial Black"/>
              </a:rPr>
              <a:t>☼ </a:t>
            </a:r>
            <a:r>
              <a:rPr b="1" lang="ru-RU" sz="1200" spc="-1" strike="noStrike">
                <a:solidFill>
                  <a:srgbClr val="31859c"/>
                </a:solidFill>
                <a:latin typeface="Calibri"/>
              </a:rPr>
              <a:t>Я ни минуточки не могу прожить без своих р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B4E6-3D10-473E-A9A5-A8EEB80CBE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E8D-D8C4-42E1-B6F6-91EF2930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D7D-97EE-4C52-ACD2-49B67823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990-EC38-4099-B9DA-5BDE77D5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62E-D099-436D-8FDD-AFAC553A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ABCA-58B7-4C0B-B596-C9B502EA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29F6-26D0-4521-A9B9-A514E273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51DA-AD40-43D1-B658-7208E221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BE00-F543-4EF7-BA49-5571E770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75DA-3F9B-465F-8390-CB157E52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CA58-CC85-4FB6-B07B-93F49970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E8D5-C691-406B-A4E6-4AE0525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238-172F-46E1-ABED-F535ED07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EA33-2B2C-4647-9EFC-67C6B2BB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0186-6444-473F-BAFD-5027A710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D30B-2B51-4C6A-B9B1-C9E474BF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C853-9A76-42EC-B3A1-51603A76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713B-DEA9-45C3-8F91-98D06727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4013-E1E7-4D28-9CB2-3744E63C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E629-BF19-4DAA-ABE4-03B52CF4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5497-83B0-40AD-A899-C0A12822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8466-260B-457C-BC19-8EAB5A5D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92AF-1D00-4D56-B0A0-58E669DB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FD5-5381-460F-AB3E-D66DE926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40572-5A98-4EED-89B2-A9D89352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B11B4-898B-4219-9B8C-750A257E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F093-BC10-47A4-90C0-63B9FD18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CDEBB-F7AB-464B-BFA8-DCB87877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90A5-4F87-48B3-B084-25354092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F20E-B088-4A54-8D2C-61C73B4F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063F-C0FC-4FE2-BBD2-90231E9C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E44E-4C91-43BA-82F5-5E57D414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E208B-EBF4-41AB-A928-0AC6D72F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F81F3-E10C-48A1-8B41-F42740F3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5D4-E6A6-42DA-A063-A12A6090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1982A-6BC9-4DBB-99E9-3BB37C2C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2ABB-B13A-404E-9A2A-944E9180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B42B-E051-4AAB-9ACA-361D1119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416CF-94D6-45AC-BBD6-62CBB560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D3C0F-BC61-40C7-816E-7592CDEB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4AA24-C612-4155-BA9A-981DA731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7F7EF-E67E-4D17-9A45-1DA8BDAB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41CF-E9DB-4D94-BFC4-DF8C5E5A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49CFB-2057-4F2C-8762-4F8E6E47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DA437-5676-4CE6-94D2-9B713186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39C-86F5-41B0-8154-317398CF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6A337-4BC7-4870-A494-40BCAF6D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4FBED-DC6F-4B0A-B000-DFAFA5DF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B8864-6C34-49D7-A51A-B5497176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2884F-8AAF-4E52-A026-D76F696A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F3508-8EEC-4F3A-8FDA-42BA8F00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5D637-66BB-44B8-9E9F-0A3FD033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F3289-FB50-4B17-97A9-5A0C392A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FBF43-6C31-45BF-98D8-417CF2BD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05A62-47F5-4A1A-A788-8717ECF3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76571-1685-4136-B77C-5BF71B03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BE1-02EA-410C-A144-34D09FF2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485FF-B3F2-44F6-B4D4-8540D003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FB1-31AD-451D-9ADA-A7DD0C0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DDD-39AE-4E13-9B58-5401342B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1ED-8608-4083-BFC0-66F346BB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1D97-99EB-46FA-910C-A998899CF0A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DE03-2263-4DFC-B774-8C56D6FCA6F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B48E-CDBA-49A0-BE3F-1F5EFDFB791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1A2C-FCDD-4402-A77C-3DD4034D4FB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83FB-5407-41A5-8BA2-14F9FE1A7FE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78FC-BE1B-4CFD-8538-1697701FDC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E81E-5DA0-4EFC-A356-12C23ED142F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16E8-2713-4BBF-BE85-EE0773563A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65E5-0B64-44E8-8E20-99CC1C78F23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8400-A7B9-4EC4-862A-7301C6F5064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4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nstantia"/>
              </a:rPr>
              <a:t>Формирование здоровых детско-родительских отношен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5" name="Picture 4" descr="55220375"/>
          <p:cNvPicPr/>
          <p:nvPr/>
        </p:nvPicPr>
        <p:blipFill>
          <a:blip r:embed="rId1"/>
          <a:stretch/>
        </p:blipFill>
        <p:spPr>
          <a:xfrm>
            <a:off x="5429160" y="2428920"/>
            <a:ext cx="3143520" cy="42861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1205640" y="6453360"/>
            <a:ext cx="63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ечанова Лариса Николаевна Социальный педагог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МБОУ «СОШ №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1928880" y="714240"/>
            <a:ext cx="657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3204"/>
                </a:solidFill>
                <a:latin typeface="Constantia"/>
              </a:rPr>
              <a:t>Воспитание – процесс целенаправленного, систематического формирования личности в целях подготовки её к активному участию в общественной, производственной и культур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vikrus76_9910_L"/>
          <p:cNvPicPr/>
          <p:nvPr/>
        </p:nvPicPr>
        <p:blipFill>
          <a:blip r:embed="rId1"/>
          <a:stretch/>
        </p:blipFill>
        <p:spPr>
          <a:xfrm>
            <a:off x="4429080" y="3714840"/>
            <a:ext cx="3929040" cy="28382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Constantia"/>
              </a:rPr>
              <a:t>«Воспитание – навыки поведения, привитые семьёй, школой, средой и проявляющиеся в общественной жизн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1143000" y="37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«Толковый словарь русского языка» С.И. Ожег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rbel"/>
              </a:rPr>
              <a:t>Моя семь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76360" y="1285920"/>
            <a:ext cx="56242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, потому что у нас в семье все дружные и очень меня любя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очень люблю свою семью и дорожу ею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Наша семья дружная и крепка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Вот такая у меня интересная и дружная семь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3204"/>
                </a:solidFill>
                <a:latin typeface="Arial Black"/>
              </a:rPr>
              <a:t>☼ </a:t>
            </a:r>
            <a:r>
              <a:rPr b="1" lang="ru-RU" sz="2400" spc="-1" strike="noStrike">
                <a:solidFill>
                  <a:srgbClr val="713204"/>
                </a:solidFill>
                <a:latin typeface="Corbel"/>
              </a:rPr>
              <a:t>Я ни минуточки не могу прожить без своих родны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8" name="Picture 4" descr="55220375"/>
          <p:cNvPicPr/>
          <p:nvPr/>
        </p:nvPicPr>
        <p:blipFill>
          <a:blip r:embed="rId1"/>
          <a:stretch/>
        </p:blipFill>
        <p:spPr>
          <a:xfrm>
            <a:off x="0" y="2666880"/>
            <a:ext cx="3086280" cy="41911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5475960" y="623736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з детских соч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2" name="Picture 4" descr="сканирование0033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  <p:pic>
        <p:nvPicPr>
          <p:cNvPr id="283" name="09 Блонкер - Уличное кафе.wav" descr=""/>
          <p:cNvPicPr/>
          <p:nvPr/>
        </p:nvPicPr>
        <p:blipFill>
          <a:blip r:embed="rId2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90783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6T14:07:58Z</dcterms:modified>
  <cp:revision>21</cp:revision>
  <dc:subject/>
  <dc:title>Формирование здоровых детско-родительских отношений</dc:title>
</cp:coreProperties>
</file>