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9F14-6B41-40F4-B7C2-1DD7A775C2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3DC4-327F-4FA0-A09A-E120D1A812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E1AA-920B-471B-B3FC-0B7CB79890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145A-3BC8-4E46-8848-4446622925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Моя сем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, потому что у нас в семье все дружные и очень меня люб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 и дорожу ею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Наша семья дружная и креп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Вот такая у меня интересная и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ни минуточки не могу прожить без своих р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09AD-D784-47E6-A35D-5627960850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99B-5348-457A-A547-8CF4CE98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D58-94D0-433E-A551-9C065F43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9B0-40AE-44E9-8837-B7C6FFC3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A6A-5946-4680-8AF4-BD2EB74B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39D0-9ECB-4738-88DC-CB148A0D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10CF-734F-4DE0-BCB9-98B0A40B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9C47-0392-46B9-AA60-EBEDFA9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0200-AFB1-44BE-ABF0-5D2DB4C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9DF0-9391-407C-8653-D49EBD1C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A436-4DAF-4BC7-87E7-843396CE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EA30-6BD1-4020-8124-08D8966F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E60-7D10-4167-AB39-9F9C5761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FAF4-260C-4AC7-9FD3-3155E36E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19F4-B6F6-49CA-9089-E0DBBF9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3FAE-9D3E-4772-BE78-177D8B89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2BD-DFAF-4310-9CB0-59EE2E53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53B7-9C66-45E0-B621-E716EA16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97F7-CDCE-496C-8167-251789B4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98CBF-4A83-4CAD-9194-C9858FC2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A1C2A-DA4A-4BCF-B561-16092158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D7AB-3B76-4C71-973B-7BFB5011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ED16-AD6E-4C69-9C29-10D35871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A30-63E3-4C7E-925F-8F0BE043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E5FB-4D9F-471A-8403-E3C42854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EA57-8B46-4C06-9DD2-91E5A5D9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D3F8-99B3-41AC-ABE7-45532B4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0A5C-8B48-4C1B-A105-171C2F41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0906-B5A5-4980-BA34-EEA8C686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296F-901A-437D-B492-448CB24F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CA3A-11E2-48B5-BB0F-6F70963D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39FB2-9982-4658-9953-63F33B2D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0BE6-EBA8-401C-979B-69FDEB94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17051-87CD-4A9C-8BEE-F23CEFC1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231-0247-4C4C-918B-CC56311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FCDB2-5E36-4F01-BA16-1CA0F218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E9DF-8A01-4FC0-B6EE-B7F7EDA1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B5ED-3D3D-41D2-A6CB-D269B72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ACBB-1705-413B-9D3F-8DD99A29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24B8-6023-4889-A2A7-C7D87A1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F2C35-32E3-404A-9FD4-45FB451A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ABF9-87CE-43BA-AC27-BB1D67F6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EEF8-2288-4773-B214-60542983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5C7C-A4BC-40D1-842A-E80B3B05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69DB-4310-4E23-810E-5A8B30F4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A3D-320B-49AE-B4BC-49550480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3938-3189-49C9-BDA7-D6FFC7F7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E3BEB-5122-4E37-A8E4-E452BD4F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3E35A-9EBF-4A19-A6E9-4C7EC5D8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F88A8-A610-4F9B-BDB5-0645586B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4580-C43B-446C-A7D9-FC70B090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91A65-F729-4179-9137-5E5F456F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48546-F5C1-4808-8051-1986D75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5BAAC-DC05-4D04-813F-DA0AB42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428D-3853-416B-A9FF-64C2362C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737C4-59D5-468E-A044-B952C9E1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E30-FFF1-4376-946D-80DB9F84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7208-A2C3-4D85-84D7-1E4D4969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9DA-AF13-4084-B5AE-4762E748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E80-E91C-40C0-AEF9-67C0CE97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790-0D7D-4B2E-9E43-ECFC3AEF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B7F9-31C2-4C91-940C-A2D7318E7A9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9F56-82E1-4149-BF39-B40F890A74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326-A259-4769-8BEE-D2081CE7C1E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1F9C-47CE-47A5-B4A8-C8FC661CC7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92BC-6A8C-4989-A687-A88DA043440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3858-C6A8-4680-8EAF-FBC60F75BB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6AF8-B7F0-4F94-8E00-1AA5A871A43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6E9E-38B0-4C79-A532-5A06C9BF81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28D9-A8B9-4914-B573-A830A67C0B4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3824-50E2-45E7-AD22-5EA97C5E7B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5" name="Picture 4" descr="55220375"/>
          <p:cNvPicPr/>
          <p:nvPr/>
        </p:nvPicPr>
        <p:blipFill>
          <a:blip r:embed="rId1"/>
          <a:stretch/>
        </p:blipFill>
        <p:spPr>
          <a:xfrm>
            <a:off x="5429160" y="2428920"/>
            <a:ext cx="3143520" cy="4286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205640" y="645336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ечанова Лариса Николаевна Социальный педаго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МБОУ «СОШ 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1928880" y="714240"/>
            <a:ext cx="657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3204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vikrus76_9910_L"/>
          <p:cNvPicPr/>
          <p:nvPr/>
        </p:nvPicPr>
        <p:blipFill>
          <a:blip r:embed="rId1"/>
          <a:stretch/>
        </p:blipFill>
        <p:spPr>
          <a:xfrm>
            <a:off x="4429080" y="3714840"/>
            <a:ext cx="3929040" cy="28382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143000" y="37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«Толковый словарь русского языка» С.И. Ожег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rbel"/>
              </a:rPr>
              <a:t>Моя семь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76360" y="1285920"/>
            <a:ext cx="56242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, потому что у нас в семье все дружные и очень меня любя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 и дорожу ею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Наша семья дружная и крепка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Вот такая у меня интересная и дружная семь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ни минуточки не могу прожить без своих родны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8" name="Picture 4" descr="55220375"/>
          <p:cNvPicPr/>
          <p:nvPr/>
        </p:nvPicPr>
        <p:blipFill>
          <a:blip r:embed="rId1"/>
          <a:stretch/>
        </p:blipFill>
        <p:spPr>
          <a:xfrm>
            <a:off x="0" y="2666880"/>
            <a:ext cx="3086280" cy="4191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475960" y="6237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з детских соч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2" name="Picture 4" descr="сканирование0033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283" name="09 Блонкер - Уличное кафе.wav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90783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7:58Z</dcterms:modified>
  <cp:revision>21</cp:revision>
  <dc:subject/>
  <dc:title>Формирование здоровых детско-родительских отношений</dc:title>
</cp:coreProperties>
</file>