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3EE4-9824-44C3-872E-948FE726359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на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пособу взи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органа, который устанавливает и имеет право изменять и конкретизировать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целевой направленности введения на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субъекта-налогоплательщ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уровню бюдж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орядку в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рокам упл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63D2-5A29-47E4-8698-5F663C44984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По характеру связ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, построенные по принципу резиде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, построенные по принципу территориа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4A94-C3E8-4164-864F-42EA4367486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ходы по уплате налог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ются полностью или частично в себестоимость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ются в цену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ятся на финансовый результ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лачиваются за счет налогооблагаемой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уются за счет чистой прибыли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рживаются из доходов работ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3B1D-3DA7-4C66-809F-63CD033D09E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пособу взи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е налоги взимаются непосредственно с имущества или доходов налогоплательщика.Окончательным плательщиком прямых налогов выступает владелец имущества (дохода). Эти налоги подразделяются н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еальные прямые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е уплачиваются с учетом не действительного среднего дохода плательщика,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ичные прямые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е уплачиваются с реально полученного дохода и учитывают фактическую платежеспособность налогоплательщ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2A8F-622B-4009-9C6D-599ECA05C6D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ые налоги включаются в цену товаров и услуг. Окончательным косвенных налогов является потребитель товара. В зависимости от объектов взимания косвенные налоги подразделяются н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свенные индивидуаль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ми облагаются строго определенные группы товаров;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свенные универсаль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ми облагаются в основном все товары и услуги;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искальные монопол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ми облагаются все товары , производство и реализация которых сосредоточены в государственных структурах;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аможенные пошли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ми облагаются товары и услуги при совершении экспортно-импортны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9FD3-7ADA-4E82-A526-E53157FCB47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 устанавливает и имеет право зависимости от органов, которые изменять и конкретизировать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(общегосударственные)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ные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479D-EC68-4525-B8C1-6FBAE3ED92F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целевой направленности введения на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бстрактные (общие) налоги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назначенные для формирования доходной части бюджета в це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елевые (специальные) налоги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одимые для финансирования конкретного направления государственных расходов. Для целевых платежей часто создается специальный внебюджетный фон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702A-25BC-48E2-8165-E6AD653D72B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субъекта-налогоплательщ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, взимаемые с физически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, взимаемые с предприятий и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жные налоги, уплачиваемые и физическими и юридическими л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F296-0B85-49C6-B01A-E490A334C5D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уровню бюдж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крепленные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епосредственно и целиком поступающие в тот или иной бюджет или внебюджетный фон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гулирующие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разноуровневые, поступающие одновременно в различные бюджеты в пропорции, принятой согласно бюджетному законодатель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85FC-145D-4C9B-B5C9-C35552E7C1F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орядку в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щеобязательные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е взимаются на всей территории страны независимо от бюджета, в который они поступ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акультативные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е предусмотрены основами налоговой системы, но их введение и взимание  компенсация органов местного само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C640-7FF5-4C9A-A716-428D7A53A28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рокам уплат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ые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ично-календарные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53E1-FA81-433A-9B0F-9D28ABF3974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5453-32A1-43F8-A837-D2DC80E1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E234-0816-4CA8-BAE2-3A792115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AA5F-EAFD-40E1-98FC-78E5C89A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36E0-87B4-4272-BBCA-C301F63B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2235-5E85-424F-BED4-E2188220F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0D32-D027-4E2E-97D6-2EEE7414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F4A5-B725-45AB-AA13-D2446F05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24F9-511A-4C5A-8AAA-D843449C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DDF3-71A8-47C2-8ADB-79F46C24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4182-F4EC-4451-B23D-C277AE40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9959-8777-4698-8C72-47EB3AF0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82D0-B371-4F59-A979-18B39893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450C-E48C-4E83-A66D-091B2C2F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017E-0037-4D6C-A2AC-FA45C1AF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2862-FFE8-4D62-BD27-1792B0CF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3A13-8668-45CF-87A8-C2B2B433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3663-7473-46C1-A634-6AE451E96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5489-489A-4460-9717-5E2D2E51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D167-FE4D-4102-9EF8-7C286EB1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1023-9114-46A0-9306-A4BC670D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106D-9B38-4E38-93BF-0BE24654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EAFE-0C59-4E0E-9556-2B494500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5A5E-A49D-438D-9EE7-27DA5016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2C16-0176-444B-87E6-2F8021DA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1024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2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4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025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8775-08B8-423C-B768-0A16C9F9A249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5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21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10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11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12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13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14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15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23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2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6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7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8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918F-4842-4F5E-BA02-8A938ABEC1D6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Классификация налогов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62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способу взим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зависимости от органа, который устанавливает и имеет право изменять и конкретизировать налог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целевой направленности введения налог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зависимости от субъекта-налогоплательщ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уровню бюдже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порядку вве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срокам упла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о характеру связи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33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оги, построенные по принципу резиде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33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оги, построенные по принципу территориаль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асходы по уплате налог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ключаются полностью или частично в себестоимость проду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ключаются в цену проду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носятся на финансовый результ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плачиваются за счет налогооблагаемой прибы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нансируются за счет чистой прибыли предприя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держиваются из доходов работн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По способу взимания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ямые налоги взимаются непосредственно с имущества или доходов налогоплательщика.Окончательным плательщиком прямых налогов выступает владелец имущества (дохода). Эти налоги подразделяются н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еальные прямые налог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е уплачиваются с учетом не действительного среднего дохода плательщика,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личные прямые налог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е уплачиваются с реально полученного дохода и учитывают фактическую платежеспособность налогоплательщ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свенные налоги включаются в цену товаров и услуг. Окончательным косвенных налогов является потребитель товара. В зависимости от объектов взимания косвенные налоги подразделяются н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освенные индивидуаль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ми облагаются строго определенные группы товаров;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освенные универсаль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ми облагаются в основном все товары и услуги;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фискальные монопол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ми облагаются все товары , производство и реализация которых сосредоточены в государственных структурах;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аможенные пошли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ми облагаются товары и услуги при совершении экспортно-импортных операц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79680" y="83772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993366"/>
                </a:solidFill>
                <a:latin typeface="Times New Roman"/>
              </a:rPr>
              <a:t>В устанавливает и имеет право зависимости от органов, которые изменять и конкретизировать налог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7760" y="320040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едеральные (общегосударственные) налог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егиональные налог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естные налог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По целевой направленности введения налогов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бстрактные (общие) налоги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назначенные для формирования доходной части бюджета в цел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Целевые (специальные) налоги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водимые для финансирования конкретного направления государственных расходов. Для целевых платежей часто создается специальный внебюджетный фон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В зависимости от субъекта-налогоплательщика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7760" y="24382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оги, взимаемые с физических ли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оги, взимаемые с предприятий и организа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межные налоги, уплачиваемые и физическими и юридическими лиц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По уровню бюджета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крепленные налог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непосредственно и целиком поступающие в тот или иной бюджет или внебюджетный фон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егулирующие налог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разноуровневые, поступающие одновременно в различные бюджеты в пропорции, принятой согласно бюджетному законодательств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По порядку введения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щеобязательные налог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оторые взимаются на всей территории страны независимо от бюджета, в который они поступаю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акультативные налог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оторые предусмотрены основами налоговой системы, но их введение и взимание  компенсация органов местного самоупр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По срокам уплаты</a:t>
            </a:r>
            <a:br>
              <a:rPr sz="4400"/>
            </a:b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79600" y="3716280"/>
            <a:ext cx="7626240" cy="23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рочные налог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ериодично-календарные налог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22:33:58Z</dcterms:created>
  <dc:creator>TANYA</dc:creator>
  <dc:description/>
  <dc:language>en-US</dc:language>
  <cp:lastModifiedBy>LEGION</cp:lastModifiedBy>
  <dcterms:modified xsi:type="dcterms:W3CDTF">2014-11-10T09:07:32Z</dcterms:modified>
  <cp:revision>3</cp:revision>
  <dc:subject/>
  <dc:title>Классификация налогов</dc:title>
</cp:coreProperties>
</file>