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B8FC-5849-415A-9081-1EA67A13F0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вз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органа, который устанавливает и имеет право изменять и конкретизировать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целевой направленности введен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убъекта-налогоплательщ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 бюдж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орядку в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рокам у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89FD-869B-432E-9B8D-1C89F8408B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о характеру связ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построенные по принципу резид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построенные по принципу территори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FDA9-DC50-4E3E-AA30-D42BDF23F5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ходы по уплате нало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ся полностью или частично в себестоимость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ся в цену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на финансовый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лачиваются за счет налогооблагаемой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уются за счет чистой прибы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иваются из доходов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2456-7971-4214-9C3A-BD033484B8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вз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налоги взимаются непосредственно с имущества или доходов налогоплательщика.Окончательным плательщиком прямых налогов выступает владелец имущества (дохода). Эти налоги подразделяютс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альные прям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уплачиваются с учетом не действительного среднего дохода плательщика,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ичные прям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уплачиваются с реально полученного дохода и учитывают фактическую платежеспособность налогоплатель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99D4-6388-4C61-91B6-67ED3C2339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 включаются в цену товаров и услуг. Окончательным косвенных налогов является потребитель товара. В зависимости от объектов взимания косвенные налоги подразделяютс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индивиду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строго определенные группы товаров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универс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в основном все товары и услуги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скальные монопо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все товары , производство и реализация которых сосредоточены в государственных структурах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товары и услуги при совершении экспортно-импор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8F0E-FDA7-4930-B76E-879F965FD0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устанавливает и имеет право зависимости от органов, которые изменять и конкретизировать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общегосударственные)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01F3-363E-43CE-BE2C-1C1FB7BF5D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целевой направленности введен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трактные (общие) налог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назначенные для формирования доходной части бюджет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евые (специальные) налог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имые для финансирования конкретного направления государственных расходов. Для целевых платежей часто создается специальный внебюджетный фо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D4E5-0400-431D-92F3-9C4BB1561D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убъекта-налогоплательщ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взимаемые с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взимаемые с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ые налоги, уплачиваемые 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1258-681E-4391-A247-9777DCC51B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 бюдж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реплен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посредственно и целиком поступающие в тот или иной бюджет или внебюджетный фо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ющи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зноуровневые, поступающие одновременно в различные бюджеты в пропорции, принятой согласно бюджетному законодатель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9618-1AA2-47FA-BA51-10DDB1F1CD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орядку в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обязатель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взимаются на всей территории страны независимо от бюджета, в который они поступ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культатив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предусмотрены основами налоговой системы, но их введение и взимание  компенсация органов местного само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D374-33C3-49DA-9E28-4D4AC0D3E5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рокам упла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-календар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CEDB-7A1B-4A34-AFBD-53E86EC923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9A1-C58B-44E3-8C92-9F4B6810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458-A899-471A-B73A-5A13FAFE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558-8BCE-4109-9866-3AEBBD49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ED4-2E44-4108-BE23-BC6D5E89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0221-8B6D-4B2A-9EB2-CBC23BB2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B1D0-1345-4BBE-8749-A8FB30C8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4F6A-DAE0-4C86-892A-F829A21F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EF92-8FDF-42E0-B274-125C3B4D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D5C1-6701-4B92-B5D0-4659A728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6294-8763-44E8-A560-85AC8385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7737-4FC8-41B1-B409-D3977DC8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3B6-8F8E-473D-B309-1BE48EF2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9044-FD4B-4E49-86E3-1BD9EC80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86E0-CF59-460C-A7E0-C568E328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7CC0-9197-4354-AACD-CBF2926B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9591-B8C6-43BA-982E-8A24AE9B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FDE1-0826-426F-BA24-3C059D0F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26E-43CD-465F-B621-0F51B888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71E-FCF7-49D4-80F0-5AD6D38C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7B8-3F01-47F2-AA8F-273815B0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FAF-C046-42BD-82C5-30FAA03B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4E6-4EBF-47F5-96F3-344ECEA4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CC1-AB8B-4FA0-B6BB-A353E3A2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FD6-29F6-4B5C-A79B-E8B2E970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B1FB-F57B-4A5B-ADFA-56ACC529A28F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B1CB-C563-4451-B6F9-1828C88AD2E3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лассификация налог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62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пособу взим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органа, который устанавливает и имеет право изменять и конкретизировать нало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целевой направленности введения налог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субъекта-налогоплательщ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уровню бюдж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порядку в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рокам упл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 характеру связ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построенные по принципу резиде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построенные по принципу территориа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по уплате налог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ются полностью или частично в себестоимость проду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ются в цену проду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ятся на финансовый результ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лачиваются за счет налогооблагаемой прибы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нансируются за счет чистой прибыли пред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ерживаются из доходов работ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способу взима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ые налоги взимаются непосредственно с имущества или доходов налогоплательщика.Окончательным плательщиком прямых налогов выступает владелец имущества (дохода). Эти налоги подразделяю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еальные прямые нало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уплачиваются с учетом не действительного среднего дохода плательщика,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ичные прямые нало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уплачиваются с реально полученного дохода и учитывают фактическую платежеспособность налогоплательщ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ые налоги включаются в цену товаров и услуг. Окончательным косвенных налогов является потребитель товара. В зависимости от объектов взимания косвенные налоги подразделяю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свенные индивиду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строго определенные группы товаров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свенные универс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в основном все товары и услуги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искальные монопол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все товары , производство и реализация которых сосредоточены в государственных структурах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моженные пошли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товары и услуги при совершении экспортно-импор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79680" y="8377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993366"/>
                </a:solidFill>
                <a:latin typeface="Times New Roman"/>
              </a:rPr>
              <a:t>В устанавливает и имеет право зависимости от органов, которые изменять и конкретизировать налог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7760" y="32004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едеральные (общегосударственные)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ональ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ст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целевой направленности введения налог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бстрактные (общие) налоги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назначенные для формирования доходной части бюджета в це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евые (специальные) налог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одимые для финансирования конкретного направления государственных расходов. Для целевых платежей часто создается специальный внебюджет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 зависимости от субъекта-налогоплательщи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7760" y="24382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взимаемые с физических 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взимаемые с предприятий и организ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жные налоги, уплачиваемые и физическими и юридическими лиц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уровню бюджет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креплен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епосредственно и целиком поступающие в тот или иной бюджет или внебюджет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ирующи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зноуровневые, поступающие одновременно в различные бюджеты в пропорции, принятой согласно бюджетному законодательст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порядку введе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щеобязатель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взимаются на всей территории страны независимо от бюджета, в который они поступ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акультатив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предусмотрены основами налоговой системы, но их введение и взимание  компенсация органов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срокам уплаты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9600" y="3716280"/>
            <a:ext cx="7626240" cy="23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роч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иодично-календар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2:33:58Z</dcterms:created>
  <dc:creator>TANYA</dc:creator>
  <dc:description/>
  <dc:language>en-US</dc:language>
  <cp:lastModifiedBy>LEGION</cp:lastModifiedBy>
  <dcterms:modified xsi:type="dcterms:W3CDTF">2014-11-10T09:07:32Z</dcterms:modified>
  <cp:revision>3</cp:revision>
  <dc:subject/>
  <dc:title>Классификация налогов</dc:title>
</cp:coreProperties>
</file>