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move the slide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D78D9-BC7C-40D5-A7AB-84E62390082F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24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Comic Sans MS"/>
              </a:rPr>
              <a:t>Детский сад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Детский сад – мой дом родн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Я его люблю как св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Дороги мне стены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Дорог мне уют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Каждый, кто здесь трудится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Те меня пойму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С каждым ранним солнышк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В этот сад спешу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Чтоб увидеть маленьки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Я ими дорож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FCCEE-2C9E-43A9-BA08-E14A090A6D86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Наши группы</a:t>
            </a:r>
            <a:br>
              <a:rPr sz="12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Группа «Петушок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евиз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тушок с утра вста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вонко песенки по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 и мы не отста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месте с солнышком вста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селимся и игра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икогда не уныва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23894-B7F1-482F-86F4-1598BF8E3B27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уппа «Лучик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евиз: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усть солнце расплывается в улыбке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кользя по васильковым небес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яркий лучик нежно нас коснется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ьшой, цветущий мир откроет на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F195C-3E56-4235-99C5-3B9C6332ACB9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уппа «Ручеек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евиз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венит ручеек, бежит и смеется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группа у нас «Ручейком» и зовет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отим на занятиях побольше узна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б в будущем самыми умными ста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E683D-2AED-4ECD-AE14-0E1C984FB48B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уппа «Малинк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Девиз: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Мы детишк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Группы «Малинка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м любая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 плечу тропин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тихотворение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детском садике сво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мечательно живем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ы и лепим, и рисуем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 танцуем, и по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чень любим выступа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 на ложках  поигра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Хорошо живется ту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с малинками зову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26537-F4E9-4B72-B458-A5C427A5B5E2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уппа «Вишенк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Девиз:          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Вишенка, вишенка,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Мы твои цветы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Вырасти хорошими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Нам поможешь ты!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Стихотворение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ебятишки очень ра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группу «Вишенка» ходи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ам тепло, заботу, ласк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Любят взрослые дари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ам игрушки стоят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ожидаются ребят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ам картины на стен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 цветочки на окн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Ждут и сказка, и рассказ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дивляют всегда на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ы в театре все игра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ак артисты выступа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 пеньем, рисованьем, лепк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ружат дети очень крепк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ша группа просто клад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акой группе рад весь сад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EDBA0-7300-49C5-B275-D9A65A13EE79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DADED-40A1-40F2-A86C-186AF40EB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5E7EF-153A-4479-AC18-C77DBA735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5DA81-FAFF-4F6D-A9E4-3407C80CF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C1128-5AEE-49CB-9AE5-3EC2EF5C1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9EF73-9721-48E2-976C-7F6E4DF70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2DD56-C80A-415F-94EE-3AF7062CB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EBD8E-BC5E-45BF-8E94-E7A2DE33F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83F6F-F03F-4B42-A01C-0CC1D344F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3B1BB-CFD0-4CE5-BC17-715C867C0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CC4F5-64A7-4383-A649-7354CD2CE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08583-B51D-48E1-9A34-09EA2BB1C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42B04-6468-4E5B-829A-5187CD25A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DD32F-C062-4538-9F46-E0C06790D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2B5B8-69F9-4E11-96E9-63F433E5E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0794C-FCD3-4F44-B572-C78D5A148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0C094-4C60-4A7C-B555-88650C251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59870-6085-4711-A4ED-4D24F389C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A2A50-4F03-4B57-AA3D-FC69AB0BC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760EB-67ED-455B-B9F7-1C55FECA7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DE4B5-7E98-448B-B49E-1CFE2D4F9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3D68D-8515-4188-AD97-F80F62E67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2D88D-1E5C-49FA-B803-888B03733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BFF3D-9ADB-4BC7-9800-B18708A5E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8144B-9642-475E-964A-484A72DD2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B526B-884C-4996-A310-A8D878EF10B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2948B-C476-40DF-A548-B7B51F456CF4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28760" y="928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eec94"/>
                </a:solidFill>
                <a:latin typeface="Comic Sans MS"/>
              </a:rPr>
              <a:t>Детский сад</a:t>
            </a:r>
            <a:endParaRPr b="1" lang="en-US" sz="8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85840" y="2214360"/>
            <a:ext cx="8229600" cy="375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mic Sans MS"/>
              </a:rPr>
              <a:t>Детский сад – мой дом родной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mic Sans MS"/>
              </a:rPr>
              <a:t>Я его люблю как свой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mic Sans MS"/>
              </a:rPr>
              <a:t>Дороги мне стены,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mic Sans MS"/>
              </a:rPr>
              <a:t>Дорог мне уют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mic Sans MS"/>
              </a:rPr>
              <a:t>Каждый, кто здесь трудится,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mic Sans MS"/>
              </a:rPr>
              <a:t>Те меня поймут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mic Sans MS"/>
              </a:rPr>
              <a:t>С каждым ранним солнышком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mic Sans MS"/>
              </a:rPr>
              <a:t>В этот сад спешу,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mic Sans MS"/>
              </a:rPr>
              <a:t>Чтоб увидеть маленьких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mic Sans MS"/>
              </a:rPr>
              <a:t>Я ими дорожу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eec94"/>
                </a:solidFill>
                <a:latin typeface="Comic Sans MS"/>
              </a:rPr>
              <a:t>Наши группы</a:t>
            </a:r>
            <a:br>
              <a:rPr sz="4400"/>
            </a:b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Группа «Петушок»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Девиз: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етушок с утра встае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Звонко песенки пое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Но и мы не отстаем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месте с солнышком встаем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еселимся и играем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Никогда не унываем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2" name="Picture 10" descr="SS100015"/>
          <p:cNvPicPr/>
          <p:nvPr/>
        </p:nvPicPr>
        <p:blipFill>
          <a:blip r:embed="rId1"/>
          <a:stretch/>
        </p:blipFill>
        <p:spPr>
          <a:xfrm>
            <a:off x="5003640" y="1628640"/>
            <a:ext cx="3384720" cy="4357800"/>
          </a:xfrm>
          <a:prstGeom prst="rect">
            <a:avLst/>
          </a:prstGeom>
          <a:ln w="0">
            <a:noFill/>
          </a:ln>
        </p:spPr>
      </p:pic>
      <p:sp>
        <p:nvSpPr>
          <p:cNvPr id="1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Группа «Лучик»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79280" y="1628640"/>
            <a:ext cx="439272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Девиз: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усть солнце расплывается в улыбке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кользя по васильковым небесам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И яркий лучик нежно нас коснется          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Большой, цветущий мир откроет нам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6" name="Picture 7" descr="SS100003"/>
          <p:cNvPicPr/>
          <p:nvPr/>
        </p:nvPicPr>
        <p:blipFill>
          <a:blip r:embed="rId1"/>
          <a:stretch/>
        </p:blipFill>
        <p:spPr>
          <a:xfrm>
            <a:off x="4500720" y="1989000"/>
            <a:ext cx="4465440" cy="3676680"/>
          </a:xfrm>
          <a:prstGeom prst="rect">
            <a:avLst/>
          </a:prstGeom>
          <a:ln w="0">
            <a:noFill/>
          </a:ln>
        </p:spPr>
      </p:pic>
      <p:sp>
        <p:nvSpPr>
          <p:cNvPr id="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Группа «Ручеек»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Девиз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Звенит ручеек, бежит и смеется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А группа у нас «Ручейком» и зовется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Хотим на занятиях побольше узнать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Чтоб в будущем самыми умными стать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0" name="Picture 6" descr="SS100005"/>
          <p:cNvPicPr/>
          <p:nvPr/>
        </p:nvPicPr>
        <p:blipFill>
          <a:blip r:embed="rId1"/>
          <a:stretch/>
        </p:blipFill>
        <p:spPr>
          <a:xfrm>
            <a:off x="4643280" y="1989000"/>
            <a:ext cx="4321440" cy="3751560"/>
          </a:xfrm>
          <a:prstGeom prst="rect">
            <a:avLst/>
          </a:prstGeom>
          <a:ln w="0">
            <a:noFill/>
          </a:ln>
        </p:spPr>
      </p:pic>
      <p:sp>
        <p:nvSpPr>
          <p:cNvPr id="14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Группа «Малинка»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Девиз: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Мы детишки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Группы «Малинка»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Нам любая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о плечу тропинк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Стихотворение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В детском садике своем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Замечательно живем…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Мы и лепим, и рисуем,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И танцуем, и поем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Очень любим выступать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И на ложках  поиграть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Хорошо живется тут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Нас малинками зовут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4" name="Picture 12" descr="SS100017"/>
          <p:cNvPicPr/>
          <p:nvPr/>
        </p:nvPicPr>
        <p:blipFill>
          <a:blip r:embed="rId1"/>
          <a:stretch/>
        </p:blipFill>
        <p:spPr>
          <a:xfrm>
            <a:off x="4572000" y="1916280"/>
            <a:ext cx="4321080" cy="3744720"/>
          </a:xfrm>
          <a:prstGeom prst="rect">
            <a:avLst/>
          </a:prstGeom>
          <a:ln w="0">
            <a:noFill/>
          </a:ln>
        </p:spPr>
      </p:pic>
      <p:sp>
        <p:nvSpPr>
          <p:cNvPr id="1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Группа «Вишенка»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24000" y="1268280"/>
            <a:ext cx="403848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Девиз:           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Вишенка, вишенка,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Мы твои цветы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Вырасти хорошими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Нам поможешь ты!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Стихотворение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Ребятишки очень рады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В группу «Вишенка» ходить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Там тепло, заботу, ласку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Любят взрослые дарить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Там игрушки стоят,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Дожидаются ребят,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Там картины на стене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И цветочки на окне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Ждут и сказка, и рассказ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Удивляют всегда нас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Мы в театре все играем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Как артисты выступаем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С пеньем, рисованьем, лепкой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Дружат дети очень крепко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Наша группа просто клад,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Такой группе рад весь сад!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8" name="Picture 7" descr="SS100021"/>
          <p:cNvPicPr/>
          <p:nvPr/>
        </p:nvPicPr>
        <p:blipFill>
          <a:blip r:embed="rId1"/>
          <a:stretch/>
        </p:blipFill>
        <p:spPr>
          <a:xfrm>
            <a:off x="4500720" y="1989000"/>
            <a:ext cx="4402080" cy="3600720"/>
          </a:xfrm>
          <a:prstGeom prst="rect">
            <a:avLst/>
          </a:prstGeom>
          <a:ln w="0">
            <a:noFill/>
          </a:ln>
        </p:spPr>
      </p:pic>
      <p:sp>
        <p:nvSpPr>
          <p:cNvPr id="1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Николай</dc:creator>
  <dc:description/>
  <dc:language>en-US</dc:language>
  <cp:lastModifiedBy>LEGION</cp:lastModifiedBy>
  <dcterms:modified xsi:type="dcterms:W3CDTF">2015-01-26T14:08:31Z</dcterms:modified>
  <cp:revision>49</cp:revision>
  <dc:subject/>
  <dc:title>PowerPoint Presentation</dc:title>
</cp:coreProperties>
</file>