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44638-06F5-48D8-9482-90BF90D5E0C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4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Comic Sans MS"/>
              </a:rPr>
              <a:t>Детский сад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Детский сад – мой дом родн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Я его люблю как св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Дороги мне стены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Дорог мне ую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Каждый, кто здесь трудитс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Те меня пойму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С каждым ранним солнышк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В этот сад спешу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Чтоб увидеть маленьки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Я ими дорож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468E0-56ED-4E44-BB4F-4A163A7894C7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Наши группы</a:t>
            </a:r>
            <a:br>
              <a:rPr sz="12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руппа «Петушок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евиз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тушок с утра вста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вонко песенки по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и мы не отста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месте с солнышком вста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селимся и игра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когда не уныва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78B91-52CC-4B9B-83EC-C7F0BF240221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уппа «Лучик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евиз: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сть солнце расплывается в улыбк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кользя по васильковым небес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яркий лучик нежно нас коснется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шой, цветущий мир откроет н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89284-7245-4015-BEF1-3DE743A7A56E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уппа «Ручеек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евиз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венит ручеек, бежит и смеетс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группа у нас «Ручейком» и зовет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отим на занятиях побольше узна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б в будущем самыми умными ста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DB434-00D1-4C8D-800B-0C5FDFAD89D7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уппа «Малинк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евиз: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Мы детиш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руппы «Малинка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м любая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 плечу тропин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тихотворение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детском садике сво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мечательно живем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ы и лепим, и рисуем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 танцуем, и по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чень любим выступа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 на ложках  поигра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Хорошо живется ту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с малинками зову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83FD4-6529-4094-B11C-BC3D36A89CB4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уппа «Вишенк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Девиз:      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ишенка, вишенка,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Мы твои цветы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ырасти хорошими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ам поможешь ты!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тихотворение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бятишки очень ра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группу «Вишенка» ходи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ам тепло, заботу, лас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юбят взрослые дари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ам игрушки стоят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ожидаются ребят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ам картины на сте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 цветочки на окн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Ждут и сказка, и рассказ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дивляют всегда на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ы в театре все игра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к артисты выступа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 пеньем, рисованьем, лепк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ружат дети очень крепк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ша группа просто клад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акой группе рад весь сад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14E81-8B45-4747-A961-917B5D31AC9E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1442-8C3A-46B3-8D9C-81ACC7CC4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5684-3EBA-4BC2-A1C5-4B505FFDF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9C66-2F88-4E3F-B7CB-9454BF226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3F14-AD42-4486-9EF6-9142AED43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16875-3369-4119-B776-117AE2280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E3769-B655-404B-8938-A32903747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AC27F-5EB6-4AA8-B773-378B4AD75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48D21-A835-4C8E-A8A9-72E3012F0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CA473-0D8C-4680-B79E-CB31D7459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B893F-57D0-4259-B09E-3476E19F3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57029-ECC8-487B-BF11-992F82238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7BDB-4862-4A0F-9C71-558C104BB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3A24B-153C-4D85-84BE-488C5E742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7D319-70A3-45B3-B423-70B239763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27A00-AB21-4B5B-9F4F-FE3F5123D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D6DAC-8BED-4CE1-9581-0E495F642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DA0A8-EDD3-417A-8426-246EAF2CF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2B8E-AC73-4B21-8C51-4BAB66D67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C0DA-B6FB-4B8C-AC29-7C12157BE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0916-7BBA-433E-A63C-2DEF403A1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EEDA-6452-42E1-9815-6D584C410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B77C-896A-43B5-8D05-4E1912413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F44F-97A6-4D8C-87C5-0053F30D7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3FD9-C38E-4D06-BD93-9D61B58B2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30034-C08C-432F-8050-D3AA6716FFD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BCA6E-EDA0-4F81-931E-DCEB252BCADE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28760" y="9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eec94"/>
                </a:solidFill>
                <a:latin typeface="Comic Sans MS"/>
              </a:rPr>
              <a:t>Детский сад</a:t>
            </a:r>
            <a:endParaRPr b="1" lang="en-US" sz="8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85840" y="2214360"/>
            <a:ext cx="8229600" cy="37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mic Sans MS"/>
              </a:rPr>
              <a:t>Детский сад – мой дом родной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mic Sans MS"/>
              </a:rPr>
              <a:t>Я его люблю как свой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mic Sans MS"/>
              </a:rPr>
              <a:t>Дороги мне стены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mic Sans MS"/>
              </a:rPr>
              <a:t>Дорог мне уют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mic Sans MS"/>
              </a:rPr>
              <a:t>Каждый, кто здесь трудится,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mic Sans MS"/>
              </a:rPr>
              <a:t>Те меня поймут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mic Sans MS"/>
              </a:rPr>
              <a:t>С каждым ранним солнышком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mic Sans MS"/>
              </a:rPr>
              <a:t>В этот сад спешу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mic Sans MS"/>
              </a:rPr>
              <a:t>Чтоб увидеть маленьких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mic Sans MS"/>
              </a:rPr>
              <a:t>Я ими дорожу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eec94"/>
                </a:solidFill>
                <a:latin typeface="Comic Sans MS"/>
              </a:rPr>
              <a:t>Наши группы</a:t>
            </a:r>
            <a:br>
              <a:rPr sz="44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Группа «Петушок»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Девиз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етушок с утра встае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Звонко песенки пое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о и мы не отстаем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месте с солнышком встаем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еселимся и играем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икогда не унываем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Picture 10" descr="SS100015"/>
          <p:cNvPicPr/>
          <p:nvPr/>
        </p:nvPicPr>
        <p:blipFill>
          <a:blip r:embed="rId1"/>
          <a:stretch/>
        </p:blipFill>
        <p:spPr>
          <a:xfrm>
            <a:off x="5003640" y="1628640"/>
            <a:ext cx="3384720" cy="435780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Группа «Лучик»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628640"/>
            <a:ext cx="439272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Девиз: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усть солнце расплывается в улыбке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кользя по васильковым небесам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 яркий лучик нежно нас коснется       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Большой, цветущий мир откроет нам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Picture 7" descr="SS100003"/>
          <p:cNvPicPr/>
          <p:nvPr/>
        </p:nvPicPr>
        <p:blipFill>
          <a:blip r:embed="rId1"/>
          <a:stretch/>
        </p:blipFill>
        <p:spPr>
          <a:xfrm>
            <a:off x="4500720" y="1989000"/>
            <a:ext cx="4465440" cy="3676680"/>
          </a:xfrm>
          <a:prstGeom prst="rect">
            <a:avLst/>
          </a:prstGeom>
          <a:ln w="0">
            <a:noFill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Группа «Ручеек»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Девиз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Звенит ручеек, бежит и смеется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 группа у нас «Ручейком» и зоветс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Хотим на занятиях побольше узнат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Чтоб в будущем самыми умными стать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Picture 6" descr="SS100005"/>
          <p:cNvPicPr/>
          <p:nvPr/>
        </p:nvPicPr>
        <p:blipFill>
          <a:blip r:embed="rId1"/>
          <a:stretch/>
        </p:blipFill>
        <p:spPr>
          <a:xfrm>
            <a:off x="4643280" y="1989000"/>
            <a:ext cx="4321440" cy="3751560"/>
          </a:xfrm>
          <a:prstGeom prst="rect">
            <a:avLst/>
          </a:prstGeom>
          <a:ln w="0">
            <a:noFill/>
          </a:ln>
        </p:spPr>
      </p:pic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Группа «Малинка»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Девиз: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Мы детишк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Группы «Малинка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ам любая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о плечу тропинк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Стихотворение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В детском садике своем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Замечательно живем…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Мы и лепим, и рисуем,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И танцуем, и поем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Очень любим выступать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И на ложках  поиграть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Хорошо живется тут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Нас малинками зовут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" name="Picture 12" descr="SS100017"/>
          <p:cNvPicPr/>
          <p:nvPr/>
        </p:nvPicPr>
        <p:blipFill>
          <a:blip r:embed="rId1"/>
          <a:stretch/>
        </p:blipFill>
        <p:spPr>
          <a:xfrm>
            <a:off x="4572000" y="1916280"/>
            <a:ext cx="4321080" cy="3744720"/>
          </a:xfrm>
          <a:prstGeom prst="rect">
            <a:avLst/>
          </a:prstGeom>
          <a:ln w="0">
            <a:noFill/>
          </a:ln>
        </p:spPr>
      </p:pic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Группа «Вишенка»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Девиз:          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Вишенка, вишенка,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Мы твои цветы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Вырасти хорошими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ам поможешь ты!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Стихотворение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Ребятишки очень рады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В группу «Вишенка» ходить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Там тепло, заботу, ласку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Любят взрослые дарить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Там игрушки стоят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Дожидаются ребят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Там картины на стен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И цветочки на окне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Ждут и сказка, и рассказ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Удивляют всегда нас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Мы в театре все играем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Как артисты выступае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С пеньем, рисованьем, лепкой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Дружат дети очень крепко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Наша группа просто клад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Такой группе рад весь сад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Picture 7" descr="SS100021"/>
          <p:cNvPicPr/>
          <p:nvPr/>
        </p:nvPicPr>
        <p:blipFill>
          <a:blip r:embed="rId1"/>
          <a:stretch/>
        </p:blipFill>
        <p:spPr>
          <a:xfrm>
            <a:off x="4500720" y="1989000"/>
            <a:ext cx="4402080" cy="3600720"/>
          </a:xfrm>
          <a:prstGeom prst="rect">
            <a:avLst/>
          </a:prstGeom>
          <a:ln w="0">
            <a:noFill/>
          </a:ln>
        </p:spPr>
      </p:pic>
      <p:sp>
        <p:nvSpPr>
          <p:cNvPr id="1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Николай</dc:creator>
  <dc:description/>
  <dc:language>en-US</dc:language>
  <cp:lastModifiedBy>LEGION</cp:lastModifiedBy>
  <dcterms:modified xsi:type="dcterms:W3CDTF">2015-01-26T14:08:31Z</dcterms:modified>
  <cp:revision>49</cp:revision>
  <dc:subject/>
  <dc:title>PowerPoint Presentation</dc:title>
</cp:coreProperties>
</file>