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4298-95D4-40F3-BF6B-4037908C3D7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ный метод (проблемное изложение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назначение метода — раскрытие в изучаемом учебном материале различных проблем и показ способов их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8A11-6C10-4C25-AB64-86279A2EC1F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тод. Основное назначение метода – постепенная подготовка обучаемых к самостоятельной постановке и решению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F0A7-E43E-4EA9-9892-7236DF5F813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ъявление обучаемым новых для них проблем, постановка и разработка исследовательских зада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C045-ED62-485F-95A8-0F3B0C6C103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закрепления изученн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именения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и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ерки и коррекции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й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0A87-402D-4DE1-BCB3-64B4467469B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Урок ознакомления с новым материалом</a:t>
            </a: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, задач урока и мотивация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знакомление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вичное осмысление и закрепление связей и отношений в объектах из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становка задания на 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3961-5C1A-437F-98A0-AA077C1CB4D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рок закрепления изучен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, уточнение направлений актуализации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сообщение темы, цели и задач урока, мотивация 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оизведение изученного и его применение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04F1-CA99-4382-B371-6F3CD4E035B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рок применения знаний и ум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самостоятельное выполнение учащимися заданий под контролем учите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обобщение и систематизация результатов выполненн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FF03-E1D6-4A82-8635-A8B17C48D1D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Урок обобщения и систематизации знаний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становка цели урока и мотивация учеб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воспроизведение и коррекция опорн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овторение и анализ основных фактов, событий, явл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B560-F587-491A-BA2C-5701AE69ED2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Урок проверки и коррекции знаний и ум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роверка умений учащихся применять знания в измененных, не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(на данном и последующих урока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AFCA-3E63-4857-98B1-68FFD6DFA6A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омбинированны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темой урока, постановка его целей и зада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и умений учащихся по пройденному материал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излож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ервичное закрепление изученн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8856-D46B-48C9-B379-66A2E342E07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(буквально путь к чему-то) означает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осо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стижения цели, определенным образом упорядоч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07F2-F518-4A79-9C19-9EEA5B15657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актуализация опорных знани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 и выдача учащимся индивидуальных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6008-1F31-42A6-B819-D0DE8E9CD55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- 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дготов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игро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заключ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анализ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AFEC-016A-4330-9E5D-944670D6F41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источнику получения зн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ловесные методы (источником знания является устное или печатное слов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76BC-3EEB-4DC9-8EEC-62BC098791C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ес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ебником и кни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DD20-C731-44D9-BC21-3353219D71C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ллю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мон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F7E7-7390-45CD-BD8E-1FCDDBE1383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ктические методы обу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7D30-B7C9-47A8-B580-62E41A78C74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лассификация методов обучения в зависимости от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характер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ознавательной деятельности учащих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льно-иллюстр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родук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 мет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F500-E4F6-4DBF-9D6E-AAAE1680E91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Объяснительно-иллюстратив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еятельность обучаемых заключается в восприятии, осмыслении и запоминании сообщае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5F43-B823-4126-8F08-21D11220973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продуктивны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назначение метода — формирование навыков и умений использования и применения получе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6250-FBB0-4822-BD95-784BA64F9BC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AFB-FF15-4F47-9A67-AFB79843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0C0-598C-4898-86EF-F6B49D50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432-B469-487F-8EDF-8A2E16BC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C35-DBBD-4538-B526-367BF661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3978-92EC-4F2E-BB47-4B97307F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05C5-07F3-4012-8D49-F59DB859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7DCA-1C15-4CE2-B1F2-0A9C137A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95C7-D50C-4CEF-A9E3-2FBDF294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EFEF-7090-4500-ABDA-CDA819F3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1B43-3AA8-42BF-857F-26402E6B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1684-D345-4D43-AE22-4A577727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81A-C1AA-4DB8-A02C-CD941162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356D-DA82-4D32-AD1C-B7AED4D5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C318-0BFC-4DA8-8BE3-43D5D9F7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DE4-BDE5-4409-9DE6-1A5A2A6D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3075-AE7D-4E4C-B1A7-642AD53F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32EC-B2DA-468B-89B0-56880969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3C9-D683-4C9C-8F39-7A7B4F7D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D1E-55FA-40C5-B16B-DDCE6939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BFE-6E0A-4F2C-B482-5E161527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9A6-3D3E-4F16-B95D-0FA72A6A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CD6-BB48-4206-9F93-27AC1DA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476-5C81-4026-A85B-5602B856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7AB-10D9-4E29-AB55-A0D7D38C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51F4-88D6-47C8-BFB5-50FD7B40FD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194D-193F-4202-9437-DC85E4D751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WordArt 48"/>
          <p:cNvSpPr txBox="1"/>
          <p:nvPr/>
        </p:nvSpPr>
        <p:spPr>
          <a:xfrm>
            <a:off x="3132000" y="1557360"/>
            <a:ext cx="57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4" name="WordArt 49"/>
          <p:cNvSpPr txBox="1"/>
          <p:nvPr/>
        </p:nvSpPr>
        <p:spPr>
          <a:xfrm>
            <a:off x="4427640" y="155736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6804000" y="1557360"/>
            <a:ext cx="48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1979640" y="2349360"/>
            <a:ext cx="344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3203640" y="2276640"/>
            <a:ext cx="425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4356000" y="234936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6804000" y="2349360"/>
            <a:ext cx="401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0" name="WordArt 55"/>
          <p:cNvSpPr txBox="1"/>
          <p:nvPr/>
        </p:nvSpPr>
        <p:spPr>
          <a:xfrm>
            <a:off x="3203640" y="314172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WordArt 56"/>
          <p:cNvSpPr txBox="1"/>
          <p:nvPr/>
        </p:nvSpPr>
        <p:spPr>
          <a:xfrm>
            <a:off x="4433760" y="3162240"/>
            <a:ext cx="354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WordArt 57"/>
          <p:cNvSpPr txBox="1"/>
          <p:nvPr/>
        </p:nvSpPr>
        <p:spPr>
          <a:xfrm>
            <a:off x="6877080" y="3141720"/>
            <a:ext cx="358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WordArt 58"/>
          <p:cNvSpPr txBox="1"/>
          <p:nvPr/>
        </p:nvSpPr>
        <p:spPr>
          <a:xfrm>
            <a:off x="1908000" y="4005360"/>
            <a:ext cx="432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4" name="WordArt 59"/>
          <p:cNvSpPr txBox="1"/>
          <p:nvPr/>
        </p:nvSpPr>
        <p:spPr>
          <a:xfrm>
            <a:off x="3276720" y="393372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5" name="WordArt 60"/>
          <p:cNvSpPr txBox="1"/>
          <p:nvPr/>
        </p:nvSpPr>
        <p:spPr>
          <a:xfrm>
            <a:off x="4427640" y="4005360"/>
            <a:ext cx="50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6" name="WordArt 61"/>
          <p:cNvSpPr txBox="1"/>
          <p:nvPr/>
        </p:nvSpPr>
        <p:spPr>
          <a:xfrm>
            <a:off x="6804000" y="393372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7" name="WordArt 62"/>
          <p:cNvSpPr txBox="1"/>
          <p:nvPr/>
        </p:nvSpPr>
        <p:spPr>
          <a:xfrm>
            <a:off x="2050920" y="472428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8" name="WordArt 63"/>
          <p:cNvSpPr txBox="1"/>
          <p:nvPr/>
        </p:nvSpPr>
        <p:spPr>
          <a:xfrm>
            <a:off x="3203640" y="4724280"/>
            <a:ext cx="39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9" name="WordArt 64"/>
          <p:cNvSpPr txBox="1"/>
          <p:nvPr/>
        </p:nvSpPr>
        <p:spPr>
          <a:xfrm>
            <a:off x="4427640" y="4724280"/>
            <a:ext cx="431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10" name="WordArt 65"/>
          <p:cNvSpPr txBox="1"/>
          <p:nvPr/>
        </p:nvSpPr>
        <p:spPr>
          <a:xfrm>
            <a:off x="5508720" y="1557360"/>
            <a:ext cx="57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1" name="WordArt 66"/>
          <p:cNvSpPr txBox="1"/>
          <p:nvPr/>
        </p:nvSpPr>
        <p:spPr>
          <a:xfrm>
            <a:off x="5651640" y="234936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2" name="WordArt 67"/>
          <p:cNvSpPr txBox="1"/>
          <p:nvPr/>
        </p:nvSpPr>
        <p:spPr>
          <a:xfrm>
            <a:off x="5651640" y="321300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3" name="WordArt 68"/>
          <p:cNvSpPr txBox="1"/>
          <p:nvPr/>
        </p:nvSpPr>
        <p:spPr>
          <a:xfrm>
            <a:off x="5651640" y="393372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4" name="WordArt 69"/>
          <p:cNvSpPr txBox="1"/>
          <p:nvPr/>
        </p:nvSpPr>
        <p:spPr>
          <a:xfrm>
            <a:off x="5724360" y="472428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78300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89000"/>
          <a:ext cx="8229600" cy="640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ый метод (проблемное изложение)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назначение метода — раскрытие в изучаемом учебном материале различных проблем и показ способов их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9000"/>
          <a:ext cx="8229600" cy="7072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ично-поисковый метод, или эвристическ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метод. Основное назначение метода – постепенная подготовка обучаемых к самостоятельной постановке и решению проб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0"/>
          <a:ext cx="8229600" cy="647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тельский метод.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ъявление обучаемым новых для них проблем, постановка и разработка исследовательских заданий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ипы уроков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знакомления с новым материалом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закрепления изученного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именения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бобщения и систематизации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оверки и коррекции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мбинированный урок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Урок ознакомления с новым материалом</a:t>
            </a:r>
            <a:br>
              <a:rPr sz="2400"/>
            </a:br>
            <a:br>
              <a:rPr sz="2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сообщение темы, цели, задач урока и мотивация учебной деятель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ознакомление с новым материал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первичное осмысление и закрепление связей и отношений в объектах изуче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остановка задания на д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2. Урок закрепления изученног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, уточнение направлений актуализации материал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сообщение темы, цели и задач урока, мотивация учени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воспроизведение изученного и его применение в стандартных условиях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подведение итогов урок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становка домашнего зад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3. Урок применения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     самостоятельное выполнение учащимися заданий под контролем учител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     обобщение и систематизация результатов выполненны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Урок обобщения и систематизации знаний</a:t>
            </a:r>
            <a:br>
              <a:rPr sz="3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остановка цели урока и мотивация учебной деятельности учащихс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воспроизведение и коррекция опорных знаний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повторение и анализ основных фактов, событий, явл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. Урок проверки и коррекции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5.      проверка умений учащихся применять знания в измененных, не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6.      подведение итогов (на данном и последующих уроках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6. Комбинированный ур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ознакомление с темой урока, постановка его целей и задач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роверка домашнего зада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проверка знаний и умений учащихся по пройденному материалу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изложение нов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ервичное закрепление изученн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етоды обуч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7010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 (буквально путь к чему-то) означает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пособ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достижения цели, определенным образом упорядоченную деятельност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-экскурс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     сообщение темы, цели и задач урок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     актуализация опорных знаний учащихся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     подведение итогов урока и выдача учащимся индивидуальных зада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 - ролевая иг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     подготов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     игрово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     заключ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     анализ результат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 источнику получения знаний.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) словесные методы (источником знания является устное или печатное слово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ловес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бота с учебником и книго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кскурс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усс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каз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есе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ая раб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гляд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иллю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демон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актические методы обуч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ажн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ворческие работ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лассификация методов обучения в зависимости от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характе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ознавательной деятельности учащих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ительно-иллюстра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продук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блем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астично-поисковый метод, или эвристический мето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тельский метод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60280"/>
          <a:ext cx="8229600" cy="652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7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Объяснительно-иллюстративный метод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Деятельность обучаемых заключается в восприятии, осмыслении и запоминании сообщаемой информ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9000"/>
          <a:ext cx="8229600" cy="6118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продуктивный мето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ое назначение метода — формирование навыков и умений использования и применения получен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50:38Z</dcterms:created>
  <dc:creator>Ольга Филиповна</dc:creator>
  <dc:description/>
  <dc:language>en-US</dc:language>
  <cp:lastModifiedBy>LEGION</cp:lastModifiedBy>
  <dcterms:modified xsi:type="dcterms:W3CDTF">2015-01-26T14:09:20Z</dcterms:modified>
  <cp:revision>12</cp:revision>
  <dc:subject/>
  <dc:title>Слайд 1</dc:title>
</cp:coreProperties>
</file>