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217C2-B988-457C-A667-F360EC640A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блемный метод (проблемное изложение)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назначение метода — раскрытие в изучаемом учебном материале различных проблем и показ способов их р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5964-CF22-468F-B548-07E7A180346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етод. Основное назначение метода – постепенная подготовка обучаемых к самостоятельной постановке и решению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5EC61-270F-4240-AD53-CB2FE2A4A92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ъявление обучаемым новых для них проблем, постановка и разработка исследовательских заданий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2D9F-74E3-4D73-962F-F891C21A77C1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ипы ур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знакомления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закрепления изученного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именения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общения и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проверки и коррекции знаний и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ированный уро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E422A-44F4-41D8-8DB4-5552DE6EAF3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1. Урок ознакомления с новым материалом</a:t>
            </a:r>
            <a:br>
              <a:rPr sz="1400"/>
            </a:br>
            <a:br>
              <a:rPr sz="14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, задач урока и мотивация учебной деятельност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знакомление с новым материал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вичное осмысление и закрепление связей и отношений в объектах из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становка задания на до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E86BF-F5CE-4B3E-80F7-C244E7E2384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2. Урок закрепления изученно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, уточнение направлений актуализации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сообщение темы, цели и задач урока, мотивация уч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оизведение изученного и его применение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7E7A5-14F6-4251-9A19-1ECC846FCED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3. Урок применения знаний и умен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самостоятельное выполнение учащимися заданий под контролем учител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обобщение и систематизация результатов выполненны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DBC-8CF5-4BE0-AAD7-E9FC598E1B6A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. Урок обобщения и систематизации знаний</a:t>
            </a:r>
            <a:br>
              <a:rPr sz="24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становка цели урока и мотивация учебной деятельности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воспроизведение и коррекция опорных знан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овторение и анализ основных фактов, событий, явле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521E4-940A-48C8-A994-51540B9E3F2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5. Урок проверки и коррекции знаний и умен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роверка умений учащихся применять знания в измененных, нестандартных условия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(на данном и последующих урока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95C0A-4084-4071-99E5-BC3B6C9EBCAC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омбинированный ур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ознакомление с темой урока, постановка его целей и задач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проверка домашнего зада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проверка знаний и умений учащихся по пройденному материалу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изложение нов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ервичное закрепление изученного материал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     подведение итогов урока и постановка домашнего зад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E58F-B430-4BED-8244-7180D47C17E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етод (буквально путь к чему-то) означает 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способ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достижения цели, определенным образом упорядоченную деяте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9B87E-51E1-485D-91B2-A8358A99922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-экскурс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сообщение темы, цели и задач урок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актуализация опорных знаний учащихс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обобщение и систематизация зн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  подведение итогов урока и выдача учащимся индивидуальных зад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6F0D-1B13-4B5B-A442-D8D72A048A8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- ролевая иг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     подготов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     игрово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   заключительны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  анализ результа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D27-03E6-40FF-A8FA-C4907F1E42D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 источнику получения знаний.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ловесные методы (источником знания является устное или печатное слово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B2993-ACD6-4E84-9628-0CA8A46F554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овес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с учебником и книг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скурс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кусс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е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ая рабо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DC6-D0E6-40E7-8101-004157D51BE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глядные методы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иллю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демонстра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A86C-7954-4A89-93B1-1BA44E23495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рактические методы обуч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ж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ие работ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6A33-CF90-45D9-836F-AEDCF2BD6ED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лассификация методов обучения в зависимости от </a:t>
            </a:r>
            <a:r>
              <a:rPr b="0" lang="ru-RU" sz="1100" spc="-1" strike="noStrike">
                <a:solidFill>
                  <a:srgbClr val="c0504d"/>
                </a:solidFill>
                <a:latin typeface="Calibri"/>
              </a:rPr>
              <a:t>характера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познавательной деятельности учащихс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яснительно-иллюстра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продуктивны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ично-поисковый метод, или эвристический мет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следовательски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9AEA5-7B76-4405-899B-FFFC96C7832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Объяснительно-иллюстративный мет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Деятельность обучаемых заключается в восприятии, осмыслении и запоминании сообщаемой информ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6BA1E-9FBA-404E-B95A-5C2DA1B73AF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ткое содержание метод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ю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продуктивный мет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е назначение метода — формирование навыков и умений использования и применения полученных зн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A6C31-8DFD-472F-9423-7B19D44090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4170-C248-420F-9BB6-894DA7D3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4DF6-6D6F-455E-B051-CA2149516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A1E-CE4F-4408-A87E-DB19DA151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96FB-38BA-4E9B-9DC2-F7BC3B572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C067-52E3-474D-BE0F-23B0E1ED0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17590-6D81-4AAA-8583-C0C5CA11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00C30-0F1A-4FA2-82D6-3357D83A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7DAC8-8D5F-44AF-9EA1-8CB1E7B8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BF5B4-66C8-4582-832A-A065BEEE9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B5F9-FC9E-4B04-9AD1-74E79A25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8C842-6ABC-4A62-8101-84E34A779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54ED-FCC0-4CD9-89CE-F7D825E02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56D5-B1AC-4F74-B822-93B0D4DA0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6A4B9-01AE-4860-AE45-82F54041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7A893-EA6E-407C-90B8-8EE2A14EF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0B795-DFE7-4432-BBFC-703BD3FA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2E0D2-9088-41E4-8107-97CD7D3F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126F-AF50-4770-9588-E048A4C0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48A7-452D-4090-867E-D25FC7A7C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140D-1EEF-4332-B9E2-A8A152D7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B77A-22B0-4980-AA41-B2C11DD12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782E-C1BB-4D07-ABA1-4004BB62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5349-370B-4EA8-8F7A-57A3361F2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6ABC-8403-47CE-9A22-1878350EA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CE99-AEDC-4B58-A810-250E857F323D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55B95-EE8C-4228-B4E1-9C5D41D85E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WordArt 48"/>
          <p:cNvSpPr txBox="1"/>
          <p:nvPr/>
        </p:nvSpPr>
        <p:spPr>
          <a:xfrm>
            <a:off x="3132000" y="1557360"/>
            <a:ext cx="576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м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4" name="WordArt 49"/>
          <p:cNvSpPr txBox="1"/>
          <p:nvPr/>
        </p:nvSpPr>
        <p:spPr>
          <a:xfrm>
            <a:off x="4427640" y="155736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5" name="WordArt 50"/>
          <p:cNvSpPr txBox="1"/>
          <p:nvPr/>
        </p:nvSpPr>
        <p:spPr>
          <a:xfrm>
            <a:off x="6804000" y="1557360"/>
            <a:ext cx="488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99"/>
                </a:solidFill>
                <a:latin typeface="Arial"/>
              </a:rPr>
              <a:t>е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6699"/>
              </a:solidFill>
              <a:latin typeface="Arial"/>
              <a:ea typeface="Arial"/>
            </a:endParaRPr>
          </a:p>
        </p:txBody>
      </p:sp>
      <p:sp>
        <p:nvSpPr>
          <p:cNvPr id="96" name="WordArt 51"/>
          <p:cNvSpPr txBox="1"/>
          <p:nvPr/>
        </p:nvSpPr>
        <p:spPr>
          <a:xfrm>
            <a:off x="1979640" y="2349360"/>
            <a:ext cx="3445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7" name="WordArt 52"/>
          <p:cNvSpPr txBox="1"/>
          <p:nvPr/>
        </p:nvSpPr>
        <p:spPr>
          <a:xfrm>
            <a:off x="3203640" y="2276640"/>
            <a:ext cx="4255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8" name="WordArt 53"/>
          <p:cNvSpPr txBox="1"/>
          <p:nvPr/>
        </p:nvSpPr>
        <p:spPr>
          <a:xfrm>
            <a:off x="4356000" y="234936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99" name="WordArt 54"/>
          <p:cNvSpPr txBox="1"/>
          <p:nvPr/>
        </p:nvSpPr>
        <p:spPr>
          <a:xfrm>
            <a:off x="6804000" y="2349360"/>
            <a:ext cx="4017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Arial"/>
              </a:rPr>
              <a:t>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100" name="WordArt 55"/>
          <p:cNvSpPr txBox="1"/>
          <p:nvPr/>
        </p:nvSpPr>
        <p:spPr>
          <a:xfrm>
            <a:off x="3203640" y="3141720"/>
            <a:ext cx="4302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1" name="WordArt 56"/>
          <p:cNvSpPr txBox="1"/>
          <p:nvPr/>
        </p:nvSpPr>
        <p:spPr>
          <a:xfrm>
            <a:off x="4433760" y="3162240"/>
            <a:ext cx="3542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2" name="WordArt 57"/>
          <p:cNvSpPr txBox="1"/>
          <p:nvPr/>
        </p:nvSpPr>
        <p:spPr>
          <a:xfrm>
            <a:off x="6877080" y="3141720"/>
            <a:ext cx="3589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103" name="WordArt 58"/>
          <p:cNvSpPr txBox="1"/>
          <p:nvPr/>
        </p:nvSpPr>
        <p:spPr>
          <a:xfrm>
            <a:off x="1908000" y="4005360"/>
            <a:ext cx="43200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4" name="WordArt 59"/>
          <p:cNvSpPr txBox="1"/>
          <p:nvPr/>
        </p:nvSpPr>
        <p:spPr>
          <a:xfrm>
            <a:off x="3276720" y="3933720"/>
            <a:ext cx="5032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5" name="WordArt 60"/>
          <p:cNvSpPr txBox="1"/>
          <p:nvPr/>
        </p:nvSpPr>
        <p:spPr>
          <a:xfrm>
            <a:off x="4427640" y="4005360"/>
            <a:ext cx="50472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д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6" name="WordArt 61"/>
          <p:cNvSpPr txBox="1"/>
          <p:nvPr/>
        </p:nvSpPr>
        <p:spPr>
          <a:xfrm>
            <a:off x="6804000" y="3933720"/>
            <a:ext cx="5047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00ff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00ff"/>
              </a:solidFill>
              <a:latin typeface="Arial"/>
              <a:ea typeface="Arial"/>
            </a:endParaRPr>
          </a:p>
        </p:txBody>
      </p:sp>
      <p:sp>
        <p:nvSpPr>
          <p:cNvPr id="107" name="WordArt 62"/>
          <p:cNvSpPr txBox="1"/>
          <p:nvPr/>
        </p:nvSpPr>
        <p:spPr>
          <a:xfrm>
            <a:off x="2050920" y="472428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8" name="WordArt 63"/>
          <p:cNvSpPr txBox="1"/>
          <p:nvPr/>
        </p:nvSpPr>
        <p:spPr>
          <a:xfrm>
            <a:off x="3203640" y="4724280"/>
            <a:ext cx="390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09" name="WordArt 64"/>
          <p:cNvSpPr txBox="1"/>
          <p:nvPr/>
        </p:nvSpPr>
        <p:spPr>
          <a:xfrm>
            <a:off x="4427640" y="4724280"/>
            <a:ext cx="431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cc"/>
                </a:solidFill>
                <a:latin typeface="Arial"/>
              </a:rPr>
              <a:t>б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cc"/>
              </a:solidFill>
              <a:latin typeface="Arial"/>
              <a:ea typeface="Arial"/>
            </a:endParaRPr>
          </a:p>
        </p:txBody>
      </p:sp>
      <p:sp>
        <p:nvSpPr>
          <p:cNvPr id="110" name="WordArt 65"/>
          <p:cNvSpPr txBox="1"/>
          <p:nvPr/>
        </p:nvSpPr>
        <p:spPr>
          <a:xfrm>
            <a:off x="5508720" y="1557360"/>
            <a:ext cx="576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1" name="WordArt 66"/>
          <p:cNvSpPr txBox="1"/>
          <p:nvPr/>
        </p:nvSpPr>
        <p:spPr>
          <a:xfrm>
            <a:off x="5651640" y="234936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у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2" name="WordArt 67"/>
          <p:cNvSpPr txBox="1"/>
          <p:nvPr/>
        </p:nvSpPr>
        <p:spPr>
          <a:xfrm>
            <a:off x="5651640" y="3213000"/>
            <a:ext cx="433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ч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3" name="WordArt 68"/>
          <p:cNvSpPr txBox="1"/>
          <p:nvPr/>
        </p:nvSpPr>
        <p:spPr>
          <a:xfrm>
            <a:off x="5651640" y="3933720"/>
            <a:ext cx="3603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4" name="WordArt 69"/>
          <p:cNvSpPr txBox="1"/>
          <p:nvPr/>
        </p:nvSpPr>
        <p:spPr>
          <a:xfrm>
            <a:off x="5724360" y="4724280"/>
            <a:ext cx="432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783000"/>
            <a:ext cx="82296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7200" y="189000"/>
          <a:ext cx="8229600" cy="6406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блемный метод (проблемное изложение).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назначение метода — раскрытие в изучаемом учебном материале различных проблем и показ способов их реш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ыявление и классификация проблем, которые можно ставить перед обучаемым, формулировка гипотез и показ способов их проверки. Постановка проблем в процессе проведения опыта, наблюдений в природе, логического умозаключения. При этом обучаемый может пользоваться словом, логическим рассуждением, демонстрацией опыта, анализом наблюдений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не только в восприятии, осмыслении и запоминании готовых научных выводов, но и в прослеживании за логикой доказательств, за движением мыслей обучающего (проблема, гипотеза, доказательство достоверности или ложности выдвинутых предложений и т.д.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457200" y="189000"/>
          <a:ext cx="8229600" cy="7072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77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06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астично-поисковый метод, или эвристический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метод. Основное назначение метода – постепенная подготовка обучаемых к самостоятельной постановке и решению пробл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. Подведение обучаемых к постановке проблемы, показ им, как необходимо находить доказательства, делать выводы из приведенных фактов, построить план проверки фактов и т.д. Обучающий широко применяет эвристическую беседу, в процессе которой ставит систему взаимосвязанных вопросов, каждый из которых является шагом к решению проблемы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 заключается в активном участии в эвристических беседах, в овладении приемами анализа учебного материала с целью постановки проблемы и нахождения путей ее решения и т.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395280" y="0"/>
          <a:ext cx="8229600" cy="6473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044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1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 </a:t>
                      </a:r>
                      <a:r>
                        <a:rPr b="1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сследовательский метод.</a:t>
                      </a:r>
                      <a:r>
                        <a:rPr b="0" lang="ru-RU" sz="13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Основное содержание метода — обеспечить овладение обучаемыми методами научного познания, развить и сформировать у них черты творческой деятельности, обеспечить условия успешного формирования мотивов творческой деятельности, способствовать формированию осознанных, оперативно и гибко используемых знаний. Сущность метода — обеспечение организаций поисковой творческой деятельности обучаемых по решению новых для них проблем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едъявление обучаемым новых для них проблем, постановка и разработка исследовательских заданий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своении ими приемов самостоятельной постановки проблем, нахождении способов их решения и т.д.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Типы уроков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знакомления с новым материалом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закрепления изученного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именения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обобщения и систематизации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урок проверки и коррекции знаний и уме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комбинированный урок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Урок ознакомления с новым материалом</a:t>
            </a:r>
            <a:br>
              <a:rPr sz="2400"/>
            </a:br>
            <a:br>
              <a:rPr sz="2400"/>
            </a:b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сообщение темы, цели, задач урока и мотивация учебной деятельности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одготовка к изучению нового материала через повторение и актуализацию опорных знаний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ознакомление с новым материал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первичное осмысление и закрепление связей и отношений в объектах изуче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остановка задания на дом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2. Урок закрепления изученного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, уточнение направлений актуализации материал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сообщение темы, цели и задач урока, мотивация учени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воспроизведение изученного и его применение в стандартных условиях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перенос приобретенных знаний и их первичное применение в новых или измененных условиях с целью формирования ум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подведение итогов урока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становка домашнего задания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3. Урок применения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1.      проверка домашнего задани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2.      мотивация учебной деятельности через осознание учащимися практической значимости применяемых знаний и умений, сообщение темы, цели и задач урока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3.      осмысление содержания и последовательности применения практических действий при выполнении предстоящи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4.      самостоятельное выполнение учащимися заданий под контролем учителя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5.      обобщение и систематизация результатов выполненных заданий;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4. Урок обобщения и систематизации знаний</a:t>
            </a:r>
            <a:br>
              <a:rPr sz="34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1.      постановка цели урока и мотивация учебной деятельности учащихся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2.      воспроизведение и коррекция опорных знаний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3.      повторение и анализ основных фактов, событий, явле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понятий, усвоение системы знаний и их применение для объяснения новых фактов и выполнения практических зад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5.      усвоение ведущих идей и основных теорий на основе широкой систематизации знаний;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6.      подведение итогов урока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5. Урок проверки и коррекции знаний и уме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1.      ознакомление с целью и задачами урока, инструктаж учащихся по организации работы на уроке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2.      проверка знаний учащимися фактического материала и их умений раскрывать элементарные внешние связи в предметах и явлен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3.      проверка знаний учащимися основных понятий, правил, законов и умений объяснить их сущность, аргументировать свои суждения и приводить примеры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4.      проверка умений учащихся самостоятельно применять знания в 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5.      проверка умений учащихся применять знания в измененных, нестандартных условиях;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37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Verdana"/>
              </a:rPr>
              <a:t>6.      подведение итогов (на данном и последующих уроках)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6. Комбинированный урок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.      ознакомление с темой урока, постановка его целей и задач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.      проверка домашнего задания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.      проверка знаний и умений учащихся по пройденному материалу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.      изложение нов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      первичное закрепление изученного материала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6.      подведение итогов урока и постановка домашнего задания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Методы обуче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1403280" y="2637000"/>
            <a:ext cx="701064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Метод (буквально путь к чему-то) означает </a:t>
            </a:r>
            <a:r>
              <a:rPr b="1" lang="ru-RU" sz="3600" spc="-1" strike="noStrike">
                <a:solidFill>
                  <a:srgbClr val="cc0000"/>
                </a:solidFill>
                <a:latin typeface="Verdana"/>
              </a:rPr>
              <a:t>способ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достижения цели, определенным образом упорядоченную деятельность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-экскурс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     сообщение темы, цели и задач урока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     актуализация опорных знаний учащихся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     восприятие особенностей экскурсионных объектов, первичное осознание заложенной в них информации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     обобщение и систематизация знаний;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     подведение итогов урока и выдача учащимся индивидуальных задани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рок - ролевая игр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     подготов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     игрово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     заключительный;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.      анализ результатов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о источнику получения знаний.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) словесные методы (источником знания является устное или печатное слово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б) наглядные методы (источником знаний являются наблюдаемые предметы, явления, наглядные пособия);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) практические методы (учащиеся получают знания и вырабатывают умения, выполняя практические действия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Словес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бота с учебником и книгой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Экскурсия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Дискуссия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ение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каз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есед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амостоятельная работ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Наглядные методы обучен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иллю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Метод демонстрац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рактические методы обуч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Упражнения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ворческие работы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лассификация методов обучения в зависимости от </a:t>
            </a:r>
            <a:r>
              <a:rPr b="0" lang="ru-RU" sz="2600" spc="-1" strike="noStrike">
                <a:solidFill>
                  <a:srgbClr val="cc0000"/>
                </a:solidFill>
                <a:latin typeface="Verdana"/>
              </a:rPr>
              <a:t>характера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познавательной деятельности учащихс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бъяснительно-иллюстра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епродуктивны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облемног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Частично-поисковый метод, или эвристический метод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Исследовательский метод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1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10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10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10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10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457200" y="260280"/>
          <a:ext cx="8229600" cy="6523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732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Объяснительно-иллюстративный метод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(информационно-рецептивный). Основное назначение метода — организация усвоения информации обучаемыми путем сообщения им учебного материала и обеспечение его успешного восприятия. Объяснительно-иллюстративный метод — один из наиболее экономных способов передачи обучаемым обобщенного и систематизированного опыта человечеств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Сообщение учебной информации с использованием различных дидактических средств: слова, различных пособий, в том числе кино- и диафильмов и т.д. Обучающий широко использует беседу, демонстрацию опытов и т.д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. Деятельность обучаемых заключается в восприятии, осмыслении и запоминании сообщаемой информации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57200" y="189000"/>
          <a:ext cx="8229600" cy="61182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824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раткое содержание метод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ющ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о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05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 </a:t>
                      </a:r>
                      <a:r>
                        <a:rPr b="1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епродуктивный метод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сновное назначение метода — формирование навыков и умений использования и применения полученных знан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Разработка и применение различных упражнений и задач, использование различных инструкций (алгоритмов) и программированного обучения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ятельность обучаемых заключается в овладении приемами выполнения отдельных упражнений в решении различных видов задач, овладении алгоритмом практических действий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7T13:50:38Z</dcterms:created>
  <dc:creator>Ольга Филиповна</dc:creator>
  <dc:description/>
  <dc:language>en-US</dc:language>
  <cp:lastModifiedBy>LEGION</cp:lastModifiedBy>
  <dcterms:modified xsi:type="dcterms:W3CDTF">2015-01-26T14:09:20Z</dcterms:modified>
  <cp:revision>12</cp:revision>
  <dc:subject/>
  <dc:title>Слайд 1</dc:title>
</cp:coreProperties>
</file>