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23.jpeg" ContentType="image/jpeg"/>
  <Override PartName="/ppt/media/image20.gif" ContentType="image/gif"/>
  <Override PartName="/ppt/media/image21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2906-69F5-4522-87DB-F3FDD3213B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Развитие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логического мышления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у детей дошкольного возраста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c </a:t>
            </a: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 речевыми нарушениям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-логопед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ысшей категори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Филипенк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Галина Петро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4069-61DE-4A16-A424-2C72057CE7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, алгоритмы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ложи, назови по-поряд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сначала, что по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поч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последовательностей и логических ря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FCC0-2E1D-42E1-BFC4-72EF344C25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омбинатор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и все фигурки в цепочку так, чтобы арбуз был пятым, а снеговик предпослед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йди истинное и ложное утвержде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5-я буква – 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3-я буква – 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2-я и 4-я буквы раз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1-я буква – соглас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663D-ADAD-41A6-B085-41235C4398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на смекалку, догадку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пределение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триц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различ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рав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вм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причинно-следственные зависим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отнесение понятий и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о-поисковые задачи; Сколько человек тянули репку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-шутки (</a:t>
            </a:r>
            <a:r>
              <a:rPr b="1" lang="ru-RU" sz="1200" spc="-1" strike="noStrike">
                <a:solidFill>
                  <a:srgbClr val="632523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3A7B-AD9D-4BF6-B861-20A54119D9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реб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824E-04AF-4863-AAF7-21F5B2696A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кресс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9754-67F4-43D6-AF2A-7A51A99F5B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чувственное позн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абстрактное мыш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E404-95E2-44ED-9D05-2368AB1E9B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станов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ческого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D6E4-5228-4879-9DEA-1F306F1B0E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речи и мышления у детей с ОН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ь в  усвоении отвлеченных и обобщающих по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на родовых понятий видовым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сический запас характеризуется стереотип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и в программировании своего высказы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осмысления и употребления сложных речевых констру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EA63-59A8-407B-9680-88F885D44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формирования логического мыш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до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группиров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горит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екалку, догадку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рытого смысла загадок, послов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усов, кресс-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FDF4-1FEF-447D-93D1-1A7FB6CAB5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ировка, 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метов (по одному, двум и более признак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E16B-6605-4F2A-8C1F-D601B4793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8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ает – не лет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ъедобное – не съедобн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, что красным (сильным, глубоким, тяжёлым, круглым,  красивым…) быв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гадывание и составление описательных зага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9452-BB74-4C4E-8ED5-EAB52C40F8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на что похож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има – лет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предмет, не похожий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ошиб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и картинки, найди отлич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изменило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3506-493D-4D95-BCAE-4DA54366EC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6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11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руппировка и классификация предме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жи наобор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 – отв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ови одним с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 5 названий одежды (обуви, мебели…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-й лиш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общего и чем от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ана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йди нелепые ситуации.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Чего не бывает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529B-6642-4CF4-A87B-65508B1E94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5BE-BAA1-455A-A3D5-80B6252B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E71-3A65-4C9B-8CC0-BA166C1A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7B9-260F-4D64-834C-A6CF1A62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846-6217-4500-96AA-407F25EC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F046-9031-4E19-9262-CD4CAC7A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FCE4-CADD-44FD-95AD-4ED7EF83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5471-A025-4761-8B7B-5BD40FF3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079F-AC27-441A-8651-0645C226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1CC1-D040-4CC1-9BE5-90A8C5D9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F869-7BCF-49BD-84EA-3870588B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4403-A935-468B-A648-3A93A819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0C2-0BD9-4001-8B25-6C774759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5B80-F198-4D96-B976-05A78FDB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814F-BCB5-406B-89C9-F73FA145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00A2-17AB-479A-B026-58A45CA8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F4C1-BA4F-47A6-A62B-95A15FBD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8C70-5014-4365-A86D-8C541FB7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58D-3130-4E94-BEA6-81BDFDE2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B4D8-777B-4829-B741-F042891C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E8D3-883A-4DE1-AAC2-1633ECED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5E6B-C15F-4784-A7CB-C89B127D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FFA-01BA-41C3-AC8B-DFEB807D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4B4-3F90-4E10-9F22-148B4F45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3B4-0AF3-4565-9BFA-1523D554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91AA-D3FB-42DE-A6D4-9DC1BA5E83A0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4395-DF9E-49A2-9AC1-69E1707931B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E191-FAAE-4933-8B8E-D587180C9649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BCBD-A2A1-4B9F-ACAC-6D1A67FE0C8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311040" y="360360"/>
            <a:ext cx="8204400" cy="3571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857400" y="4071960"/>
            <a:ext cx="4857480" cy="221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читель-логопед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сшей категори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Филипенко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алина Петров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Моделирование, алгоритмы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комбинаторика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214272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ложи, назови по-порядк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сначала, что пот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поч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последовательностей и логических ряд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5542" t="19147" r="0" b="12629"/>
          <a:stretch/>
        </p:blipFill>
        <p:spPr>
          <a:xfrm>
            <a:off x="6321600" y="2071800"/>
            <a:ext cx="2822400" cy="1990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Documents and Settings\Администратор\Мои документы\Мои документы\Мои рисунки\Новая папка\P2080811.JPG"/>
          <p:cNvPicPr/>
          <p:nvPr/>
        </p:nvPicPr>
        <p:blipFill>
          <a:blip r:embed="rId2"/>
          <a:stretch/>
        </p:blipFill>
        <p:spPr>
          <a:xfrm>
            <a:off x="2786040" y="457200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0" y="107172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истинное и ложное утвержде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5-я буква – 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3-я буква – 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2-я и 4-я буквы разны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1-я буква – согласна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4" name="Заголовок 8"/>
          <p:cNvGrpSpPr/>
          <p:nvPr/>
        </p:nvGrpSpPr>
        <p:grpSpPr>
          <a:xfrm>
            <a:off x="500040" y="0"/>
            <a:ext cx="8375760" cy="1212840"/>
            <a:chOff x="500040" y="0"/>
            <a:chExt cx="8375760" cy="1212840"/>
          </a:xfrm>
        </p:grpSpPr>
        <p:pic>
          <p:nvPicPr>
            <p:cNvPr id="155" name="Заголовок 8" descr=""/>
            <p:cNvPicPr/>
            <p:nvPr/>
          </p:nvPicPr>
          <p:blipFill>
            <a:blip r:embed="rId1"/>
            <a:stretch/>
          </p:blipFill>
          <p:spPr>
            <a:xfrm>
              <a:off x="500040" y="0"/>
              <a:ext cx="83757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71680" y="285840"/>
              <a:ext cx="82296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onstantia"/>
                </a:rPr>
                <a:t>Комбинаторик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457200" y="1000080"/>
            <a:ext cx="403848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оедини все фигурки в цепочку так, чтобы арбуз был пятым, а снеговик предпоследни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6" descr="E:\ClipArt2\j0232671.wmf"/>
          <p:cNvPicPr/>
          <p:nvPr/>
        </p:nvPicPr>
        <p:blipFill>
          <a:blip r:embed="rId2"/>
          <a:stretch/>
        </p:blipFill>
        <p:spPr>
          <a:xfrm>
            <a:off x="500040" y="3714840"/>
            <a:ext cx="1009800" cy="140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ClipArt2\j0215164.wmf"/>
          <p:cNvPicPr/>
          <p:nvPr/>
        </p:nvPicPr>
        <p:blipFill>
          <a:blip r:embed="rId3"/>
          <a:stretch/>
        </p:blipFill>
        <p:spPr>
          <a:xfrm>
            <a:off x="1928880" y="2571840"/>
            <a:ext cx="1066680" cy="1446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E:\ClipArt2\j0215163.wmf"/>
          <p:cNvPicPr/>
          <p:nvPr/>
        </p:nvPicPr>
        <p:blipFill>
          <a:blip r:embed="rId4"/>
          <a:stretch/>
        </p:blipFill>
        <p:spPr>
          <a:xfrm>
            <a:off x="3214800" y="3571920"/>
            <a:ext cx="1214280" cy="11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ClipArt2\j0232724.wmf"/>
          <p:cNvPicPr/>
          <p:nvPr/>
        </p:nvPicPr>
        <p:blipFill>
          <a:blip r:embed="rId5"/>
          <a:stretch/>
        </p:blipFill>
        <p:spPr>
          <a:xfrm>
            <a:off x="1285920" y="5000760"/>
            <a:ext cx="1738440" cy="1536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E:\ClipArt1\j0199719.wmf"/>
          <p:cNvPicPr/>
          <p:nvPr/>
        </p:nvPicPr>
        <p:blipFill>
          <a:blip r:embed="rId6"/>
          <a:stretch/>
        </p:blipFill>
        <p:spPr>
          <a:xfrm>
            <a:off x="3357720" y="5214960"/>
            <a:ext cx="1054080" cy="10717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1"/>
          <p:cNvSpPr/>
          <p:nvPr/>
        </p:nvSpPr>
        <p:spPr>
          <a:xfrm>
            <a:off x="4786200" y="457200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2"/>
          <p:cNvSpPr/>
          <p:nvPr/>
        </p:nvSpPr>
        <p:spPr>
          <a:xfrm>
            <a:off x="7715160" y="464328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3"/>
          <p:cNvSpPr/>
          <p:nvPr/>
        </p:nvSpPr>
        <p:spPr>
          <a:xfrm>
            <a:off x="6715080" y="457200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4"/>
          <p:cNvSpPr/>
          <p:nvPr/>
        </p:nvSpPr>
        <p:spPr>
          <a:xfrm>
            <a:off x="5715000" y="464328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17"/>
          <p:cNvCxnSpPr/>
          <p:nvPr/>
        </p:nvCxnSpPr>
        <p:spPr>
          <a:xfrm>
            <a:off x="4785840" y="4928760"/>
            <a:ext cx="4072680" cy="108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Задачи на смекалку, догадку,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0040" y="26431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пределение возра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трица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различ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равн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вмещ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причинно-следственные зависим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отнесение понятий и предме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Логико-поисковые задачи; Сколько человек тянули репку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-шутки (</a:t>
            </a: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5929200" y="2214720"/>
            <a:ext cx="2928960" cy="2571480"/>
          </a:xfrm>
          <a:prstGeom prst="rect">
            <a:avLst/>
          </a:prstGeom>
          <a:solidFill>
            <a:srgbClr val="c8e3fb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Петя, Нина, Надя, Вова и Юра играли в пря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Кого было больше: мальчиков или девоч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rcRect l="0" t="0" r="4582" b="0"/>
          <a:stretch/>
        </p:blipFill>
        <p:spPr>
          <a:xfrm>
            <a:off x="6143760" y="2357280"/>
            <a:ext cx="2260440" cy="1000440"/>
          </a:xfrm>
          <a:prstGeom prst="rect">
            <a:avLst/>
          </a:prstGeom>
          <a:ln w="0">
            <a:noFill/>
          </a:ln>
        </p:spPr>
      </p:pic>
      <p:sp>
        <p:nvSpPr>
          <p:cNvPr id="173" name="Текст 2"/>
          <p:cNvSpPr/>
          <p:nvPr/>
        </p:nvSpPr>
        <p:spPr>
          <a:xfrm>
            <a:off x="4286160" y="4678200"/>
            <a:ext cx="221004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Заголовок 1"/>
          <p:cNvGrpSpPr/>
          <p:nvPr/>
        </p:nvGrpSpPr>
        <p:grpSpPr>
          <a:xfrm>
            <a:off x="1139760" y="360360"/>
            <a:ext cx="6937560" cy="1339920"/>
            <a:chOff x="1139760" y="360360"/>
            <a:chExt cx="6937560" cy="1339920"/>
          </a:xfrm>
        </p:grpSpPr>
        <p:pic>
          <p:nvPicPr>
            <p:cNvPr id="17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139760" y="360360"/>
              <a:ext cx="693756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214280" y="642960"/>
              <a:ext cx="6786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ffffff"/>
                  </a:solidFill>
                  <a:latin typeface="Constantia"/>
                </a:rPr>
                <a:t>Решение ребусов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428760" y="2214720"/>
            <a:ext cx="81835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1214280" y="1357200"/>
            <a:ext cx="6500880" cy="5143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E:\Animated\j0283248.gif"/>
          <p:cNvPicPr/>
          <p:nvPr/>
        </p:nvPicPr>
        <p:blipFill>
          <a:blip r:embed="rId3"/>
          <a:stretch/>
        </p:blipFill>
        <p:spPr>
          <a:xfrm>
            <a:off x="428760" y="3143160"/>
            <a:ext cx="164304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ешение кресскросс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3" name="Picture 2" descr="C:\Documents and Settings\Администратор\Мои документы\Мои документы\Мои рисунки\Новая папка\P2080839.JPG"/>
          <p:cNvPicPr/>
          <p:nvPr/>
        </p:nvPicPr>
        <p:blipFill>
          <a:blip r:embed="rId1"/>
          <a:stretch/>
        </p:blipFill>
        <p:spPr>
          <a:xfrm>
            <a:off x="2643120" y="11430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Администратор\Мои документы\Мои документы\Мои рисунки\Новая папка\P2080840.JPG"/>
          <p:cNvPicPr/>
          <p:nvPr/>
        </p:nvPicPr>
        <p:blipFill>
          <a:blip r:embed="rId2"/>
          <a:stretch/>
        </p:blipFill>
        <p:spPr>
          <a:xfrm>
            <a:off x="285840" y="3429000"/>
            <a:ext cx="4298760" cy="3224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Documents and Settings\Администратор\Мои документы\Мои документы\Мои рисунки\Новая папка\P2080843.JPG"/>
          <p:cNvPicPr/>
          <p:nvPr/>
        </p:nvPicPr>
        <p:blipFill>
          <a:blip r:embed="rId3"/>
          <a:stretch/>
        </p:blipFill>
        <p:spPr>
          <a:xfrm>
            <a:off x="4714920" y="3571920"/>
            <a:ext cx="4143240" cy="3106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1857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чувственное позн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абстрактное мышл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642960" y="31050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формы логического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Группа 4"/>
          <p:cNvGrpSpPr/>
          <p:nvPr/>
        </p:nvGrpSpPr>
        <p:grpSpPr>
          <a:xfrm>
            <a:off x="3929040" y="3286080"/>
            <a:ext cx="2428920" cy="2171880"/>
            <a:chOff x="3929040" y="3286080"/>
            <a:chExt cx="2428920" cy="2171880"/>
          </a:xfrm>
        </p:grpSpPr>
        <p:sp>
          <p:nvSpPr>
            <p:cNvPr id="109" name="Овал 5"/>
            <p:cNvSpPr/>
            <p:nvPr/>
          </p:nvSpPr>
          <p:spPr>
            <a:xfrm>
              <a:off x="3929040" y="3286080"/>
              <a:ext cx="2428920" cy="217188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Овал 4"/>
            <p:cNvSpPr/>
            <p:nvPr/>
          </p:nvSpPr>
          <p:spPr>
            <a:xfrm>
              <a:off x="4252680" y="3665520"/>
              <a:ext cx="17812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Поня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7"/>
          <p:cNvGrpSpPr/>
          <p:nvPr/>
        </p:nvGrpSpPr>
        <p:grpSpPr>
          <a:xfrm>
            <a:off x="2643120" y="4429080"/>
            <a:ext cx="3000600" cy="2428920"/>
            <a:chOff x="2643120" y="4429080"/>
            <a:chExt cx="3000600" cy="2428920"/>
          </a:xfrm>
        </p:grpSpPr>
        <p:sp>
          <p:nvSpPr>
            <p:cNvPr id="112" name="Овал 8"/>
            <p:cNvSpPr/>
            <p:nvPr/>
          </p:nvSpPr>
          <p:spPr>
            <a:xfrm>
              <a:off x="2643120" y="4429080"/>
              <a:ext cx="300060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Овал 4"/>
            <p:cNvSpPr/>
            <p:nvPr/>
          </p:nvSpPr>
          <p:spPr>
            <a:xfrm>
              <a:off x="3062160" y="4714560"/>
              <a:ext cx="173052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Сужд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Группа 10"/>
          <p:cNvGrpSpPr/>
          <p:nvPr/>
        </p:nvGrpSpPr>
        <p:grpSpPr>
          <a:xfrm>
            <a:off x="5214960" y="4429080"/>
            <a:ext cx="2928960" cy="2428920"/>
            <a:chOff x="5214960" y="4429080"/>
            <a:chExt cx="2928960" cy="2428920"/>
          </a:xfrm>
        </p:grpSpPr>
        <p:sp>
          <p:nvSpPr>
            <p:cNvPr id="115" name="Овал 11"/>
            <p:cNvSpPr/>
            <p:nvPr/>
          </p:nvSpPr>
          <p:spPr>
            <a:xfrm>
              <a:off x="5214960" y="4429080"/>
              <a:ext cx="292896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Овал 4"/>
            <p:cNvSpPr/>
            <p:nvPr/>
          </p:nvSpPr>
          <p:spPr>
            <a:xfrm>
              <a:off x="5643360" y="4784400"/>
              <a:ext cx="207180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Умозак-лю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станов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логического мышл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хема 4" descr=""/>
          <p:cNvPicPr/>
          <p:nvPr/>
        </p:nvPicPr>
        <p:blipFill>
          <a:blip r:embed="rId1"/>
          <a:stretch/>
        </p:blipFill>
        <p:spPr>
          <a:xfrm>
            <a:off x="560520" y="2030400"/>
            <a:ext cx="8022960" cy="4516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собенности речи и мышления у детей с ОНР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ь в  усвоении отвлеченных и обобщающих понят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Замена родовых понятий видовыми</a:t>
            </a:r>
            <a:r>
              <a:rPr b="1" i="1" lang="ru-RU" sz="2100" spc="-1" strike="noStrike">
                <a:solidFill>
                  <a:srgbClr val="000000"/>
                </a:solidFill>
                <a:latin typeface="Constantia"/>
              </a:rPr>
              <a:t>;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Лексический запас характеризуется стереотипностью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и в программировании своего высказывания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2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осмысления и употребления сложных речевых конструкц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формирования логического мыш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у дошкольни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равнение, обобщение, группировк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делиров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дачи на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мекалку, догадку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ние элементарной научной информ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точн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крытого смысла загадок, послови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ш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бусов, кресс-крос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, обобщение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группировка, классификац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деление существенных признак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ение предметов и явлений по  свойствам и качеств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лассификация предметов (по одному, двум и более признакам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4500"/>
            </a:b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49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ыделение существенных призна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120" y="2500200"/>
            <a:ext cx="82296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етает – не лет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ъедобное – не съедобно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, что красным (сильным, глубоким, тяжёлым, круглым,  красивым…) быв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гадывание и составление описательных загадок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633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на что похож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има – лет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предмет, не похожий на друг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ошибку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и картинки, найди отлич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изменилос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4714920" y="2214720"/>
            <a:ext cx="1000080" cy="9921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928800" y="3786120"/>
            <a:ext cx="135720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786040" y="378612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6"/>
          <p:cNvSpPr/>
          <p:nvPr/>
        </p:nvSpPr>
        <p:spPr>
          <a:xfrm>
            <a:off x="4214880" y="3714840"/>
            <a:ext cx="857160" cy="8571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7"/>
          <p:cNvSpPr/>
          <p:nvPr/>
        </p:nvSpPr>
        <p:spPr>
          <a:xfrm>
            <a:off x="5715000" y="3786120"/>
            <a:ext cx="857160" cy="7858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Трапеция 8"/>
          <p:cNvSpPr/>
          <p:nvPr/>
        </p:nvSpPr>
        <p:spPr>
          <a:xfrm>
            <a:off x="7358040" y="3786120"/>
            <a:ext cx="1000080" cy="714600"/>
          </a:xfrm>
          <a:custGeom>
            <a:avLst/>
            <a:gdLst/>
            <a:ahLst/>
            <a:rect l="l" t="t" r="r" b="b"/>
            <a:pathLst>
              <a:path w="1000125" h="714375">
                <a:moveTo>
                  <a:pt x="0" y="714375"/>
                </a:moveTo>
                <a:lnTo>
                  <a:pt x="178594" y="0"/>
                </a:lnTo>
                <a:lnTo>
                  <a:pt x="821531" y="0"/>
                </a:lnTo>
                <a:lnTo>
                  <a:pt x="1000125" y="714375"/>
                </a:lnTo>
                <a:lnTo>
                  <a:pt x="0" y="71437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6786720" y="4643280"/>
            <a:ext cx="2000160" cy="18925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25804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200" spc="-1" strike="noStrike">
                <a:solidFill>
                  <a:srgbClr val="07242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группировка и классификация предме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57184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кажи наоборо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 – отв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зови одним слов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 5 названий одежды (обуви, мебели…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-й лиш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общего и чем отличают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аналог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нелепые ситуаци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го не бывает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Содержимое 3" descr="P2130911.JPG"/>
          <p:cNvPicPr/>
          <p:nvPr/>
        </p:nvPicPr>
        <p:blipFill>
          <a:blip r:embed="rId1"/>
          <a:stretch/>
        </p:blipFill>
        <p:spPr>
          <a:xfrm>
            <a:off x="6715080" y="4437000"/>
            <a:ext cx="1816200" cy="2421000"/>
          </a:xfrm>
          <a:prstGeom prst="rect">
            <a:avLst/>
          </a:prstGeom>
          <a:ln w="57240">
            <a:solidFill>
              <a:srgbClr val="083763"/>
            </a:solidFill>
            <a:miter/>
          </a:ln>
        </p:spPr>
      </p:pic>
      <p:sp>
        <p:nvSpPr>
          <p:cNvPr id="14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1:54:12Z</dcterms:created>
  <dc:creator>Admin</dc:creator>
  <dc:description/>
  <dc:language>en-US</dc:language>
  <cp:lastModifiedBy>LEGION</cp:lastModifiedBy>
  <dcterms:modified xsi:type="dcterms:W3CDTF">2015-01-27T11:57:39Z</dcterms:modified>
  <cp:revision>150</cp:revision>
  <dc:subject/>
  <dc:title>Развитие логического мышления  у детей дошкольного возраста</dc:title>
</cp:coreProperties>
</file>