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2.wmf" ContentType="image/x-wmf"/>
  <Override PartName="/ppt/media/image4.png" ContentType="image/png"/>
  <Override PartName="/ppt/media/image23.jpeg" ContentType="image/jpeg"/>
  <Override PartName="/ppt/media/image20.gif" ContentType="image/gif"/>
  <Override PartName="/ppt/media/image21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F153-4B0B-4D02-846A-288FE19AE8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Развитие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логического мышления </a:t>
            </a:r>
            <a:br>
              <a:rPr sz="1200"/>
            </a:b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у детей дошкольного возраста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4a452a"/>
                </a:solidFill>
                <a:latin typeface="Calibri"/>
              </a:rPr>
              <a:t> речевыми нарушениям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-логопед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ысшей категори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Филипенк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Галина Петр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6A99-A9D4-4FAA-A682-D10536C501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, алгоритмы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и, назови по-порядк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сначала, что по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поч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последовательностей и логических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87E-C542-4CA9-A903-22D4138A35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мбинатор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едини все фигурки в цепочку так, чтобы арбуз был пятым, а снеговик предпослед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йди истинное и ложное утвержде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5-я буква – 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3-я буква – 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2-я и 4-я буквы раз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этой цепочке 1-я буква – соглас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E775-409D-4BBD-829D-F327D493B6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на смекалку, догадк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пределение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отриц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различ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равн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вме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причинно-следственные зависим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на соотнесение понятий и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ко-поисковые задачи; Сколько человек тянули репку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-шутки (</a:t>
            </a:r>
            <a:r>
              <a:rPr b="1" lang="ru-RU" sz="1200" spc="-1" strike="noStrike">
                <a:solidFill>
                  <a:srgbClr val="632523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4B72-B18F-42C4-B09A-A856B8E98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реб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90EC-CF1C-4CF8-B35F-9DADC0312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кресс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4881-F9BF-4212-B0A5-0DC3DD175D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чувственное позн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абстрактное мышле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F19A-0B02-49DA-BA09-1C50C13D8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станов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ог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F9D-173D-4B39-BC9D-9CAB2634D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обенности речи и мышления у детей с ОН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ь в  усвоении отвлеченных и обобщающих поня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на родовых понятий видовым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сический запас характеризуется стереотипност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ности в программировании своего высказ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осмысления и употребления сложных речевых конструк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FB34-5F2E-4651-BF16-D0A31736A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апы формирования логического мышл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 до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группиров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лгорит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мбинатор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екалку, догадку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лементарной науч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чн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рытого смысла загадок, послов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9bbb5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бусов, кресс-кро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C2B9-390B-4660-A70B-E0DF5D4D4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, обобщение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ировка, класс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метов (по одному, двум и более признак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BFD-744B-48F2-88A6-1E7F0746D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8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тает – не лет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ъедобное – не съедобн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, что красным (сильным, глубоким, тяжёлым, круглым,  красивым…) быва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гадывание и составление описательных зага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C6D1-6C7A-4A42-9716-2C9354B739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на что похож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има – лет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предмет, не похожий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ошиб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авни картинки, найди отлич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изменило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C9F5-70D2-4774-A2FF-851BAFF35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600" spc="-1" strike="noStrike">
                <a:solidFill>
                  <a:srgbClr val="1e1c11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1e1c11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11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группировка и классификация предме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кажи наобор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 – от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ови одним с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 знаю 5 названий одежды (обуви, мебели…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-й лиш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общего и чем от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ановление ана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йди нелепые ситуации.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Чего не бывает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C020-A6D7-4B52-B351-1230EA0BC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4931-7BBB-44D4-842B-DD7CB414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A32-6E88-4319-ACED-6E05EFAE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1B2-A434-48FE-B7CE-0A513F3E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5248-8590-4A63-A777-CE9DE8C5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245C-8ABF-451E-A333-98D26634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EC1F-BA82-4937-B69E-752EED3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B802-7A5B-48F9-8B94-DA758902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BFF3-B6C6-4889-828E-98B34B31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46F3-4541-42B7-B493-7527A50B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7C8C-292A-465D-B832-CEC569E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A19F-6791-4282-9E0F-BB1FE9C8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8B3-904A-4D1A-9A36-5BD7F7D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9909-B22D-4013-83C9-7983B68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E38A-DF0F-4837-883C-A9E5284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8669-9949-4B46-AF11-FBC74C8A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BF1-3481-4F56-8759-2183493E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2B6D-9AD3-4718-A963-F35D99B3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F0E1-B3D3-485B-94DA-0313625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704-06A4-445E-B6E6-C802040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9F58-DEAD-4502-8BBE-DC7DE1DF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56A-8909-4A8E-BC9E-6F56E289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A7C4-9F72-47C2-A037-3CC3F555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49A9-695B-4468-8818-1717712C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CCEC-BC4B-4205-9942-78A054BE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592C-885A-4F52-96F7-3A71D880924E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DDEF-E922-44D3-829F-BD573338CCA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93F6-18A3-4B41-9464-B5024F9BAB43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7E30-109E-45BC-B94B-D4B33B17744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11040" y="360360"/>
            <a:ext cx="8204400" cy="3571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857400" y="4071960"/>
            <a:ext cx="4857480" cy="221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Учитель-логопед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ысшей категори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Филипенко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алина Петров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Моделирование, алгоритмы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комбинаторик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2142720"/>
            <a:ext cx="82296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сположи, назови по-порядку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сначала, что пот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Цепоч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последовательностей и логических ряд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5542" t="19147" r="0" b="12629"/>
          <a:stretch/>
        </p:blipFill>
        <p:spPr>
          <a:xfrm>
            <a:off x="6321600" y="2071800"/>
            <a:ext cx="2822400" cy="1990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C:\Documents and Settings\Администратор\Мои документы\Мои документы\Мои рисунки\Новая папка\P2080811.JPG"/>
          <p:cNvPicPr/>
          <p:nvPr/>
        </p:nvPicPr>
        <p:blipFill>
          <a:blip r:embed="rId2"/>
          <a:stretch/>
        </p:blipFill>
        <p:spPr>
          <a:xfrm>
            <a:off x="2786040" y="457200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0" y="1071720"/>
            <a:ext cx="40384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истинное и ложное утверждени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5-я буква – 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3-я буква – 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2-я и 4-я буквы разны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В этой цепочке 1-я буква – согласна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Заголовок 8"/>
          <p:cNvGrpSpPr/>
          <p:nvPr/>
        </p:nvGrpSpPr>
        <p:grpSpPr>
          <a:xfrm>
            <a:off x="500040" y="0"/>
            <a:ext cx="8375760" cy="1212840"/>
            <a:chOff x="500040" y="0"/>
            <a:chExt cx="8375760" cy="1212840"/>
          </a:xfrm>
        </p:grpSpPr>
        <p:pic>
          <p:nvPicPr>
            <p:cNvPr id="155" name="Заголовок 8" descr=""/>
            <p:cNvPicPr/>
            <p:nvPr/>
          </p:nvPicPr>
          <p:blipFill>
            <a:blip r:embed="rId1"/>
            <a:stretch/>
          </p:blipFill>
          <p:spPr>
            <a:xfrm>
              <a:off x="500040" y="0"/>
              <a:ext cx="83757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71680" y="285840"/>
              <a:ext cx="82296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onstantia"/>
                </a:rPr>
                <a:t>Комбинаторик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 txBox="1"/>
          <p:nvPr/>
        </p:nvSpPr>
        <p:spPr>
          <a:xfrm>
            <a:off x="457200" y="1000080"/>
            <a:ext cx="403848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оедини все фигурки в цепочку так, чтобы арбуз был пятым, а снеговик предпоследни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8" name="Picture 6" descr="E:\ClipArt2\j0232671.wmf"/>
          <p:cNvPicPr/>
          <p:nvPr/>
        </p:nvPicPr>
        <p:blipFill>
          <a:blip r:embed="rId2"/>
          <a:stretch/>
        </p:blipFill>
        <p:spPr>
          <a:xfrm>
            <a:off x="500040" y="3714840"/>
            <a:ext cx="1009800" cy="1407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E:\ClipArt2\j0215164.wmf"/>
          <p:cNvPicPr/>
          <p:nvPr/>
        </p:nvPicPr>
        <p:blipFill>
          <a:blip r:embed="rId3"/>
          <a:stretch/>
        </p:blipFill>
        <p:spPr>
          <a:xfrm>
            <a:off x="1928880" y="2571840"/>
            <a:ext cx="1066680" cy="1446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ClipArt2\j0215163.wmf"/>
          <p:cNvPicPr/>
          <p:nvPr/>
        </p:nvPicPr>
        <p:blipFill>
          <a:blip r:embed="rId4"/>
          <a:stretch/>
        </p:blipFill>
        <p:spPr>
          <a:xfrm>
            <a:off x="3214800" y="3571920"/>
            <a:ext cx="1214280" cy="1155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E:\ClipArt2\j0232724.wmf"/>
          <p:cNvPicPr/>
          <p:nvPr/>
        </p:nvPicPr>
        <p:blipFill>
          <a:blip r:embed="rId5"/>
          <a:stretch/>
        </p:blipFill>
        <p:spPr>
          <a:xfrm>
            <a:off x="1285920" y="5000760"/>
            <a:ext cx="1738440" cy="1536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E:\ClipArt1\j0199719.wmf"/>
          <p:cNvPicPr/>
          <p:nvPr/>
        </p:nvPicPr>
        <p:blipFill>
          <a:blip r:embed="rId6"/>
          <a:stretch/>
        </p:blipFill>
        <p:spPr>
          <a:xfrm>
            <a:off x="3357720" y="5214960"/>
            <a:ext cx="1054080" cy="10717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11"/>
          <p:cNvSpPr/>
          <p:nvPr/>
        </p:nvSpPr>
        <p:spPr>
          <a:xfrm>
            <a:off x="4786200" y="457200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2"/>
          <p:cNvSpPr/>
          <p:nvPr/>
        </p:nvSpPr>
        <p:spPr>
          <a:xfrm>
            <a:off x="7715160" y="4643280"/>
            <a:ext cx="85752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3"/>
          <p:cNvSpPr/>
          <p:nvPr/>
        </p:nvSpPr>
        <p:spPr>
          <a:xfrm>
            <a:off x="6715080" y="457200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4"/>
          <p:cNvSpPr/>
          <p:nvPr/>
        </p:nvSpPr>
        <p:spPr>
          <a:xfrm>
            <a:off x="5715000" y="464328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nstantia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7"/>
          <p:cNvCxnSpPr/>
          <p:nvPr/>
        </p:nvCxnSpPr>
        <p:spPr>
          <a:xfrm>
            <a:off x="4785840" y="4928760"/>
            <a:ext cx="4072680" cy="108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16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Задачи на смекалку, догадку, </a:t>
            </a: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использование элементарной научной информаци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00040" y="264312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пределение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отрица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различ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рав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вмещ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причинно-следственные зависим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 на соотнесение понятий и предметов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Логико-поисковые задачи; Сколько человек тянули репку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Задачи-шутки (</a:t>
            </a: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 Что едят жирафы, когда земля покрыта снегом?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5929200" y="2214720"/>
            <a:ext cx="2928960" cy="2571480"/>
          </a:xfrm>
          <a:prstGeom prst="rect">
            <a:avLst/>
          </a:prstGeom>
          <a:solidFill>
            <a:srgbClr val="c8e3fb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Петя, Нина, Надя, Вова и Юра играли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4e6d"/>
                </a:solidFill>
                <a:latin typeface="Sylfaen"/>
                <a:ea typeface="Times New Roman"/>
              </a:rPr>
              <a:t>Кого было больше: мальчиков или девоче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rcRect l="0" t="0" r="4582" b="0"/>
          <a:stretch/>
        </p:blipFill>
        <p:spPr>
          <a:xfrm>
            <a:off x="6143760" y="2357280"/>
            <a:ext cx="2260440" cy="1000440"/>
          </a:xfrm>
          <a:prstGeom prst="rect">
            <a:avLst/>
          </a:prstGeom>
          <a:ln w="0">
            <a:noFill/>
          </a:ln>
        </p:spPr>
      </p:pic>
      <p:sp>
        <p:nvSpPr>
          <p:cNvPr id="173" name="Текст 2"/>
          <p:cNvSpPr/>
          <p:nvPr/>
        </p:nvSpPr>
        <p:spPr>
          <a:xfrm>
            <a:off x="4286160" y="4678200"/>
            <a:ext cx="221004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Заголовок 1"/>
          <p:cNvGrpSpPr/>
          <p:nvPr/>
        </p:nvGrpSpPr>
        <p:grpSpPr>
          <a:xfrm>
            <a:off x="1139760" y="360360"/>
            <a:ext cx="6937560" cy="1339920"/>
            <a:chOff x="1139760" y="360360"/>
            <a:chExt cx="6937560" cy="1339920"/>
          </a:xfrm>
        </p:grpSpPr>
        <p:pic>
          <p:nvPicPr>
            <p:cNvPr id="17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139760" y="360360"/>
              <a:ext cx="6937560" cy="13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214280" y="642960"/>
              <a:ext cx="678672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500" spc="-1" strike="noStrike">
                  <a:solidFill>
                    <a:srgbClr val="ffffff"/>
                  </a:solidFill>
                  <a:latin typeface="Constantia"/>
                </a:rPr>
                <a:t>Решение ребусов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428760" y="2214720"/>
            <a:ext cx="818352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1214280" y="1357200"/>
            <a:ext cx="650088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E:\Animated\j0283248.gif"/>
          <p:cNvPicPr/>
          <p:nvPr/>
        </p:nvPicPr>
        <p:blipFill>
          <a:blip r:embed="rId3"/>
          <a:stretch/>
        </p:blipFill>
        <p:spPr>
          <a:xfrm>
            <a:off x="428760" y="3143160"/>
            <a:ext cx="164304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Решение кресскросс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3" name="Picture 2" descr="C:\Documents and Settings\Администратор\Мои документы\Мои документы\Мои рисунки\Новая папка\P2080839.JPG"/>
          <p:cNvPicPr/>
          <p:nvPr/>
        </p:nvPicPr>
        <p:blipFill>
          <a:blip r:embed="rId1"/>
          <a:stretch/>
        </p:blipFill>
        <p:spPr>
          <a:xfrm>
            <a:off x="2643120" y="114300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Documents and Settings\Администратор\Мои документы\Мои документы\Мои рисунки\Новая папка\P2080840.JPG"/>
          <p:cNvPicPr/>
          <p:nvPr/>
        </p:nvPicPr>
        <p:blipFill>
          <a:blip r:embed="rId2"/>
          <a:stretch/>
        </p:blipFill>
        <p:spPr>
          <a:xfrm>
            <a:off x="285840" y="3429000"/>
            <a:ext cx="4298760" cy="3224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C:\Documents and Settings\Администратор\Мои документы\Мои документы\Мои рисунки\Новая папка\P2080843.JPG"/>
          <p:cNvPicPr/>
          <p:nvPr/>
        </p:nvPicPr>
        <p:blipFill>
          <a:blip r:embed="rId3"/>
          <a:stretch/>
        </p:blipFill>
        <p:spPr>
          <a:xfrm>
            <a:off x="4714920" y="3571920"/>
            <a:ext cx="4143240" cy="3106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ознание человеком окружающего мира осуществляется в двух основных формах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увственное позн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абстрактное мышл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642960" y="3105000"/>
            <a:ext cx="807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формы логического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3929040" y="3286080"/>
            <a:ext cx="2428920" cy="2171880"/>
            <a:chOff x="3929040" y="3286080"/>
            <a:chExt cx="2428920" cy="2171880"/>
          </a:xfrm>
        </p:grpSpPr>
        <p:sp>
          <p:nvSpPr>
            <p:cNvPr id="109" name="Овал 5"/>
            <p:cNvSpPr/>
            <p:nvPr/>
          </p:nvSpPr>
          <p:spPr>
            <a:xfrm>
              <a:off x="3929040" y="3286080"/>
              <a:ext cx="2428920" cy="217188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4"/>
            <p:cNvSpPr/>
            <p:nvPr/>
          </p:nvSpPr>
          <p:spPr>
            <a:xfrm>
              <a:off x="4252680" y="3665520"/>
              <a:ext cx="178128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onstantia"/>
                </a:rPr>
                <a:t>Понят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Группа 7"/>
          <p:cNvGrpSpPr/>
          <p:nvPr/>
        </p:nvGrpSpPr>
        <p:grpSpPr>
          <a:xfrm>
            <a:off x="2643120" y="4429080"/>
            <a:ext cx="3000600" cy="2428920"/>
            <a:chOff x="2643120" y="4429080"/>
            <a:chExt cx="3000600" cy="2428920"/>
          </a:xfrm>
        </p:grpSpPr>
        <p:sp>
          <p:nvSpPr>
            <p:cNvPr id="112" name="Овал 8"/>
            <p:cNvSpPr/>
            <p:nvPr/>
          </p:nvSpPr>
          <p:spPr>
            <a:xfrm>
              <a:off x="2643120" y="4429080"/>
              <a:ext cx="300060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Овал 4"/>
            <p:cNvSpPr/>
            <p:nvPr/>
          </p:nvSpPr>
          <p:spPr>
            <a:xfrm>
              <a:off x="3062160" y="4714560"/>
              <a:ext cx="17305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Сужд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Группа 10"/>
          <p:cNvGrpSpPr/>
          <p:nvPr/>
        </p:nvGrpSpPr>
        <p:grpSpPr>
          <a:xfrm>
            <a:off x="5214960" y="4429080"/>
            <a:ext cx="2928960" cy="2428920"/>
            <a:chOff x="5214960" y="4429080"/>
            <a:chExt cx="2928960" cy="2428920"/>
          </a:xfrm>
        </p:grpSpPr>
        <p:sp>
          <p:nvSpPr>
            <p:cNvPr id="115" name="Овал 11"/>
            <p:cNvSpPr/>
            <p:nvPr/>
          </p:nvSpPr>
          <p:spPr>
            <a:xfrm>
              <a:off x="5214960" y="4429080"/>
              <a:ext cx="2928960" cy="2428920"/>
            </a:xfrm>
            <a:prstGeom prst="ellipse">
              <a:avLst/>
            </a:prstGeom>
            <a:solidFill>
              <a:srgbClr val="009dd9">
                <a:alpha val="5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Овал 4"/>
            <p:cNvSpPr/>
            <p:nvPr/>
          </p:nvSpPr>
          <p:spPr>
            <a:xfrm>
              <a:off x="5643360" y="4784400"/>
              <a:ext cx="2071800" cy="17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nstantia"/>
                </a:rPr>
                <a:t>Умозак-люч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станов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логического мыш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0" name="Схема 4" descr=""/>
          <p:cNvPicPr/>
          <p:nvPr/>
        </p:nvPicPr>
        <p:blipFill>
          <a:blip r:embed="rId1"/>
          <a:stretch/>
        </p:blipFill>
        <p:spPr>
          <a:xfrm>
            <a:off x="560520" y="2030400"/>
            <a:ext cx="8022960" cy="45165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собенности речи и мышления у детей с ОНР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76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ь в  усвоении отвлеченных и обобщающих понят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Замена родовых понятий видовыми</a:t>
            </a:r>
            <a:r>
              <a:rPr b="1" i="1" lang="ru-RU" sz="2100" spc="-1" strike="noStrike">
                <a:solidFill>
                  <a:srgbClr val="000000"/>
                </a:solidFill>
                <a:latin typeface="Constantia"/>
              </a:rPr>
              <a:t>;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Лексический запас характеризуется стереотипностью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2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Трудности в программировании своего высказывания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2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осмысления и употребления сложных речевых конструкций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just">
              <a:lnSpc>
                <a:spcPct val="11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Недоступность для понимания метафор и сравнений, слов с переносным значением, скрытого смысла загадок и пословиц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Этапы формирования логического мышления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у дошкольни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2857680"/>
            <a:ext cx="8229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равнение, обобщение, группировк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делиров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Алгорит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омбинатори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дачи на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мекалку, догадку,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ние элементарной научной информ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точн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крытого смысла загадок, послови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шение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ебусов, кресс-кросс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Місце для нижнього колонтитула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, обобщение,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группировка, классификац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357280"/>
            <a:ext cx="822960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ыделение существенных признак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ение предметов и явлений по  свойствам и качества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накомство с родо-видовыми отношениями и противоположными понятиями, группировка предме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Классификация предметов (по одному, двум и более признакам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4500"/>
            </a:b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49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ыделение существенных признак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120" y="2500200"/>
            <a:ext cx="82296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етает – не лет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ъедобное – не съедобно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, что красным (сильным, глубоким, тяжёлым, круглым,  красивым…) быва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гадывание и составление описательных загадок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633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    классификация </a:t>
            </a: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равнение предметов и явлений по  свойствам и качествам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2142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на что похож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има – лет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предмет, не похожий на друг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йди ошибку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равни картинки, найди отлич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изменилось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4714920" y="2214720"/>
            <a:ext cx="1000080" cy="9921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928800" y="3786120"/>
            <a:ext cx="135720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786040" y="3786120"/>
            <a:ext cx="857160" cy="7858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6"/>
          <p:cNvSpPr/>
          <p:nvPr/>
        </p:nvSpPr>
        <p:spPr>
          <a:xfrm>
            <a:off x="4214880" y="3714840"/>
            <a:ext cx="857160" cy="8571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Равнобедренный треугольник 7"/>
          <p:cNvSpPr/>
          <p:nvPr/>
        </p:nvSpPr>
        <p:spPr>
          <a:xfrm>
            <a:off x="5715000" y="3786120"/>
            <a:ext cx="857160" cy="785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Трапеция 8"/>
          <p:cNvSpPr/>
          <p:nvPr/>
        </p:nvSpPr>
        <p:spPr>
          <a:xfrm>
            <a:off x="7358040" y="3786120"/>
            <a:ext cx="1000080" cy="714600"/>
          </a:xfrm>
          <a:custGeom>
            <a:avLst/>
            <a:gdLst/>
            <a:ahLst/>
            <a:rect l="l" t="t" r="r" b="b"/>
            <a:pathLst>
              <a:path w="1000125" h="714375">
                <a:moveTo>
                  <a:pt x="0" y="714375"/>
                </a:moveTo>
                <a:lnTo>
                  <a:pt x="178594" y="0"/>
                </a:lnTo>
                <a:lnTo>
                  <a:pt x="821531" y="0"/>
                </a:lnTo>
                <a:lnTo>
                  <a:pt x="1000125" y="714375"/>
                </a:lnTo>
                <a:lnTo>
                  <a:pt x="0" y="714375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786720" y="4643280"/>
            <a:ext cx="2000160" cy="18925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2580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3200" spc="-1" strike="noStrike">
                <a:solidFill>
                  <a:srgbClr val="072428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72428"/>
                </a:solidFill>
                <a:latin typeface="Calibri"/>
              </a:rPr>
              <a:t>Сравнение, обобщение, группировка, классификация </a:t>
            </a:r>
            <a:br>
              <a:rPr sz="20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комство с родо-видовыми отношениями и противоположными понятиями, </a:t>
            </a: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группировка и классификация предметов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57184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кажи наоборо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прос – ответ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зови одним словом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Я знаю 5 названий одежды (обуви, мебели…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-й лиш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Что общего и чем отлич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Установление аналог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йди нелепые ситуаци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его не бывает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6" name="Содержимое 3" descr="P2130911.JPG"/>
          <p:cNvPicPr/>
          <p:nvPr/>
        </p:nvPicPr>
        <p:blipFill>
          <a:blip r:embed="rId1"/>
          <a:stretch/>
        </p:blipFill>
        <p:spPr>
          <a:xfrm>
            <a:off x="6715080" y="4437000"/>
            <a:ext cx="1816200" cy="2421000"/>
          </a:xfrm>
          <a:prstGeom prst="rect">
            <a:avLst/>
          </a:prstGeom>
          <a:ln w="57240">
            <a:solidFill>
              <a:srgbClr val="083763"/>
            </a:solidFill>
            <a:miter/>
          </a:ln>
        </p:spPr>
      </p:pic>
      <p:sp>
        <p:nvSpPr>
          <p:cNvPr id="14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1:54:12Z</dcterms:created>
  <dc:creator>Admin</dc:creator>
  <dc:description/>
  <dc:language>en-US</dc:language>
  <cp:lastModifiedBy>LEGION</cp:lastModifiedBy>
  <dcterms:modified xsi:type="dcterms:W3CDTF">2015-01-27T11:57:39Z</dcterms:modified>
  <cp:revision>150</cp:revision>
  <dc:subject/>
  <dc:title>Развитие логического мышления  у детей дошкольного возраста</dc:title>
</cp:coreProperties>
</file>