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E170-CF8B-485F-903E-F1AF301DB3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8C81-89C2-40F5-8514-6713C48B4D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условия установления контак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722E-6647-4204-9C71-FBC5B28B36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нима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53E8-BC4A-47D0-82F0-5E9C6A7924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8C39-3A1E-4763-9D9E-81FAC349D5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е условия умения убежд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ить психологическ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есь сами в том, в чем убежд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ерите лог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арг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противоположные точки зрения и столкни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ите ит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5D36-E994-4B53-A435-C210684B92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маст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профессионализм учителя проявляется в его умении учить все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E4BE-E828-4E58-85DD-A11FBBA372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педагогической техники лежит  психология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владеть педагогической техникой, нужно овладеть психологией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418-E9B0-49DF-AFD5-DFDB049D4D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евербального общ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н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ьный конт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13EF-9B2B-443C-96E7-444A403583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невербальн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16E5-9282-4044-8BB4-078C44A94B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американскому психотерапевту Э.Берну, в человеке существует три «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Дит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зависимое, подчиняемое и безответственное существ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Родител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апротив, независим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подчиняемый и берущий ответственность не только за себя, но и за окружающих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зросл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4B5D-3236-446C-8D2C-5AB9281D54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ирован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ональный уровен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6BDC-1D29-4D75-BBC3-ED351A7E0C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D238-6530-4091-8F9E-039FAEDDA3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в личном конта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ад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F722-08E3-46AB-B2DA-82998835FD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1D2-68BD-45E6-867E-28471116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6E6-B4FE-4275-8C63-E54C0F16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065-E0B2-47AA-B02E-74ADA803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76C-F1CA-415B-B0A6-90099E2A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7BEE-4145-432C-BCB6-026815AD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9E7-88F3-4B7C-A353-884B9D9C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A291-5016-44E7-86EC-AFC405C7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BBAE-05BA-4189-976C-5D30B673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C1E7-C4A7-46E2-B709-A11B1584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4EF9-B6BA-4BD6-ABC1-FC72D4EC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D39A-2310-4C54-A8CA-C8D7ED72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2C5-6A79-429A-966E-22959CD8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58BA-8B93-4D77-BB98-D938F2B7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8951-2E84-44A3-9ACC-7C733716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DF84-1FB8-4378-BA4F-55BE764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E2CC-167B-4061-89C3-A3116499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BB42-A5C1-4905-A68F-F46B7DA6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0DE-43EF-40D9-92AB-A7F5516A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D8D-22D4-4D94-9119-5858FA89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8A1-0CA1-4229-A1EC-B018A26D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1E2-80D4-46D0-8B30-4ACBFCA3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788-DCF4-4817-877E-800AE09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A0D-4452-423F-9FE4-82F73862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771-72E4-4DF5-A0EC-C4466F42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15C3-A60E-4891-9CBC-86C619F3BB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B6DF-9820-4393-AE2D-912F57A80A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1640" y="1700280"/>
            <a:ext cx="532476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едагогическое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обще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859280" y="4868640"/>
            <a:ext cx="3952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имов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651640" y="40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S02064_"/>
          <p:cNvPicPr/>
          <p:nvPr/>
        </p:nvPicPr>
        <p:blipFill>
          <a:blip r:embed="rId1"/>
          <a:stretch/>
        </p:blipFill>
        <p:spPr>
          <a:xfrm>
            <a:off x="611280" y="2421000"/>
            <a:ext cx="3600360" cy="35845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сихологические условия установления контакта с учащимис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6676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55640" y="1628640"/>
            <a:ext cx="1727280" cy="1081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948360" y="1557360"/>
            <a:ext cx="1368720" cy="127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й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16360" y="1700280"/>
            <a:ext cx="4032000" cy="1081080"/>
          </a:xfrm>
          <a:prstGeom prst="rightArrow">
            <a:avLst>
              <a:gd name="adj1" fmla="val 50000"/>
              <a:gd name="adj2" fmla="val 9324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ие чувств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й, пережи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5580000" y="2924280"/>
            <a:ext cx="3313080" cy="30970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 rot="17755200">
            <a:off x="3649680" y="1996560"/>
            <a:ext cx="576360" cy="3745080"/>
          </a:xfrm>
          <a:prstGeom prst="downArrow">
            <a:avLst>
              <a:gd name="adj1" fmla="val 50000"/>
              <a:gd name="adj2" fmla="val 16244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468360" y="3933720"/>
            <a:ext cx="2879640" cy="27352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нутреннее 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ча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1403280" y="2852640"/>
            <a:ext cx="504720" cy="1081080"/>
          </a:xfrm>
          <a:prstGeom prst="downArrow">
            <a:avLst>
              <a:gd name="adj1" fmla="val 50000"/>
              <a:gd name="adj2" fmla="val 5354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понимать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55640" y="1557360"/>
            <a:ext cx="1584360" cy="129528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5867280" y="162864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484360" y="1916280"/>
            <a:ext cx="1800360" cy="649080"/>
          </a:xfrm>
          <a:prstGeom prst="rightArrow">
            <a:avLst>
              <a:gd name="adj1" fmla="val 50000"/>
              <a:gd name="adj2" fmla="val 69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 rot="565800">
            <a:off x="4787640" y="1628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 rot="18027000">
            <a:off x="5400360" y="2671560"/>
            <a:ext cx="719280" cy="360360"/>
          </a:xfrm>
          <a:prstGeom prst="leftArrow">
            <a:avLst>
              <a:gd name="adj1" fmla="val 50000"/>
              <a:gd name="adj2" fmla="val 499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 rot="13079400">
            <a:off x="6803640" y="2420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1"/>
          <p:cNvSpPr/>
          <p:nvPr/>
        </p:nvSpPr>
        <p:spPr>
          <a:xfrm rot="9796800">
            <a:off x="6875640" y="1412640"/>
            <a:ext cx="785520" cy="360360"/>
          </a:xfrm>
          <a:prstGeom prst="leftArrow">
            <a:avLst>
              <a:gd name="adj1" fmla="val 50000"/>
              <a:gd name="adj2" fmla="val 544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7722000" y="12891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7506000" y="26557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он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9640" y="3160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852720" y="1413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2828160" y="337644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нять своего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казать ему, что понимаю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1166760" y="431316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Чутко слушать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Не давать созреть гне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« Без личностей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4211640" y="4941720"/>
            <a:ext cx="1440000" cy="216000"/>
          </a:xfrm>
          <a:prstGeom prst="rightArrow">
            <a:avLst>
              <a:gd name="adj1" fmla="val 50000"/>
              <a:gd name="adj2" fmla="val 1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 rot="4300200">
            <a:off x="3924000" y="5084640"/>
            <a:ext cx="576360" cy="576360"/>
          </a:xfrm>
          <a:custGeom>
            <a:avLst/>
            <a:gdLst>
              <a:gd name="textAreaLeft" fmla="*/ 84240 w 576360"/>
              <a:gd name="textAreaRight" fmla="*/ 492120 w 5763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 rot="20686200">
            <a:off x="4140000" y="4652640"/>
            <a:ext cx="1373040" cy="189000"/>
          </a:xfrm>
          <a:prstGeom prst="rightArrow">
            <a:avLst>
              <a:gd name="adj1" fmla="val 50000"/>
              <a:gd name="adj2" fmla="val 18161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6"/>
          <p:cNvSpPr/>
          <p:nvPr/>
        </p:nvSpPr>
        <p:spPr>
          <a:xfrm rot="1356000">
            <a:off x="4140000" y="5229000"/>
            <a:ext cx="1373040" cy="188640"/>
          </a:xfrm>
          <a:prstGeom prst="rightArrow">
            <a:avLst>
              <a:gd name="adj1" fmla="val 50000"/>
              <a:gd name="adj2" fmla="val 18196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7"/>
          <p:cNvSpPr/>
          <p:nvPr/>
        </p:nvSpPr>
        <p:spPr>
          <a:xfrm>
            <a:off x="5634360" y="43848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р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5776200" y="4889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ви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5488560" y="54658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рб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050000" y="5753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гатель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ти и упрям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316" name="AutoShape 4"/>
          <p:cNvCxnSpPr/>
          <p:nvPr/>
        </p:nvCxnSpPr>
        <p:spPr>
          <a:xfrm>
            <a:off x="900000" y="1628280"/>
            <a:ext cx="1944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AutoShape 5"/>
          <p:cNvCxnSpPr/>
          <p:nvPr/>
        </p:nvCxnSpPr>
        <p:spPr>
          <a:xfrm>
            <a:off x="2771640" y="1628280"/>
            <a:ext cx="7214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8" name="AutoShape 6"/>
          <p:cNvCxnSpPr/>
          <p:nvPr/>
        </p:nvCxnSpPr>
        <p:spPr>
          <a:xfrm flipV="1">
            <a:off x="3492000" y="1627920"/>
            <a:ext cx="5756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9" name="AutoShape 7"/>
          <p:cNvCxnSpPr/>
          <p:nvPr/>
        </p:nvCxnSpPr>
        <p:spPr>
          <a:xfrm>
            <a:off x="4140000" y="1557360"/>
            <a:ext cx="1152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0" name="AutoShape 8"/>
          <p:cNvCxnSpPr/>
          <p:nvPr/>
        </p:nvCxnSpPr>
        <p:spPr>
          <a:xfrm>
            <a:off x="5292720" y="1557000"/>
            <a:ext cx="79272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1" name="AutoShape 9"/>
          <p:cNvCxnSpPr/>
          <p:nvPr/>
        </p:nvCxnSpPr>
        <p:spPr>
          <a:xfrm flipV="1">
            <a:off x="6084720" y="1556640"/>
            <a:ext cx="64836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10"/>
          <p:cNvCxnSpPr/>
          <p:nvPr/>
        </p:nvCxnSpPr>
        <p:spPr>
          <a:xfrm>
            <a:off x="6803640" y="1628280"/>
            <a:ext cx="180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Text Box 11"/>
          <p:cNvSpPr/>
          <p:nvPr/>
        </p:nvSpPr>
        <p:spPr>
          <a:xfrm>
            <a:off x="953280" y="12891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-3,5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52560" y="17208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214880" y="11970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7(8-9)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14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3928320" y="17924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 на с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6716160" y="17924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6858000" y="12891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рос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68360" y="3645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5580720" y="4221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>
            <a:off x="7236000" y="4005360"/>
            <a:ext cx="1584000" cy="1079280"/>
          </a:xfrm>
          <a:prstGeom prst="rightArrow">
            <a:avLst>
              <a:gd name="adj1" fmla="val 50000"/>
              <a:gd name="adj2" fmla="val 366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ям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обо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1909080" y="4292640"/>
            <a:ext cx="343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 - У –уступать – 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наста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оставлять ? открыт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3"/>
          <p:cNvSpPr/>
          <p:nvPr/>
        </p:nvSpPr>
        <p:spPr>
          <a:xfrm rot="18837600">
            <a:off x="2483280" y="3430080"/>
            <a:ext cx="733680" cy="865080"/>
          </a:xfrm>
          <a:custGeom>
            <a:avLst/>
            <a:gdLst>
              <a:gd name="textAreaLeft" fmla="*/ 98280 w 733680"/>
              <a:gd name="textAreaRight" fmla="*/ 635400 w 7336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5"/>
          <p:cNvSpPr/>
          <p:nvPr/>
        </p:nvSpPr>
        <p:spPr>
          <a:xfrm rot="11279400">
            <a:off x="3998160" y="3296880"/>
            <a:ext cx="2336760" cy="882720"/>
          </a:xfrm>
          <a:custGeom>
            <a:avLst/>
            <a:gdLst>
              <a:gd name="textAreaLeft" fmla="*/ 408960 w 2336760"/>
              <a:gd name="textAreaRight" fmla="*/ 1694160 w 23367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сихологические условия умения убежд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вить психологическую пробл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дитесь сами в том, в чем убежда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ерите лог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аргумен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е противоположные точки зрения и столкните 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дите ит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елайте вывод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ое мастер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ий профессионализм учителя проявляется в его умении учить всех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ая тех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педагогической техники лежит  психология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владеть педагогической техникой, нужно овладеть психологией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ед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м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уальный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55640" y="1989000"/>
            <a:ext cx="201600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48000" y="2924280"/>
            <a:ext cx="2448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эмо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88000" y="1989000"/>
            <a:ext cx="2016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б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203640" y="4292640"/>
            <a:ext cx="2952720" cy="842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203640" y="5661000"/>
            <a:ext cx="2881080" cy="627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3132000" y="4292640"/>
            <a:ext cx="295272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826920" y="3933720"/>
            <a:ext cx="1727280" cy="158436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6804000" y="3429000"/>
            <a:ext cx="1800360" cy="18730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3059280" y="1916280"/>
            <a:ext cx="3313080" cy="485640"/>
          </a:xfrm>
          <a:custGeom>
            <a:avLst/>
            <a:gdLst>
              <a:gd name="textAreaLeft" fmla="*/ 517680 w 3313080"/>
              <a:gd name="textAreaRight" fmla="*/ 2899080 w 3313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6012000" y="30686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 rot="5400000">
            <a:off x="2219760" y="2828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 rot="18369600">
            <a:off x="2190960" y="5009040"/>
            <a:ext cx="486000" cy="1163520"/>
          </a:xfrm>
          <a:prstGeom prst="downArrow">
            <a:avLst>
              <a:gd name="adj1" fmla="val 50000"/>
              <a:gd name="adj2" fmla="val 5985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248436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 rot="5400000">
            <a:off x="6372360" y="5084640"/>
            <a:ext cx="91440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4356000" y="23493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4427640" y="3860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4427640" y="522936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американскому психотерапевту Э.Берну, в человеке существует три «Я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ит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зависимое, подчиняемое и безответственное суще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дител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против, независим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дчиняемый и берущий ответственность не только за себя, но и за окружающи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зросл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ипуля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изирован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ональный уров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ховный 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 rot="19128600">
            <a:off x="4176360" y="3971520"/>
            <a:ext cx="527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вни общ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на уро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4211640" y="33577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995640" y="1700280"/>
            <a:ext cx="15130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м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020000" y="1773360"/>
            <a:ext cx="1224000" cy="769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я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684360" y="3716280"/>
            <a:ext cx="1800000" cy="86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979640" y="5084640"/>
            <a:ext cx="1368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ер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156360" y="5013360"/>
            <a:ext cx="12952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211640" y="5373720"/>
            <a:ext cx="1224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804000" y="3500280"/>
            <a:ext cx="1728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кат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826920" y="1773360"/>
            <a:ext cx="1729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б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 rot="13907400">
            <a:off x="5782320" y="1699200"/>
            <a:ext cx="485640" cy="2046240"/>
          </a:xfrm>
          <a:prstGeom prst="downArrow">
            <a:avLst>
              <a:gd name="adj1" fmla="val 50000"/>
              <a:gd name="adj2" fmla="val 10533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 rot="18339600">
            <a:off x="5478120" y="3792240"/>
            <a:ext cx="485640" cy="1384200"/>
          </a:xfrm>
          <a:prstGeom prst="downArrow">
            <a:avLst>
              <a:gd name="adj1" fmla="val 50000"/>
              <a:gd name="adj2" fmla="val 712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3"/>
          <p:cNvSpPr/>
          <p:nvPr/>
        </p:nvSpPr>
        <p:spPr>
          <a:xfrm rot="16639800">
            <a:off x="5741640" y="3124080"/>
            <a:ext cx="486000" cy="1384200"/>
          </a:xfrm>
          <a:prstGeom prst="downArrow">
            <a:avLst>
              <a:gd name="adj1" fmla="val 50000"/>
              <a:gd name="adj2" fmla="val 712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4"/>
          <p:cNvSpPr/>
          <p:nvPr/>
        </p:nvSpPr>
        <p:spPr>
          <a:xfrm>
            <a:off x="4500720" y="4365720"/>
            <a:ext cx="485640" cy="863640"/>
          </a:xfrm>
          <a:prstGeom prst="downArrow">
            <a:avLst>
              <a:gd name="adj1" fmla="val 50000"/>
              <a:gd name="adj2" fmla="val 444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5"/>
          <p:cNvSpPr/>
          <p:nvPr/>
        </p:nvSpPr>
        <p:spPr>
          <a:xfrm rot="7348800">
            <a:off x="3079080" y="2155320"/>
            <a:ext cx="485640" cy="1800360"/>
          </a:xfrm>
          <a:prstGeom prst="downArrow">
            <a:avLst>
              <a:gd name="adj1" fmla="val 50000"/>
              <a:gd name="adj2" fmla="val 926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6"/>
          <p:cNvSpPr/>
          <p:nvPr/>
        </p:nvSpPr>
        <p:spPr>
          <a:xfrm rot="10800000">
            <a:off x="4427280" y="270792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7"/>
          <p:cNvSpPr/>
          <p:nvPr/>
        </p:nvSpPr>
        <p:spPr>
          <a:xfrm rot="3075000">
            <a:off x="3705480" y="4079160"/>
            <a:ext cx="486000" cy="1201680"/>
          </a:xfrm>
          <a:prstGeom prst="downArrow">
            <a:avLst>
              <a:gd name="adj1" fmla="val 50000"/>
              <a:gd name="adj2" fmla="val 618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 rot="5400000">
            <a:off x="3069360" y="3204000"/>
            <a:ext cx="485640" cy="1656000"/>
          </a:xfrm>
          <a:prstGeom prst="downArrow">
            <a:avLst>
              <a:gd name="adj1" fmla="val 50000"/>
              <a:gd name="adj2" fmla="val 852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в личном контак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од от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ме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ад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2556000" y="1557360"/>
            <a:ext cx="1520640" cy="4465440"/>
          </a:xfrm>
          <a:custGeom>
            <a:avLst/>
            <a:gdLst>
              <a:gd name="textAreaLeft" fmla="*/ 0 w 1520640"/>
              <a:gd name="textAreaRight" fmla="*/ 549000 w 1520640"/>
              <a:gd name="textAreaTop" fmla="*/ 116280 h 4465440"/>
              <a:gd name="textAreaBottom" fmla="*/ 4349160 h 44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67280" y="1628640"/>
            <a:ext cx="484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емы правильного слуш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ение фр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жать чув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оч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с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фраз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юм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00:59Z</dcterms:created>
  <dc:creator>Митрофан</dc:creator>
  <dc:description/>
  <dc:language>en-US</dc:language>
  <cp:lastModifiedBy>LEGION</cp:lastModifiedBy>
  <dcterms:modified xsi:type="dcterms:W3CDTF">2015-01-27T11:58:33Z</dcterms:modified>
  <cp:revision>5</cp:revision>
  <dc:subject/>
  <dc:title>Педагогическое  общение</dc:title>
</cp:coreProperties>
</file>