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692B-C7A5-4992-964A-1DF74C203F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Aharoni"/>
              </a:rPr>
              <a:t>Организация         и содерж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Aharoni"/>
              </a:rPr>
              <a:t>физминутки          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12AA-EA9E-4D1D-AFC7-930E1599FB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младших школьников на уроках с элементами пись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массаж фаланг пальцев – поглаживание большим пальцем всех по очереди других пальцев по направлению от ногтевой фаланги к основанию пальца. Упражнение выполняется сразу на двух ру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гра с пальчиками «Колеч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и как грабельки скребут по шершавой поверхности подушечками паль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дони лежат на поверхности стола. Синхронное поочередное поднимание-опускание паль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енок катает грецкий орех  (шишку, фундук) между ладон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00E9-AFF7-4B71-A11F-CFE5E30C2A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стро поморгать, закрыть глаза и посидеть спокойно, медленно считая до 5. 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епко зажмурить глаза (считать до 3), открыть, посмотреть вдаль (считать до 5)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тянуть правую руку вперед. Следить глазами, не поворачивая головы, за медленными движениями указательного пальца вытянутой руки влево и вправо, вверх и вниз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    Посмотреть на указательный палец вытянутый руки на счет 1-4, потом перенести взгляд вдаль на счет 1-6. Повторить 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   В среднем темпе проделать 3-4 круговых движения глазами в правую сторону, столько же в левую сторону. Расслабив глазные мышцы, посмотреть вдаль на счет 1-6. Повторить 1-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5E92-5800-4931-B219-9AF1AA7867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зрительно-моторных тренаж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) все упражнения выполняются в позе свободного стоя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) каждое упражнение базируется на зрительно-поисковых  стимул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) в процессе такого поиска дети совершают сочетанные движения головой, глазами и тулови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) продолжительность таких упражнений 1,5—2 минут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5494-263B-467F-87F5-EEBAAD9554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  <a:ea typeface="Aharoni"/>
              </a:rPr>
              <a:t>Особенность ВНД  младших школьник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устойчив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сновных процессов  и преобладание возбудительных процес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ышенна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тощаемо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нагруз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трудн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формирования новых условных связей (требуется большее число повторени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прочно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овь образованных связей и их ут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1595-3A3C-4C17-8A32-79CFAA66BA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бенность анализаторных систем и опорно-двигательного аппара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6-7 годам заканчивается формирование совместного зрения двумя глазами (пространственное восприятие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очная устойчивость и повышенная чувствительность к внешним воздействия, т.к. продолжается развитие других функций зр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уховой анализатор не обладает всеми качествами (ниже порог слышимости, ниже острота слуха на сло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2348-F293-4F3F-82A7-F3C1548F20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келет, суставно-связочный аппарат и мускулату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есовершенен (дисфункции мышечных групп в области позвоночник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достаточное развитие эластичности сосудов, высокая возбудимость дыхательного цент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быстрое нарушение ритма дыхательных движений) создают предпосылки воспалительных заболеваний верхних дыхательных пу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A5DE-EA2C-4E39-BBF9-A782779803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бования к физминут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я должны быть просты, интересны, доступны детям, по   возможности связаны с содержанием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должен состоять из одного - двух упражнений, повторяющихся 4-6 раз. Замена комплекса проводится не реже 1 раза в две не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упражнений должно зависеть от характера и условий проведения урока. Так, после  письменных заданий, включают движения рук, сжимание  и разжимание пальце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  время контрольных и некоторых практических уроках (труд, физкультура, ритмика и др.) физкультминутку не прово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первом уроке достаточно одной физкультминутки на 25-ой минуте уро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втором и третьем уроках — по 2 физкультминутки на 10-й и    20-ой минут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четвертом уроке — 3 физкультминутки на 10-ой, 20-ой и 30-й мину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53E9-BECB-41F5-967F-34CA050262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физмин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улучшения мозгового кровообращен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младших школьников на уроках с элементами письма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глаз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A0CD-8D29-4DC4-9201-C032006C6F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улучш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згового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ходное положение (и.п.) - сидя на стуле, 1-2 - плавно наклонить голову назад, 3-4 - голову наклонить вперед, плечи не поднимать. Повторить 4-6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.п. - сидя, руки на поясе. 1 - поворот головы направо, 2 - и.п., 3 -поворот головы налево, 4 - и.п. Повторить 6-8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.п. - стоя или сидя, руки на поясе. 1 - махом левую руку занести через правое плечо, голову повернуть налево, 2 - и.п., 3-4 - то же правой рукой. Повторить 4-6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F750-41E1-4FAB-9D6A-4EBE2A0BA0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ИНЕЗИОЛОГ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апка для размышл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лучшить внимание, правописание, ясное восприятие и речь). Дети мягко заворачивают уши от верхней точки до мочки 3 раза. Это помогает им услышать резонирующий звук своего голоса, когда они говорят или по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нивые восьмер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ктивизирует структуры, обеспечивающие запоминание, повышают устойчивость внимания). Дети рисуют в воздухе в горизонтальной (вертикальной) плоскости «8» по 3 раза каждой рукой, а затем повторяют это движение обеи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ягуш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кистей рук, улучшение внимания). Положить руки на стол (колени). Одна рука сжата  в кулак, другая лежит на плоскости стола (ладошка). Одновременно менять положение рук. Усложнение упражнения состоит в ускор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ак – ребро – ладо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кистей рук, улучшение внимания).чередование кисти в трех положениях: ладонь на плоскости, ладонь сжатая в кулак, ладонь ребром на плоскости стола, распрямленная ладонь на столе. Ребенок может самостоятельно произносить инструкцию синхронизируясь с клас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4C06-A7CE-420D-8678-D87DD45205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ИНЕЗИОЛОГ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Лезгин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рук, улучшение внимания и самоконтроля). Ребенок складывает левую руку в кулак, большой палец отставляет в сторону, кулак разворачивает пальцами к себе. Правой рукой прямой ладонью прикасается к мизинцу левой. После этого одновременно меняет положение правой и левой рук. Необходимо добиваться высокой скорости смены по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хо – но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гласование деятельности, активизация внимания, улучшение мыслительной деятельности). Левой рукой взяться за кончик носа, а правой за противоположное ухо. Одновременно отпустить ухо и нос, хлопнуть в ладоши, поменять положение рук «с точностью до наоборо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7316-8B01-4462-9B67-7A6754893A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6A16-199C-4355-9747-5EE9A4D5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930E-8E52-4F6E-8BB5-942C2C3E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9C2-6185-4E50-ABC6-70E3A52E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524-0061-4E6E-BA00-C3084D63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92C5-202B-44D7-B24E-EB17B3FF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6D89-104D-48B2-BCC2-39D4D55C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36A8-385F-40DF-87D4-44E1A8A1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B395-B289-4751-9989-D50ECD77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6C31-03C4-4B4C-A671-E084E2E5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F410-862C-4FC8-8E94-EDE72C33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B681-96B0-4933-B7F9-A588D963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540D-13AC-487B-8A17-65D48B05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50FA-46E6-4DA1-AEB7-8EDB278A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8861-0B3E-47DF-90E7-2D21D25C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9B19-74F6-4BA3-B91E-68B19872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3CB6-5D12-4424-92E2-2288D15B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6EDF-0782-43C3-B499-10CA0AA6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5C0BE-3489-4E83-8C4A-0A675423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18212-CAD1-48CB-BE96-D56E8427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129FD-A048-4EF6-8AC5-8D933E9E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3E562-E576-4F4A-B791-FD429BF7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F3004-FA8C-4C5A-9004-01E4E532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D16C-1CC8-4E4D-80B0-98A4E429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2AB82-0E65-42FC-8E99-13C93DCD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BA7F3-7813-42FB-8815-F4C8E471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6C057-A843-415A-8CD8-BE44577F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8E8CE-FF22-49E8-8A73-A41445A6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7A916-E7A0-4F86-A765-C57E8860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3E23D-1E67-450D-A44C-234AF8EF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6EFDB-FDF2-46A5-A386-82C2F020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85D1E-DF2B-42B2-B63C-66713CF9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8F5D4-E785-4BE5-A196-3B1F848D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57825-3303-4D1A-ACBC-185DD123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F235-5144-4761-8212-F3C56EF2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36EA9-5A68-42A0-9C36-6526B8DE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FCEB6-8A1D-4CC1-9473-D78CDF70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3B386-1489-4EF1-BF6C-35DF7A2B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C53C2-39B2-42B8-A246-E497B857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28FA1-7665-4C08-8C27-FA715973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01AF8-73D7-44C8-A99A-5012A04D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5917D-06F2-4B4A-944E-E74EE4D5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F213A-EC28-4B7A-92D9-82D47248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3661B-153D-4ED8-AE42-CCC4DAEC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2E1D2-A4F5-422A-80F3-1588CD23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7471-58C9-4DD2-9D02-6FA6F1CB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C5F63-C4E7-490D-A7FC-920AE50B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1AB54-EC1F-4848-8000-2EFF9C6C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084FD-B083-48D7-913D-4A096956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D0074-63EF-46F5-94BB-B00140C8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28536-1074-4C85-B68F-D925DFAE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9CE2D-11A2-42B2-9AA0-6AD630BF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C1CC8-4EB9-4F59-8845-60CE4D77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36B84-C10A-41F1-9B7A-922E1084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9BA2F-0A3D-4432-80E4-6C674AB0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28D6B-823C-4DA0-8B29-AD5BBBA7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6D8-4441-4F82-BA6E-81023E54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95057-A780-44FD-BB02-EE4C58A5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B05FE-8A7F-4330-B285-F275D608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5E16E-22E0-4676-86D5-FAC7824F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52C02-C4CB-4CDF-9377-950C62FE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98510-DA43-4606-88FC-C58C95B9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7049F-E797-47C8-BB40-1CCC35F6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E53B6-CCCD-427B-B1B9-E127AD53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95F60-9061-4181-A7DE-235E0FD9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49B08-7D25-427F-876B-ED89FDD8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B7AFA-4839-4C26-A13F-EDE6FB56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EAE2-EE66-4AAF-B7D5-03DDE18F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19F36-A1BD-499F-A567-AB866D82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F6676-9169-4315-B9B4-A2DDD3D0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EE4E2-B686-4D7D-92BB-0C142689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F4E3-3FFB-4AD8-B1D4-5F810E3D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073-65C6-42A0-8635-E92C2454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EF97-08D3-4353-84F5-A7C1234DE99F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B94A-4063-47EC-93B4-ABF3EE6132DC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9915-D07A-4799-B571-5ABB5A779E87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887E-8BE4-4800-833D-446258152C18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F471-73E5-427C-B2F5-AF9080C939AA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9543-3724-43CE-9513-7164F78114F2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EF8D-A247-4C54-8BAF-B5776E426741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2175-61AC-4BB0-92D7-E3E0866655C6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6E1B-6B9C-48AB-91D0-EEB9777E7513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F2DF-6571-4DB7-A940-EF4DA1974D2F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B4AE-198F-4ABC-9B28-6D2C39B83A51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50B6-2951-40F1-8C98-D772198F5A7C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85440" y="1285920"/>
            <a:ext cx="8458200" cy="37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d3d3d"/>
                </a:solidFill>
                <a:latin typeface="Arial Black"/>
                <a:ea typeface="Aharoni"/>
              </a:rPr>
              <a:t>Организация         и содержание </a:t>
            </a:r>
            <a:endParaRPr b="0" lang="en-US" sz="6000" spc="-1" strike="noStrike">
              <a:solidFill>
                <a:srgbClr val="464646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d3d3d"/>
                </a:solidFill>
                <a:latin typeface="Arial Black"/>
                <a:ea typeface="Aharoni"/>
              </a:rPr>
              <a:t>физминутки           на уроке</a:t>
            </a:r>
            <a:endParaRPr b="0" lang="en-US" sz="6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759880" cy="1359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304920" y="1554120"/>
            <a:ext cx="86868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Самомассаж фаланг пальцев – поглаживание большим пальцем всех по очереди других пальцев по направлению от ногтевой фаланги к основанию пальца. Упражнение выполняется сразу на двух руках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Игра с пальчиками «Колечки»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Руки как грабельки скребут по шершавой поверхности подушечками пальцев.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Ладони лежат на поверхности стола. Синхронное поочередное поднимание-опускание пальцев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Ребенок катает грецкий орех  (шишку, фундук) между ладонями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285840" y="-55440"/>
            <a:ext cx="8686800" cy="9936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214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ыстро поморгать, закрыть глаза и посидеть спокойно, медленно считая до 5. 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епко зажмурить глаза (считать до 3), открыть, посмотреть вдаль (считать до 5).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ытянуть правую руку вперед. Следить глазами, не поворачивая головы, за медленными движениями указательного пальца вытянутой руки влево и вправо, вверх и вниз.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4.     Посмотреть на указательный палец вытянутый руки на счет 1-4, потом перенести взгляд вдаль на счет 1-6. Повторить 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5.    В среднем темпе проделать 3-4 круговых движения глазами в правую сторону, столько же в левую сторону. Расслабив глазные мышцы, посмотреть вдаль на счет 1-6. Повторить 1-2 раза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1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04920" y="1553760"/>
            <a:ext cx="868680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а) все упражнения выполняются в позе свободного стояния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б) каждое упражнение базируется на зрительно-поисковых  стимулах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в) в процессе такого поиска дети совершают сочетанные движения головой, глазами и туловищем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г) продолжительность таких упражнений 1,5—2 минуты.</a:t>
            </a:r>
            <a:br>
              <a:rPr sz="2200"/>
            </a:b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TextBox 3"/>
          <p:cNvSpPr/>
          <p:nvPr/>
        </p:nvSpPr>
        <p:spPr>
          <a:xfrm>
            <a:off x="357120" y="4714920"/>
            <a:ext cx="857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Franklin Gothic Book"/>
              </a:rPr>
              <a:t>Установлено,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что наибольший эффект по поддержанию активности детей на уроках от этих упражнений тогда, когда выполняются они в середине каждого урока (а при двукратном проведении — через каждые 15 м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285840" y="1214280"/>
            <a:ext cx="8686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  <a:ea typeface="Aharoni"/>
              </a:rPr>
              <a:t>Особенность ВНД  младших школьников: 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Неустойчив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основных процессов  и преобладание возбудительных процессов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овышенная 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истощаемость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ри нагрузке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Затрудненн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формирования новых условных связей (требуется большее число повторений)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Непрочность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новь образованных связей и их утрата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214200" y="11426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Особенность анализаторных систем и опорно-двигательного аппарата: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 6-7 годам заканчивается формирование совместного зрения двумя глазами (пространственное восприятие),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едостаточная устойчивость и повышенная чувствительность к внешним воздействия, т.к. продолжается развитие других функций зрения,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луховой анализатор не обладает всеми качествами (ниже порог слышимости, ниже острота слуха на слова).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14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Скелет, суставно-связочный аппарат и мускулатура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несовершенен (дисфункции мышечных групп в области позвоночника)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Недостаточное развитие эластичности сосудов, высокая возбудимость дыхательного центра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(быстрое нарушение ритма дыхательных движений) создают предпосылки воспалительных заболеваний верхних дыхательных путей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304920" y="1554120"/>
            <a:ext cx="86868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пражнения должны быть просты, интересны, доступны детям, по   возможности связаны с содержанием урока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омплекс должен состоять из одного - двух упражнений, повторяющихся 4-6 раз. Замена комплекса проводится не реже 1 раза в две недели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одержание упражнений должно зависеть от характера и условий проведения урока. Так, после  письменных заданий, включают движения рук, сжимание  и разжимание пальцев и т.д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о  время контрольных и некоторых практических уроках (труд, физкультура, ритмика и др.) физкультминутку не проводят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первом уроке достаточно одной физкультминутки на 25-ой минуте урока,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втором и третьем уроках — по 2 физкультминутки на 10-й и    20-ой минутах,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четвертом уроке — 3 физкультминутки на 10-ой, 20-ой и 30-й минутах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улучшения мозгового кровообращения ;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младших школьников на уроках с элементами письма ;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глаз 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212760" y="-42840"/>
            <a:ext cx="8686800" cy="1353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14200" y="1357200"/>
            <a:ext cx="86868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сходное положение (и.п.) - сидя на стуле, 1-2 - плавно наклонить голову назад, 3-4 - голову наклонить вперед, плечи не поднимать. Повторить 4-6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.п. - сидя, руки на поясе. 1 - поворот головы направо, 2 - и.п., 3 -поворот головы налево, 4 - и.п. Повторить 6-8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.п. - стоя или сидя, руки на поясе. 1 - махом левую руку занести через правое плечо, голову повернуть налево, 2 - и.п., 3-4 - то же правой рукой. Повторить 4-6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500040" y="5572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о время выполнений упражн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ключается дых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457200" y="-9216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341" name="Содержимое 2"/>
          <p:cNvSpPr/>
          <p:nvPr/>
        </p:nvSpPr>
        <p:spPr>
          <a:xfrm>
            <a:off x="214200" y="1000080"/>
            <a:ext cx="86868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Шапка для размышлений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улучшить внимание, правописание, ясное восприятие и речь). Дети мягко заворачивают уши от верхней точки до мочки 3 раза. Это помогает им услышать резонирующий звук своего голоса, когда они говорят или по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енивые восьмерки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активизирует структуры, обеспечивающие запоминание, повышают устойчивость внимания). Дети рисуют в воздухе в горизонтальной (вертикальной) плоскости «8» по 3 раза каждой рукой, а затем повторяют это движение обеими ру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ягушки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кистей рук, улучшение внимания). Положить руки на стол (колени). Одна рука сжата  в кулак, другая лежит на плоскости стола (ладошка). Одновременно менять положение рук. Усложнение упражнения состоит в ускор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улак – ребро – ладонь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кистей рук, улучшение внимания).чередование кисти в трех положениях: ладонь на плоскости, ладонь сжатая в кулак, ладонь ребром на плоскости стола, распрямленная ладонь на столе. Ребенок может самостоятельно произносить инструкцию синхронизируясь с клас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457200" y="-9216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344" name="Содержимое 2"/>
          <p:cNvSpPr/>
          <p:nvPr/>
        </p:nvSpPr>
        <p:spPr>
          <a:xfrm>
            <a:off x="214200" y="1000080"/>
            <a:ext cx="86868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Лезгинка</a:t>
            </a: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рук, улучшение внимания и самоконтроля). Ребенок складывает левую руку в кулак, большой палец отставляет в сторону, кулак разворачивает пальцами к себе. Правой рукой прямой ладонью прикасается к мизинцу левой. После этого одновременно меняет положение правой и левой рук. Необходимо добиваться высокой скорости смены полож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Ухо – нос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(согласование деятельности, активизация внимания, улучшение мыслительной деятельности). Левой рукой взяться за кончик носа, а правой за противоположное ухо. Одновременно отпустить ухо и нос, хлопнуть в ладоши, поменять положение рук «с точностью до наоборот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9:14:59Z</dcterms:created>
  <dc:creator>Елена</dc:creator>
  <dc:description/>
  <dc:language>en-US</dc:language>
  <cp:lastModifiedBy>LEGION</cp:lastModifiedBy>
  <dcterms:modified xsi:type="dcterms:W3CDTF">2015-01-27T11:59:04Z</dcterms:modified>
  <cp:revision>47</cp:revision>
  <dc:subject/>
  <dc:title>Слайд 1</dc:title>
</cp:coreProperties>
</file>