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45EF-1E71-4F41-B7EA-DA10F54D3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8A83-7821-4F77-92F9-6AE1A4386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4F2C-A98C-4008-9981-7CA9C240E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37CB-9965-4EA2-8F55-5587A95391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FCE-0F8D-4010-B65B-41DFC3FC2D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74D-68B6-432B-AB81-0EA7CB9C6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6DB8-2423-4A05-B40A-65850A25C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3A6-1EE3-4105-B1D2-D543CCFBA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2ED-1FCD-4427-81BB-305A71426C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080-0852-471D-981D-5338CD477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редпосылки девиантного</a:t>
            </a:r>
            <a:br>
              <a:rPr sz="1200"/>
            </a:b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BEAB-8665-483E-97B5-32D127447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2409-B535-4392-A491-3A2F530B7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E0A8-DF51-4E37-97FF-8D2B35E3A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ы деви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ы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ым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ость 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997A-3058-4CB5-A4A4-3DF1ABCDC6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школьного возраста, не посещающие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4425-88BD-47A9-AD0F-E62801B0E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 сексуально распущенного по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совершившие противоправные действия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и включают в себ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, делинквентно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D65-BA4E-4A58-8740-5AF592B3A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 повед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8B3D-778E-4FA6-B1A4-EEB31C599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нквентное повед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366-6FAE-42A5-A22F-801A97E0E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6B5-1315-43E6-A286-208E4A45C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1223-6B10-4BEB-BC4B-801C0EE6D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566A-CAC3-454B-9696-E4C33F091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AF44-FC14-4A6C-A137-0FEBE81E5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E75-31CE-45C2-B7B8-FD6CFE3B60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Делинквентность  её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и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E8B7-5C6A-429C-8ADF-5C991AEE26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846F-8321-4185-B3B5-994D34643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6B40-D931-4EB6-A928-CB51C722C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5F16-A470-4B28-A43D-828C6B3BE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79A-A68C-4CA4-B825-6CA6F23DD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девиантное поведение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условливающие девиант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3B8-0FA6-4112-9B35-D1159F729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C5F-99FF-43FC-97CF-690EB424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D54-0D42-4416-8BDB-D747043F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3F95A-C3DD-4034-8D99-C2072C01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DC097-FB42-4D12-9B92-A42D8E50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966A3-1EC1-4F87-8C3D-E4AEA6E7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0BEBF-8DD2-4F9F-92C3-4DCA1A3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2C32C-5CD9-4E97-88B7-4408D9A7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C7474-7BDE-47AD-8D7F-E7C17C1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55796-5A09-4C1E-8A0B-3C411B5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86745-1451-4848-937C-0B0CD0E8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A9166-E198-4DAE-890B-5B036DDC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060CC-D47E-43C4-9EA6-5DB1F296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014-CD49-4AD0-8CEF-E2B732A1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32C06-676E-4FC9-8B0E-40FA8F01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E040A-85D8-4F66-95A1-FFF53ECA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7A6C5-46EF-45BA-8028-C68EFF5B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A9B8F-C943-4D5B-80D3-AFC10CD2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7D127-CA4F-4EFF-A017-32E87115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B055A-F168-4766-84AA-B8333CCD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C28B3-F64B-4D99-AC62-EE597E9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93A3F-D4F4-41B7-A4F5-B2B30E6F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9CE84-CCEE-4ACF-B255-B3653782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C3FDD-9A8A-4109-AE5D-041DC422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3AA-7DEE-4685-A672-0E12F472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D8C47-FB49-496F-96F5-5A07DC35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9E32-70ED-4B41-BDF7-4863A625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C7A8-0AF8-4E4E-9F40-97896F27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8FD-40F3-4A91-9ADA-DC090D29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56FE-B1BE-4044-A8D6-E110D43F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318E-59F9-4C61-896B-DD5A68C7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AE06-93FE-4EB1-A8F3-8DE3E901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4E0-7CC3-401E-B611-36448E3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ED6-10EF-402D-B360-4C3C9DC5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7BC0-1E2A-4915-BCF0-4A7CE9C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2FBF-9F71-4D3D-ACDF-64A6169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633C-B90A-48D5-8085-13CF5F11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93F3-E469-4DE6-9CD7-7F6AE91A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E024-A21D-4CB8-ADCB-AC51E487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CF99-1CDE-4B14-9EFA-C91F1F8B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9943-6E28-403D-A18C-36EB6033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F0EC-2501-41E5-B28E-8580354D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107B6-23DC-4906-8518-5966E87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FFC5-3D48-419E-B4DE-E8B5FC1F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502-59CF-40F5-83BF-1BCA863D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3FE7-9EEC-42E0-AC23-0007D0B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8302-06AE-4B77-B3F1-A074911E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B54F-8630-4950-A438-EEA1C54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8492-71F2-494C-8E70-05FBAB1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675C-3B07-4C04-A2D7-07221452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5503-3738-47CD-9B93-D900F6B6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14E3F-1C89-4612-8225-54766A4B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C66C-5263-4308-A30C-7132150A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074B-3D2F-481E-8D83-C2555DA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4271-1B9A-447F-B05C-4296806B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69D-039C-421A-91B6-019ADB12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85BB-C03E-4A7D-9055-54B65A6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6111-AC65-4F4E-B4DF-8F9A7463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D63D-4F32-4012-996B-CE683294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DFDD-E358-4831-A742-E64295D3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B4F8-A9E2-4766-A4FD-DF23EE0A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3F4E-10C1-4493-BA8E-F2FFA182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4ED8-CC3C-4C06-90E2-38B4A7A6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3AA8-550B-4002-A6F3-F7BA7DE3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A23B3-88F0-4D12-B9A2-5F8E970A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B34E-5F08-4914-BC79-D25C2D0E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C9E-53E6-4175-A3F6-1F9A26D3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553EB-B534-485D-B6C4-2940B392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FCFC6-5C2B-4FF7-AD5B-53B20674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31DB-BF88-4B7A-8C75-35B27200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6481C-0094-4188-99D0-F04945D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28A3-3E79-401F-9677-4D5FBBA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9661-4F10-41CB-B672-2EFF050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9EC6-542D-43EF-A2C9-197FC5A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663C-D2B0-4C66-A3C3-5470599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4EA7-8A22-4DFF-AEBA-2CDD54E7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870A-26F6-4202-8478-7CB51A23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E9D-BB79-40D4-8674-C9852AC9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09FDF-D333-422D-9147-06BEB31A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0B2B4-3DB6-41CC-9B94-895E7988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5D0A-0309-4A97-B187-8F8D469A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7A7D-74EF-4132-AB99-6405E95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2AC27-49B5-4A84-8536-094791A2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84BD-C0D6-4B32-8637-28865507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A1A1-E23F-4C42-8B44-48687219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A531-782C-448F-8033-CDB958D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38BF-68D7-474B-A169-406891B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D1F6E-88E8-4DC9-8ABD-84FFF32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901-1651-48D6-98AC-02A737A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3F6DD-6C4B-42CB-AB6E-0908084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90C2-63A9-4222-8F99-76922B6E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F6A2D-D700-4623-BB74-ADCD52D2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89C09-AA2D-4303-8F9B-CFAE6DC1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B8A9-5868-457A-B918-72B55FCB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1EF2C-0216-4E58-AF87-E89501A2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4E16-20B8-4DEC-883D-68AE881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36EB3-B519-4CF8-9A46-A8210273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72D17-090D-4CD1-AAC8-2EEDF030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F604-EC3D-4238-BC86-764685D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607-683B-448D-843E-FD603B36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A6BD-012C-4E62-9490-82DB04E3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9958-600B-49D0-B9B6-D8D26BCD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C1CF-5E53-4B58-89F9-67B8CA9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FF4F7-F4EC-4FE1-8C06-08A84426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99582-73AC-4E90-8D2C-5845AE73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75FF9-687D-469E-9A52-06B78BBE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255EA-32B3-42A5-8626-3DC18D4C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E1B8-5466-4F60-9A70-3AA03A2C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C11A9-EEF0-4BA2-83CD-04D06BC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C01D4-4FF7-4AD1-BFDF-2394BBFF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70B-F897-4B22-AF3B-82969D2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3CCF-721E-4C2B-B63D-A2B1DB4A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58440-C008-405A-A471-FE44A3F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402EF-97C4-4650-9D76-77744898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A942D-F5B4-4119-8308-E2D4E51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68D7D-2794-4697-8551-7A598118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0C890-6F6C-49CA-AA5C-C6E6994D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44C58-30A2-4306-91A6-6D6BD6A1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80343-F388-4FBA-8CF7-ADF692E1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51950-C88D-4584-A7BE-FDEC308A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24230-F859-4386-A533-81DA549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B997-DBAF-410D-9595-E6D847C871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D202-B4AD-4C04-B594-ADB77894C3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4D72-E46E-40B2-9B46-4DAD5D16B7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DFFF-F383-4CA1-BFE0-7E3FB15A0AD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4DBA-FF51-4BC1-9AC4-FBCF5085B7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34C6-6DCF-48DF-8640-9D2F983EE1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DBE-A12C-486E-80D4-7991C7F97C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9FC7-0EC8-4D27-A9BE-049BBBD0BEB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CB80-ACF2-4A36-BAEC-6F0C9ADEAF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930-B914-4896-B825-CCA381DC8B6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1071720" y="15001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ramond"/>
              </a:rPr>
              <a:t>Делинквентное поведение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е факторы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522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-360" y="503280"/>
            <a:ext cx="8675640" cy="4602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-педагог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ая дезадаптация школьника проходит в своем развитии следующие стад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ой декомпенсации — состояния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школьной дезадаптации — состояния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й дезадаптации — состояния ребенка, когда отмечается полная утрата интереса к учебе, пребыванию в школьном коллективе, уход в асоциальные компании, увлечение спиртными напитками, наркотикам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оциально-экономические факторы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стокому обращению дети подвергаются в семье, на улице, в школе, детских домах, больницах и других детских учреждениях. Дети, которые подверглись таким действиям, лишены чувства безопасности, необходимого для их нормального развития. Тип реагирования детей и подростков на жестокое обращение зависит от возраста ребенка, черт его личности, социального опыта. Наряду с психическими реакциями (страх, нарушение сна, аппетита и пр.), наблюдаются различные формы нарушения поведения: повышение агрессивности, выраженная драчливость, жестокость или неуверенность в себе, робость, нарушение общения со сверстниками, снижение самооценки. что большинство детей, переживших в детстве жестокое обращение (насилие) взрослых, склонны воспроизводить его, выступая уже в роли насильника и мучител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посылки девиантного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33520" y="762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513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2568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43040" y="45684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026"/>
          <p:cNvSpPr/>
          <p:nvPr/>
        </p:nvSpPr>
        <p:spPr>
          <a:xfrm>
            <a:off x="974880" y="43164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Rectangle 1028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Делинквентное поведение</a:t>
            </a:r>
            <a:br>
              <a:rPr sz="4000"/>
            </a:b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ребенк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Схема 6" descr=""/>
          <p:cNvPicPr/>
          <p:nvPr/>
        </p:nvPicPr>
        <p:blipFill>
          <a:blip r:embed="rId2"/>
          <a:stretch/>
        </p:blipFill>
        <p:spPr>
          <a:xfrm>
            <a:off x="2316240" y="1865160"/>
            <a:ext cx="4413240" cy="42069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04920" y="304920"/>
            <a:ext cx="960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62120" y="0"/>
            <a:ext cx="7772400" cy="80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ипы девиац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ыми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ыми.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ость 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914400" y="304920"/>
            <a:ext cx="71629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клоняющееся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ти школьного возраста, не посещающие школ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52280" y="304920"/>
            <a:ext cx="655344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 сексуально распущен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совершившие противоправные действия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и включают в себя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, делинквентно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едени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3" descr="m_631"/>
          <p:cNvPicPr/>
          <p:nvPr/>
        </p:nvPicPr>
        <p:blipFill>
          <a:blip r:embed="rId1"/>
          <a:stretch/>
        </p:blipFill>
        <p:spPr>
          <a:xfrm>
            <a:off x="6781680" y="4572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740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04920" y="0"/>
            <a:ext cx="6553080" cy="90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 по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4" descr="small_1013686199"/>
          <p:cNvPicPr/>
          <p:nvPr/>
        </p:nvPicPr>
        <p:blipFill>
          <a:blip r:embed="rId1"/>
          <a:stretch/>
        </p:blipFill>
        <p:spPr>
          <a:xfrm>
            <a:off x="6858000" y="228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990720" y="76320"/>
            <a:ext cx="701028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линквентное поведение,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m_633"/>
          <p:cNvPicPr/>
          <p:nvPr/>
        </p:nvPicPr>
        <p:blipFill>
          <a:blip r:embed="rId1"/>
          <a:stretch/>
        </p:blipFill>
        <p:spPr>
          <a:xfrm>
            <a:off x="6172200" y="685800"/>
            <a:ext cx="2819520" cy="2602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20574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-457200"/>
            <a:ext cx="6019920" cy="86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152280"/>
            <a:ext cx="746748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80880" y="190512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33520" y="1066680"/>
          <a:ext cx="8381880" cy="4738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адаев Алексей Вениами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СИХОЛОГ -ПЕДАГ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У СОШ №1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37"/>
          <p:cNvSpPr/>
          <p:nvPr/>
        </p:nvSpPr>
        <p:spPr>
          <a:xfrm>
            <a:off x="457200" y="15228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Garamond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Text Box 38"/>
          <p:cNvSpPr/>
          <p:nvPr/>
        </p:nvSpPr>
        <p:spPr>
          <a:xfrm>
            <a:off x="685800" y="6172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Делинквентность  её особен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808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некоторые моменты своей жизни большинство детей  вовлекаются  в отдельные формы  делинквентного поведения. Очень распространены кражи, а так же умеренные акты вандализма – разрушение или осквернение  собственност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дности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560" y="33300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615312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ростковы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р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028" descr="33"/>
          <p:cNvPicPr/>
          <p:nvPr/>
        </p:nvPicPr>
        <p:blipFill>
          <a:blip r:embed="rId1"/>
          <a:stretch/>
        </p:blipFill>
        <p:spPr>
          <a:xfrm>
            <a:off x="6172200" y="457200"/>
            <a:ext cx="2703600" cy="373392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04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14600" cy="2595600"/>
          </a:xfrm>
          <a:prstGeom prst="rect">
            <a:avLst/>
          </a:prstGeom>
          <a:ln w="0">
            <a:noFill/>
          </a:ln>
        </p:spPr>
      </p:pic>
      <p:pic>
        <p:nvPicPr>
          <p:cNvPr id="473" name="Схема 4" descr=""/>
          <p:cNvPicPr/>
          <p:nvPr/>
        </p:nvPicPr>
        <p:blipFill>
          <a:blip r:embed="rId3"/>
          <a:stretch/>
        </p:blipFill>
        <p:spPr>
          <a:xfrm>
            <a:off x="1335240" y="907920"/>
            <a:ext cx="6132240" cy="574848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евиантное поведение подрост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условливающие девиантное повед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совершеннолетни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иологические факторы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05:01Z</dcterms:created>
  <dc:creator>InTech</dc:creator>
  <dc:description/>
  <dc:language>en-US</dc:language>
  <cp:lastModifiedBy>LEGION</cp:lastModifiedBy>
  <dcterms:modified xsi:type="dcterms:W3CDTF">2015-01-27T12:00:15Z</dcterms:modified>
  <cp:revision>107</cp:revision>
  <dc:subject/>
  <dc:title>Слайд 1</dc:title>
</cp:coreProperties>
</file>