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24EB-A0C2-4F83-9961-ABB5EFB779EF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9905-0628-49E9-96ED-C3E3DA4ACB4A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35AE-4041-4218-8346-341FE938B7D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818C-D6DA-4F56-B85A-15D9CC8AEA5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D5A1-849C-45C7-A033-CBFBCE2D8638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7EB3-9D97-4BEA-A7D8-AF9A08B0C588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5392-2D90-4690-951B-D2EE8A2CD9E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0216-013F-44FA-B78F-FE0F39595489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135E-ED85-48A4-91B4-3BCCB4600A4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719F-7ACF-4967-A66F-3C4B517B914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2BAF-AB86-487D-B482-E0AA154A826C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B956-C207-4265-A70E-37D70A2ACFA1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1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1FF6-DFBE-4718-A070-6D723D79A2A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31DC-AEE7-4115-B522-FCA7B413DA3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AEFC-3DE0-47DF-8459-D62011071D1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3B5-3DFA-4398-809E-664B56BE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590-CFDE-4614-B531-47EA22B9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F36-65A0-468C-A636-8147D803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00F-8C2E-4CFA-A8FC-2B4A8CCA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6FA-5737-4588-8A48-EFFFD190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52F-9A0B-4B76-9AE4-8424668B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2E6-0C71-4A5F-874B-4E63C9F9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66F-8D14-498B-BC1A-739B6BE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908-C78F-4FDC-902D-8FDC70E6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5F9-D448-4280-92CD-EAA19A39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47C-4E82-4046-9D55-5138BD8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E03-9CBD-419B-A1BF-3BE5F7F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7DAA-0FF6-40A3-AEFE-3E3D83D82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50" name="Oval 6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303377[1]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34128[1]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98139[1]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11" descr="j0398305[1]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80405[1]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Oval 9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96700[1]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28[1]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398159[1]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17332[1]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32909[1]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343361[1]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LEGION</cp:lastModifiedBy>
  <dcterms:modified xsi:type="dcterms:W3CDTF">2015-01-27T12:00:55Z</dcterms:modified>
  <cp:revision>7</cp:revision>
  <dc:subject/>
  <dc:title>Системы  обучения   в начальной школе</dc:title>
</cp:coreProperties>
</file>