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9373-6F44-4FFF-B6AB-130E300128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9C4B-53ED-4376-AD6B-7230746B79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9488-069E-42AD-9F12-094D9AA587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B503-22ED-45CF-99F9-5F6F1B9E27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4853-00A5-4705-9F04-CD428A326F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151B-53A9-4C92-8DE0-A73CF66CD2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5D0E-61DF-46A8-91D6-023F5D60D1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1B7D-02A9-4A97-885B-131C6FA119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8C87-3D0A-48EB-861D-7E9FB84170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CEBB-33B1-41C5-B972-F7CB263B12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B402-3FDE-40F6-9DC8-2521AB65B5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6BBD-01C4-4F19-B737-334E8BBD60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A198-7C47-4DF1-A185-13C4EDF314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30D3-C7E2-4D3F-8E2D-03410149A8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CDE-28B4-45A9-9954-AFC9562C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E83-E616-4703-A014-FB7B58EA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DA2-11F9-48CB-A3F5-3AEE8A36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A42-A240-4A33-8F88-726623A5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7D6-F3AE-44B4-93A3-01EBA38F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8F5-BA46-4A4F-96D8-088B46F9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35D-2BBA-499E-9FB6-83AA2EB3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639-B734-442F-887C-8CFEC0F9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F64-10B2-4125-A9A0-DEA85093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AA4-106E-4632-9824-38ABDE72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B0E-8A60-417A-A66B-980F3EA0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B6F-2A90-4E71-8B72-ED648747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A0FD-B58B-4ABD-B820-CBEFBF709FD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D2CD-C6EC-4BD8-A8B7-A797609D9B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0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семейное восп..jpg"/>
          <p:cNvPicPr/>
          <p:nvPr/>
        </p:nvPicPr>
        <p:blipFill>
          <a:blip r:embed="rId1"/>
          <a:stretch/>
        </p:blipFill>
        <p:spPr>
          <a:xfrm>
            <a:off x="142920" y="4714920"/>
            <a:ext cx="2449440" cy="18907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post-5450-1181480382.jpg"/>
          <p:cNvPicPr/>
          <p:nvPr/>
        </p:nvPicPr>
        <p:blipFill>
          <a:blip r:embed="rId1"/>
          <a:stretch/>
        </p:blipFill>
        <p:spPr>
          <a:xfrm>
            <a:off x="6559560" y="4714920"/>
            <a:ext cx="2228760" cy="17622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литература.gif"/>
          <p:cNvPicPr/>
          <p:nvPr/>
        </p:nvPicPr>
        <p:blipFill>
          <a:blip r:embed="rId1"/>
          <a:stretch/>
        </p:blipFill>
        <p:spPr>
          <a:xfrm>
            <a:off x="6143760" y="4143240"/>
            <a:ext cx="2334960" cy="18147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2.gif"/>
          <p:cNvPicPr/>
          <p:nvPr/>
        </p:nvPicPr>
        <p:blipFill>
          <a:blip r:embed="rId1"/>
          <a:stretch/>
        </p:blipFill>
        <p:spPr>
          <a:xfrm>
            <a:off x="3429000" y="2000160"/>
            <a:ext cx="1695600" cy="2247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4.gif"/>
          <p:cNvPicPr/>
          <p:nvPr/>
        </p:nvPicPr>
        <p:blipFill>
          <a:blip r:embed="rId1"/>
          <a:srcRect l="0" t="0" r="9222" b="0"/>
          <a:stretch/>
        </p:blipFill>
        <p:spPr>
          <a:xfrm>
            <a:off x="7000920" y="4572000"/>
            <a:ext cx="1641600" cy="1838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785520"/>
            <a:ext cx="3286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57440" y="428400"/>
            <a:ext cx="4066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713880"/>
            <a:ext cx="4357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22M6.gif"/>
          <p:cNvPicPr/>
          <p:nvPr/>
        </p:nvPicPr>
        <p:blipFill>
          <a:blip r:embed="rId1"/>
          <a:stretch/>
        </p:blipFill>
        <p:spPr>
          <a:xfrm>
            <a:off x="7786800" y="1928880"/>
            <a:ext cx="11602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baby21.gif"/>
          <p:cNvPicPr/>
          <p:nvPr/>
        </p:nvPicPr>
        <p:blipFill>
          <a:blip r:embed="rId2"/>
          <a:stretch/>
        </p:blipFill>
        <p:spPr>
          <a:xfrm>
            <a:off x="5929200" y="5214960"/>
            <a:ext cx="1285920" cy="12477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1:36:40Z</dcterms:created>
  <dc:creator>Ольга</dc:creator>
  <dc:description/>
  <dc:language>en-US</dc:language>
  <cp:lastModifiedBy>LEGION</cp:lastModifiedBy>
  <dcterms:modified xsi:type="dcterms:W3CDTF">2015-01-27T12:01:26Z</dcterms:modified>
  <cp:revision>8</cp:revision>
  <dc:subject/>
  <dc:title>Развитие нравственных качеств ребёнка в младшем школьном возрасте</dc:title>
</cp:coreProperties>
</file>