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media/image5.jpeg" ContentType="image/jpeg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D24A-400F-4A49-8D84-0C92641ED8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витие нравственных качеств ребёнка в младшем школьном возраст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«Нравственное воспитание детей – то мудрое ограничение. Ребёнок должен понять, что есть три вещи: можно, нельзя и над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.А. Сухомли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01F8-FBF2-4C51-ACDC-A2271A7526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Я плачу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ьют (ремнём)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естра не даёт смотреть телевиз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ругают, обижают –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ад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не кого-то жал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Я переживаю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не страшно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то-то умир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ама и папа долго на рабо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т друз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ходит (уезжает) мама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 плачу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Я обижа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дразня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руг рассказывает мой секрет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обижают, бьют –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гда мама бьё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Мне стыдно, ког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 не помогаю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лучу двой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ривляю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ью пап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 проигрыв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ою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не не бывает стыд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Мне страшно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емно -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ою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й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 леч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ама ухо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то-то смотрит в ок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Я бо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треля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адаю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траш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емно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огда остаюсь один д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пуг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Я зл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меня бьют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рвнич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дразнят, трогают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Я хочу драться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обидят, бьют –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дразня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 улице деру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икогда не хоч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53E9-EDCA-416B-B8BC-E66D7311B7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а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шь ли ты помочь человеку в бед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 – 8, нет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шь ли кого-нибудь ударить намерен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 – 0, нет –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шь ли кого-нибудь незаслуженно обиде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– 1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шь ли сказать неправду о другом челове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 – 1, нет –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но ли быть чест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 – 4 нет – 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ли у тебя прозвищ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– 5, да –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ты к нему относишь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равится – 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тебя чаще обижа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– 5 Никто – 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3863-1266-4EE4-92E9-EEAF0A8359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нравственного воспитания в семье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 Родители должны предъявлять единые требования к ребён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Основы трудолюбия должны закладываться с дет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 Ребёнок нуждается в ласке, похва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) Уважительного отношения членов семьи друг к д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) В семье должно быть правильное и равномерное распределение материальных и моральных средств для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ВОД: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Если эти законы в семье пополняются, значит, ребёнок состоится как лич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2D0B-FE79-44C5-8961-BA378E77D7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0363-FD71-4AE4-8BED-9706E3CC68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равственность любого ребёнка начинается в семье. Воспитание доброты, честности, справедливости, правдивости может быть в семье, где царит здоровая нравственная атмосфера, в которой не допускается лицемерие, ложь, нечестность и фальшь в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равственность ребёнка возможна там, где нет лжи, где существует вера друг в друга, тепло и добро дома, где в случившимся с тобой несчастье тебя не обвиняют, а поддерживают. Но поддержка должна быть правдивая, честная, справедлив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нравственного воспитания – правдивость и объективность семьи, отсутствие у ребёнка боязни за то, что он сделал что-то не так. Ребёнок должен не бояться,  а стыдиться за свой плохой поступок, переживать из-за него, мучиться и страдать, чтобы подобное никогда не произошло с н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B39D-1650-4B06-9CDD-7FA7B4CEEE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1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классник Вова увидел у подъезда своего дома санки. Улучив момент, когда во дворе никого не было, он взял санки и принёс домой. Возвратившись с работы, мать спросила сына: «Откуда появились санки в квартире?» «Я их во дворе нашёл», - ответил без смущения Во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ой должна быть реакция матери на ответ сы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 бы вы поступи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E9BB-DC8E-4570-9807-6224057605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2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ьеклассник Миша возвратился домой в слезах, с окровавленными губами. «Кто тебя избил?» - спросила испуганная мама. «Валерка», - всхлипывая произнёс мальчик. Мама хорошо знала Валеру, он не раз играл у них в доме с Мишей. Но обида за побитого сына охватила её. Она выбежала на улицу, увидела Валеру среди мальчиков и, подбегая к детям, закричала: «Ах ты, негодяй! Что ты позволяешь себе бандитские выходки?!» «Он первым стал задираться», - пытался оправдаться Валера, убегая от матери Миши. Ребята, видевшие драку мальчишек, наперебой заговорили: «Ваш Миша первым полез!» «А как он Игорю нос разбил, вы забыли?» «Он сам виноват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 может отразиться на развитии нравственных качеств Володи, на отношении к нему сверстников поступок его матер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 бы вы поступили в подобной ситу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44F4-1ECA-4CBE-9D01-3C44AE9E7C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3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ня росла в семье болезненным ребёнком. Ей всегда отдавали самое лучшее из еды. Однажды, увидев выбегающую на улицу дочь с апельсином в руке, мать приказала: «Смотри, сама ешь, никому не давай!» Таня вышла на улицу и в присутствии подружек начала очищать апельсин. Девочки молча, наблюдали за ней. Одна из них не выдержала и попросила дольку. «Не дам, - отозвалась Таня. – У нас их мало, и мама только мне позволяет их есть». «Жадина», - сказала девочка. «Жадина – говядина» - закричали другие. Но Таня спокойно доела апельси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ходилось ли вам наблюдать похожие ситу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ава ли была мать, наказав дочери никому не давать апельси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ие отрицательные качества могут развиться у девочки в результате такого воспит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EFDB-E1D0-4C4D-87F7-3B1F8EDC13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адший школьный возраст – время интенсивного приобретения ребёнком социальных знаний, которые включают в себя усвоение общественных норм и правил, а также способов действий в различных ситуациях. Именно в начальной школе дети учатся принимать в расчёт нюансы дружбы и авторитета, учитывать множество предписаний и прави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 этот период времени родителям стоит задуматься о том, насколько ваш ребёнок может уживаться в коллективе, каково ему среди детей, какое значение он имеет для коллектива и может ли коллектив обходиться без не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 присмотреться и прислушаться к ребёнку: что он говорит о школе, своих сверстниках, переживает ли он, если совершил какой-то неблаговидный поступок; радуется ли когда оказывается помощь другому человеку и способен ли сам кому-нибудь помоч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A090-BE17-4AE9-880F-0AFCC53895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воспит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 в этот период времен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оспитывать в ребёнке нравственную ответственн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свои поступки, дела перед близкими, окружающими, обще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оспитывать щедрость и бескорыс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егативное отношение к жадности и корыстолюб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ребёнк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чувства удовлетворения о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ого, что он делае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хорошие дел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носит пользу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зким, окружающим, радует 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брыми поступк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ть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держку, сдержанность и терпим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некоторым человеческим качеств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учить ребёнка понимать душевное состояние другого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его боль, тревоги, оказывать бескорыстную помощь и поддержку, быть чутким и внимательным, отзывчивым и сердеч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будить у ребёнка потребность заботиться о други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иносить им пользу, радоваться их успех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обходимо воспитывать у детей скромн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негативное отношение к хвастовству, зазнайству, высокомер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587E-9CC1-401A-8644-C0B507DDC6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а родител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имая сказка ребён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олуш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олотой ключ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Алёша Попович и Тугарин зм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ие народные сказки –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Любимый филь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эппи – длинный чул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еловек – паук»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апины доч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мешари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Астерикс и Викинг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Железный челове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анет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Любимая телепередач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алилео» -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анцы со звёздам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роси у Всезнамус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окойной ночи, малыш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Любимый геро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най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ун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тм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-паук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еки Ч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го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Любимая кни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Энциклопедии - 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Золотой ключик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Приключения барона Мюнхаузена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Тысяча и одна ночь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Карамелька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иключения Незнайки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Любимая компьютерная иг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Винкс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Алик идёт в школу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Кузя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Гонки -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Хотите оградить ребёнка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дурного влияния -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плохих компаний –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неадекватных люде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наркотиков, сигарет и спиртных напитк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произвол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Хотите предостеречь ребёнка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необдуманных поступк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всего плохого, от опасности –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спиртного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ите обезопасить ребёнка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насил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наркотик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загрязнения экологи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всего плохого(многого) -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0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пытаетесь это сдела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с помощью бесед - 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примеров из жизни -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разъясняем -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читаем книг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общаемся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воспитываем –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4DA7-DE85-49AD-B51E-FBB218DA64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а детей 1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Я раду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упаю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лучаю «5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ядом со мной друг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ветит солнце –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хожусь в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таюсь на роли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граю в компьютер и телеф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ду гул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Я сме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игр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ядом б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щекочут –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мешно 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 друзь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не весе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ижу грязного мальч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Я весел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  дискоте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ень рождения, праздник -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ешаю шар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ядом др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 цир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граю, гуляю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Я горжу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лучаю хорошую оцен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тпускают кататься с го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ам чит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хвалят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делаю подел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могаю, спасаю кого-нибудь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0A48-431E-48BF-BDE6-6F30BC7B4A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E746-B5F6-47E4-979F-260829260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03E7-D67E-462A-8C11-F26ECC16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849E-8A53-41F0-A6B7-4FC3F60FF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F3DE-658F-429F-BEE1-B1F6F8DE6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C432-460C-4E0C-AB9C-B4D07049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0B3F-945D-4881-B3F2-2FD9B45D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9C08-21AC-437F-BA29-7039717D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EB61-A65D-42E0-B66C-79BA5798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9762-8898-4556-AE87-354ED1C9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7D00-21C6-4095-AD15-60ADC360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D8FC-C8A3-45E2-BC11-9F8BD1DF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FBB9-9801-4648-B808-863E3AF1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F4B4-F368-454C-96D5-1660FC11301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3FE6-B832-4754-837F-E6E26F6DE9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Развитие нравственных качеств ребёнка в младшем школьном возраст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00200" y="3785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f497d"/>
                </a:solidFill>
                <a:latin typeface="Calibri"/>
              </a:rPr>
              <a:t>«Нравственное воспитание детей – то мудрое ограничение. Ребёнок должен понять, что есть три вещи: можно, нельзя и надо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f497d"/>
                </a:solidFill>
                <a:latin typeface="Calibri"/>
              </a:rPr>
              <a:t>В.А. Сухомлински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5" descr="семейное восп..jpg"/>
          <p:cNvPicPr/>
          <p:nvPr/>
        </p:nvPicPr>
        <p:blipFill>
          <a:blip r:embed="rId1"/>
          <a:stretch/>
        </p:blipFill>
        <p:spPr>
          <a:xfrm>
            <a:off x="142920" y="4714920"/>
            <a:ext cx="2449440" cy="18907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500040"/>
            <a:ext cx="40384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5. Я плачу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бьют (ремнём)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сестра не даёт смотреть телевизор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ругают, обижают – 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падаю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не кого-то жалко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6. Я переживаю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не страшно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кто-то умирае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ама и папа долго на работе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нет друзей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уходит (уезжает) мама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я плачу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7. Я обижаюсь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дразня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друг рассказывает мой секрет –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обижают, бьют – 4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когда мама бьё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8. Мне стыдно, когд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я не помогаю –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получу двойку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кривляюсь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бью папу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я проигрываю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боюсь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не не бывает стыдно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500040"/>
            <a:ext cx="40384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9. Мне страшно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темно - 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боюсь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войн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я лечу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ама уходи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кто-то смотрит в окно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10. Я боюсь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стреляю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падаю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страшно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темно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когда остаюсь один дом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пугаю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11. Я злюсь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меня бьют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нервничаю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дразнят, трогают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12. Я хочу драться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обидят, бьют – 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дразня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на улице дерутся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никогда не хочу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4" descr="post-5450-1181480382.jpg"/>
          <p:cNvPicPr/>
          <p:nvPr/>
        </p:nvPicPr>
        <p:blipFill>
          <a:blip r:embed="rId1"/>
          <a:stretch/>
        </p:blipFill>
        <p:spPr>
          <a:xfrm>
            <a:off x="6559560" y="4714920"/>
            <a:ext cx="2228760" cy="176220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нкета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шь ли ты помочь человеку в бед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– 8, нет 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шь ли кого-нибудь ударить намеренн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– 0, нет – 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шь ли кого-нибудь незаслуженно обидет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т – 11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шь ли сказать неправду о другом человек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– 1, нет – 1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удно ли быть честным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– 4 нет – 7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ть ли у тебя прозвищ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т – 5, да – 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ты к нему относишьс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нравится – 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то тебя чаще обижает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ти – 5 Никто – 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5" descr="литература.gif"/>
          <p:cNvPicPr/>
          <p:nvPr/>
        </p:nvPicPr>
        <p:blipFill>
          <a:blip r:embed="rId1"/>
          <a:stretch/>
        </p:blipFill>
        <p:spPr>
          <a:xfrm>
            <a:off x="6143760" y="4143240"/>
            <a:ext cx="2334960" cy="18147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коны нравственного воспитания в семье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1) Родители должны предъявлять единые требования к ребёнк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2)Основы трудолюбия должны закладываться с детст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3) Ребёнок нуждается в ласке, похвал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4) Уважительного отношения членов семьи друг к друг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5) В семье должно быть правильное и равномерное распределение материальных и моральных средств для дете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ВЫВОД: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 Если эти законы в семье пополняются, значит, ребёнок состоится как личност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5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0" dur="2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5" descr="2.gif"/>
          <p:cNvPicPr/>
          <p:nvPr/>
        </p:nvPicPr>
        <p:blipFill>
          <a:blip r:embed="rId1"/>
          <a:stretch/>
        </p:blipFill>
        <p:spPr>
          <a:xfrm>
            <a:off x="3429000" y="2000160"/>
            <a:ext cx="1695600" cy="22478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85840" y="57132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равственность любого ребёнка начинается в семье. Воспитание доброты, честности, справедливости, правдивости может быть в семье, где царит здоровая нравственная атмосфера, в которой не допускается лицемерие, ложь, нечестность и фальшь в отношениях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равственность ребёнка возможна там, где нет лжи, где существует вера друг в друга, тепло и добро дома, где в случившимся с тобой несчастье тебя не обвиняют, а поддерживают. Но поддержка должна быть правдивая, честная, справедливая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снова нравственного воспитания – правдивость и объективность семьи, отсутствие у ребёнка боязни за то, что он сделал что-то не так. Ребёнок должен не бояться,  а стыдиться за свой плохой поступок, переживать из-за него, мучиться и страдать, чтобы подобное никогда не произошло с ним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туация 1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12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ервоклассник Вова увидел у подъезда своего дома санки. Улучив момент, когда во дворе никого не было, он взял санки и принёс домой. Возвратившись с работы, мать спросила сына: «Откуда появились санки в квартире?» «Я их во дворе нашёл», - ответил без смущения Вов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Какой должна быть реакция матери на ответ сын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Как бы вы поступили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туация 2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785880"/>
            <a:ext cx="840096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ретьеклассник Миша возвратился домой в слезах, с окровавленными губами. «Кто тебя избил?» - спросила испуганная мама. «Валерка», - всхлипывая произнёс мальчик. Мама хорошо знала Валеру, он не раз играл у них в доме с Мишей. Но обида за побитого сына охватила её. Она выбежала на улицу, увидела Валеру среди мальчиков и, подбегая к детям, закричала: «Ах ты, негодяй! Что ты позволяешь себе бандитские выходки?!» «Он первым стал задираться», - пытался оправдаться Валера, убегая от матери Миши. Ребята, видевшие драку мальчишек, наперебой заговорили: «Ваш Миша первым полез!» «А как он Игорю нос разбил, вы забыли?» «Он сам виноват!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Как может отразиться на развитии нравственных качеств Володи, на отношении к нему сверстников поступок его матери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Как бы вы поступили в подобной ситуации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4" descr="4.gif"/>
          <p:cNvPicPr/>
          <p:nvPr/>
        </p:nvPicPr>
        <p:blipFill>
          <a:blip r:embed="rId1"/>
          <a:srcRect l="0" t="0" r="9222" b="0"/>
          <a:stretch/>
        </p:blipFill>
        <p:spPr>
          <a:xfrm>
            <a:off x="7000920" y="4572000"/>
            <a:ext cx="1641600" cy="18381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туация 3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аня росла в семье болезненным ребёнком. Ей всегда отдавали самое лучшее из еды. Однажды, увидев выбегающую на улицу дочь с апельсином в руке, мать приказала: «Смотри, сама ешь, никому не давай!» Таня вышла на улицу и в присутствии подружек начала очищать апельсин. Девочки молча, наблюдали за ней. Одна из них не выдержала и попросила дольку. «Не дам, - отозвалась Таня. – У нас их мало, и мама только мне позволяет их есть». «Жадина», - сказала девочка. «Жадина – говядина» - закричали другие. Но Таня спокойно доела апельсин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Приходилось ли вам наблюдать похожие ситуации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Права ли была мать, наказав дочери никому не давать апельсин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Какие отрицательные качества могут развиться у девочки в результате такого воспитания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ладший школьный возраст – время интенсивного приобретения ребёнком социальных знаний, которые включают в себя усвоение общественных норм и правил, а также способов действий в различных ситуациях. Именно в начальной школе дети учатся принимать в расчёт нюансы дружбы и авторитета, учитывать множество предписаний и правил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 в этот период времени родителям стоит задуматься о том, насколько ваш ребёнок может уживаться в коллективе, каково ему среди детей, какое значение он имеет для коллектива и может ли коллектив обходиться без него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ажно присмотреться и прислушаться к ребёнку: что он говорит о школе, своих сверстниках, переживает ли он, если совершил какой-то неблаговидный поступок; радуется ли когда оказывается помощь другому человеку и способен ли сам кому-нибудь помочь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чи воспитани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ажно в этот период времен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оспитывать в ребёнке нравственную ответственнос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 свои поступки, дела перед близкими, окружающими, обществ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оспитывать щедрость и бескорыст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негативное отношение к жадности и корыстолюб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у ребёнка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чувства удовлетворения о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того, что он делает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хорошие дел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риносит пользу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лизким, окружающим, радует их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добрыми поступкам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ть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ыдержку, сдержанность и терпимос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некоторым человеческим качества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ажно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аучить ребёнка понимать душевное состояние другого челове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его боль, тревоги, оказывать бескорыстную помощь и поддержку, быть чутким и внимательным, отзывчивым и сердечны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робудить у ребёнка потребность заботиться о других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приносить им пользу, радоваться их успеха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еобходимо воспитывать у детей скромнос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негативное отношение к хвастовству, зазнайству, высокомерию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нкета родителей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85840" y="785520"/>
            <a:ext cx="328608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юбимая сказка ребёнка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Золушка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Золотой ключик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Алёша Попович и Тугарин змей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усские народные сказки – 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 Любимый филь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Пэппи – длинный чулок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Человек – паук» -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Папины дочк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Смешарик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Астерикс и Викинг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Железный человек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Ранетк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 Любимая телепередач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Галилео» - 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Танцы со звёздами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Спроси у Всезнамуса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Спокойной ночи, малыш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 Любимый герой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знай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инцесс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унти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етме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еловек-паук -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жеки Ч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угов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357440" y="428400"/>
            <a:ext cx="406692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.  Любимая книг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циклопедии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олотой ключ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иключения барона Мюнхаузен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ысяча и одна ноч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арамель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лючения Незнай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. Любимая компьютерная игр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инкс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Алик идёт в школ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уз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нки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7. Хотите оградить ребёнка от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урного влияния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плохих компаний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еадекватны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аркотиков, сигарет и спиртных напи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произв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8. Хотите предостеречь ребёнка от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обдуманных поступ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всего плохого, от опасности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спирт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Хотите обезопасить ребёнка от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си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ркот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загрязнения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сего плохого(многого)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к вы пытаетесь это сделать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 помощью бесед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меров из жизни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зъясняем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итаем кни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щаем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спитываем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нкета детей 1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785880"/>
            <a:ext cx="403848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Я радуюсь, ког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купаюс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олучаю «5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ядом со мной друг-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ветит солнце –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ахожусь в школ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катаюсь на ролик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граю в компьютер и телеф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ду гуля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Я смеюсь, ког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 игра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ядом бр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меня щекочут – 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мешно -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 друзь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мне весел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ижу грязного мальч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00720" y="713880"/>
            <a:ext cx="43574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Я веселюсь, ког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на  дискоте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день рождения, праздник - 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ешаю шар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ядом дру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 цир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граю, гуляю 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Я горжусь, ког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олучаю хорошую оцен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отпускают кататься с гор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ам чита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меня хвалят 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делаю подел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омогаю, спасаю кого-нибудь 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4" descr="22M6.gif"/>
          <p:cNvPicPr/>
          <p:nvPr/>
        </p:nvPicPr>
        <p:blipFill>
          <a:blip r:embed="rId1"/>
          <a:stretch/>
        </p:blipFill>
        <p:spPr>
          <a:xfrm>
            <a:off x="7786800" y="1928880"/>
            <a:ext cx="1160280" cy="9288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baby21.gif"/>
          <p:cNvPicPr/>
          <p:nvPr/>
        </p:nvPicPr>
        <p:blipFill>
          <a:blip r:embed="rId2"/>
          <a:stretch/>
        </p:blipFill>
        <p:spPr>
          <a:xfrm>
            <a:off x="5929200" y="5214960"/>
            <a:ext cx="1285920" cy="12477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21:36:40Z</dcterms:created>
  <dc:creator>Ольга</dc:creator>
  <dc:description/>
  <dc:language>en-US</dc:language>
  <cp:lastModifiedBy>LEGION</cp:lastModifiedBy>
  <dcterms:modified xsi:type="dcterms:W3CDTF">2015-01-27T12:01:26Z</dcterms:modified>
  <cp:revision>8</cp:revision>
  <dc:subject/>
  <dc:title>Развитие нравственных качеств ребёнка в младшем школьном возрасте</dc:title>
</cp:coreProperties>
</file>