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9539-5BA1-4177-81B2-C3A5E8CCFC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2325-BA56-4945-83AE-A6B217BFD2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5769-48B7-4046-AF13-647B71F6EE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ADD5-8F9C-417E-AC6C-5F0E06D7DF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CF25-F524-4720-9F1F-2F600DFEA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6715-F89E-486D-9E49-0A2FF08BE4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91B7-5255-4B63-80BE-F0524B69BD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6084-6A58-4D5B-B465-868125F023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40F2-7C5E-49FB-9712-BA2CAB9AAB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1C78-1A56-4BDA-9145-51D89E7258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CF1E-D813-40D9-98BA-99EC04C4AB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8E66-6B7E-4803-A2C7-D6D5FDCAAD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5224-2A7E-4619-A4F4-7E1DEA9CB9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5B20-E1AF-4081-9FA2-F6D00594E2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8911-AE12-4ADD-8C54-D77E0DF73F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BD4-341B-44BD-9F0D-1CD45BE1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5D2-882A-40BD-9B7F-1BEC07F5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357-59D8-49E5-A8B2-68033296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6D0-FDE3-4636-961E-CE5EDE8F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ECAD-51CD-4B27-B556-9D0C14F8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ECBB-8F88-4434-A996-0DE81DAB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3EEA-714C-42A6-971B-F53501E5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5876-CE8E-41B8-9C43-E0B42A45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99CA-3ACC-4A97-A590-4B6E2135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EE60-C579-40E6-85A2-CB62C349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C799-82BD-4932-B3DD-79AB8494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FF9-36A0-4795-882B-9E6D70EB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DC3C-5EE7-49F7-A427-5928C9E2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3A48-0283-46CA-BD6F-4B46B405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7E6D-5C85-405E-86A4-7B3396D0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778A-6837-4E85-93B0-7B22201A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4753-4445-4EA9-A604-8F029AE2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A0E2B-89F5-4C14-A7FD-C485978B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43F4-8CAE-4713-81DD-44660786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9945-901F-4F8D-8350-1ABD2B07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4342-C774-4CDD-98A9-18398A18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D68C-D42C-4ADC-8D70-E999D2B6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6B4-A3B9-44D8-8424-4F32309D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6CFE-068C-4DAC-90E3-85283514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B195-19EE-4B2B-99AD-F3A7E5E1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52AA1-300B-47DB-9819-109E822E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98EB-ED14-4150-8806-F52F29F3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CD43-773F-4631-B5DD-ADEF516E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E478-4F75-43EB-8F88-E3EB2F46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8536-C9B4-4573-80F5-B0B335E2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3A578-CD48-4089-A081-F5862B74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72CFF-AF2A-4C3D-9AB8-16267D55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0596D-E6C2-4044-ADCB-737DAB40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9A7-44AC-4E1D-B398-46403B87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3430-C22D-4DA2-A394-579881E3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C763C-6693-4657-AC77-A7AEAB63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6977C-CFE1-4560-B9B3-94476CB1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A9C7-13CD-4ECC-A5CE-94CA1F0A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9206D-5213-4B21-8602-4AF67353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DA7D-DAC0-48CD-A1F4-45EA830E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21772-8A92-4791-B494-107D130E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FEF13-EF1F-42BF-ABEC-681CE4C3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551DA-55E1-4F08-8560-24DB9D05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E8FBB-6F89-460D-96FC-4B967170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AA8-134B-4E2E-BB1A-59B14A56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292EE-A663-4FDD-AF29-B78A6739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269B-0CC9-46AD-AD08-9BD401CD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ED361-5EE4-4875-87C6-03B6B4C4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7900-013E-44AC-88F3-7A6AAF03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5298-7F3E-450D-B17F-EF3282DE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63202-BC3B-4D28-9BE0-AC6521C6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6B772-8FA8-4BBC-949A-CD31D69D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9A710-016E-487F-9760-F8B99E83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662BE-B0A6-4F6E-9754-1D64BFD9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28976-7A12-482C-93B7-4296E610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F27-2EDC-4FCE-AF81-5CD176BC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F89F5-5868-4B08-A511-4AFFCB9B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F4F5E-76A1-4692-9BBA-58D86632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2487C-B874-48B2-B7F3-8FB82746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3A9D3-AFC8-46A9-9E70-95409CE4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DB1DC-A271-4E1C-883E-7302A38F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FB04-72A1-47E8-97EE-52A5737A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89FB3-2137-4511-8739-C7970751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BDEB8-C1EE-4A0B-96F8-0F255491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2E64E-FC81-42C5-B354-1B9B9A18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D2A1D-7294-43C1-9D14-2E3C2745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6A4-C6D0-4188-98DE-AF158DD3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E4675-DE38-4D21-BAFE-292C7AB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78144-0326-4EFA-ACB8-77F549F4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8D980-9884-4823-ABD9-4BE90EA1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602EE-D79D-45F2-99EE-9860058A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6BD48-A23F-4D54-8EEE-6EB807ED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301DF-6C7F-44D2-BEB7-4EB168DB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BC841-05E8-4913-AC96-7CCD363D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A8201-7C06-4CDC-B734-54334848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F9776-E20B-4A2F-B861-2D71BD49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B87A-A3D7-4814-8BEE-442BADD1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63A-6504-4F46-BA10-EC76D594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55B4E-4B13-4D41-8EA3-0715CA12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E8F8B-E08F-45E1-85DD-7AD9FF11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58735-7F6E-4DFA-8888-622A9342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FDA7F-BFF2-464A-B48A-0A3B058F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24AF0-7E81-4FB6-A691-AD8D9ED5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886-2676-431B-A245-575152E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14BA-7A66-4DE6-B17C-8C2AD49D1D1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8374-276B-49E0-BF40-F977BD6825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1C59-4C5A-4690-9257-18AFA478459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4FE3-799B-459D-B068-67F8C037A6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7A3B-4489-4900-8401-02BDBC89EC3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3DC-B5C8-46B1-8186-706E695E9F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84B6-2711-471C-A89E-2C03BBEF2B3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546F-53F0-4C6E-835F-3431DD3BB0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EB6F-3E0C-457B-AAD0-987C46D32D5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DD33-10A6-458A-BDD6-83F040AE096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34ED-932F-4213-986E-7E8F9D6BDD2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52C9-6792-4E05-8A64-1851DF37C3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8FB8-2FA3-4892-8F5A-6CE2FB0170F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E789-186F-4E62-81F4-2B7CCC3FCA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57200" y="500040"/>
            <a:ext cx="821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096920" indent="-1731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428760"/>
            <a:ext cx="7494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214280"/>
            <a:ext cx="7499520" cy="50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428760"/>
            <a:ext cx="7499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999720"/>
            <a:ext cx="74995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5300"/>
            </a:br>
            <a:endParaRPr b="0" lang="en-US" sz="5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5928840"/>
            <a:ext cx="7499520" cy="3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5000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8:11:17Z</dcterms:created>
  <dc:creator>Admin</dc:creator>
  <dc:description/>
  <dc:language>en-US</dc:language>
  <cp:lastModifiedBy>LEGION</cp:lastModifiedBy>
  <dcterms:modified xsi:type="dcterms:W3CDTF">2015-01-27T12:01:53Z</dcterms:modified>
  <cp:revision>13</cp:revision>
  <dc:subject/>
  <dc:title>Развитие орфографической зоркости у младших школьников</dc:title>
</cp:coreProperties>
</file>