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F007-4CFB-4258-9296-6771427D89C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рудности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даптации первоклассников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5CE2-D53C-424B-810D-7645EA0990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екомендуемые фразы для общ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9FD2-85F7-4401-A602-76003AF6FF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сколько советов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BDF8-6DF5-4238-A067-4ABA4B551D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7C92-C64A-4118-B6B2-D6852B89A7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бесполез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4521-AFBF-46C6-8F47-4F8754D2D3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9A49-C97C-4A31-9E84-351845A172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6875-ACB6-4BA9-BC59-44EED46CAB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Bookman Old Style"/>
              </a:rPr>
              <a:t>Эпигра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Штурмуйте каждую проблему с                       энтузиазм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как если бы от эт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завис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Ваша жизнь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Кью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75B8-30FF-467C-8428-253DDED8FE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Усло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адап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0B4D-A79C-46ED-909D-D5A93A63EB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Bookman Old Style"/>
              </a:rPr>
              <a:t>Физи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Изменение режима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обходимые иг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авильная поса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авильное пит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Развитие двигательной ак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оспитание самостоятельности и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3388-F39E-4FA4-9EB7-772E7A5BBD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Bookman Old Style"/>
              </a:rPr>
              <a:t>псих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сихологический климат в сем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Самооценка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Самоценность ребенка для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Формирование интереса к шк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Дружеское общение с одноклассн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едоставление самосто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Учет темперамента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Организация контроля за учеб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охвала за успехи и дости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Моральное стимул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Развитие самоконтроля и само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4234-AD99-431C-A0BC-B0062E1D06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заимоотношения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с ребенком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EC8B-49C9-42AD-B1D3-2FE48CD066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Шкала Общени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Bookman Old Style"/>
              </a:rPr>
              <a:t>Положительные эмо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хвал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ощря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добря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целу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опережива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лыбаем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восхищаем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делаем подар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Bookman Old Style"/>
              </a:rPr>
              <a:t>Отрицательные эмо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прека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нижаем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бвиняем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суждаем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твергаем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читаем нотации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лишаем чего-то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тавим в уго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B123-6B7E-40D4-AEDE-2707D0DB29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ила, которые помогут ребёнку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общен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отнимай чужого, но и своё не отдав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просили – дай, пытаются отнять – защищай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дерись без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Зовут играть - иди, не зовут – спроси разрешения играть вместе, а это не сты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грай честно, не подводи своих товари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дразни никого, не выпрашивай нич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з-за отметок не плачь, есть вопросы к учителю – подойди, выяс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тарайся все делать вовремя, думай о хороших результатах. Они обязательно у тебя буд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жалуйся, не ябедничай, не наговаривай ни на 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Будь во всем аккуратен: в учебе, в одежде, в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чаще говори: «Давай дружить!», «Давай играть вместе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8E16-D59E-4A23-8FBE-0195BA804F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 рекомендуемые фразы для общ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58AE-71B5-4F8E-96B9-3071AC84DF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07A7-D611-4F3F-BD25-7E12E4D8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433E-B244-4282-9F7C-F75F44A2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13B99-F1E6-49AD-9400-FA777A3C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37626-E22C-4EB2-B870-52AB3B1D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B6AA3-EA9C-4FEC-A71B-97F8DCD2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BC50A-ADB8-4080-97AD-8A9DE3E5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2FC57-7560-4CED-97C0-34D7801A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0E0F7-FC58-4428-A217-743369E8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0C10E-E57A-49CA-ABD9-8228612B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67B10-8E08-48EB-83AE-B08FAD0A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9F20F-3E8D-4131-8955-7C2AB80B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CA96-9400-4CAA-A693-C892CFC0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BD6-57E8-4C24-AAA1-9A4BD8F2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2B79-E938-4DB3-850A-B07A1E09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72D7-1A59-4D13-80E9-CA5215DD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5C65-7F3C-4FF2-8E64-4F7C0BC7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F2A8-413B-49CC-A7E5-B1BF91FA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1523-6CE4-4542-B0E0-73E7B63B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D504-1855-4B95-ADF2-B7794DC1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1CB5-CEAE-42F2-92F7-598977B6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C43-FA0F-4097-97FA-308C0097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F447-3B2C-4915-8969-EBA974E9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8274-0B88-4E97-BA8E-149399C7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BA35-A41C-418D-A30D-75650FA8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3399-BA0F-4AF8-8745-E00E542F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CBAC-CF37-4B09-A0FC-787AB391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282AE-F380-4C41-817E-1767F2F2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FD277-72B2-4D1F-94B7-8DD286EC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A5D16-465D-4986-9DD1-32B84C76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9759F-4203-4E60-898B-D496CA52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02ACB-01C8-4AAF-A834-34AC66BC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263-6BF7-4BA0-83A7-CE26AF61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BE4C7-A7EF-45E6-A176-BFD66233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E4B0B-CA97-4D17-9A0D-1757295D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7AEBC-C6E2-41B8-AF85-196376D9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9CDD4-9B19-4C5A-A236-39F7DB17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24EA6-CF9E-4B6E-B6D1-7F212D64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BBE18-554F-44E9-AF01-7FF7A200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E6855-8C4C-413D-8A9A-A6801ECC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95E35-CB91-46FE-90DA-D0020331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17810-ECDA-4011-A60B-309624C7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24E49-DF11-4BF7-9010-17D1B108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CC7-A56A-4DB6-81A5-55A5B415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A69B4-48BD-4F2F-8A6D-E9ACE509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28BB9-229D-4E43-8917-BB42FA5F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34E42-44A8-4C01-9AFA-156FDC74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BE6BE-5177-4DE4-A225-7349C2A3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2A3DF-B7A6-4871-9AD7-6F76348C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BB684-EBBE-49C1-BE91-E59DC0C0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44D77-7442-4826-840A-8059BC95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10CE9-30E4-45C5-9C25-7EECD7B0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05FC7-E777-4B28-B3CF-111A8612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FCB89-FAD4-4B24-960B-173FEB2C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4C4E-305D-44D9-A1E3-E1AFBA7B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7A4E9-7A9E-40DA-91CE-CDCA0FDF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22E5F-418C-45A0-BB6F-447E3A61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9D7D0-3005-412E-ADEE-28C16BC1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834AA-E77B-483A-BCCA-054447D2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868EC-F557-491C-A536-E9FC709A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B1A53-292E-4FC1-9ED2-BDDE67FB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D5920-5536-4AA2-9971-6CB3BB9E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5110C-05D7-49B0-9FC2-2E9F09DD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62861-1C8B-4B40-8CD0-52F5C599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28412-1E42-464A-A857-82FFE781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42E0-25B8-4505-8113-8C7263B5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BE6A3-CE2E-4AB4-9C3D-347CDC0C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C2766-EC35-49CA-B07D-807862F5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44109-9859-4A8B-B522-CAA50EF2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383C8-82F8-4B41-B2CB-23BBCC63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7FF54-B4F9-4132-8BD6-22366279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453D8-D568-446E-BCF1-C3F07E3D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5C7D9-4B7B-4EB4-9567-C3B0AC32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3446D-356E-416F-934F-C1AFABBD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CCBB0-C2C0-4E9C-962C-2BC459E1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1BEA0-0FC7-44AE-A43B-94246B3F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01F9-9842-423B-898C-C17B5723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97A6D-B3BB-4BCA-8E70-2765AF51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DA6A2-2E69-42F7-BFC4-3ED18506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92002-C1D4-44AF-85C2-DF8CDD4D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921A3-4833-433D-9CD3-68E71BC2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EFB99-2D75-496E-AC1D-95C54AC5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727BF-7725-4DCD-8D03-A50A0662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E311C-662D-490E-9E05-3E672CEA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5BB5C-B75C-4AD2-96C0-7A9F4FD3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2244D-81B6-460A-B7B6-59223F87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47D89-35D0-4BD4-B7A1-F5ACAA65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E96-48AB-4E36-9F0F-58C038E4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2437E-F2DD-434E-AF42-957167CD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66A8C-CB7B-4B77-8BA3-0335AC74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92C82-8A39-4004-9840-B8F92065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5EDB4-6428-4662-9282-5919A8AD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557DC-9034-4335-BFAD-F22AB5C3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E75D2-6800-47C1-A115-B53807EC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D279B-5B68-4198-9B89-AE9AF72F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D1CD9-B224-4930-B49B-0D338A3B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99D62-84E2-4E07-9216-FE05154D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8122D-6014-4567-9B6A-1FCF1EBE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B99-8D98-44F2-9B2D-9D26DE17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99A2F-20C6-4684-AA8D-348E086D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70773-5389-4678-A2FC-5A5EB0CC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462FF-D070-4492-B8BF-0F327EA3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94982-1EA8-45C2-9040-CBC747DB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62A7F-A7DD-4642-BD37-F2185B70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74B68-AD6D-4CD8-9F45-DD8BA888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E6120-6115-4268-82A6-5757135E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D1ED4-0EB6-4CEC-84AC-0E0DB811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1EE3E-6D2A-497E-B74E-07CB2F10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31AE1-FF2A-4819-8B9B-458B0DFC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06B3-60A5-446D-9B1D-F6820219BEB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C62C-8E8A-4B12-958E-0ACA5743614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9206-1DC6-4BA7-B1C3-3B6F15237AC9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E3D5-F55C-4FEB-AC2F-B20B02FB304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9FBE-4A81-4488-8222-C350D5C64E9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75C4-0DCB-4750-B948-B2BD885860C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4742-F45F-4F0C-BD6B-FD421F130CF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83DA-DF1F-4B8F-A641-2340CC8F895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3DD3-7C8A-4029-B2B5-C4359682F29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95C0-34DE-4E66-AD8B-36BF85ED22F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2139-5874-4659-B93A-9878A4AF93C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F8D4-E010-4E3E-942B-A3FE79BFABC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AC97-794B-4226-9BA1-CD88522E4E1D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96D5-0F69-493C-BCF3-7080803306C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3138-57F1-44FD-9836-25D57196B4B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121C-011B-48A5-A92F-34F80D19477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A1D8-D511-4390-ACA6-4C68FBB32BE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C008-87C9-474B-8903-589707B876F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84120" y="1000080"/>
            <a:ext cx="9077400" cy="507672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270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04920" y="999720"/>
            <a:ext cx="86868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бесполезны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Спасибо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за внимание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815320" cy="858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</a:t>
            </a: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Штурмуйте каждую проблему с                       энтузиазмом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как если бы от этого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зависела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Ваша жизнь…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.Кьюб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Условия 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адаптации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Изменение режима дня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Необходимые игры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ая посадк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ое питани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Развитие двигательной актив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Воспитание самостоятельности и ответствен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0012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сихологический климат в семь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оценк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ценность ребенка для родителе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Формирование интереса к школ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Дружеское общение с одноклассникам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редоставление самосто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чет темперамент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Организация контроля за учебо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охвала за успехи и достиж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Моральное стимулирован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Развитие самоконтроля и самооцен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95120" y="457200"/>
            <a:ext cx="9120240" cy="511488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Положи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хвали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поощ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доб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целу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опережива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лыб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восхищ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делаем подар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Отрица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прекаем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нижа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бвиня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сужд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тверг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читаем нотации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лишаем чего-то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тавим в угол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35684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отнимай чужого, но и своё не отдава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просили – дай, пытаются отнять – защищай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ерись без причин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Зовут играть - иди, не зовут – спроси разрешения играть вместе, а это не стыдн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грай честно, не подводи своих товарищ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разни никого, не выпрашивай ниче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з-за отметок не плачь, есть вопросы к учителю – подойди, выясн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Старайся все делать вовремя, думай о хороших результатах. Они обязательно у тебя буду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жалуйся, не ябедничай, не наговаривай ни на ко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Будь во всем аккуратен: в учебе, в одежде, в отношения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чаще говори: «Давай дружить!», «Давай играть вместе!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62080" y="457200"/>
            <a:ext cx="8862840" cy="9270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57140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7:04:19Z</dcterms:created>
  <dc:creator>Admin</dc:creator>
  <dc:description/>
  <dc:language>en-US</dc:language>
  <cp:lastModifiedBy>LEGION</cp:lastModifiedBy>
  <dcterms:modified xsi:type="dcterms:W3CDTF">2015-01-27T12:02:27Z</dcterms:modified>
  <cp:revision>19</cp:revision>
  <dc:subject/>
  <dc:title>Трудности адаптации первоклассников в школе</dc:title>
</cp:coreProperties>
</file>