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B41A-3BDB-4E2F-B950-AE3EE8FFFF7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рудности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даптации первоклассников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7165-29AA-4A07-90D5-5F5AEFEF4A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екомендуемые фразы для общ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9B65-F2F0-49A1-9499-14744CE080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сколько советов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F527-4F87-4075-AA5C-51E43AF47E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D748-3CA0-4C80-B8AA-8EA8243B30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бесполез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39FC-2474-4470-8AE4-EB7C47D0A4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E5A8-B92F-455B-9275-581AE4FFB2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9FCE-2DA6-44DE-9E11-F8C358CAC1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Bookman Old Style"/>
              </a:rPr>
              <a:t>Эпигра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Штурмуйте каждую проблему с                       энтузиазм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как если бы от эт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завис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Ваша жизнь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Кью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2181-689F-49A5-B7FB-AD8EF3B73D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Усло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адап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4EAB-5873-4030-8BFA-F3A1792E10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Bookman Old Style"/>
              </a:rPr>
              <a:t>Физи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Изменение режима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обходимые иг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авильная поса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авильное пит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Развитие двигательной ак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оспитание самостоятельности и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EA16-0295-4CD6-80F8-DB6D995E91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Bookman Old Style"/>
              </a:rPr>
              <a:t>псих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сихологический климат в сем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Самооценка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Самоценность ребенка для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Формирование интереса к шк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Дружеское общение с одноклассн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едоставление самосто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Учет темперамента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Организация контроля за учеб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охвала за успехи и дости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Моральное стимул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Развитие самоконтроля и само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EB78-0D9E-4673-83F0-5DCF76C8BE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заимоотношения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с ребенком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7CED-DF54-49D1-9F1C-B43402D09B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Шкала Общени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Bookman Old Style"/>
              </a:rPr>
              <a:t>Положительные эмо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хвал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ощря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добря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целу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опережива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лыбаем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восхищаем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делаем подар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Bookman Old Style"/>
              </a:rPr>
              <a:t>Отрицательные эмо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прека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нижаем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бвиняем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суждаем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твергаем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читаем нотации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лишаем чего-то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тавим в уго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FFD9-3240-433A-BD55-F23873F5DE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ила, которые помогут ребёнку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общен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отнимай чужого, но и своё не отдав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просили – дай, пытаются отнять – защищай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дерись без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Зовут играть - иди, не зовут – спроси разрешения играть вместе, а это не сты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грай честно, не подводи своих товари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дразни никого, не выпрашивай нич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з-за отметок не плачь, есть вопросы к учителю – подойди, выяс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тарайся все делать вовремя, думай о хороших результатах. Они обязательно у тебя буд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жалуйся, не ябедничай, не наговаривай ни на 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Будь во всем аккуратен: в учебе, в одежде, в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чаще говори: «Давай дружить!», «Давай играть вместе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6A33-C86A-48CE-94DF-3D2AEC43E4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 рекомендуемые фразы для общ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6C21-A06D-43F7-A242-13822AF010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F5C9-B3D9-49BF-9B90-1AB488D4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4EE-03AF-4FC6-8936-81EE2221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ED86C-6033-4353-B8A7-358EBBEE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ADF0A-1CEF-4D1C-B6E5-71BB73E9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25CB5-0F6C-4323-A28B-1DF4522C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27335-072E-469E-9EC5-92039C23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55E90-B9CF-4C95-AD8E-4CEEB1A3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B0E9B-2BAC-4EAB-BD24-8C5DBCEA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C3BD4-A2AF-47D6-AC8A-FEA3C6DB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75152-057B-4101-A18C-07FA3580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5F4A9-788D-43BB-8F82-976EBF3E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AE1-28C3-4C15-AE16-3C553E39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8C5-E4B2-4D4C-AA7F-D270695B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A19B-523C-48A7-BE61-47900FB3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A01E-04F9-4D32-A243-235B2A15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2893-3545-4C07-8464-35B93C75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6AA0-6695-434E-9A4D-B93C0526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FB03-B64F-48A9-ADB1-E9FA8955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9E2E-C8E1-469A-8ACF-3971E29E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9617-C568-48CF-8855-A1F0D633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38AF-B8D8-4C36-ABE8-1562DC37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3287-6AD1-4C1F-9331-41AA6B63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A7B0-47D7-4BF0-8FF2-B535C076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01F6-0FB1-4E9E-9C5E-CAEBC619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3A4B-5269-4ECE-9DCF-B9353962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88E3-2FBE-4852-9341-3E6B5AF6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176FE-B9E2-40A5-8DE8-AF1334CA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FF6F4-3084-48A2-A0BB-F5978798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BBFC2-955A-4D10-89F3-930E6DFA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CCE19-A6F3-4675-A1CF-60818A5F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598EB-063C-4AFA-B0BE-D15F94D1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6D3-00A0-4E38-BC04-9EEBA412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C7F8C-54A9-4EC6-AC60-D9C98991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C4860-E84D-4650-BF44-08660D63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B874E-23BC-4C73-8445-2820A4DC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616F3-B2BA-4009-AEC1-697AA9D4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0025D-78B5-4B89-A354-DACD87A9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FF320-1FBE-4B0A-A3A0-6E063111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0AB11-93D5-4FA2-813A-2D530309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759E6-8C98-4F1C-B307-4D038EF2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F390C-7248-4A3F-B82B-CC140B32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ACB9D-C381-4936-86C7-C45E538D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4D8-701F-4407-98A4-F0F46389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610AB-CE4E-4182-B5CD-7739A18F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B7F39-7FB6-4537-9F8D-9A258856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425C7-BFA9-454D-B5AC-7E73307D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4A386-034A-4F46-B29E-C73D6DBB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CAD56-1B52-4227-91A1-5AC1E7B7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2C7D4-BADC-46B7-B19D-C1851203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74832-4CE6-4469-87CD-518D9A6D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D9DAC-C521-478B-A150-AB8E5335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38D2F-D0FD-416A-B973-D97D3F5A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7BC8B-B7AA-417D-BFC4-37D5A84A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757-DD92-4312-9C96-A1FF6191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2B26B-3E30-4FF1-BA7D-467C0A78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BE43E-C7B3-4ECF-A28A-B8963950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D6302-FA6C-469D-86C4-0F335FA3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A410B-1C7E-4D17-BF42-7B218F59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189AC-6417-40EC-9B49-5BB81569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00181-24AB-4F28-93D6-2556EA03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464BF-44A4-444C-AE04-0FCDAE7A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3DEBA-5A52-4D47-9169-8979E121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98A45-CE14-4A2E-913A-A7B9D274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6C1AC-14B9-41AD-8550-F5ADD206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4F7-1693-4696-AE95-34409818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74242-A647-41C3-9673-453011E6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BD217-3C0E-455E-AE8D-A72E17C8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6D30F-CD45-4A22-AA68-B03C86B6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D0C63-CC75-4759-85A3-2C365C8E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00843-5F0F-4348-B09D-D5761E71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6F0D8-B9BB-4FA7-BEB5-DD7DBFC4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F9116-4561-4857-8D0B-83D1CAEF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DB8EC-22A6-49B9-B807-CE1FA880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E36F9-81B6-4877-B3E4-209FDA38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1E4F0-8AE1-4D9A-82CD-192656B3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682-B742-4F9B-B6BA-AE725F23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8C94C-4932-4578-A919-80DCA255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3AA0B-CAE6-4BCD-8630-BFC14509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3E64B-AF73-4F89-9693-1B513A4B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1AE03-EBB1-437D-B8E2-C9D77F93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9656A-8915-449E-A449-6CE3B201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14652-9055-4464-91CC-00C2D0B7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E497D-E3D3-406C-BCA5-D9E593FF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FAD02-6083-4249-95ED-F721571D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679C0-9F80-47E9-9702-E2B2529D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58EA4-CA1A-49FA-A69A-879A2B2D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012-63E8-4CC5-BD57-5F236DEE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0318D-65F4-4BA9-97D8-D75DC0D6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679E8-9B4B-4D11-AD64-A15B40F0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9620D-5C95-4774-AEBE-EB2AC02B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E2276-BD7F-4A68-A5CD-8627D77C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C4F4A-239B-4423-A4E7-AA7921B8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76927-8F61-45F0-84B8-A3B2919B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323D2-4F11-4B93-B87C-8D5725B6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3D93F-9FE6-4D81-B9A5-0853D250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261A2-AB00-4B0D-A3CC-9C55AFFB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7EAE5-C091-4A63-9E41-FA5E40B5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D13A-9F2B-498D-A719-D6F885BE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393ED-478B-4453-8045-A6369CD0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10E59-48E4-4FE8-8A99-1B230E40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F58DA-ED9B-42BF-83A0-A4947AAE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3F5F3-DF5C-41FB-9EA7-58ACB934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0A258-FD27-479F-A11C-8CCEE50A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AE33C-4898-47C7-9A9F-EAC05CEB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E4459-E68B-4759-ABB1-39CBE9D1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44C39-DB6C-4A73-B4E4-63EEBC10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F8B0D-40A4-4D03-AA59-828FC9A7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4C522-BAFE-4CF5-B829-66A29187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5FD1-E9E7-4139-B23C-092EE9C92899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31B4-F237-4A9B-8B7D-54DF2708F7E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1E8D-2868-40F2-B0AA-301F789D996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19E1-A04C-4C44-8A2C-DFCEDF1AB6D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D319-1CE8-45F1-9432-959B2DC0120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7276-4C5B-4303-9D43-6217DF45448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AB57-EAC5-4AA6-93C9-EEEAA049ADD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7E9E-BC56-49C8-9040-56F0A2082CE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BD3C-59FF-4704-9B40-531B5F6DA44D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07E4-B801-421F-AACD-87729852A36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FBD5-0D61-4BEC-9B8F-578D0C23D86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FB45-8417-4498-9E59-EABC5055D16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7BD4-A12A-497F-BC0A-5BD28302763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5788-5806-42EC-8412-EE6DC2BB2AE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27DE-E182-4D85-813C-773930FC1F0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F3A5-B13B-4E29-95A7-8AFECE7247B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07FD-A5A0-47F6-9F54-36EE651282B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A7C1-19CF-4BC2-AD37-3EED865CBC9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84120" y="1000080"/>
            <a:ext cx="9077400" cy="507672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270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04920" y="999720"/>
            <a:ext cx="86868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бесполезны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Спасибо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за внимание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815320" cy="858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</a:t>
            </a: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Штурмуйте каждую проблему с                       энтузиазмом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как если бы от этого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зависела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Ваша жизнь…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.Кьюб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Условия 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адаптации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Изменение режима дня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Необходимые игры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ая посадк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ое питани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Развитие двигательной актив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Воспитание самостоятельности и ответствен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0012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сихологический климат в семь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оценк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ценность ребенка для родителе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Формирование интереса к школ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Дружеское общение с одноклассникам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редоставление самосто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чет темперамент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Организация контроля за учебо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охвала за успехи и достиж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Моральное стимулирован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Развитие самоконтроля и самооцен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95120" y="457200"/>
            <a:ext cx="9120240" cy="511488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Положи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хвали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поощ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доб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целу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опережива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лыб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восхищ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делаем подар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Отрица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прекаем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нижа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бвиня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сужд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тверг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читаем нотации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лишаем чего-то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тавим в угол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35684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отнимай чужого, но и своё не отдава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просили – дай, пытаются отнять – защищай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ерись без причин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Зовут играть - иди, не зовут – спроси разрешения играть вместе, а это не стыдн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грай честно, не подводи своих товарищ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разни никого, не выпрашивай ниче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з-за отметок не плачь, есть вопросы к учителю – подойди, выясн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Старайся все делать вовремя, думай о хороших результатах. Они обязательно у тебя буду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жалуйся, не ябедничай, не наговаривай ни на ко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Будь во всем аккуратен: в учебе, в одежде, в отношения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чаще говори: «Давай дружить!», «Давай играть вместе!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62080" y="457200"/>
            <a:ext cx="8862840" cy="9270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57140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7:04:19Z</dcterms:created>
  <dc:creator>Admin</dc:creator>
  <dc:description/>
  <dc:language>en-US</dc:language>
  <cp:lastModifiedBy>LEGION</cp:lastModifiedBy>
  <dcterms:modified xsi:type="dcterms:W3CDTF">2015-01-27T12:02:27Z</dcterms:modified>
  <cp:revision>19</cp:revision>
  <dc:subject/>
  <dc:title>Трудности адаптации первоклассников в школе</dc:title>
</cp:coreProperties>
</file>