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2DFF-2BB4-42D8-B29D-24C539AD42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формление кабинета начальных клас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 проек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льцова Е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635C-46C3-47A4-A627-72D19565DA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вая гамма классной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623-3548-4DA8-9A52-B1F88EAFF4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йдоды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8001-C84E-4626-910C-4AAA96D984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C3AE-4767-4C9D-AD76-FE94FD74A6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6E2F-4F8E-4C7E-BFF9-5555065A20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ль задней стены размещена секция, в которой находится методический материа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267E-F6FD-4677-9121-9E614FD6A4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743-C422-43C8-8982-DE50153FAC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еленый уго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7ED9-DA39-4612-9E02-DA3FC4F5BB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зайн ш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3BA0-0452-4FE9-AC00-D18579A35D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5B6-2EFE-4F6A-88EF-0913F21A56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орки Базарного // Народное образование. — 1990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: еженед. метод. газета. — 2004. — № 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773-6DCD-4699-A115-4994FC77FA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B3D2-AC63-4D86-9390-66C17A828E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оздать уютную, образовательную атмосферу в кабинете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BDC-D122-4375-A355-9C9A6DC39F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оздание комфортной, образовательной   ср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вышение профессионализма и                   культуры труда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беспечение психологического благополучия и здоровья школь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истематизация дидактического и методического материа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влечение родителей в совместную работу, совершенствование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250-CC6C-4BCD-B1EF-A9C95961B7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C772-7208-46D0-BDA0-100D96615B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от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F042-3325-4763-8C92-A6B3C616DD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помещению и оборудованию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, часто болеющих ОРЗ, ангинами, простудными заболеван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рассаживать дальше от наружной ст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двухместных столов - не менее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столов и наружной продольной стеной - не менее 50-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оследних столов до стены (перегородки), противополо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й доске, - не менее 70см, от задней стены, являющейся наружной, - 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100см, а при наличии оборотных классов 12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демонстрационного стола до учебной доски - не менее 10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ервой парты до учебной доски - 2,4 - 2,7 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ьшая удаленность последнего места обучающегося о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доски – 86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нижнего края учебной доски над полом - 80-9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 видимости доски (от края доски длиной З м до серед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го места обучающегося за передним столом) должен быть не мен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 градусов для детей 6-7 лет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5D7-18A7-458C-9281-B1B4A1A0D8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воздушно - тепловому режи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Фрамуги и форточки в учебных  помещениях должны функционировать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помещения проветриваются во время перемен, а рекреационные - во время ур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5558-F70F-4ACF-8F38-772194AE0B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естественному и искусственному освещ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н учебных помещений - светлые тона желтого, голуб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го, бежевого, розов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бели (парты, столы, шкафы) - цвета натурального дере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ветло-зеле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лассных досок - темно-зеленый, темно-коричне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верей, оконных рам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, не закрашивать оконные стек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ставлять на подоконниках цветы. Их размещают в перенос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чницах высотой 65-70 см от пола или подвесных кашпо в простенках окон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истку и мытье стекол проводить 2 раза в год (весной и осен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66E-B31A-4262-9E33-97EDE80070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61F-23CE-45FF-B6D3-6078F44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AA3-B22D-46DE-9ACF-720D989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A93-9E74-4DC2-B10B-DAE092D9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A97-E9B8-4A77-9870-2D446C97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43F1E-32F1-43FA-8DDB-F272A9C0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8271F-C215-469D-8AEB-1A591CEB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AF449-157C-4565-AFAF-87D2363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42941-1301-4B29-898D-F778F5B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6CE3-8146-40B4-AC72-8286213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E775-8887-4CBD-9C35-977B904C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030F1-BB38-421C-8A19-19A90F24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E5A-1D0C-40AC-8F3D-EA940AB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1A700-4FCD-4E12-9282-84CA56F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C07C9-4651-4FB7-92C9-F8CEF4B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232DA-2C55-436E-A568-E5686586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00772-4B13-4BDC-93A1-F9020336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BE25B-5BCD-42C6-9527-0AC589AD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31F-F52C-466E-BBDE-E99AA73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167-80E3-487D-9E14-2AF98A5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6C5-4D3E-4CFD-BBEC-8D1747BE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F83-C2BB-4D3E-BE0D-2155184F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461-CF9A-4FEC-BA6A-D6E6251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02A-D11A-43E2-97EA-F9A68BF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E55-D8E0-403C-99CB-F32E9C84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53B-2AC8-4520-B701-5F2D66E77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6269-AB55-4416-A54C-0FD6D2A6E2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Оформление кабинета начальных класс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6720" y="4869000"/>
            <a:ext cx="388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ьцова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IMG_2998"/>
          <p:cNvPicPr/>
          <p:nvPr/>
        </p:nvPicPr>
        <p:blipFill>
          <a:blip r:embed="rId1"/>
          <a:stretch/>
        </p:blipFill>
        <p:spPr>
          <a:xfrm>
            <a:off x="1116000" y="256536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ветовая гамма классной комн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голо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йдоды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000115_905544"/>
          <p:cNvPicPr/>
          <p:nvPr/>
        </p:nvPicPr>
        <p:blipFill>
          <a:blip r:embed="rId1"/>
          <a:stretch/>
        </p:blipFill>
        <p:spPr>
          <a:xfrm>
            <a:off x="6659640" y="3860640"/>
            <a:ext cx="17431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992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окова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доль задней стены размещена секция, в которой находится методический материа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гров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леный уго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зайн ш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орки Базарного // Народное образование. — 1990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психолог : еженед. метод. газета. — 2004. — № 4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1619280" y="1844640"/>
            <a:ext cx="60292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уютный уголок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6" descr="IMG_3010"/>
          <p:cNvPicPr/>
          <p:nvPr/>
        </p:nvPicPr>
        <p:blipFill>
          <a:blip r:embed="rId1"/>
          <a:stretch/>
        </p:blipFill>
        <p:spPr>
          <a:xfrm>
            <a:off x="3635280" y="3500280"/>
            <a:ext cx="4175280" cy="3132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создать уютную, образовательную атмосферу в кабинете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оздание комфортной, образовательной   сред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повышение профессионализма и                   культуры труда педагог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обеспечение психологического благополучия и здоровь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истематизация дидактического и методи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вовлечение родителей в совместную работу, совершенствование сотруд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ни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д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дминистрация шко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нота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бования к помещению и оборудованию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ей, часто болеющих ОРЗ, ангинами, простудными заболевани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ует рассаживать дальше от наружной сте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двухместных столов - не менее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столов и наружной продольной стеной - не менее 50-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оследних столов до стены (перегородки), противополож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ной доске, - не менее 70см, от задней стены, являющейся наружной, - н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ее 100см, а при наличии оборотных классов 12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демонстрационного стола до учебной доски - не менее 10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ервой парты до учебной доски - 2,4 - 2,7 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ьшая удаленность последнего места обучающегося о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бной доски – 86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та нижнего края учебной доски над полом - 80-9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гол видимости доски (от края доски длиной З м до серед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йнего места обучающегося за передним столом) должен быть не мене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5 градусов для детей 6-7 лет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воздушно - тепловому режи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.. Фрамуги и форточки в учебных  помещениях должны функционировать в любое время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ые помещения проветриваются во время перемен, а рекреационные - во время ур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476280"/>
            <a:ext cx="7958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естественному и искусственному освещени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тен учебных помещений - светлые тона желтого, голубог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еного, бежевого, розово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ебели (парты, столы, шкафы) - цвета натурального дере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ветло-зеле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классных досок - темно-зеленый, темно-коричнев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, оконных рам - бе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., не закрашивать оконные стек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расставлять на подоконниках цветы. Их размещают в перенос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веточницах высотой 65-70 см от пола или подвесных кашпо в простенках око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тку и мытье стекол проводить 2 раза в год (весной и осенью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58:10Z</dcterms:created>
  <dc:creator>Юля</dc:creator>
  <dc:description/>
  <dc:language>en-US</dc:language>
  <cp:lastModifiedBy>LEGION</cp:lastModifiedBy>
  <dcterms:modified xsi:type="dcterms:W3CDTF">2015-01-27T12:03:03Z</dcterms:modified>
  <cp:revision>17</cp:revision>
  <dc:subject/>
  <dc:title>Проект  «Оформление кабинета начальных классов»</dc:title>
</cp:coreProperties>
</file>