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wmf" ContentType="image/x-wmf"/>
  <Override PartName="/ppt/media/image29.png" ContentType="image/png"/>
  <Override PartName="/ppt/media/image6.gif" ContentType="image/gif"/>
  <Override PartName="/ppt/media/image26.gif" ContentType="image/gif"/>
  <Override PartName="/ppt/media/image25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23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2.gif" ContentType="image/gif"/>
  <Override PartName="/ppt/media/image15.png" ContentType="image/png"/>
  <Override PartName="/ppt/media/image2.png" ContentType="image/png"/>
  <Override PartName="/ppt/media/image32.png" ContentType="image/png"/>
  <Override PartName="/ppt/media/image31.gif" ContentType="image/gif"/>
  <Override PartName="/ppt/media/image35.png" ContentType="image/png"/>
  <Override PartName="/ppt/media/image36.png" ContentType="image/png"/>
  <Override PartName="/ppt/media/image8.gif" ContentType="image/gif"/>
  <Override PartName="/ppt/media/image34.gif" ContentType="image/gif"/>
  <Override PartName="/ppt/media/image9.gif" ContentType="image/gif"/>
  <Override PartName="/ppt/media/image38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2.gif" ContentType="image/gif"/>
  <Override PartName="/ppt/media/image13.gif" ContentType="image/gif"/>
  <Override PartName="/ppt/media/image37.png" ContentType="image/png"/>
  <Override PartName="/ppt/media/image7.png" ContentType="image/png"/>
  <Override PartName="/ppt/media/image1.jpeg" ContentType="image/jpeg"/>
  <Override PartName="/ppt/media/image47.png" ContentType="image/png"/>
  <Override PartName="/ppt/media/image11.gif" ContentType="image/gif"/>
  <Override PartName="/ppt/media/image10.gif" ContentType="image/gif"/>
  <Override PartName="/ppt/media/image5.gif" ContentType="image/gif"/>
  <Override PartName="/ppt/media/image4.png" ContentType="image/png"/>
  <Override PartName="/ppt/media/image24.gif" ContentType="image/gif"/>
  <Override PartName="/ppt/media/image40.gif" ContentType="image/gif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A915-6AFC-4F23-BB13-F1310A40CD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втор проекта: учитель начальных классов МОУ ВСОШ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машева Ольга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FB28-7CAD-4464-98C1-3FBF1263EC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Исследовательски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енерировать иде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ирать лучшее ре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5750-5C0F-414D-821B-250647590A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Коммуникатив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ать в процессе деятель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ть помощь товарищам и принимать их помощь, следить за ходом совместной работы и направлять её в нужное русло, умение выходить из конфликтных си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53F7-71CC-4D8B-9E04-BEDE7F94F1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Оценоч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ть ход, 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деятельност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друг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129B-9225-47BE-9E69-FE4E881DC4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Информацион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существлять поиск  нуж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ть информ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ть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A8CE-C866-4E20-8D71-814AFA2D26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Презентацион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ть перед аудитор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ть на  незапланированные вопро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ть различные средства нагляд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ировать артистические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A24D-5C55-4702-8902-BFD0571EFE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Рефлексивны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ть на вопросы: «Чему я научился?», «Чему мне необходимо научиться?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кватно выбирать свою роль в коллективном де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A511-C6A7-4D16-A530-3B67150544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Менеджерски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ть проц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ть деятельность – время, ресур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ть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ять обязанности при выполнении коллективного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1995-F639-4425-A971-68DB0DC5EB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Критерии успеха работы над прое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нут конечн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активная команда участников проекта, способная продолжить работу в буду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проекта может быть использован другим коллек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о удовольствие от сам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A4B6-B17D-4E2B-8004-B2D8F06735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66"/>
                </a:solidFill>
                <a:uFillTx/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едрение системы работы с одаренными детьми позволяет создать условия для успешной самореализации школьников, работать со </a:t>
            </a:r>
            <a:r>
              <a:rPr b="1" lang="ru-RU" sz="1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семи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етьми, добиваясь  максимального развития умений, навыков, познавательных способност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воляет  подготовить выпускника, способного адаптироваться к меняющимся условиям, коммуникабельного и конкурентоспособ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B3D7-33F9-42D7-BA1B-344A8B5567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Проект выполнен учащими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3 «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МОУ ВСОШ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Учитель: Юмашева О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A8B3-4881-4870-B161-83D55E0D60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работы с одаренными учащимися чрезвычайно актуальна для современного российского общества. К школе предъявляются сегодня высокие требования. А что значит для родителей и общества “хорошая школа”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школа, где хорошо учат по всем предметам, а по окончании дети легко поступают в ву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школе должны преподавать высококвалифицированные и интеллигентные педаг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должны быть свои трад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должна давать современное образ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рошей школе уважают личность ребенка, с ним занимаются не только на уроках, но и в системе дополнительно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поэтому так важно определить основные задачи и направления работы с одаренными детьми в системе дополнительн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856A-3278-4EF7-B85B-95D19D8150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здание условий для пополнения активного словарного запаса учащихся пословицами и поговор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ознавательных интересов учащихся, умений самостоятельно конструировать свои знания и ориентироваться в информационном простран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Время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 нед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Режим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еуроч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Участие родителей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ощр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6E12-734C-4E29-B810-70897E9C0F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рабочих групп и распределение  ро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сточников информации,                   постановка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критериев оц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C852-35D8-4E68-A710-1BCBBF9E6A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здают справочную странич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ирают теоретический материал о пословицах и поговор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A74D-A54C-4803-9C96-4A5E0C9DE0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Собир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созд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казы, поясняющие смысл послов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F9E8-6CF6-4BB1-9D6C-31C34862C9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Соотнос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ую пословицу с иностра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C352-9036-4B98-A42D-44BE703B9B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Придумыв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дания для иг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B05C-B936-4EF2-B440-FA2D19614D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чащие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работают с информацией, анализируют и синтезируют ид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ют результат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чи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ает и консультир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44F3-3D70-4A0B-AB43-FBE7C5E0BB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ки выступают перед одноклассниками и жю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A08F-0D70-40B6-B128-AA9B5B80D9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Monotype Corsiva"/>
              </a:rPr>
              <a:t>Будем  помнить, что мы, взрослые, должны быть для ребенка и плодородной почвой, и живительной влагой, и теплым солнышком, согревающим цветок детской души.  Именно тогда раскроются уникальные способности, данные каждому  ребенку от 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0D64-9C15-40DE-B9C9-82CC6B04B8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собенно важен поиск путей в подходе к развитию личности одаренного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, рассуждая о системе работы с одаренными детьми, хотелось бы подчеркнуть мысль о работе с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тьми, то есть о максимальном развитии умений, навыков, познавательных спосо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требует от школы подготовки выпускника, способного адаптироваться к меняющимся условиям, коммуникабельного и конкурентоспособного. Именно это имел в виду психолог и писатель Г.Томпсон, говоря: “Способности – объяснение вашего успеха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A72D-071B-4DCF-BEA8-03A6A79740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99"/>
                </a:solidFill>
                <a:uFillTx/>
                <a:latin typeface="Times New Roman"/>
              </a:rPr>
              <a:t>Основополагающий</a:t>
            </a:r>
            <a:r>
              <a:rPr b="1" i="1" lang="ru-RU" sz="1200" spc="-1" strike="noStrike" u="sng">
                <a:solidFill>
                  <a:srgbClr val="333399"/>
                </a:solidFill>
                <a:uFillTx/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2c3f7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c3f71"/>
                </a:solidFill>
                <a:latin typeface="Times New Roman"/>
              </a:rPr>
              <a:t>«Как построить работу с одаренными детьми, чтобы добиться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максимального развития умений, навыков, познавательных способностей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CBC8-149D-4D82-8A22-DA02C075A2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2c3f71"/>
                </a:solidFill>
                <a:uFillTx/>
                <a:latin typeface="Calibri"/>
              </a:rPr>
              <a:t>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Если создать оптимальные условия для раскрытия потенциальных возможностей ребенка,  при этом сохраняя целостность системы его обучения и воспитания, и комплексное воздействие на ребенка, то возможна творческая самореализация личности в различных вида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B72F-241B-4666-9225-D4F0B0F869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333399"/>
                </a:solidFill>
                <a:uFillTx/>
                <a:latin typeface="Calibri"/>
              </a:rPr>
              <a:t>ЦЕЛЬ 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беспечение  возможности творческой самореализации личности в различных вида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9FDB-7AF5-4EB9-BBF7-B6514B1664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ЗАДАЧИ 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оздать систему внеурочной работы, дополнительного образования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Развить массовые, групповые и индивидуальные формы внеуроч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рганизовать систему исследовательской работы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D387-A685-4F90-BDF2-1673EF2E17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ff"/>
                </a:solidFill>
                <a:latin typeface="Calibri"/>
              </a:rPr>
              <a:t>Структура деятельности учителя и ученика при использовании метода</a:t>
            </a: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Учен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цель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вает новые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ир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ирает пути 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ёт ответственность за сою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Учи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могает определять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т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ет возможные формы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ует прогнозированию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ёт условия для активности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ёр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оценить полученный результат, выявить недост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7899-EB63-4282-B4C9-A36CFA17F4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99"/>
                </a:solidFill>
                <a:uFillTx/>
                <a:latin typeface="Calibri"/>
              </a:rPr>
              <a:t>Группы умений, </a:t>
            </a:r>
            <a:br>
              <a:rPr sz="1100"/>
            </a:br>
            <a:r>
              <a:rPr b="1" lang="ru-RU" sz="1100" spc="-1" strike="noStrike" u="sng">
                <a:solidFill>
                  <a:srgbClr val="000099"/>
                </a:solidFill>
                <a:uFillTx/>
                <a:latin typeface="Calibri"/>
              </a:rPr>
              <a:t>на которые  проектная деятельность </a:t>
            </a:r>
            <a:br>
              <a:rPr sz="1100"/>
            </a:br>
            <a:r>
              <a:rPr b="1" lang="ru-RU" sz="1100" spc="-1" strike="noStrike" u="sng">
                <a:solidFill>
                  <a:srgbClr val="000099"/>
                </a:solidFill>
                <a:uFillTx/>
                <a:latin typeface="Calibri"/>
              </a:rPr>
              <a:t>оказывает наибольшее влия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оч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в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91B3-05DC-4E4B-B035-11239CB4B4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1A3-E468-40B7-B952-D6CB47F5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CAC-DED7-4B23-A64C-B6454D39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FE5F-645D-414F-9FB9-6A474AE4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1A9-E1C0-4AB4-A170-EF4AAE02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873C-3E93-4FA1-98C1-8851256D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EC8-6BDA-4F8A-9CD3-FDA6A8D9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C5BA-12D6-42A4-9889-4D0A8D05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A0E-B552-401D-8606-CAD16484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5E9B-B4AF-43FE-9D9A-CC0EF577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0FA-8F4D-4B64-8D16-BD40A687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0592-2906-4AC0-8EBB-4B431747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569-9591-4F99-8B90-FD6B69C9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8659-9EF6-457E-8949-89E8AEDBDA4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1AD2-2F39-430E-B016-D74810FE1B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6.gi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5.png"/><Relationship Id="rId3" Type="http://schemas.openxmlformats.org/officeDocument/2006/relationships/image" Target="../media/image34.gif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39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40.gif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2.png"/><Relationship Id="rId3" Type="http://schemas.openxmlformats.org/officeDocument/2006/relationships/image" Target="../media/image34.gif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4.png"/><Relationship Id="rId3" Type="http://schemas.openxmlformats.org/officeDocument/2006/relationships/image" Target="../media/image34.gif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7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-11160" y="4680"/>
            <a:ext cx="9155160" cy="6953400"/>
          </a:xfrm>
          <a:prstGeom prst="rect">
            <a:avLst/>
          </a:prstGeom>
          <a:ln w="0">
            <a:noFill/>
          </a:ln>
        </p:spPr>
      </p:pic>
      <p:grpSp>
        <p:nvGrpSpPr>
          <p:cNvPr id="49" name="Заголовок 1"/>
          <p:cNvGrpSpPr/>
          <p:nvPr/>
        </p:nvGrpSpPr>
        <p:grpSpPr>
          <a:xfrm>
            <a:off x="493560" y="590400"/>
            <a:ext cx="8150400" cy="3097440"/>
            <a:chOff x="493560" y="590400"/>
            <a:chExt cx="8150400" cy="3097440"/>
          </a:xfrm>
        </p:grpSpPr>
        <p:pic>
          <p:nvPicPr>
            <p:cNvPr id="50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493560" y="590400"/>
              <a:ext cx="8150400" cy="30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4360" y="765000"/>
              <a:ext cx="7772400" cy="27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Подзаголовок 2"/>
          <p:cNvGrpSpPr/>
          <p:nvPr/>
        </p:nvGrpSpPr>
        <p:grpSpPr>
          <a:xfrm>
            <a:off x="2077920" y="4340160"/>
            <a:ext cx="6780240" cy="2414520"/>
            <a:chOff x="2077920" y="4340160"/>
            <a:chExt cx="6780240" cy="2414520"/>
          </a:xfrm>
        </p:grpSpPr>
        <p:pic>
          <p:nvPicPr>
            <p:cNvPr id="53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2077920" y="4340160"/>
              <a:ext cx="678024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268360" y="4508640"/>
              <a:ext cx="6400800" cy="20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Автор проекта: учитель начальных классов МОУ ВСОШ№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Юмашева Ольга Михайловн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Прямоугольник 3" descr=""/>
          <p:cNvPicPr/>
          <p:nvPr/>
        </p:nvPicPr>
        <p:blipFill>
          <a:blip r:embed="rId4"/>
          <a:stretch/>
        </p:blipFill>
        <p:spPr>
          <a:xfrm>
            <a:off x="828720" y="895320"/>
            <a:ext cx="7772400" cy="1755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F:\Юмашева О.М\все для презентаций\книги\79966779.gif"/>
          <p:cNvPicPr/>
          <p:nvPr/>
        </p:nvPicPr>
        <p:blipFill>
          <a:blip r:embed="rId5"/>
          <a:stretch/>
        </p:blipFill>
        <p:spPr>
          <a:xfrm>
            <a:off x="179280" y="3468600"/>
            <a:ext cx="2808360" cy="266544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0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Исследовательски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05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генерировать идеи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выбирать лучшее решение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7" name="Picture 4" descr="n5"/>
          <p:cNvPicPr/>
          <p:nvPr/>
        </p:nvPicPr>
        <p:blipFill>
          <a:blip r:embed="rId4"/>
          <a:stretch/>
        </p:blipFill>
        <p:spPr>
          <a:xfrm>
            <a:off x="1859040" y="3284640"/>
            <a:ext cx="2209680" cy="22953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11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Коммуникатив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14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трудничать в процессе деятельности,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9216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казывать помощь товарищам и принимать их помощь, следить за ходом совместной работы и направлять её в нужное русло, умение выходить из конфликтных ситуаци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9216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6" name="Picture 9" descr="F:\Юмашева О.М\все для презентаций\дети\aee36fd9ad4f343ebeb4c08bf03607ed.gif"/>
          <p:cNvPicPr/>
          <p:nvPr/>
        </p:nvPicPr>
        <p:blipFill>
          <a:blip r:embed="rId4"/>
          <a:stretch/>
        </p:blipFill>
        <p:spPr>
          <a:xfrm>
            <a:off x="3276720" y="4435560"/>
            <a:ext cx="2031840" cy="18604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20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Оценоч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23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ценивать ход, результа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воей деятельности и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деятельности других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5" name="Picture 9" descr="F:\Юмашева О.М\все для презентаций\дети\78756399111dbcdbfcf00793dbe37981.gif"/>
          <p:cNvPicPr/>
          <p:nvPr/>
        </p:nvPicPr>
        <p:blipFill>
          <a:blip r:embed="rId4"/>
          <a:stretch/>
        </p:blipFill>
        <p:spPr>
          <a:xfrm>
            <a:off x="3203640" y="3429000"/>
            <a:ext cx="3236760" cy="27687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8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2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Информацион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32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амостоятельно осуществлять поиск  нужной информации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труктурировать информацию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хранять информацию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" name="Picture 10" descr="F:\Юмашева О.М\все для презентаций\дети\e4f38cfc086b201f1f1b56f8eea958c0.gif"/>
          <p:cNvPicPr/>
          <p:nvPr/>
        </p:nvPicPr>
        <p:blipFill>
          <a:blip r:embed="rId4"/>
          <a:stretch/>
        </p:blipFill>
        <p:spPr>
          <a:xfrm>
            <a:off x="3284640" y="4138560"/>
            <a:ext cx="3087720" cy="2371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7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38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Презентацион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41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ыступать перед аудиторией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твечать на  незапланированные вопросы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Использовать различные средства наглядности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Демонстрировать артистические возможност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3" name="Picture 9" descr="F:\Юмашева О.М\все для презентаций\дети\b02cd14dd4800c96aa11403be0897470.gif"/>
          <p:cNvPicPr/>
          <p:nvPr/>
        </p:nvPicPr>
        <p:blipFill>
          <a:blip r:embed="rId4"/>
          <a:stretch/>
        </p:blipFill>
        <p:spPr>
          <a:xfrm>
            <a:off x="5508720" y="4118040"/>
            <a:ext cx="3235320" cy="20016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6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47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Рефлексивные</a:t>
              </a:r>
              <a:r>
                <a:rPr b="0" lang="ru-RU" sz="4400" spc="-1" strike="noStrike">
                  <a:solidFill>
                    <a:srgbClr val="000099"/>
                  </a:solidFill>
                  <a:latin typeface="Calibri"/>
                </a:rPr>
                <a:t> </a:t>
              </a: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50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твечать на вопросы: «Чему я научился?», «Чему мне необходимо научиться?»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Адекватно выбирать свою роль в коллективном деле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2" name="Picture 4" descr="chel13"/>
          <p:cNvPicPr/>
          <p:nvPr/>
        </p:nvPicPr>
        <p:blipFill>
          <a:blip r:embed="rId4"/>
          <a:stretch/>
        </p:blipFill>
        <p:spPr>
          <a:xfrm>
            <a:off x="6012000" y="3895560"/>
            <a:ext cx="2665440" cy="22212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56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Менеджерски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59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роектировать процесс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ланировать деятельность – время, ресурсы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ринимать решения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аспределять обязанности при выполнении коллективного дел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Picture 6" descr="033"/>
          <p:cNvPicPr/>
          <p:nvPr/>
        </p:nvPicPr>
        <p:blipFill>
          <a:blip r:embed="rId4"/>
          <a:stretch/>
        </p:blipFill>
        <p:spPr>
          <a:xfrm>
            <a:off x="6300720" y="4006800"/>
            <a:ext cx="2158920" cy="1984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4" name="Заголовок 1"/>
          <p:cNvGrpSpPr/>
          <p:nvPr/>
        </p:nvGrpSpPr>
        <p:grpSpPr>
          <a:xfrm>
            <a:off x="176040" y="19080"/>
            <a:ext cx="8791920" cy="1803240"/>
            <a:chOff x="176040" y="19080"/>
            <a:chExt cx="8791920" cy="1803240"/>
          </a:xfrm>
        </p:grpSpPr>
        <p:pic>
          <p:nvPicPr>
            <p:cNvPr id="16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 u="sng">
                  <a:solidFill>
                    <a:srgbClr val="000099"/>
                  </a:solidFill>
                  <a:uFillTx/>
                  <a:latin typeface="Calibri"/>
                </a:rPr>
                <a:t>Критерии успеха работы над проектом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68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Достигнут конечный результат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здана активная команда участников проекта, способная продолжить работу в будущем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езультат проекта может быть использован другим коллективом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олучено удовольствие от самой деятельност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0" name="Picture 10" descr="F:\Юмашева О.М\все для презентаций\дети\d135e27346dd0d887990f290b31ccd98.gif"/>
          <p:cNvPicPr/>
          <p:nvPr/>
        </p:nvPicPr>
        <p:blipFill>
          <a:blip r:embed="rId4"/>
          <a:stretch/>
        </p:blipFill>
        <p:spPr>
          <a:xfrm flipH="1">
            <a:off x="7236000" y="4508640"/>
            <a:ext cx="1506240" cy="1742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F:\Юмашева О.М\все для презентаций\дети\c5da5491bdce7a447e3a5fe0c3d96e0d.gif"/>
          <p:cNvPicPr/>
          <p:nvPr/>
        </p:nvPicPr>
        <p:blipFill>
          <a:blip r:embed="rId5"/>
          <a:stretch/>
        </p:blipFill>
        <p:spPr>
          <a:xfrm>
            <a:off x="6875640" y="4218120"/>
            <a:ext cx="1029960" cy="87624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4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7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3366"/>
                  </a:solidFill>
                  <a:uFillTx/>
                  <a:latin typeface="Calibri"/>
                </a:rPr>
                <a:t>ВЫВОД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78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d6009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d60093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внедрение системы работы с одаренными детьми позволяет создать условия для успешной самореализации школьников, работать со </a:t>
              </a:r>
              <a:r>
                <a:rPr b="1" lang="ru-RU" sz="3000" spc="-1" strike="noStrike" u="sng">
                  <a:solidFill>
                    <a:srgbClr val="002060"/>
                  </a:solidFill>
                  <a:uFillTx/>
                  <a:latin typeface="Times New Roman"/>
                  <a:ea typeface="Times New Roman"/>
                </a:rPr>
                <a:t>всеми</a:t>
              </a: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детьми, добиваясь  максимального развития умений, навыков, познавательных способностей,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зволяет  подготовить выпускника, способного адаптироваться к меняющимся условиям, коммуникабельного и конкурентоспособного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0" name="Picture 9" descr="comp2"/>
          <p:cNvPicPr/>
          <p:nvPr/>
        </p:nvPicPr>
        <p:blipFill>
          <a:blip r:embed="rId4"/>
          <a:stretch/>
        </p:blipFill>
        <p:spPr>
          <a:xfrm>
            <a:off x="7419960" y="-171360"/>
            <a:ext cx="2209680" cy="2114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BS00554_"/>
          <p:cNvPicPr/>
          <p:nvPr/>
        </p:nvPicPr>
        <p:blipFill>
          <a:blip r:embed="rId5"/>
          <a:stretch/>
        </p:blipFill>
        <p:spPr>
          <a:xfrm>
            <a:off x="7164360" y="5148360"/>
            <a:ext cx="1959120" cy="17096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4" name="Заголовок 1"/>
          <p:cNvGrpSpPr/>
          <p:nvPr/>
        </p:nvGrpSpPr>
        <p:grpSpPr>
          <a:xfrm>
            <a:off x="396720" y="1865160"/>
            <a:ext cx="8356680" cy="2048040"/>
            <a:chOff x="396720" y="1865160"/>
            <a:chExt cx="8356680" cy="2048040"/>
          </a:xfrm>
        </p:grpSpPr>
        <p:pic>
          <p:nvPicPr>
            <p:cNvPr id="18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96720" y="1865160"/>
              <a:ext cx="835668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85800" y="213372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Подзаголовок 2"/>
          <p:cNvGrpSpPr/>
          <p:nvPr/>
        </p:nvGrpSpPr>
        <p:grpSpPr>
          <a:xfrm>
            <a:off x="1090440" y="3633840"/>
            <a:ext cx="6963120" cy="2303280"/>
            <a:chOff x="1090440" y="3633840"/>
            <a:chExt cx="6963120" cy="2303280"/>
          </a:xfrm>
        </p:grpSpPr>
        <p:pic>
          <p:nvPicPr>
            <p:cNvPr id="188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1090440" y="3633840"/>
              <a:ext cx="696312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371600" y="3886200"/>
              <a:ext cx="6400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Проект выполнен учащимися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3 «Б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МОУ ВСОШ №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Учитель: Юмашева О.М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0" name="Picture 3" descr="E:\Юмашева О.М\все для презентаций\животные\4eee980b54b7908cb1b8489b79a37fee.gif"/>
          <p:cNvPicPr/>
          <p:nvPr/>
        </p:nvPicPr>
        <p:blipFill>
          <a:blip r:embed="rId4"/>
          <a:stretch/>
        </p:blipFill>
        <p:spPr>
          <a:xfrm>
            <a:off x="0" y="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E:\Юмашева О.М\все для презентаций\животные\4eee980b54b7908cb1b8489b79a37fee.gif"/>
          <p:cNvPicPr/>
          <p:nvPr/>
        </p:nvPicPr>
        <p:blipFill>
          <a:blip r:embed="rId5"/>
          <a:stretch/>
        </p:blipFill>
        <p:spPr>
          <a:xfrm flipH="1">
            <a:off x="6858000" y="0"/>
            <a:ext cx="2000160" cy="203688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1" descr=""/>
          <p:cNvPicPr/>
          <p:nvPr/>
        </p:nvPicPr>
        <p:blipFill>
          <a:blip r:embed="rId6"/>
          <a:stretch/>
        </p:blipFill>
        <p:spPr>
          <a:xfrm>
            <a:off x="633240" y="2481120"/>
            <a:ext cx="7718760" cy="9273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ьнос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а работы с одаренными учащимися чрезвычайно актуальна для современного российского общества. К школе предъявляются сегодня высокие требования. А что значит для родителей и общества “хорошая школа”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школа, где хорошо учат по всем предметам, а по окончании дети легко поступают в вуз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этой школе должны преподавать высококвалифицированные и интеллигентные педагог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школе должны быть свои традиц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Школа должна давать современное образовани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хорошей школе уважают личность ребенка, с ним занимаются не только на уроках, но и в системе дополнительного образов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нно поэтому так важно определить основные задачи и направления работы с одаренными детьми в системе дополнительного образ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F:\Юмашева О.М\все для презентаций\книги\books_72.gif"/>
          <p:cNvPicPr/>
          <p:nvPr/>
        </p:nvPicPr>
        <p:blipFill>
          <a:blip r:embed="rId2"/>
          <a:stretch/>
        </p:blipFill>
        <p:spPr>
          <a:xfrm flipH="1">
            <a:off x="7486200" y="5688000"/>
            <a:ext cx="1320840" cy="10476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6" name="Содержимое 2"/>
          <p:cNvGrpSpPr/>
          <p:nvPr/>
        </p:nvGrpSpPr>
        <p:grpSpPr>
          <a:xfrm>
            <a:off x="165240" y="426960"/>
            <a:ext cx="8813520" cy="5907240"/>
            <a:chOff x="165240" y="426960"/>
            <a:chExt cx="8813520" cy="5907240"/>
          </a:xfrm>
        </p:grpSpPr>
        <p:pic>
          <p:nvPicPr>
            <p:cNvPr id="197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426960"/>
              <a:ext cx="8813520" cy="590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57200" y="692280"/>
              <a:ext cx="8229600" cy="53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Цель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создание условий для пополнения активного словарного запаса учащихся пословицами и поговорками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Развитие познавательных интересов учащихся, умений самостоятельно конструировать свои знания и ориентироваться в информационном пространстве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Время работы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1 неделя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Режим работы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внеурочное время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Участие родителей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поощряется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9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3" name="Содержимое 2"/>
          <p:cNvGrpSpPr/>
          <p:nvPr/>
        </p:nvGrpSpPr>
        <p:grpSpPr>
          <a:xfrm>
            <a:off x="165240" y="1335240"/>
            <a:ext cx="9789840" cy="5101920"/>
            <a:chOff x="165240" y="1335240"/>
            <a:chExt cx="9789840" cy="5101920"/>
          </a:xfrm>
        </p:grpSpPr>
        <p:pic>
          <p:nvPicPr>
            <p:cNvPr id="20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97898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пределение темы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ыбор рабочих групп и распределение  ролей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пределение источников информации,                   постановка задач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ыбор критериев оценк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6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2" descr=""/>
          <p:cNvPicPr/>
          <p:nvPr/>
        </p:nvPicPr>
        <p:blipFill>
          <a:blip r:embed="rId4"/>
          <a:stretch/>
        </p:blipFill>
        <p:spPr>
          <a:xfrm>
            <a:off x="590400" y="476280"/>
            <a:ext cx="7542360" cy="9255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E:\Юмашева О.М\все для презентаций\животные\8m5.gif"/>
          <p:cNvPicPr/>
          <p:nvPr/>
        </p:nvPicPr>
        <p:blipFill>
          <a:blip r:embed="rId2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grpSp>
        <p:nvGrpSpPr>
          <p:cNvPr id="212" name="Объект 2"/>
          <p:cNvGrpSpPr/>
          <p:nvPr/>
        </p:nvGrpSpPr>
        <p:grpSpPr>
          <a:xfrm>
            <a:off x="295200" y="384120"/>
            <a:ext cx="8228880" cy="4524480"/>
            <a:chOff x="295200" y="384120"/>
            <a:chExt cx="8228880" cy="4524480"/>
          </a:xfrm>
        </p:grpSpPr>
        <p:cxnSp>
          <p:nvCxnSpPr>
            <p:cNvPr id="213" name="_s1028"/>
            <p:cNvCxnSpPr>
              <a:stCxn id="214" idx="0"/>
              <a:endCxn id="215" idx="2"/>
            </p:cNvCxnSpPr>
            <p:nvPr/>
          </p:nvCxnSpPr>
          <p:spPr>
            <a:xfrm flipH="1" flipV="1" rot="5400000">
              <a:off x="3423600" y="2112480"/>
              <a:ext cx="905400" cy="106704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1029"/>
            <p:cNvCxnSpPr>
              <a:stCxn id="217" idx="0"/>
              <a:endCxn id="215" idx="2"/>
            </p:cNvCxnSpPr>
            <p:nvPr/>
          </p:nvCxnSpPr>
          <p:spPr>
            <a:xfrm flipV="1" rot="16200000">
              <a:off x="5556960" y="1045080"/>
              <a:ext cx="905400" cy="320112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5" idx="2"/>
            </p:cNvCxnSpPr>
            <p:nvPr/>
          </p:nvCxnSpPr>
          <p:spPr>
            <a:xfrm flipV="1" rot="16200000">
              <a:off x="4489920" y="2112120"/>
              <a:ext cx="905400" cy="106740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1031"/>
            <p:cNvCxnSpPr>
              <a:stCxn id="221" idx="0"/>
              <a:endCxn id="215" idx="2"/>
            </p:cNvCxnSpPr>
            <p:nvPr/>
          </p:nvCxnSpPr>
          <p:spPr>
            <a:xfrm flipH="1" flipV="1" rot="5400000">
              <a:off x="2357640" y="1046520"/>
              <a:ext cx="905400" cy="319860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5" name="_s1032"/>
            <p:cNvSpPr/>
            <p:nvPr/>
          </p:nvSpPr>
          <p:spPr>
            <a:xfrm>
              <a:off x="3495240" y="38412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Структура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роект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_s1033"/>
            <p:cNvSpPr/>
            <p:nvPr/>
          </p:nvSpPr>
          <p:spPr>
            <a:xfrm>
              <a:off x="29520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Теоретик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456228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следовател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_s1035"/>
            <p:cNvSpPr/>
            <p:nvPr/>
          </p:nvSpPr>
          <p:spPr>
            <a:xfrm>
              <a:off x="669564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Затейник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_s1036"/>
            <p:cNvSpPr/>
            <p:nvPr/>
          </p:nvSpPr>
          <p:spPr>
            <a:xfrm>
              <a:off x="242856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Мастер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лов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26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Создают справочную страничку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бирают теоретический материал о пословицах и поговорках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8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" descr=""/>
          <p:cNvPicPr/>
          <p:nvPr/>
        </p:nvPicPr>
        <p:blipFill>
          <a:blip r:embed="rId4"/>
          <a:stretch/>
        </p:blipFill>
        <p:spPr>
          <a:xfrm>
            <a:off x="1620720" y="401760"/>
            <a:ext cx="5827680" cy="927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3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3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Собираю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или </a:t>
              </a: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создаю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рассказы, поясняющие смысл пословиц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6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516720" y="3933720"/>
            <a:ext cx="1738440" cy="173844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2" descr=""/>
          <p:cNvPicPr/>
          <p:nvPr/>
        </p:nvPicPr>
        <p:blipFill>
          <a:blip r:embed="rId4"/>
          <a:stretch/>
        </p:blipFill>
        <p:spPr>
          <a:xfrm>
            <a:off x="725400" y="317520"/>
            <a:ext cx="7766280" cy="1077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033"/>
          <p:cNvPicPr/>
          <p:nvPr/>
        </p:nvPicPr>
        <p:blipFill>
          <a:blip r:embed="rId5"/>
          <a:stretch/>
        </p:blipFill>
        <p:spPr>
          <a:xfrm>
            <a:off x="3635280" y="3068640"/>
            <a:ext cx="2367000" cy="21765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2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43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Соотносят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усскую пословицу с иностранно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5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116"/>
          <p:cNvPicPr/>
          <p:nvPr/>
        </p:nvPicPr>
        <p:blipFill>
          <a:blip r:embed="rId4"/>
          <a:stretch/>
        </p:blipFill>
        <p:spPr>
          <a:xfrm>
            <a:off x="3132000" y="3284640"/>
            <a:ext cx="2952720" cy="261936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2" descr=""/>
          <p:cNvPicPr/>
          <p:nvPr/>
        </p:nvPicPr>
        <p:blipFill>
          <a:blip r:embed="rId5"/>
          <a:stretch/>
        </p:blipFill>
        <p:spPr>
          <a:xfrm>
            <a:off x="1103400" y="615960"/>
            <a:ext cx="7211880" cy="93816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1" name="Содержимое 2"/>
          <p:cNvGrpSpPr/>
          <p:nvPr/>
        </p:nvGrpSpPr>
        <p:grpSpPr>
          <a:xfrm>
            <a:off x="165240" y="1219320"/>
            <a:ext cx="8813520" cy="5102280"/>
            <a:chOff x="165240" y="1219320"/>
            <a:chExt cx="8813520" cy="5102280"/>
          </a:xfrm>
        </p:grpSpPr>
        <p:pic>
          <p:nvPicPr>
            <p:cNvPr id="252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219320"/>
              <a:ext cx="88135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720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3366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Придумываю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задания для иг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2" descr=""/>
          <p:cNvPicPr/>
          <p:nvPr/>
        </p:nvPicPr>
        <p:blipFill>
          <a:blip r:embed="rId4"/>
          <a:stretch/>
        </p:blipFill>
        <p:spPr>
          <a:xfrm>
            <a:off x="1268280" y="476280"/>
            <a:ext cx="5894640" cy="92556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9" name="Содержимое 2"/>
          <p:cNvGrpSpPr/>
          <p:nvPr/>
        </p:nvGrpSpPr>
        <p:grpSpPr>
          <a:xfrm>
            <a:off x="-19080" y="1359000"/>
            <a:ext cx="8815320" cy="5108400"/>
            <a:chOff x="-19080" y="1359000"/>
            <a:chExt cx="8815320" cy="5108400"/>
          </a:xfrm>
        </p:grpSpPr>
        <p:pic>
          <p:nvPicPr>
            <p:cNvPr id="260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19080" y="1359000"/>
              <a:ext cx="881532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272880" y="162864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6600"/>
                  </a:solidFill>
                  <a:latin typeface="Calibri"/>
                </a:rPr>
                <a:t>Учащиес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амостоятельно работают с информацией, анализируют и синтезируют иде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ценивают результат работы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                               </a:t>
              </a:r>
              <a:r>
                <a:rPr b="0" lang="ru-RU" sz="3200" spc="-1" strike="noStrike">
                  <a:solidFill>
                    <a:srgbClr val="ff6600"/>
                  </a:solidFill>
                  <a:latin typeface="Calibri"/>
                </a:rPr>
                <a:t>Учитель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Наблюдает и консультирует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2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2" descr=""/>
          <p:cNvPicPr/>
          <p:nvPr/>
        </p:nvPicPr>
        <p:blipFill>
          <a:blip r:embed="rId4"/>
          <a:stretch/>
        </p:blipFill>
        <p:spPr>
          <a:xfrm>
            <a:off x="1103400" y="401760"/>
            <a:ext cx="7149960" cy="92700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7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68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Ученики выступают перед одноклассниками и жюр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2" descr=""/>
          <p:cNvPicPr/>
          <p:nvPr/>
        </p:nvPicPr>
        <p:blipFill>
          <a:blip r:embed="rId4"/>
          <a:stretch/>
        </p:blipFill>
        <p:spPr>
          <a:xfrm>
            <a:off x="1090440" y="334800"/>
            <a:ext cx="6967800" cy="9208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5" name="Содержимое 2"/>
          <p:cNvGrpSpPr/>
          <p:nvPr/>
        </p:nvGrpSpPr>
        <p:grpSpPr>
          <a:xfrm>
            <a:off x="165240" y="66600"/>
            <a:ext cx="8839080" cy="6297840"/>
            <a:chOff x="165240" y="66600"/>
            <a:chExt cx="8839080" cy="6297840"/>
          </a:xfrm>
        </p:grpSpPr>
        <p:pic>
          <p:nvPicPr>
            <p:cNvPr id="276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66600"/>
              <a:ext cx="883908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57200" y="333360"/>
              <a:ext cx="822960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25000"/>
                </a:lnSpc>
                <a:spcBef>
                  <a:spcPts val="901"/>
                </a:spcBef>
                <a:buClr>
                  <a:srgbClr val="cc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c0000"/>
                  </a:solidFill>
                  <a:latin typeface="Monotype Corsiva"/>
                </a:rPr>
                <a:t>Будем  помнить, что мы, взрослые, должны быть для ребенка и плодородной почвой, и живительной влагой, и теплым солнышком, согревающим цветок детской души.  Именно тогда раскроются уникальные способности, данные каждому  ребенку от рождения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8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Объект 2"/>
          <p:cNvGrpSpPr/>
          <p:nvPr/>
        </p:nvGrpSpPr>
        <p:grpSpPr>
          <a:xfrm>
            <a:off x="176040" y="219240"/>
            <a:ext cx="8791920" cy="6205320"/>
            <a:chOff x="176040" y="219240"/>
            <a:chExt cx="8791920" cy="6205320"/>
          </a:xfrm>
        </p:grpSpPr>
        <p:pic>
          <p:nvPicPr>
            <p:cNvPr id="65" name="Объект 2" descr=""/>
            <p:cNvPicPr/>
            <p:nvPr/>
          </p:nvPicPr>
          <p:blipFill>
            <a:blip r:embed="rId2"/>
            <a:stretch/>
          </p:blipFill>
          <p:spPr>
            <a:xfrm>
              <a:off x="176040" y="219240"/>
              <a:ext cx="8791920" cy="62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57200" y="476280"/>
              <a:ext cx="8229600" cy="56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Сегодня особенно важен поиск путей в подходе к развитию личности одаренного ребенка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Поэтому, рассуждая о системе работы с одаренными детьми, хотелось бы подчеркнуть мысль о работе со </a:t>
              </a:r>
              <a:r>
                <a:rPr b="1" lang="ru-RU" sz="3000" spc="-1" strike="noStrike" u="sng">
                  <a:solidFill>
                    <a:srgbClr val="000000"/>
                  </a:solidFill>
                  <a:uFillTx/>
                  <a:latin typeface="Calibri"/>
                </a:rPr>
                <a:t>всеми</a:t>
              </a: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 детьми, то есть о максимальном развитии умений, навыков, познавательных способностей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Жизнь требует от школы подготовки выпускника, способного адаптироваться к меняющимся условиям, коммуникабельного и конкурентоспособного. Именно это имел в виду психолог и писатель Г.Томпсон, говоря: “Способности – объяснение вашего успеха”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5" descr="F:\Юмашева О.М\все для презентаций\книги\books_72.gif"/>
          <p:cNvPicPr/>
          <p:nvPr/>
        </p:nvPicPr>
        <p:blipFill>
          <a:blip r:embed="rId3"/>
          <a:stretch/>
        </p:blipFill>
        <p:spPr>
          <a:xfrm flipH="1">
            <a:off x="7486200" y="5688000"/>
            <a:ext cx="1320840" cy="10476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Times New Roman"/>
              </a:rPr>
              <a:t>Основополагающий</a:t>
            </a:r>
            <a:r>
              <a:rPr b="1" i="1" lang="ru-RU" sz="4400" spc="-1" strike="noStrike" u="sng">
                <a:solidFill>
                  <a:srgbClr val="333399"/>
                </a:solidFill>
                <a:uFillTx/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333399"/>
                </a:solidFill>
                <a:uFillTx/>
                <a:latin typeface="Times New Roman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2c3f71"/>
                </a:solidFill>
                <a:latin typeface="Times New Roman"/>
              </a:rPr>
              <a:t>«Как построить работу с одаренными детьми, чтобы добиться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аксимального развития умений, навыков, познавательных способностей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F:\Юмашева О.М\все для презентаций\книги\Photo 099.gif"/>
          <p:cNvPicPr/>
          <p:nvPr/>
        </p:nvPicPr>
        <p:blipFill>
          <a:blip r:embed="rId2"/>
          <a:stretch/>
        </p:blipFill>
        <p:spPr>
          <a:xfrm>
            <a:off x="5651640" y="3860640"/>
            <a:ext cx="292572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c3f71"/>
                </a:solidFill>
                <a:uFillTx/>
                <a:latin typeface="Calibri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Если создать оптимальные условия для раскрытия потенциальных возможностей ребенка,  при этом сохраняя целостность системы его обучения и воспитания, и комплексное воздействие на ребенка, то возможна творческая самореализация личности в различных видах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F:\Юмашева О.М\все для презентаций\дети\618fa2b8e67a5dda335c15deb6186f09.gif"/>
          <p:cNvPicPr/>
          <p:nvPr/>
        </p:nvPicPr>
        <p:blipFill>
          <a:blip r:embed="rId2"/>
          <a:stretch/>
        </p:blipFill>
        <p:spPr>
          <a:xfrm>
            <a:off x="984240" y="4962600"/>
            <a:ext cx="2090880" cy="1895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333399"/>
                </a:solidFill>
                <a:uFillTx/>
                <a:latin typeface="Calibri"/>
              </a:rPr>
              <a:t>ЦЕЛЬ 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беспечение  возможности творческой самореализации личности в различных видах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F:\Юмашева О.М\все для презентаций\дети\987a952c6565c030ea8aa84ec1e352a8.gif"/>
          <p:cNvPicPr/>
          <p:nvPr/>
        </p:nvPicPr>
        <p:blipFill>
          <a:blip r:embed="rId2"/>
          <a:stretch/>
        </p:blipFill>
        <p:spPr>
          <a:xfrm>
            <a:off x="2755800" y="3789360"/>
            <a:ext cx="3740400" cy="22003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003399"/>
                </a:solidFill>
                <a:uFillTx/>
                <a:latin typeface="Calibri"/>
              </a:rPr>
              <a:t>ЗАДАЧИ 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оздать систему внеурочной работы, дополнительного образования учащих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азвить массовые, групповые и индивидуальные формы внеурочной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рганизовать систему исследовательской работы учащих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F:\Юмашева О.М\все для презентаций\дети\58528fab2fdc58cf9ef24c5d6756f225.gif"/>
          <p:cNvPicPr/>
          <p:nvPr/>
        </p:nvPicPr>
        <p:blipFill>
          <a:blip r:embed="rId2"/>
          <a:stretch/>
        </p:blipFill>
        <p:spPr>
          <a:xfrm>
            <a:off x="6659640" y="4876920"/>
            <a:ext cx="1944720" cy="19666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7110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Calibri"/>
              </a:rPr>
              <a:t>Структура деятельности учителя и ученика при использовании метода</a:t>
            </a:r>
            <a:r>
              <a:rPr b="0" lang="ru-RU" sz="4000" spc="-1" strike="noStrike">
                <a:solidFill>
                  <a:srgbClr val="3366ff"/>
                </a:solidFill>
                <a:latin typeface="Calibri"/>
              </a:rPr>
              <a:t>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ет цель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крывает новые зн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спериментир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ирает пути  ре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тив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бъект об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ёт ответственность за сою дея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Уч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огает определять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комендует источники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крывает возможные формы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ует прогнозированию результа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ёт условия для активности шк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тнёр уче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гает оценить полученный результат, выявить недоста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8" descr="F:\Юмашева О.М\все для презентаций\дети\8b1747ac230d8b3e41b4a1330d0f9b8e.gif"/>
          <p:cNvPicPr/>
          <p:nvPr/>
        </p:nvPicPr>
        <p:blipFill>
          <a:blip r:embed="rId2"/>
          <a:stretch/>
        </p:blipFill>
        <p:spPr>
          <a:xfrm>
            <a:off x="3203640" y="4869000"/>
            <a:ext cx="1623960" cy="1546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тель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муникатив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оч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о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о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еджер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99"/>
                </a:solidFill>
                <a:uFillTx/>
                <a:latin typeface="Calibri"/>
              </a:rPr>
              <a:t>Группы умений, </a:t>
            </a:r>
            <a:br>
              <a:rPr sz="2500"/>
            </a:br>
            <a:r>
              <a:rPr b="1" lang="ru-RU" sz="2500" spc="-1" strike="noStrike" u="sng">
                <a:solidFill>
                  <a:srgbClr val="000099"/>
                </a:solidFill>
                <a:uFillTx/>
                <a:latin typeface="Calibri"/>
              </a:rPr>
              <a:t>на которые  проектная деятельность </a:t>
            </a:r>
            <a:br>
              <a:rPr sz="2500"/>
            </a:br>
            <a:r>
              <a:rPr b="1" lang="ru-RU" sz="2500" spc="-1" strike="noStrike" u="sng">
                <a:solidFill>
                  <a:srgbClr val="000099"/>
                </a:solidFill>
                <a:uFillTx/>
                <a:latin typeface="Calibri"/>
              </a:rPr>
              <a:t>оказывает наибольшее влияние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sh-his"/>
          <p:cNvPicPr/>
          <p:nvPr/>
        </p:nvPicPr>
        <p:blipFill>
          <a:blip r:embed="rId2"/>
          <a:stretch/>
        </p:blipFill>
        <p:spPr>
          <a:xfrm>
            <a:off x="5292720" y="2421000"/>
            <a:ext cx="2879640" cy="2827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7:26:13Z</dcterms:created>
  <dc:creator>Yohoo</dc:creator>
  <dc:description/>
  <dc:language>en-US</dc:language>
  <cp:lastModifiedBy>LEGION</cp:lastModifiedBy>
  <dcterms:modified xsi:type="dcterms:W3CDTF">2015-01-27T12:04:11Z</dcterms:modified>
  <cp:revision>17</cp:revision>
  <dc:subject/>
  <dc:title>Презентация PowerPoint</dc:title>
</cp:coreProperties>
</file>