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CF27-5F50-478E-8DC4-623946EB08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екоменд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по укрепл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0A38-6C8B-4770-A686-B6A06D80CF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БОСОХОЖДЕНИЕ</a:t>
            </a:r>
            <a:r>
              <a:rPr b="1" lang="en-US" sz="1200" spc="-1" strike="noStrike">
                <a:solidFill>
                  <a:srgbClr val="000000"/>
                </a:solidFill>
                <a:latin typeface="Arno Pro Light Display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элемент закаливан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ин способ закалки – это 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прогулки бос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5141-BD02-4320-A479-8CD3A4D924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к предупредить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у ребенка должна быть сделана из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натуральных материал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внутри с твердым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супинатор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поднимающим внутренний край с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ошва детской обуви должна быть гибкой  и име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каблук (5-10 мм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искусственно поднимающий свод стопы, защищающий пятку от ушиб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должна соответствовать фор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размеру стопы, была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удобной при нос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весу обувь должна быть максимально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легкой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статочно жесткой, с хорошим зад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мните, длина следа должна бы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больше стоп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носочной части, припуск в 10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BB86-0B0C-4FE0-89EA-5162B73EFB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делат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ребенка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упражнений при плоскостоп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лечебная гимнасти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Описание упражнений</a:t>
            </a:r>
            <a:r>
              <a:rPr b="0" lang="ru-RU" sz="1400" spc="-1" strike="noStrike">
                <a:solidFill>
                  <a:srgbClr val="cc0099"/>
                </a:solidFill>
                <a:latin typeface="Calibri"/>
              </a:rPr>
              <a:t>                                 </a:t>
            </a: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 Кол-во повтор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дь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осках, руки вверх                                                </a:t>
            </a:r>
            <a:r>
              <a:rPr b="0" lang="ru-RU" sz="1200" spc="-1" strike="noStrike">
                <a:solidFill>
                  <a:srgbClr val="d60093"/>
                </a:solidFill>
                <a:latin typeface="Calibri"/>
              </a:rPr>
              <a:t>по 20-30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пятках, руки на поя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 наружном своде стоп, пальцы согнуты, руки на поя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 мячом (теннисным) - зажать стопами, ходить на внешней стороне с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Стоя на палке (обруче)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уприседания и приседания, руки вперед или в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едвижение вдоль палки - ставить стопы вдоль или поперек палки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-4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Сто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 наружном своде стоп - поворот туловище лев –прав.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днимание на носках с упором на наружный свод стопы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"Лодочка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"Угол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спине держать ноги под углом 45 гр.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Сид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гибание - разгибание пальцев стоп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ксимальное разведение и сведение пяток, не отрывая носков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 напряжением тянуть носки на себя, от себя  (колени прямые )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оединить стопы. Колени прямые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круговые движения стопами внутрь,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захватывание и приподнимание пальцами сто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а или мелкого предмета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захватывание и приподнимание стопам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а, колени прямые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                           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097F-F272-4FBB-A99B-BA8135EDCC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льза пл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6ECE-DD85-4815-B8B7-4BBBA4D9BD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сформ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авильную осан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ая осанка не бывает врожденной, она начинает формир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вых лет наш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ответственный период для фор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анк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 4 до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учая вашего ребенка «правильно» держать свое т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забывайте при этом и про вашу оса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крепкого, достаточно развитого мышечного корсажа – мышечной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ая болезнь или хронические заболевания, ослабляющие орг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рах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оответствующая росту мебе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бная одежда и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4C56-5D59-433D-B6A3-A08E78F575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Как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проверить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осанку у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e5b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5b00"/>
                </a:solidFill>
                <a:latin typeface="Calibri"/>
              </a:rPr>
              <a:t>Следим за осанкой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80C7-D5D2-4FBF-A286-58C2714890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расивые и здор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ЗУ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alibri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2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135E-E258-4652-8453-4C0F965218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Масс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десен щет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утром звери встал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ки чистить побежал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миш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точкой из шиш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а в рыжей шуб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е чистит зуб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е мыш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ые еж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й волк зубаст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паст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поросе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мешной лосено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автракали вкусно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нам почистить нужн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уки щёточку возьмё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ной пасты нанес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чистим осторожн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поранить дёсны можн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что? А по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мы ополосн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понадобится кружка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ыбнёмся-ка друг дружк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ли умело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зубки стали бе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3D36-6C59-4C4E-953D-E9D375BDA0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 правил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воклас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ажно сочетать игру и учебу. Учиться, играя – намного легче, ведь играть ребенок умеет очень хорошо. А учеба – это та сфера, где ребенок  первоклассник – нович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и и неудачи –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«Как хорошо написал, какой хороший мальчик!»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385F-1A29-4C70-8E7F-D0701AC7DC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буждение — в 7 часов утр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чебные зан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тдыха — обязательно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е уро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—1 1/2 часа) и снова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т 19 до 20 часов — ужин и свободные занятия.</a:t>
            </a: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я ко с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B96E-9D54-46FA-906D-B64CE4C027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Физическое воспит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бенка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значения показателей двигательной активности детей за полный день -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бъем 17 000 дви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интенсивность 55-65 движений в мину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8890-1B77-4377-AA1A-732A012BFA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alibri"/>
              </a:rPr>
              <a:t>Режим дня до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200"/>
            </a:b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5A93-6FFC-4F22-B46F-4BE3E8BBE2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770e"/>
                </a:solidFill>
                <a:latin typeface="Calibri"/>
              </a:rPr>
              <a:t>Компьют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Calibri"/>
              </a:rPr>
              <a:t>«за» </a:t>
            </a:r>
            <a:r>
              <a:rPr b="0" i="1" lang="ru-RU" sz="1200" spc="-1" strike="noStrike">
                <a:solidFill>
                  <a:srgbClr val="0b770e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роти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1859c"/>
                </a:solidFill>
                <a:latin typeface="Calibri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Calibri"/>
              </a:rPr>
              <a:t>«+»   Достоинства компьют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занятий на компьютере улучшаются память и внимание де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«-»   Недостатки компьюте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FE5D-B5C6-4B64-9F17-57571C9F4A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гулки – это ва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80"/>
                </a:solidFill>
                <a:latin typeface="Calibri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4FA7-BFED-4DCC-B421-770284D8E5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охранить зрение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, чернику, бруснику, клюкву, петрушку, укроп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лефоне лучше забы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712-0E4D-43CC-A917-F8A2B20304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Комплекс упражнений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930F-2430-4232-A398-3C3BB82022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Закали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 </a:t>
            </a: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первый шаг на пути к здо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и закаливании детей следует придерживаться та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основных принципов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ь закаливающие процедуры систематичес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величивать время воздействия закаливающего фактора постеп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ть настроение ребенка и проводить процедуры в форме игр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ачинать закаливание в любом возра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выполнять процедуры, если малыш замер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каливаться всей семь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ливающие процед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ть с физическими упражн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ссаж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помещении, где находится ребе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гда не ку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8834-5AB8-4DA7-B19C-BC5A0B9420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Способы закал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ый таз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ое полотенц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Контрастный душ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ебенок боится воздействия холод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уш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можно вначале поставить таз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лодной водой и сказ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А ну, давай с тобой по лужам побегаем!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от из теплой ванны - в холодный таз (или "под дождик"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5150-AA41-4916-8024-807301BA5B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604-1A8E-4BCD-AB28-C1FFB64F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B45-C8D6-4F3C-B950-77E175FF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305-4607-47E3-B298-802E3032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811-A529-4588-A66A-F6519CCC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40E-2E51-4FDB-94DA-D4B4F3C2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C1B-F4A3-43E5-AE3E-48B23C84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41F-EF77-4E6F-AC4B-F863BCA6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A9F-D46B-482A-A2E5-0D20F728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D5B-37B8-49DB-9D48-343AE032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477-4E3C-4756-8946-354F74C9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FD5-EB9D-4BEE-ABA2-5946CE05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27C-3BF0-4486-A8B1-F568AF24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561C-570A-439C-9F8C-826581ACD7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4C40-E317-48D0-AD9E-D438BB485B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349360" y="4572000"/>
            <a:ext cx="2500560" cy="20271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38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74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96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341360" y="5721480"/>
            <a:ext cx="3743280" cy="28591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0" y="2428920"/>
            <a:ext cx="68580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-19080" y="-6516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52280"/>
            <a:ext cx="7967520" cy="12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ram</dc:creator>
  <dc:description/>
  <dc:language>en-US</dc:language>
  <cp:lastModifiedBy>LEGION</cp:lastModifiedBy>
  <dcterms:modified xsi:type="dcterms:W3CDTF">2015-01-27T12:12:40Z</dcterms:modified>
  <cp:revision>209</cp:revision>
  <dc:subject/>
  <dc:title>Слайд 1</dc:title>
</cp:coreProperties>
</file>