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024E-2D02-493B-9456-81E7A69F97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екоменд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по укрепл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3AD-72FB-4411-9D5D-66CC06C02E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БОСОХОЖДЕНИЕ</a:t>
            </a:r>
            <a:r>
              <a:rPr b="1" lang="en-US" sz="1200" spc="-1" strike="noStrike">
                <a:solidFill>
                  <a:srgbClr val="000000"/>
                </a:solidFill>
                <a:latin typeface="Arno Pro Light Display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элемент закаливан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ин способ закалки – это 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прогулки бос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B3BE-9D4F-47AB-AF9E-89ABF26C4B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к предупредить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у ребенка должна быть сделана из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натуральных материал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внутри с твердым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супинатор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поднимающим внутренний край с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ошва детской обуви должна быть гибкой  и име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каблук (5-10 мм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искусственно поднимающий свод стопы, защищающий пятку от ушиб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должна соответствовать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размеру стопы, была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удобной при нос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весу обувь должна быть максимально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легкой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статочно жесткой, с хорошим зад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мните, длина следа должна бы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больше стоп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носочной части, припуск в 10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8571-728A-4FDA-8DC1-F299BE1E4A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ребенка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упражнений при плоскостоп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лечебная гимнасти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Описание упражнений</a:t>
            </a:r>
            <a:r>
              <a:rPr b="0" lang="ru-RU" sz="1400" spc="-1" strike="noStrike">
                <a:solidFill>
                  <a:srgbClr val="cc0099"/>
                </a:solidFill>
                <a:latin typeface="Calibri"/>
              </a:rPr>
              <a:t>                                 </a:t>
            </a: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 Кол-во повтор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дь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осках, руки вверх                                                </a:t>
            </a:r>
            <a:r>
              <a:rPr b="0" lang="ru-RU" sz="1200" spc="-1" strike="noStrike">
                <a:solidFill>
                  <a:srgbClr val="d60093"/>
                </a:solidFill>
                <a:latin typeface="Calibri"/>
              </a:rPr>
              <a:t>по 20-30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пятках, руки на поя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 наружном своде стоп, пальцы согнуты, руки на поя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 мячом (теннисным) - зажать стопами, ходить на внешней стороне с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тоя на палке (обруче)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уприседания и приседания, руки вперед или в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едвижение вдоль палки - ставить стопы вдоль или поперек палки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-4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Сто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 наружном своде стоп - поворот туловище лев –прав.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днимание на носках с упором на наружный свод стопы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"Лодочка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"Угол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спине держать ноги под углом 45 гр.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д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гибание - разгибание пальцев стоп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ксимальное разведение и сведение пяток, не отрывая носков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 напряжением тянуть носки на себя, от себя  (колени прямые )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оединить стопы. Колени прямые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круговые движения стопами внутрь,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захватывание и приподнимание пальцами сто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а или мелкого предмета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захватывание и приподнимание стопам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а, колени прямые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                           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44B5-99AE-413A-8C5D-9E5F74BF59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льза пл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4FF-9819-4A3A-967B-2DDAEF253C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с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авильную осан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ая осанка не бывает врожденной, она начинает формир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вых лет наш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ответственный период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анк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 4 до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учая вашего ребенка «правильно» держать свое т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забывайте при этом и про вашу оса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крепкого, достаточно развитого мышечного корсажа – мышечной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ая болезнь или хронические заболевания, ослабляющие орг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рах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оответствующая росту меб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бная одежда и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0635-1572-4990-B70D-DF95058A4B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Как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проверить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осанку у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e5b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5b00"/>
                </a:solidFill>
                <a:latin typeface="Calibri"/>
              </a:rPr>
              <a:t>Следим за осанкой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D7AA-0241-4EF8-A665-C0199FAB35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расивые и здор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ЗУ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alibri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2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71FD-B03B-4429-963A-DB22E010BA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Масс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десен щет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утром звери вста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ки чистить побежа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миш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точкой из шиш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а в рыжей шуб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е чистит зуб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е мыш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ые еж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й волк зубаст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паст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поросе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мешной лосен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автракали вкусно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нам почистить нужн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уки щёточку возьмё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ной пасты нанес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чистим осторож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поранить дёсны можн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что? А по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мы ополосн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понадобится кружка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ыбнёмся-ка друг друж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ли умело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зубки стали бе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A9DA-D46E-407A-A405-7DF76E1F9E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 правил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ажно сочетать игру и учебу. Учиться, играя – намного легче, ведь играть ребенок умеет очень хорошо. А учеба – это та сфера, где ребенок  первоклассник – нови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и и неудачи –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«Как хорошо написал, какой хороший мальчик!»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81A6-B319-45D2-9521-2CEF21D45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буждение — в 7 часов утр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чебные зан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тдыха — обязательно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е уро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—1 1/2 часа) и снова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т 19 до 20 часов — ужин и свободные занятия.</a:t>
            </a: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я ко с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BD02-87D7-44CA-9BE7-0B643815C7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Физическое воспит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бенка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значения показателей двигательной активности детей за полный день -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бъем 17 000 дви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интенсивность 55-65 движений в мину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EF2B-3962-4B69-88AA-EB36A9D248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alibri"/>
              </a:rPr>
              <a:t>Режим дня до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200"/>
            </a:b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2E57-57CE-4E65-98CB-332148E0AC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770e"/>
                </a:solidFill>
                <a:latin typeface="Calibri"/>
              </a:rPr>
              <a:t>Компьют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Calibri"/>
              </a:rPr>
              <a:t>«за» </a:t>
            </a:r>
            <a:r>
              <a:rPr b="0" i="1" lang="ru-RU" sz="1200" spc="-1" strike="noStrike">
                <a:solidFill>
                  <a:srgbClr val="0b770e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роти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1859c"/>
                </a:solidFill>
                <a:latin typeface="Calibri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Calibri"/>
              </a:rPr>
              <a:t>«+»   Достоинства компьют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занятий на компьютере улучшаются память и внимание де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«-»   Недостатки компьюте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A58C-BBF0-4FB9-B80E-36E0C05F9D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гулки – это ва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80"/>
                </a:solidFill>
                <a:latin typeface="Calibri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2DC-5B4C-4171-9B44-05D7A4BABF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охранить зрение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, чернику, бруснику, клюкву, петрушку, укроп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лефоне лучше забы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3662-13F8-43DF-AE7E-2A9D1D89FA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Комплекс упражнений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1724-D72E-4658-A0AC-B054994F2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Закали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 </a:t>
            </a: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первый шаг на пути к здо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и закаливании детей следует придерживаться та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основных принципов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ь закаливающие процедуры систематичес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величивать время воздействия закаливающего фактора постеп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ть настроение ребенка и проводить процедуры в форме игр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ачинать закаливание в любом возра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выполнять процедуры, если малыш замер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каливаться всей семь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ливающие процед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ть с физическими упражн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ссаж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помещении, где находится ребе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гда не ку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2468-87DD-4F5D-A7D7-83F88C9741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Способы закал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ый таз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ое полотенц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Контрастный ду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ебенок боится воздействия холод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уш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можно вначале поставить таз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лодной водой и сказ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А ну, давай с тобой по лужам побегаем!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от из теплой ванны - в холодный таз (или "под дождик"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DE63-5F1C-48B5-8EAE-119D53183C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5E4-43AA-4B2D-BE8F-D61A427E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B2C-4905-4B75-80C2-1228D3CE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F3D-7E25-4121-8FB8-C51EEFE6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2D5-5045-4820-9403-AEA5C42C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461-F831-447C-8920-6622BFA8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BB0-5E4D-4D67-B2D5-924A1F9A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3E4-D3CD-49A1-B1FB-6713CF22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8C1-FE20-4613-A9FC-768B7CEF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DF2-6E4F-4C21-B3EB-2ABD8851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BAE-7D0E-4EEA-A538-44A28B0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385-8212-43A2-9D1D-D105B4FC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436-D9E3-48BF-9D7F-E6BF74B8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0FC8-3084-48CE-8F2D-56553387A2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5C37-08E1-4F00-9B94-8F0057B60E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3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4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96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341360" y="5721480"/>
            <a:ext cx="3743280" cy="28591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0" y="2428920"/>
            <a:ext cx="68580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-19080" y="-6516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LEGION</cp:lastModifiedBy>
  <dcterms:modified xsi:type="dcterms:W3CDTF">2015-01-27T12:12:40Z</dcterms:modified>
  <cp:revision>209</cp:revision>
  <dc:subject/>
  <dc:title>Слайд 1</dc:title>
</cp:coreProperties>
</file>