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CE4B-B331-4077-B6EF-00BFBA9BE75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Технология подготовки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и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проведения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классного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2D3A-A6DE-49E0-8049-2EBEA7AF96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цели, содержания, формы, даты и места проведения классного часа, формирование сообщества его организа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 деятельность по подготовке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98AB-0FD5-447D-8F6E-6F0F40025B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совместно с другими организаторами сценарного плана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оценка результативности классного часа и деятельности по его подготовке и прове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42C2-99B1-424F-A340-183A40E684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лассный час может проводиться  в форм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ого собр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а об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ого часа (час классного руководителя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и или тематической л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ой иг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208C-4DD3-4C11-B2F4-E91A44D70B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распределяется и планируется классным руководителем и обучающими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экстренное классное собрание или замена одной формы проведения классного часа другой по тем или иным причи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1947-40A1-481D-8565-7E014D9A5B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ыбора темы и содержания классного часа классному руководителю необходимо учитывать возрастные особенности обучающихся, помнить об их нравственных представлениях, интересах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DE4B-E60D-4ABC-BD4D-F465AFC3BC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классных часов следует строить так, чтобы постепенно переходить от «предметной» информации к ее оценке, от общих оценок к развернутым сужде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учитывать психологические особенности восприятия материала обучающимися, следить за вниманием и при его снижении использовать интересные по содержанию факты или поставить «острый» вопрос, использовать музыкальную паузу, сменить вид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F212-8974-42D7-88F0-61BFD5CDF1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обсуждения поставленных вопросов классный руководитель должен быть очень внимателен к выступлениям обучающихся, вносить нужные коррективы, ставить дополнительные наводящие вопросы, акцентировать внимание на важных моментах, размышлять вместе с детьми и помочь им найти правильное решение нравстве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E8E6-EAB2-4FB0-924E-377DECE3ED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час или лучше его назвать «час общения» играет большую роль в жизни обучающихся, если он задуман интересно и удачно провед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F640-AA5C-4052-B1D3-7D94D877BC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ребования к классному час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, для каждого часа день и время определ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 рекомендуется классный час проводить в субботу, лучше в первой половине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2916-192C-422B-9906-E2A4F43FFF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я к классному час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 должен иметь план проведения классного ча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ка классного часа, да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воспитате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провед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ительное слово учите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по классному час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ли реализовать воспитатель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B22F-40BC-4F3D-B397-CF04B168D6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 есть форма прямого общения воспитателя со своими воспитанникам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. П. Саз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B538-E6B2-4E0F-BC5F-56E3F1D7D1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рмы классных ча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говорны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диспуты, обсуждения, беседы, лекции, конференции, устный журн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релищно-разговорны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скур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зднич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 знаменательным датам. Можно соединять параллели, вечера, дискотеки (объединенные классные ча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гров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CB01-CDC0-45E6-8A7F-F514E6A2CD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посещения, цепь посещения, тема классного часа, форма проведения .   классного часа и цель поставленная уч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ешались воспитательные задачи в ходе классного ча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рганизация работы с учащимися - индивидуальная, групповая или фронтальная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ктивность и инициативность ребя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распределение поручений при подготовке к классному ча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заимоотношения учитель - ученики (тон, манера обращ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9C3E-7501-4352-8F51-AFCEEA5442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дисципл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внешность учащихся, по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) продолжительность классного часа (от 30 до 45 мин., экскурсия - 1 час 20 мин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) направленность классного часа (каждое мероприятие - должно соответствовать задачам школы на данный пери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) связь с жизнью, нагляд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323C-B038-43E5-8D51-4ED8BAA2DF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классного часа. Что да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качества пр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вижение новых задач для дальнейшей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нравственных чув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 предложения заместителя директора по воспитатель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B5DD-0374-44D8-A03B-2B9A542838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 можно назвать специально организованной ценностно-ориентационной деятельностью, способствующей формированию у школьников системы отношений к окружающему мир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.Е. Щуркова,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.С. Финданиеви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1C03-BD1A-4434-8EDA-6F5C4D928B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. В нашем понимании это не какая-то определенная форма работы, а час классного руководител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Л. И. Маленко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2DA8-36FA-4285-86D0-E17752F977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час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гибкая по своему составу и структуре форма воспитательного взаимо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форма общения классного руководителя и его воспитанников, приоритетную роль в организации которой играет педаг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FFFF-2261-435D-BB26-3EC1F64A39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словий становления и проявления субъектности и индивидуальности обучающегося, его творческих спосо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0047-0128-4B68-90A4-3E9306BF9A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гащение сознания обучающихся знаниями о природе, обществе, челов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эмоционально-чувствительной сферы и ценностных отношений личности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49AC-28FE-475F-8E9C-B487EF4276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воение детьми знаний, умений и навыков познавательной и практико-созида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классного коллектива как благоприятной среды для развития и жизнедеятельности шк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73B3-657B-47A2-8032-8AFEE0E633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едагогом совместно с обучающимися и их родителями тематики классных часов на новый учебный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темы классного часа и генерирование идей по его подготовке и провед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9BD1-AFCC-44A0-8C18-70972FB701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BD9-7A95-48DC-BE01-105BD03E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CBF-5D9A-49FA-AEB2-070ED7F0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0DD-55AA-44C7-AB3E-9250EFF8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986-F4EE-4FB3-8883-F638B64F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CF92-0F6D-4C23-BC26-59ACAEE8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C4FF-AEAE-4DA9-9636-D49B4D5E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F829-C032-444F-9525-5C8E7DB8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D6CF-FD10-4FD6-A107-305439FC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DB2D-B120-4953-8380-3F841C1B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2E2C-B458-41E7-B0D1-D9340673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EF9E-374B-4E96-89AA-D447BB6C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421-9263-415C-B1F6-73EB411B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72A4-AB47-493C-A622-D06BFD45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1A97-2385-469F-B6AC-8A560BF2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0E26-7B77-468B-A12C-D0BB8C7E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C643-CFF7-405C-B775-47B49F91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E023-EED2-4CFD-AEF4-6FF8457C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BBE-1D45-4DA4-85CC-5A3A9AB0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9CC-B172-4C71-A61F-5F025123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3AC-3736-4E3A-BD43-C48E3074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B77-F5D5-4660-BEC0-82EAD9B7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C0BF-A73F-4262-B095-1E4C8D2B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F4A-2444-4D09-9E81-AF18279A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1CB-89B3-4CA9-8979-3F8CFB85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1F40-86EC-47EF-8DFC-6D324DCADC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F8DB-FA99-4A70-AE79-16F0C2070B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765840" cy="42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Технология подготовки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и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проведения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классного часа</a:t>
            </a:r>
            <a:endParaRPr b="0" lang="en-US" sz="6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цели, содержания, формы, даты и места проведения классного часа, формирование сообщества его организато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ая и групповая деятельность по подготовке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совместно с другими организаторами сценарного плана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и оценка результативности классного часа и деятельности по его подготовке и провед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5484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лассный час может проводиться  в форм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ого собр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а общ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ного часа (час классного руководителя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курсии или тематической ле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вой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распределяется и планируется классным руководителем и обучающими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 экстренное классное собрание или замена одной формы проведения классного часа другой по тем или иным причи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выбора темы и содержания классного часа классному руководителю необходимо учитывать возрастные особенности обучающихся, помнить об их нравственных представлениях, интересах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классных часов следует строить так, чтобы постепенно переходить от «предметной» информации к ее оценке, от общих оценок к развернутым су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психологические особенности восприятия материала обучающимися, следить за вниманием и при его снижении использовать интересные по содержанию факты или поставить «острый» вопрос, использовать музыкальную паузу, сменить вид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обсуждения поставленных вопросов классный руководитель должен быть очень внимателен к выступлениям обучающихся, вносить нужные коррективы, ставить дополнительные наводящие вопросы, акцентировать внимание на важных моментах, размышлять вместе с детьми и помочь им найти правильное решение нравственной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час или лучше его назвать «час общения» играет большую роль в жизни обучающихся, если он задуман интересно и удачно провед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ребования к классному час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бильность, для каждого часа день и время опреде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 рекомендуется классный час проводить в субботу, лучше в первой половине нед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ребования к классному час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ный руководитель должен иметь план проведения классного час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тика классного часа, да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воспитате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ость провед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ляд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ительное слово учите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ы по классному час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ось ли реализовать воспитательные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8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83628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лассный час есть форма прямого общения воспитателя со своими воспитанникам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. П. Саз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Формы классных час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зговор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диспуты, обсуждения, беседы, лекции, конференции, устный журн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релищно-разговор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кскур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зднич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 знаменательным датам. Можно соединять параллели, вечера, дискотеки (объединенные классные час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гров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ные ча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посещения, цепь посещения, тема классного часа, форма проведения .   классного часа и цель поставленная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ешались воспитательные задачи в ходе классного ча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рганизация работы с учащимися - индивидуальная, групповая или фронтальн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ктивность и инициативность ребя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распределение поручений при подготовке к классному ча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взаимоотношения учитель - ученики (тон, манера обращ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 дисципл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) внешность учащихся, пом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) продолжительность классного часа (от 30 до 45 мин., экскурсия - 1 час 20 мин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) направленность классного часа (каждое мероприятие - должно соответствовать задачам школы на данный перио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) связь с жизнью, нагляд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 классного часа. Что д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качества пр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вижение новых задач для дальнейшей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нравственных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и предложения заместителя директора по воспитательной раб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Классный час можно назвать специально организованной ценностно-ориентационной деятельностью, способствующей формированию у школьников системы отношений к окружающему мир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Е. Щурков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С. Финдани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Классный час. В нашем понимании это не какая-то определенная форма работы, а час классного руководител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. И. Мал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Классный час -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гибкая по своему составу и структуре форма воспитательного взаимо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форма общения классного руководителя и его воспитанников, приоритетную роль в организации которой играет педаг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2276280"/>
            <a:ext cx="73864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условий становления и проявления субъектности и индивидуальности обучающегося, его творческих спосо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гащение сознания обучающихся знаниями о природе, обществе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эмоционально-чувствительной сферы и ценностных отношений личности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воение детьми знаний, умений и навыков познавательной и практико-созид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классного коллектива как благоприятной среды для развития и жизнедеятельности 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педагогом совместно с обучающимися и их родителями тематики классных часов на новый учебный 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очнение темы классного часа и генерирование идей по его подготовке и провед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07:46:15Z</dcterms:created>
  <dc:creator>xxx</dc:creator>
  <dc:description/>
  <dc:language>en-US</dc:language>
  <cp:lastModifiedBy>LEGION</cp:lastModifiedBy>
  <dcterms:modified xsi:type="dcterms:W3CDTF">2015-01-27T12:13:20Z</dcterms:modified>
  <cp:revision>10</cp:revision>
  <dc:subject/>
  <dc:title>Технология подготовки  и  проведения  классного часа</dc:title>
</cp:coreProperties>
</file>