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0541-EF1E-4D53-BB5D-22016A38ED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Технология подготовк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проведения </a:t>
            </a:r>
            <a:br>
              <a:rPr sz="1200"/>
            </a:br>
            <a:r>
              <a:rPr b="1" lang="ru-RU" sz="1200" spc="-1" strike="noStrike">
                <a:solidFill>
                  <a:srgbClr val="eeece1"/>
                </a:solidFill>
                <a:latin typeface="Arial Unicode MS"/>
              </a:rPr>
              <a:t>классного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68BC-E2D0-4D24-81A0-CC3AE0514F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деятельность по подготовк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DB54-62F0-4F4C-B629-2CD4541EF2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совместно с другими организаторами сценарного плана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классного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245E-B7F3-4C1B-A257-CD2D4A3EBF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час может проводиться 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го собр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а 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ого часа (час классного руководителя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 или тематической л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иг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7D44-4B8C-4ACF-A89E-72FBB9D098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распределяется и планируется классным руководителем и обучающими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C11F-D6C0-4722-B46C-439112DA0C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рганизационные рекоменд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2D2F-C60C-4BEB-B547-3576D29568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9F21-0931-4F54-AC39-64E29BD363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9B58-AF7F-4311-A0EE-B7722DD29E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веты по организации классного ча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5BD1-7D15-47DD-AF5B-6B138A6408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, для каждого часа день и время определ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 рекомендуется классный час проводить в субботу, лучше в первой половин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9642-A4B2-4EDF-8E2C-169DF4AEFD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классному час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 должен иметь план проведения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ка классного часа, да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оспитате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провед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ое слово учи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по классному час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ли реализовать воспитатель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D766-0BBF-4360-A5B7-DE1C439F19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есть форма прямого общения воспитателя со своими воспитанникам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. П. Саз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C4CF-71E9-4C31-AE57-8B315C6A8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ормы классных ча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диспуты, обсуждения, беседы, лекции, конференции, устный журн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релищно-разговорны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кскур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зднич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гров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E006-9BAF-408A-8799-163A23E7A7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лись воспитательные задачи в ходе классного ча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рганизация работы с учащимися - индивидуальная, групповая или фронтальная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тивность и инициативность ребя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распределение поручений при подготовке к классному ч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заимоотношения учитель - ученики (тон, манера обращ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337B-6912-4C65-A89E-959F724EAB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дисципл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внешность учащихся, по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продолжительность классного часа (от 30 до 45 мин., экскурсия - 1 час 20 мин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) связь с жизнью, нагляд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9000-84A4-433A-91B2-EB48CF4F77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хема анализа классного час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классного часа. Что да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качества пр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вижение новых задач для дальнейшей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нравственных чув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 предложения заместителя директора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856D-32D2-4803-9638-46EF011DB5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Е. Щуркова,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.С. Финданиеви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3AB4-8D85-497F-9129-4D589876E7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Л. И. Маленко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547E-656F-4E6A-BEF9-EEAEC5046F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час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гибкая по своему составу и структуре форма воспитательн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C130-9FDE-4B0C-9846-C3F50CDA15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3AAB-D59F-4753-B345-EAB05EF738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гащение сознания обучающихся знаниями о природе, обществе,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4B99-3BC7-49A9-8297-A2C25DFE66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е задачи, решаемые благодаря классному ча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9443-E955-4FF8-A5B0-034C294672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хнологические аспекты  организации классного час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темы классного часа и генерирование идей по его подготовке и проведен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E57A-34F3-4111-98BC-49D9429C57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FA3-F75D-496B-9C29-2330792A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E12-430F-4238-8B8F-9D7CD313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4C1-6388-46E9-B347-393FC4FC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C1E-13D0-4424-8814-8F754C75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4F35-4C71-435E-8CC8-33FB323D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D218-DA48-426D-90A7-61308B8A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9D9E-97AB-425B-B74B-0E2F22B8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E57C-D7E3-4E42-AFE8-3255F695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6AE3-7AE9-40B7-9558-E76E9A8B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95FB-0B43-4983-9F7B-9097023B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4750-0743-4CAB-B229-EECB26A1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881-9E37-4C5B-B7CA-CCF8563D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3E6D-85C3-4689-B7E3-46FDE083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BA66-10DA-4ED6-A621-4E6FF8A3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52FC-B15E-4552-8B2B-B690AE58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177A-532E-4159-9C24-E8CF7854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E069-60C7-4E25-BA77-36F7A3C4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F33-CC78-4F20-9F22-5B11351F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07B-0E33-4E3A-ABD2-748C4194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B88-4E05-4F67-A1A1-10CD7389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457-B3A0-4A3C-A042-2FD500C3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063-D1E9-4007-8AFE-AFEF3E40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87E1-EED8-461F-96AB-4FC2276B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45E9-8CBA-4485-88B8-041E384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F299-4F1F-42BD-A823-A65F46961B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F8B6-58B7-4651-95E5-F3D4127424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765840" cy="42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Технология подготовк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и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проведения </a:t>
            </a:r>
            <a:br>
              <a:rPr sz="6000"/>
            </a:br>
            <a:r>
              <a:rPr b="1" lang="ru-RU" sz="6000" spc="-1" strike="noStrike">
                <a:solidFill>
                  <a:srgbClr val="15331e"/>
                </a:solidFill>
                <a:latin typeface="Arial Unicode MS"/>
              </a:rPr>
              <a:t>классного часа</a:t>
            </a:r>
            <a:endParaRPr b="0" lang="en-US" sz="6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цели, содержания, формы, даты и места проведения классного часа, формирование сообщества его организато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ая и групповая деятельность по подготовк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совместно с другими организаторами сценарного плана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классного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и оценка результативности классного часа и деятельности по его подготовке и провед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548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лассный час может проводиться  в форм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ого собр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а общ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тельного часа (час классного руководителя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курсии или тематической ле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ой иг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спределяется и планируется классным руководителем и обучающими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 экстренное классное собрание или замена одной формы проведения классного часа другой по тем или иным прич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Организационные рекомендации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бора темы и содержания классного часа классному руководителю необходимо учитывать возрастные особенности обучающихся, помнить об их нравственных представлениях, интересах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классных часов следует строить так, чтобы постепенно переходить от «предметной» информации к ее оценке, от общих оценок к развернутым су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психологические особенности восприятия материала обучающимися, следить за вниманием и при его снижении использовать интересные по содержанию факты или поставить «острый» вопрос, использовать музыкальную паузу, сменить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обсуждения поставленных вопросов классный руководитель должен быть очень внимателен к выступлениям обучающихся, вносить нужные коррективы, ставить дополнительные наводящие вопросы, акцентировать внимание на важных моментах, размышлять вместе с детьми и помочь им найти правильное решение нравственной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оветы по организации классного час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 или лучше его назвать «час общения» играет большую роль в жизни обучающихся, если он задуман интересно и удачно провед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сть, для каждого часа день и время опреде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 рекомендуется классный час проводить в субботу, лучше в первой половине нед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ребования к классному часу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ный руководитель должен иметь план проведения классного ча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ка классного часа, да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воспитатель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провед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ительное слово учите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ы по классному час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ось ли реализовать воспитательные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113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19,-63,-6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83628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ассный час есть форма прямого общения воспитателя со своими воспитанниками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. П. Саз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Формы классных часов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диспуты, обсуждения, беседы, лекции, конференции, устный жур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релищно-разговор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кскур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зднич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 знаменательным датам. Можно соединять параллели, вечера, дискотеки (объединенные классные ча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гров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ые ча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посещения, цепь посещения, тема классного часа, форма проведения .   классного часа и цель поставленная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ешались воспитательные задачи в ходе классного ч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рганизация работы с учащимися - индивидуальная, групповая или фронтальная раб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активность и инициативность ребя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распределение поручений при подготовке к классному час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взаимоотношения учитель - ученики (тон, манера обращ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 дисципл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) внешность учащихся, пом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) продолжительность классного часа (от 30 до 45 мин., экскурсия - 1 час 20 мин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) направленность классного часа (каждое мероприятие - должно соответствовать задачам школы на данный пери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) связь с жизнью, нагляд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Схема анализа классного часа.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413000"/>
            <a:ext cx="7386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 классного часа. Что да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качества пр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вижение новых задач для дальнейшей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нравственных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 и предложения заместителя директора по воспитательной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 можно назвать специально организованной ценностно-ориентационной деятельностью, способствующей формированию у школьников системы отношений к окружающему мир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Е. Щурков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.С. Финдани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Классный час. В нашем понимании это не какая-то определенная форма работы, а час классного руководител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. И. Мал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Классный час -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гибкая по своему составу и структуре форма воспитательного взаимо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форма общения классного руководителя и его воспитанников, приоритетную роль в организации которой играет педаг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условий становления и проявления субъектности и индивидуальности обучающегося, его творческих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гащение сознания обучающихся знаниями о природе, обществе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эмоционально-чувствительной сферы и ценностных отношений личности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605a"/>
                </a:solidFill>
                <a:latin typeface="Arial"/>
              </a:rPr>
              <a:t>Педагогические задачи, решаемые благодаря классному часу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воение детьми знаний, умений и навыков познавательной и практико-созид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классного коллектива как благоприятной среды для развития и жизнедеятельности шк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605a"/>
                </a:solidFill>
                <a:latin typeface="Arial"/>
              </a:rPr>
              <a:t>Технологические аспекты  организации классного часа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педагогом совместно с обучающимися и их родителями тематики классных часов на новый учебный 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ение темы классного часа и генерирование идей по его подготовке и провед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07:46:15Z</dcterms:created>
  <dc:creator>xxx</dc:creator>
  <dc:description/>
  <dc:language>en-US</dc:language>
  <cp:lastModifiedBy>LEGION</cp:lastModifiedBy>
  <dcterms:modified xsi:type="dcterms:W3CDTF">2015-01-27T12:13:20Z</dcterms:modified>
  <cp:revision>10</cp:revision>
  <dc:subject/>
  <dc:title>Технология подготовки  и  проведения  классного часа</dc:title>
</cp:coreProperties>
</file>