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0EA1-BAAE-477A-AF96-D127164D1F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F307-A042-463C-A6D2-AADEE65526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1F47-EDF7-42F8-9879-45A421BB4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CFFD-A10E-4F9E-AF2F-1376E81E8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ольшой, тонкий кру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мечательно, когда помогает смекалка! Теперь можно посмотреть и фокусы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7A39-833A-4A18-8B8B-9CD031EFEC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1330-0BF9-4158-A7F8-2489D9D1D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F649-546E-4D6B-BA48-8EF8E3FA5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«Развивалки" на 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. Чаще считайте вместе с малышом все, чем вы пользуетесь в обыденной жизни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  - дети любят счит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2. Измеряйте разные вещи – дома или на улиц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оими ладошками или ступнями.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мните мультик про 38 попугаев – отличный повод пересмотреть его и проверить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кой рост у мамы или папы, сколько ладошек «поместится» в любимом ди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подобрать крышку к каждому контейнеру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2502-F09C-4D7D-938A-2B599E5504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разложить их в контейнеры в соответствии с номером на крыш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Сделайте карточки с цифрами из картона и наждачной бумаги или бархата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Теперь вытащите одну из карточек из коробки наугад и  предложите ребенк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нести столько предметов, сколько изображено на его карточке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Охота на геометрические фигуры. Предложите малышу поиграть в охоту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усть он попробует найти что-нибудь похожее на круг и показать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DA9A-5043-4C29-AF0D-38773D641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де воды больш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 Используйте мерные чашки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 покажите, что для блинов нужно взять вот столько муки и вот столько сахар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3307-0621-4C3C-8CFE-C7BA578CE5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ЛБД  -       логические блоки З. Дьене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азвитие логического мышления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532F-3193-4874-B48A-FB28B791B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F9BC-AE00-4779-9D00-39DD62FE1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7119-BB53-49FE-889E-91EC1252B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D5E1-8B72-411D-8C6C-C4FBB69F2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0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84807"/>
                </a:solidFill>
                <a:latin typeface="Calibri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5028-54BD-4D00-B13F-83614F912B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DB6C-30CA-4F15-8B1B-1202684BF5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E6CF-2135-41CE-8B08-294DE482C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A4B4-EB0C-46D4-85EE-260AA3654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846-29FA-495B-92BB-BEAD6ACD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D2D-7DBF-4457-B7BC-99C3C244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5B108-CCEB-4CCF-A7B7-82CF52F6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9A4EB-4D2A-4BD0-872A-4C971E91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D5973-456F-4B25-A316-F5EA85DF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D5202-4286-44F9-913A-9DBAE49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7DC14-E72D-44C2-B170-FB85C8F5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D8786-6E5A-4378-A502-7EFFD92E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B9E6C-8EAB-45B9-919B-A8D9F4B3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B9813-57D9-4FF2-8FA8-95C49078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BC864-41B2-4E47-BE7F-4482C19C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107-E74B-4920-8595-1CBCB0B2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BB5-72A7-47CC-BE58-FCCEA687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BF29-4B5B-4D82-925F-C685BF11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19FD-393F-4142-9F02-2C2058B0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F0C3-5A5F-4F5E-AA82-F4625F76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F7A6-0F67-4F2B-9A3A-718F1E3D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44BD-CBE9-4BAC-8B1E-39448B53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76AB-72E7-4ADF-BEA6-6515626D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E097-8097-4B66-B9CB-DB05645B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90D-A509-4F6D-8C6A-75C6B2C1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C0CA-8D4B-433E-A58F-042C25E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4B89-4910-4907-9F6E-FA5A226C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A235-98A4-4898-BD55-A996E93B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931E-2EC3-4343-894E-302D5113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9B0E-C4C7-4535-99ED-EE5DB68A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7CCF-66B5-4AA5-9664-31134B8F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8E2E-3F1B-4CBD-A288-08363154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1A25C-A1B3-4967-9D42-6E978B4B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C5402-BF2D-4D86-A638-FEC6D516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DF07D-7837-4DEF-87D7-39941E9E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BD7-0F59-4CAA-B277-1F1EB477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46D4-2DED-4960-AB8F-F0899C01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F0982-0EA7-489A-B5B6-D4097864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CAC74-398C-4125-BAD2-F970A943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5BE6-D8D2-4C56-A2CC-AFCEC2E1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7F9D-ECE6-4A60-B426-E5699923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4963-4AE0-4512-9140-ECF7DF43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B5E09-E4C9-4186-86D5-B3DE1642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A605F-F3EF-42B9-A7B2-24470E19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FF38-993D-492A-B4C1-AD03BBFC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6A6EC-B4E2-46B3-8951-159CF3E5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487-442C-4DF4-AC20-00E24E62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F17D3-2DA6-43C3-80DF-65AD6724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CA661-ADAB-4C21-9CD4-05989B2F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C1FFD-1877-43AF-8964-398B2C7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DF065-8326-49F9-A684-CDF09541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46AB8-3A15-4470-9921-7D996C7A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A97CF-5C18-498A-AAAA-1A9776E8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379F-3075-4320-B8A5-76FD8F09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CEFD-8311-4318-888C-3B9B1E12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C9F71-BB29-46E9-85C1-ABDF7B79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B5FF7-DD8C-43B3-9FCB-3FC35834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48C-F5E5-4BF7-8DD3-4887796A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E3A38-7411-46C3-8765-16C68152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E8341-EE7D-4C8D-B8B8-6905243A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46E73-5C5E-48C9-803B-3C1EA36E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D6526-A411-4270-BB94-8A0943C2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CA497-1E81-41F3-B8BE-9FFFD9CF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7BAB8-D47C-4071-B274-5D486847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A8895-775A-4972-923F-25859AE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9135E-F673-40B4-ACCF-E3494B53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C211B-0493-45DE-A243-E8A7E1EF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795AD-6CC2-4742-BA1D-BC34F552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247-E3FB-4C79-86CB-A9AEFEB3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EDBA3-8493-40F6-B9D2-EDFEDB21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550E4-FB78-4726-BCA0-9C4F77D4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769FE-3950-467F-8FC1-E9B75C12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3A5BB-BD4C-470E-8768-27C5AEC5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EDA16-FBFB-44DD-997D-9F47E42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2EC46-1018-4C0F-ABB5-DD75C614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08A08-975E-4277-82AC-63E7B977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B8FFC-C677-4208-8940-E589F02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6F902-A982-4FF1-A86A-4F81AC13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129F9-23FB-4980-A786-97C7CCC8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7B5D-610C-47E2-99A2-CE374773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BCD18-EE40-4FA1-9E73-F9B26EA0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C20E6-F891-4751-9327-10C1716B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4C45D-9441-4151-8CDC-B9F340B8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D97C0-CC36-473E-9DC2-0F0BE421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05348-98A9-4D77-8F37-5EFF5E6C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95128-E1D9-4349-98D4-186A50B3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EC6D2-9629-48B4-A373-469036EA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2AE5D-14AA-4030-B424-C18FC33B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A73F5-5DCC-416B-87FC-B33518C5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52865-F969-48CE-B53D-7BBA8E50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38D-0F98-482F-8910-A028C54B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DC3E4-AB46-4C86-9FF0-BCACFC33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E4ED7-19DE-4E72-8218-52AE20EC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4A6E1-7371-47FB-8D36-E8BFB0A5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03EAF-F042-45EB-AEDD-CE94FAAE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B1C67-E806-4837-9931-88109BDD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4F348-7A1A-4EFA-B2DE-90925994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88651-620D-418C-9032-ADF517F5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AFE5B-F72C-4334-A799-3CB922DD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3B823-8E44-4687-ADA6-AA287C3C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4EBB6-CEF7-4E12-87C8-606E382A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D5D-0063-4A82-B00C-B3D7911E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0BBAC-B9EB-40B1-98F6-1199ED5E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ACA58-44F7-4227-9726-12B3785B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DA5A2-F98E-446E-8D5C-94CDCF1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03687-175D-4BA8-9B09-E492465B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2A449-DAAB-4C45-BA7B-A79B620A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B18AF-353E-4A85-9ABE-E6294E41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A5534-30B9-4EAF-A29E-4D6CE979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F99B6-4F96-495B-8430-82409484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86604-0955-45B9-BA5E-BC822B8B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E7CE2-A734-4C52-A087-F56477C3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64A9-D071-4FC2-ADE4-6CFC39739C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B370-475E-43AE-8A45-2376DB93EF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97A8-ED72-45F0-8170-6DD45C1D89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AECD-2379-40F9-947F-E23E2D3E14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4832-54E0-4BD5-B626-E3E256D82F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EFFD-3141-4B8F-9DDA-90E1B25621E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E7FF-ABFA-4AFD-81F2-33C98CF866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6F88-01EA-4DB1-81A5-8F75F5DA54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33AC-1321-442F-B6B8-9986117A88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431200" cy="6327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520" y="714240"/>
            <a:ext cx="8334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Рисунок 5" descr="1208207092_index_2.jpg"/>
          <p:cNvPicPr/>
          <p:nvPr/>
        </p:nvPicPr>
        <p:blipFill>
          <a:blip r:embed="rId2"/>
          <a:stretch/>
        </p:blipFill>
        <p:spPr>
          <a:xfrm>
            <a:off x="5486400" y="2992320"/>
            <a:ext cx="3029040" cy="396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9680" y="578592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Documents and Settings\86091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428760" y="3214800"/>
            <a:ext cx="3857400" cy="2131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Documents and Settings\86091\Мои документы\Мои рисунки\LogicheskieIgry120120.gif"/>
          <p:cNvPicPr/>
          <p:nvPr/>
        </p:nvPicPr>
        <p:blipFill>
          <a:blip r:embed="rId4"/>
          <a:stretch/>
        </p:blipFill>
        <p:spPr>
          <a:xfrm>
            <a:off x="3643200" y="30718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86091\Мои документы\Мои рисунки\IP75PCAFTYWARCA0SC40VCA3E1SDMCA3ZZNH2CAPPSKNBCAZI7ZAPCAB614J9CAMZ0BUJCA8U6ZHSCA01L1CFCA016QDQCAPAVJJWCAPJ2W6BCAQ9HCXICAG22YOMCAQNLWDECALJAHB1CAF8LVI5CAD35FJO.jpg"/>
          <p:cNvPicPr/>
          <p:nvPr/>
        </p:nvPicPr>
        <p:blipFill>
          <a:blip r:embed="rId5"/>
          <a:stretch/>
        </p:blipFill>
        <p:spPr>
          <a:xfrm>
            <a:off x="2428920" y="428616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481320" y="6480"/>
            <a:ext cx="677952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ДБЕРИ ПО ЦВЕТУ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ей двух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четырех лет хорошо учить классиф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Цвет, форма, величина, толщи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2" descr="http://www.u-mama.ru/img/news/00001_1057.jpg"/>
          <p:cNvPicPr/>
          <p:nvPr/>
        </p:nvPicPr>
        <p:blipFill>
          <a:blip r:embed="rId1"/>
          <a:stretch/>
        </p:blipFill>
        <p:spPr>
          <a:xfrm>
            <a:off x="642960" y="2143080"/>
            <a:ext cx="7929720" cy="2214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496440" y="30600"/>
            <a:ext cx="75492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394560" y="3960"/>
            <a:ext cx="71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ОРОД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и прибыли в гости к Микки </a:t>
            </a:r>
            <a:r>
              <a:rPr b="0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Маусу! Посмотрите, какой это город фигу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2" descr="http://www.u-mama.ru/img/news/00001_1056.jpg"/>
          <p:cNvPicPr/>
          <p:nvPr/>
        </p:nvPicPr>
        <p:blipFill>
          <a:blip r:embed="rId1"/>
          <a:stretch/>
        </p:blipFill>
        <p:spPr>
          <a:xfrm>
            <a:off x="357120" y="1571760"/>
            <a:ext cx="8429760" cy="27860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527400" y="38880"/>
            <a:ext cx="8081280" cy="62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495720" y="3240"/>
            <a:ext cx="6552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АВТОТРАССА (ПОСТРОЙ ДОРОЖКУ)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таблич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равило построения дорожки</a:t>
            </a:r>
            <a:r>
              <a:rPr b="0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" descr="http://www.u-mama.ru/img/news/00001_1058.jpg"/>
          <p:cNvPicPr/>
          <p:nvPr/>
        </p:nvPicPr>
        <p:blipFill>
          <a:blip r:embed="rId1"/>
          <a:stretch/>
        </p:blipFill>
        <p:spPr>
          <a:xfrm>
            <a:off x="6000840" y="1000080"/>
            <a:ext cx="2100240" cy="1714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393120" y="15120"/>
            <a:ext cx="521136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 строит дорожку по правилу: чередует блоки с учетом ц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формы: сначала красный, потом квадратный, зате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ый, и треугольный. Малыш учится выделять свойство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бстрагироваться от других признаков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поддержания интереса детей хорошо предлагать различ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овые и практические задач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мы строили дорожку до коробки с сюрпризо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еребирались по мостику через речку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выкладывали дорожку из льдинок во дворце Снежной Королевы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бы помочь убежать Каю и Герд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42880" y="27720"/>
            <a:ext cx="787068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на этом занятии ребята попали в болото. Строят крепкий мостик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собой блоки должны быть похожи по двум признакам. Например: фигуры обе синие и толст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5" descr="http://www.u-mama.ru/img/news/00001_1059.jpg"/>
          <p:cNvPicPr/>
          <p:nvPr/>
        </p:nvPicPr>
        <p:blipFill>
          <a:blip r:embed="rId2"/>
          <a:stretch/>
        </p:blipFill>
        <p:spPr>
          <a:xfrm>
            <a:off x="642960" y="3714840"/>
            <a:ext cx="7715160" cy="223344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0" y="9720"/>
            <a:ext cx="10380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игры и упражнения с блоками, которые предназнач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рших дошкольник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и помогут раз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у детей умени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бивать множества на классы по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вить умение производить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гические операци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умения с помощью этих операций строить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авильные высказы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дировать и декодировать информацию о свойствах предмет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1000" y="77760"/>
            <a:ext cx="7829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ЗАГАДКИ БЕЗ СЛОВ</a:t>
            </a:r>
            <a:r>
              <a:rPr b="1" lang="ru-RU" sz="11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ы поможем ребенку научиться расшифровывать (декодировать)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 наличии или отсутствии определенных свойств у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 их знаково-символическим обозначен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3" descr="http://www.u-mama.ru/img/news/00001_1060.jpg"/>
          <p:cNvPicPr/>
          <p:nvPr/>
        </p:nvPicPr>
        <p:blipFill>
          <a:blip r:embed="rId1"/>
          <a:stretch/>
        </p:blipFill>
        <p:spPr>
          <a:xfrm>
            <a:off x="1285920" y="3000240"/>
            <a:ext cx="6786360" cy="1814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363960" y="300240"/>
            <a:ext cx="82076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, тонкий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чательно, когда помогает смекалка! Теперь можно посмотреть и фокус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"/>
          <p:cNvSpPr/>
          <p:nvPr/>
        </p:nvSpPr>
        <p:spPr>
          <a:xfrm>
            <a:off x="465480" y="6120"/>
            <a:ext cx="6293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старшей группе мы устроили конкурсную игровую програм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естики - нолик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дно из заданий командам было -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стройка замка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http://www.u-mama.ru/img/news/00001_1061.jpg"/>
          <p:cNvPicPr/>
          <p:nvPr/>
        </p:nvPicPr>
        <p:blipFill>
          <a:blip r:embed="rId1"/>
          <a:stretch/>
        </p:blipFill>
        <p:spPr>
          <a:xfrm>
            <a:off x="928800" y="1357200"/>
            <a:ext cx="7215120" cy="18860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2"/>
          <p:cNvSpPr/>
          <p:nvPr/>
        </p:nvSpPr>
        <p:spPr>
          <a:xfrm>
            <a:off x="0" y="22680"/>
            <a:ext cx="871524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453960" y="2880"/>
            <a:ext cx="7381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ДЕЛИ БЛОК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а научит разбивать множество по двум, трем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оизводить логические операц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2" descr="http://www.u-mama.ru/img/news/00001_1062.jpg"/>
          <p:cNvPicPr/>
          <p:nvPr/>
        </p:nvPicPr>
        <p:blipFill>
          <a:blip r:embed="rId1"/>
          <a:stretch/>
        </p:blipFill>
        <p:spPr>
          <a:xfrm>
            <a:off x="4000680" y="857160"/>
            <a:ext cx="4071600" cy="32860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3120" y="29880"/>
            <a:ext cx="80719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714240" y="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«Развивалки" на 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285840" y="5000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. Чаще считайте вместе с малышом все, чем вы пользуетесь в обыденной жизн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  - дети любят с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57120" y="228600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2. Измеряйте разные вещи – дома или на улиц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ими ладошками или ступнями.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мните мультик про 38 попугаев – отличный повод пересмотреть его и проверить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ост у мамы или папы, сколько ладошек «поместится» в любимом ди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подобрать крышку к каждому контейнеру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214200" y="428760"/>
            <a:ext cx="8715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разложить их в контейнеры в соответствии с номером на крыш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Сделайте карточки с цифрами из картона и наждачной бумаги или бархата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Теперь вытащите одну из карточек из коробки наугад и  предложите ребен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ести столько предметов, сколько изображено на его карточке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Охота на геометрические фигуры. Предложите малышу поиграть в охоту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ь он попробует найти что-нибудь похожее на круг и показать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428760" y="357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 воды больш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Используйте мерные чашки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 покажите, что для блинов нужно взять вот столько муки и вот столько сахар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2"/>
          <p:cNvSpPr/>
          <p:nvPr/>
        </p:nvSpPr>
        <p:spPr>
          <a:xfrm>
            <a:off x="1143000" y="78588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ЛБД  -       логические блоки З. Дьене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91581f"/>
                </a:solidFill>
                <a:latin typeface="Arial"/>
              </a:rPr>
              <a:t>развитие логического мышления</a:t>
            </a: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4" descr="http://www.u-mama.ru/img/news/00001_1051.jpg"/>
          <p:cNvPicPr/>
          <p:nvPr/>
        </p:nvPicPr>
        <p:blipFill>
          <a:blip r:embed="rId1"/>
          <a:stretch/>
        </p:blipFill>
        <p:spPr>
          <a:xfrm>
            <a:off x="1785960" y="1857240"/>
            <a:ext cx="6072120" cy="41436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1"/>
          <p:cNvSpPr/>
          <p:nvPr/>
        </p:nvSpPr>
        <p:spPr>
          <a:xfrm>
            <a:off x="-40147920" y="-428760"/>
            <a:ext cx="182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ие блоки Дьенеша представляют с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из 48 геометрических фигу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четырех форм (круг, треугольник, квадр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геометрическая фиг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ой, цветом, размером, 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боре нет ни одной одинаковой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428760" y="720360"/>
            <a:ext cx="8215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"/>
          <p:cNvSpPr/>
          <p:nvPr/>
        </p:nvSpPr>
        <p:spPr>
          <a:xfrm>
            <a:off x="371880" y="27720"/>
            <a:ext cx="436428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5" descr="http://www.u-mama.ru/img/news/00001_1052.jpg"/>
          <p:cNvPicPr/>
          <p:nvPr/>
        </p:nvPicPr>
        <p:blipFill>
          <a:blip r:embed="rId1"/>
          <a:stretch/>
        </p:blipFill>
        <p:spPr>
          <a:xfrm>
            <a:off x="5072040" y="1214280"/>
            <a:ext cx="342900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 flipV="1" rot="10800000">
            <a:off x="3935520" y="713880"/>
            <a:ext cx="12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–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-949320"/>
            <a:ext cx="86439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280080" y="82440"/>
            <a:ext cx="81932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2286000" y="2828880"/>
            <a:ext cx="4572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Arial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http://www.u-mama.ru/img/news/00001_1053.jpg"/>
          <p:cNvPicPr/>
          <p:nvPr/>
        </p:nvPicPr>
        <p:blipFill>
          <a:blip r:embed="rId1"/>
          <a:stretch/>
        </p:blipFill>
        <p:spPr>
          <a:xfrm>
            <a:off x="3629160" y="2457360"/>
            <a:ext cx="1885680" cy="1943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506880" y="8280"/>
            <a:ext cx="694404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ДОВЫЙ ЗАМОК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ЕТИЙ ЛИШНИЙ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нку выкладываются 3 фигур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Две можно объединить по какому-то свойству, одн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лишня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18400" y="32760"/>
            <a:ext cx="6781320" cy="59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http://www.u-mama.ru/img/news/00001_1054.jpg"/>
          <p:cNvPicPr/>
          <p:nvPr/>
        </p:nvPicPr>
        <p:blipFill>
          <a:blip r:embed="rId1"/>
          <a:stretch/>
        </p:blipFill>
        <p:spPr>
          <a:xfrm>
            <a:off x="5643720" y="2357280"/>
            <a:ext cx="2857320" cy="2105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525240" y="8280"/>
            <a:ext cx="65934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ЙДИ КЛАД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КУДА СПРЯТАЛСЯ ЩЕНОК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лежат 8 блоков, спрятана моне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картин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щ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0" y="-2310120"/>
            <a:ext cx="6523200" cy="84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556920" y="11520"/>
            <a:ext cx="57646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2" descr="http://www.u-mama.ru/img/news/00001_1055.jpg"/>
          <p:cNvPicPr/>
          <p:nvPr/>
        </p:nvPicPr>
        <p:blipFill>
          <a:blip r:embed="rId1"/>
          <a:stretch/>
        </p:blipFill>
        <p:spPr>
          <a:xfrm>
            <a:off x="714240" y="2500200"/>
            <a:ext cx="7643880" cy="27147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46:08Z</dcterms:created>
  <dc:creator>86091</dc:creator>
  <dc:description/>
  <dc:language>en-US</dc:language>
  <cp:lastModifiedBy>LEGION</cp:lastModifiedBy>
  <dcterms:modified xsi:type="dcterms:W3CDTF">2015-01-27T12:14:58Z</dcterms:modified>
  <cp:revision>29</cp:revision>
  <dc:subject/>
  <dc:title>Слайд 1</dc:title>
</cp:coreProperties>
</file>