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11D1-5777-4DA6-A040-303F51E6E0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детки собирали для ежика разноцветные листики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и складывали их в коробочки по цвету.</a:t>
            </a:r>
            <a:r>
              <a:rPr b="1" lang="ru-RU" sz="6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CC90-D393-47C8-BFB1-4BBD0D85DE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район больших и район маленьких домиков. В каждом районе есть улицы разного цвета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мики имеют разную форму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Сережа ищет прямоугольный домик в районе маленьких домиков, на красной улиц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Катюша зашла в гости к кротику. И говорит всем деткам: 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отик живет в квадратном домик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синей улиц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районе маленьких домиков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! Четырехлетки с интересом гуляют по такому городу, выделяю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делом, сразу три свойства фигур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 с трудом дается некоторым первоклашкам в программе 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Школа 2100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!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6322-24DB-4A64-9D89-142FE331DB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9995-D0BB-4D9B-98BE-73DD8BB8B9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утешествии дети попали к домику фокусника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до сначала расколдоват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его, а потом постучаться.Например: первая фигурка должна быть треугольной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ой, маленькой и толстой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 вот вторая – круглая, красная, не толстая и не маленькая. Значит, мы будем искать красный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большой, тонкий круг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мечательно, когда помогает смекалка! Теперь можно посмотреть и фокусы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0289-F670-4329-A9C3-525982A652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манды анализировали чертеж замка, подбирали необходимые кирпичик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ала та команда, у которой замок был построен быстро и правильно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CB1D-9528-4960-9AFB-5E1FF97E1F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лесу переполох! Лиса, волк и медведь никак не могут поделить подарки деда Мороз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ед Мороз сказал взять лисе все маленькие подарки, медведю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се толстые, а волку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кругл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о вот беда, есть подарки и круглые и маленькие одновременно. Их должна взять и лиса и волк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есть подарки и круглые, и маленькие, и толстые! Ими могут играть все звери вмес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и пересекающихся обруча (ленточки, веревочки) помогли нам разобраться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ыясни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где чьи подарки, кто чем может пользоваться на правах совместной собственности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F613-39F7-4387-8681-5A5263766B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4807"/>
                </a:solidFill>
                <a:latin typeface="Calibri"/>
              </a:rPr>
              <a:t>«Развивалки" на х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4807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1. Чаще считайте вместе с малышом все, чем вы пользуетесь в обыденной жизни: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колько стульев стоит возле обеденного стола, сколько пар носок вы положили в стиральную машину, сколько картошек надо почистить, чтобы приготовить ужин. Пересчитывайте ступеньки в подъезде, окна в квартире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,  - дети любят счит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2. Измеряйте разные вещи – дома или на улиц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воими ладошками или ступнями.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Помните мультик про 38 попугаев – отличный повод пересмотреть его и проверить,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акой рост у мамы или папы, сколько ладошек «поместится» в любимом див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оберите несколько пустых коробок из-под обуви или подарков. Лучше всего делать это после дня рождения или Нового Года. Коробки можно купить и специально для этой цели: они не так дорого стоят. Желательно чтобы они укладывались друг в друга как матрешки. Разложите крышки отдельно, а коробки – отдельно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просите подобрать крышку к каждому контейнеру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Чем младше ребенок, тем меньше должно быть коробок. Двухлетний малыш с удовольствием повозится с 4-5 коробками, а вот 10 для него будет слишком м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8C3C-7803-4BA5-A7E8-1A51495D55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4. Купите «липкие» цифры из пенки, наклейте их на пустой контейнер – от 0 до 5.  Соберите разнообразные предметы: одну маленькую машинку или куклу, две больших пуговицы, три бусины, четыре ореха, пять прищепок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просите разложить их в контейнеры в соответствии с номером на крыш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Сделайте карточки с цифрами из картона и наждачной бумаги или бархата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оведите пальчиком малыша по этим цифрам и назовите их. Попросите показать вам 3, 2, 1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Теперь вытащите одну из карточек из коробки наугад и  предложите ребенку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инести столько предметов, сколько изображено на его карточке.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 Особенно интересно получить карточку с нулем, ведь ничто не сравнится с личным открытие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Охота на геометрические фигуры. Предложите малышу поиграть в охоту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усть он попробует найти что-нибудь похожее на круг и показать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вам. А теперь квадрат или прямоугольник. Играть в эту игру можно по дороге в детский с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зложите на столе ложку, вилку и тарелку особым образом. Попросите малыша повторить вашу композицию.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 Когда у него будет хорошо получаться, поставьте какой-нибудь экран между вами и малышом или сядьте спиной друг к другу. Предложите ему разложить свои предметы, а затем объяснить вам, как он это сделал. Вы должны повторить его действия, следуя лишь устным инструкциям. Тоже неплохая игра для того, чтобы занять время ожидания приема в поликли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116C-4237-4BE7-9320-422452520B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8.Когда малыш или малышка купается, выдайте ему набор разнообразных чашек – мерных чашек, пластиковых кувшинчиков, воронок, разноцветных стаканчиков. Пусть переливает воду на здоровье. Поговорите о том,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де воды больше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По Пиаже, это возраст интересных открытий для родителей. Налейте воду в два одинаковых стаканчика и спросите кроху, одинаково ли воды в обоих сосудах? А теперь перелейте воду из одного стаканчика в  высокий и тонкий стакан, а воду из другого стаканчика – в широкий и низкий стакан. Спросите, где больше? Скорее всего, ответ будет любопы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Поиграйте с ребенком в магазин. Купите игрушечные деньги или нарисуйте их сами. Рубли можно брать из экономических игр, вроде «Менеджер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Чаще готовьте еду вместе с малышом. Показывайте, как вы готовите то или иное блюдо, сколько продуктов берете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 Используйте мерные чашки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, покажите, что для блинов нужно взять вот столько муки и вот столько сахар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31C3-DA10-44FC-9807-1E0F8E48D8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ЛБД  -       логические блоки З. Дьене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развитие логического мышления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E8A3-1FC3-459C-ABD1-4A672A9C7D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Логические блоки Дьенеша представляют собой набор из 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48 геометрических фигур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) четырех форм (круг, треугольник, квадрат, прямоугольник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б) четырех цветов (красный, синий, желтый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) двух размеров (большой, маленьк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г) двух видов толщины (толстый, тонки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Каждая геометрическая фигура характеризуется четырьмя признак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формой, цветом, размером,толщи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наборе нет 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ни одной одинаковой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F582-5C66-4B94-9903-B725C93D9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 многих играх с логическим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ами используются карточ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 символами свойст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мство ребенка с символам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важная ступенька в освоении всей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вой культуры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грамоты математически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имволов, программирования и т.д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чках условно обозначен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а блоков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(</a:t>
            </a:r>
            <a:r>
              <a:rPr b="1" lang="ru-RU" sz="900" spc="-1" strike="noStrike">
                <a:solidFill>
                  <a:srgbClr val="ff0000"/>
                </a:solidFill>
                <a:latin typeface="Verdana"/>
                <a:ea typeface="Times New Roman"/>
              </a:rPr>
              <a:t>цвет, форма, размер, толщина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го 11 карточек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+ 11 карточе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отрицанием свойств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 </a:t>
            </a:r>
            <a:r>
              <a:rPr b="1" lang="ru-RU" sz="9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 красный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B7C8-FC96-4163-87C9-B0817F2F83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знакомить с формой, цветом, размером, толщиной объект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ространственные представления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логическое мышление, представление о множестве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и над множествами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(сравнение, разбиение, классификация, абстрагирование, кодиро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декодирование информации)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воить элементарные навыки алгоритмической культуры мышле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умения выявлять свойства в объектах, называть их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общать объекты по их свойствам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ъяснять сходства и различия объектов, обосновывать свои рассуждения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ознавательные процессы, мыслительные операци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спитывать самостоятельность, инициативу, настойчивост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достижении цел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творческие способности, воображение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фантазию, способности к моделированию и конструированию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речь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пешно овладеть основами математики и информатик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9FBC-97CE-4A64-A725-A58F3DB2F9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 игры и игровые упражнения можно разделить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</a:t>
            </a:r>
            <a:r>
              <a:rPr b="1" lang="ru-RU" sz="1000" spc="-1" strike="noStrike">
                <a:solidFill>
                  <a:srgbClr val="ff0000"/>
                </a:solidFill>
                <a:latin typeface="Verdana"/>
                <a:ea typeface="Times New Roman"/>
              </a:rPr>
              <a:t>4 группы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постепенным усложнением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выявлять и абстрагировать свой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сравнивать предметы по их свойствам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действий классификации и обобщения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способности к логическим действиям 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ям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84807"/>
                </a:solidFill>
                <a:latin typeface="Calibri"/>
              </a:rPr>
              <a:t>Все игры и упражнения, за исключением четвёртой группы (логические), не адресуются конкретному возраст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0B3D-3ABD-438D-AE35-F087BEE9DC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а замком может быть что угодно: сюрприз, вход в комнату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рога на прогулку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…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Ребенок должен открыть замок: догадаться, на какую кнопку нажать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объяснить, почему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Тут лишняя красная фигура. Потому что эти обе желтые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жимаем на красную фигурку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6249-CB15-432C-A661-37E12524E7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0000"/>
                </a:solidFill>
                <a:latin typeface="Verdana"/>
                <a:ea typeface="Times New Roman"/>
              </a:rPr>
              <a:t>1 вариан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Кладоискатель отворачивается, ведущий под одним из блоков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ячет клад. Кладоискатель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ищет его, называя раз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личные свойства блоков. Если малыш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ходит клад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то забирает его себе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под одним из блоков прячет новый клад.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Ведущий вначал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сам выполняет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роль кладоискателя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пока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зывает, как вести поиск клада. Называет различны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блоков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, ведущий спрашивает: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Клад под синим блоко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, 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—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отвечает ребенок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желт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асн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больши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угл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ывает тот, кто найдет больше кладов. При повторении игры блоки меняют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увеличивается их количество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BF2C-B0C5-47D9-8F44-78CD66EA66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едущий говори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щенок спрятался под красным, большим кру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Можно карточками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символами написать письм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F2AD-94C2-4DF2-8406-20AF4F8612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72B6-A03A-415B-8198-72A041FB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CD7E-EF58-4D69-8D0B-2FB0BBE0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838CE-8D59-40AB-9368-2BC18A9E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A72D8-8097-4562-99CB-632FC813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D0529-6FC7-4EAB-AB80-9C3E764D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DDFF5-8C27-4673-B489-A445BFB0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5A62F-A501-4366-B455-182B828D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ADC49-3E2D-46B5-9885-0705B81F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20F36-0CCA-4D75-AF1E-8E8786C9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15F6C-9FC1-4735-9F97-7F25F1FA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F0343-57B2-477B-81FD-41DE11BC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B33E-551A-4A46-90C9-A3751579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3681-CED4-4786-B716-483579A7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C661-6299-436B-8BD8-86BD8CE1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B20B-F274-49E3-9291-422E9793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2C5E-55E2-4E2B-8E7B-B3437ED8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F15F-0C7C-48FE-ACFF-B05B1C34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D1E8-BF8D-497B-8FB6-C9615040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42B4-6BAB-4A9F-97B9-846CAE60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5ECA-8441-4536-9F1E-B8CF374C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C179-C75D-4C43-8AC6-7EA569C9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0959-EE1B-4D5C-AE9B-158A9007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F92A-0584-4E22-8C06-EE015FE7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5AA0-2231-4E9C-9624-2097FB35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DAE3-47BA-4083-BE95-C1B14B01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00B5-38A0-4C71-93F1-17AD2940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38EFF-3C8B-4850-8136-A0BBEAF5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EF970-3F5E-40D1-978F-2E3C8217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E4AFF-5AC5-45CC-966A-0677638C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5D921-BD65-4DC4-8E66-3C928E38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C8A2C-C68D-4BF2-AF02-8D9EBB4B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2A17-C697-46A9-80FD-284006F4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B4979-A09B-410D-AE92-338A5484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84E1E-4EB4-40FD-A8CC-FD035987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1B8EC-A95E-4B6F-B115-A31AB128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24770-BFF7-42D3-803E-06CBA0FE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3EBBC-EBF0-4F9A-AB5A-8A28149D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96AB6-9EFB-4D9C-BF8E-AC9FEB34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2CAD6-D023-4EB4-8056-4014E27A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95328-5250-445E-9154-27BE6350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87104-0017-4440-AAC3-861AE15C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7BC29-0D25-40FD-B9AD-803ACB50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6E9B-38D9-40E1-B4AA-79C94E97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1B86B-B45E-4962-8539-93BB8C1B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DE149-EAAD-4A6B-B624-FCD543EA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54B05-35CA-4330-AEAD-8B78432D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F0D65-37BE-46C4-8BCB-DE8EDD6C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956D7-B37B-48D4-85A7-09277EDD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05FBF-4AF5-4795-A6F4-334F75ED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D3B77-A026-4C1D-877E-1A04CF3C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04CAD-4C12-4FE2-BF50-B2D3A4BE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E72DB-D474-43E1-802E-F7D755FA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EAB82-8671-4820-A7F7-CAA11774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6E2-A59A-45FC-9B8A-B3A81AA2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4128B-DFD0-4C7C-8843-637CD949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144C3-97BA-43E3-B425-55DA6713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BF170-F641-4AC7-AB63-F2013161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D153F-3BB8-4980-9166-4EA6DB4D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F0A7A-0DFC-48DF-B57A-E769FE2A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E9E80-04DD-4BF9-B6AE-35DFCC32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93EB0-D696-41EB-AA9D-D537F649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AE69C-993F-4C00-BB2F-1B060B47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E395C-B514-4F3B-9312-9AD132A0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483BF-554A-4F1A-A0B1-7F28A22C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EA99-A23C-4191-90D8-5B479569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4F85F-0894-49E2-BE08-C55CEE3F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B64A9-6421-43FE-B68A-3BA8B157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D2F75-3BE2-45FD-AE94-A2076386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949EB-3307-4C86-B1AF-B2B15465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31E4B-7B19-4738-A5D2-1B674420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32F1B-EFFA-4A49-A8C7-CABA061C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73220-CB7C-4EA5-B7D8-82E455D8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8CF0C-0F12-47DD-8F7E-8A396DD1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4E216-F33F-424B-BF7E-24577072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E9A34-4C84-4F68-8BBC-85C73848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D6C0-1324-400F-A377-3591A702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87DA0-C62C-4804-BB03-AAE31390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7FD71-7C20-4CB3-B325-E745503C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54431-397C-4ED7-BF0D-ADB83676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93060-4981-4610-B908-2898D874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EDA77-3704-4117-8C54-B28D7FBE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5D795-4B06-4D99-91C6-1D97C77F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EA290-8FDE-47A3-98D4-A2AF8A7D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23409-BAA9-4B91-AF5E-72293AF3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A4F04-A00E-4A01-A96B-F3AB1014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7D580-7E81-4761-97CA-D08CF11A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C225-A0C9-48C3-AFA1-030BB034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D5035-8465-49B5-BF4E-DE9457E5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2EE46-3C76-42E3-87BC-E0C3FD96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A042F-4E42-4D60-93E5-5458DBCB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858FC-02AC-4392-A75B-CAFDB9ED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508C6-6DAF-4AA9-B1A1-F3F9F0F0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3985B-C7C4-4023-AFFD-2A2A9FB8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08B60-4827-4259-BBA3-85D2CD92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43A92-4DB5-4BA0-9EB0-4CE4198B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3AB65-326D-4524-BE2E-861E7163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0D3C0-FBAE-44A9-80EA-C2375FF9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DABA-67D7-47CA-A28D-F70D0C3B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C1E39-CAEC-4661-AA15-2956D58B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64726-9522-4B53-9011-D1323CB7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669A1-7764-49D8-8BCE-D8F3FCD2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D46C8-6205-400A-BB3B-77B15DEF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3BD39-A679-4F27-8A5E-462E0D04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2AF3F-8B12-497A-A127-77252691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9C2C7-ADE2-4F8D-A303-073BD812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01A2F-5345-4560-B7D2-BBD153EF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11BDF-8609-4E64-8D44-0A150194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C4338-8FF7-4059-8707-8E70FB52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A500-D2D4-45C5-9741-1D4ED8BA7E0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0089-3339-4021-9EC5-97F660421D6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77D4-E0FD-43A5-B66C-39D25EFE4B2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5572-C885-4863-BB31-9197771C45A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A21D-153E-4915-A0EC-A388323801B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2CFF-A61A-4EE5-8257-9472370633B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CE98-B85A-4E6B-922F-044BC9C6718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F09D-647C-4FA2-ADDF-703797DEB33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0D54-EEF2-4328-ADCD-45C44642151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Прямоугольник 1" descr=""/>
          <p:cNvPicPr/>
          <p:nvPr/>
        </p:nvPicPr>
        <p:blipFill>
          <a:blip r:embed="rId1"/>
          <a:stretch/>
        </p:blipFill>
        <p:spPr>
          <a:xfrm>
            <a:off x="500040" y="225360"/>
            <a:ext cx="8431200" cy="63277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520" y="714240"/>
            <a:ext cx="8334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8" name="Рисунок 5" descr="1208207092_index_2.jpg"/>
          <p:cNvPicPr/>
          <p:nvPr/>
        </p:nvPicPr>
        <p:blipFill>
          <a:blip r:embed="rId2"/>
          <a:stretch/>
        </p:blipFill>
        <p:spPr>
          <a:xfrm>
            <a:off x="5486400" y="2992320"/>
            <a:ext cx="3029040" cy="3969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9680" y="5785920"/>
            <a:ext cx="8286840" cy="107172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2" descr="C:\Documents and Settings\86091\Мои документы\Мои рисунки\logo.gif"/>
          <p:cNvPicPr/>
          <p:nvPr/>
        </p:nvPicPr>
        <p:blipFill>
          <a:blip r:embed="rId3"/>
          <a:stretch/>
        </p:blipFill>
        <p:spPr>
          <a:xfrm>
            <a:off x="428760" y="3214800"/>
            <a:ext cx="3857400" cy="2131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C:\Documents and Settings\86091\Мои документы\Мои рисунки\LogicheskieIgry120120.gif"/>
          <p:cNvPicPr/>
          <p:nvPr/>
        </p:nvPicPr>
        <p:blipFill>
          <a:blip r:embed="rId4"/>
          <a:stretch/>
        </p:blipFill>
        <p:spPr>
          <a:xfrm>
            <a:off x="3643200" y="307188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Documents and Settings\86091\Мои документы\Мои рисунки\IP75PCAFTYWARCA0SC40VCA3E1SDMCA3ZZNH2CAPPSKNBCAZI7ZAPCAB614J9CAMZ0BUJCA8U6ZHSCA01L1CFCA016QDQCAPAVJJWCAPJ2W6BCAQ9HCXICAG22YOMCAQNLWDECALJAHB1CAF8LVI5CAD35FJO.jpg"/>
          <p:cNvPicPr/>
          <p:nvPr/>
        </p:nvPicPr>
        <p:blipFill>
          <a:blip r:embed="rId5"/>
          <a:stretch/>
        </p:blipFill>
        <p:spPr>
          <a:xfrm>
            <a:off x="2428920" y="428616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"/>
          <p:cNvSpPr/>
          <p:nvPr/>
        </p:nvSpPr>
        <p:spPr>
          <a:xfrm>
            <a:off x="481320" y="6480"/>
            <a:ext cx="677952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ДБЕРИ ПО ЦВЕТУ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Малышей двух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четырех лет хорошо учить классифик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(Цвет, форма, величина, толщин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Рисунок 2" descr="http://www.u-mama.ru/img/news/00001_1057.jpg"/>
          <p:cNvPicPr/>
          <p:nvPr/>
        </p:nvPicPr>
        <p:blipFill>
          <a:blip r:embed="rId1"/>
          <a:stretch/>
        </p:blipFill>
        <p:spPr>
          <a:xfrm>
            <a:off x="642960" y="2143080"/>
            <a:ext cx="7929720" cy="221472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2"/>
          <p:cNvSpPr/>
          <p:nvPr/>
        </p:nvSpPr>
        <p:spPr>
          <a:xfrm>
            <a:off x="496440" y="30600"/>
            <a:ext cx="75492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детки собирали для ежика разноцветные лис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 складывали их в коробочки по цвету.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394560" y="3960"/>
            <a:ext cx="71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ГОРОД ГЕОМЕТРИЧЕСКИХ ФИГУР</a:t>
            </a:r>
            <a:r>
              <a:rPr b="1" lang="ru-RU" sz="1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Малыши прибыли в гости к Микки </a:t>
            </a:r>
            <a:r>
              <a:rPr b="0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Маусу! Посмотрите, какой это город фигур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2" descr="http://www.u-mama.ru/img/news/00001_1056.jpg"/>
          <p:cNvPicPr/>
          <p:nvPr/>
        </p:nvPicPr>
        <p:blipFill>
          <a:blip r:embed="rId1"/>
          <a:stretch/>
        </p:blipFill>
        <p:spPr>
          <a:xfrm>
            <a:off x="357120" y="1571760"/>
            <a:ext cx="8429760" cy="278604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2"/>
          <p:cNvSpPr/>
          <p:nvPr/>
        </p:nvSpPr>
        <p:spPr>
          <a:xfrm>
            <a:off x="527400" y="38880"/>
            <a:ext cx="8081280" cy="62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район больших и район маленьких домиков. В каждом районе есть улицы разного цв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мики имеют разную фор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Сережа ищет прямоугольный домик в районе маленьких домиков, на красной ули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Катюша зашла в гости к кротику. И говорит всем деткам: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отик живет в квадратном доми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синей улиц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районе маленьких домиков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! Четырехлетки с интересом гуляют по такому городу, выделя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делом, сразу три свойства фигу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 с трудом дается некоторым первоклашкам в программе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Школа 2100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"/>
          <p:cNvSpPr/>
          <p:nvPr/>
        </p:nvSpPr>
        <p:spPr>
          <a:xfrm>
            <a:off x="495720" y="3240"/>
            <a:ext cx="6552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АВТОТРАССА (ПОСТРОЙ ДОРОЖКУ)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еред ребенком табличк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равило построения дорожки</a:t>
            </a:r>
            <a:r>
              <a:rPr b="0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Рисунок 2" descr="http://www.u-mama.ru/img/news/00001_1058.jpg"/>
          <p:cNvPicPr/>
          <p:nvPr/>
        </p:nvPicPr>
        <p:blipFill>
          <a:blip r:embed="rId1"/>
          <a:stretch/>
        </p:blipFill>
        <p:spPr>
          <a:xfrm>
            <a:off x="6000840" y="1000080"/>
            <a:ext cx="2100240" cy="17146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"/>
          <p:cNvSpPr/>
          <p:nvPr/>
        </p:nvSpPr>
        <p:spPr>
          <a:xfrm>
            <a:off x="393120" y="15120"/>
            <a:ext cx="5211360" cy="29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Он строит дорожку по правилу: чередует блоки с учетом цв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 формы: сначала красный, потом квадратный, затем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ый, и треугольный. Малыш учится выделять свойство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бстрагироваться от других признаков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поддержания интереса детей хорошо предлагать различные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гровые и практические задачи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мы строили дорожку до коробки с сюрпризом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еребирались по мостику через речку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выкладывали дорожку из льдинок во дворце Снежной Королевы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бы помочь убежать Каю и Герд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542880" y="27720"/>
            <a:ext cx="7870680" cy="36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на этом занятии ребята попали в болото. Строят крепкий мостик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собой блоки должны быть похожи по двум признакам. Например: фигуры обе синие и толсты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Рисунок 5" descr="http://www.u-mama.ru/img/news/00001_1059.jpg"/>
          <p:cNvPicPr/>
          <p:nvPr/>
        </p:nvPicPr>
        <p:blipFill>
          <a:blip r:embed="rId2"/>
          <a:stretch/>
        </p:blipFill>
        <p:spPr>
          <a:xfrm>
            <a:off x="642960" y="3714840"/>
            <a:ext cx="7715160" cy="2233440"/>
          </a:xfrm>
          <a:prstGeom prst="rect">
            <a:avLst/>
          </a:prstGeom>
          <a:ln w="0">
            <a:noFill/>
          </a:ln>
        </p:spPr>
      </p:pic>
      <p:sp>
        <p:nvSpPr>
          <p:cNvPr id="453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0" y="9720"/>
            <a:ext cx="10380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игры и упражнения с блоками, которые предназначе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старших дошкольников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ни помогут разв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у детей умения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бивать множества на классы по совместимым свойства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вить умение производить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логические операци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или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умения с помощью этих операций строить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авильные высказыва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кодировать и декодировать информацию о свойствах предметов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1000" y="77760"/>
            <a:ext cx="782964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Verdana"/>
                <a:ea typeface="Times New Roman"/>
              </a:rPr>
              <a:t>ЗАГАДКИ БЕЗ СЛОВ</a:t>
            </a:r>
            <a:r>
              <a:rPr b="1" lang="ru-RU" sz="11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Мы поможем ребенку научиться расшифровывать (декодировать) информац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 наличии или отсутствии определенных свойств у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 их знаково-символическим обозначени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Рисунок 3" descr="http://www.u-mama.ru/img/news/00001_1060.jpg"/>
          <p:cNvPicPr/>
          <p:nvPr/>
        </p:nvPicPr>
        <p:blipFill>
          <a:blip r:embed="rId1"/>
          <a:stretch/>
        </p:blipFill>
        <p:spPr>
          <a:xfrm>
            <a:off x="1285920" y="3000240"/>
            <a:ext cx="6786360" cy="181476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3"/>
          <p:cNvSpPr/>
          <p:nvPr/>
        </p:nvSpPr>
        <p:spPr>
          <a:xfrm>
            <a:off x="363960" y="300240"/>
            <a:ext cx="82076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утешествии дети попали к домику фокусн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до сначала расколдо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его, а потом постучаться.Например: первая фигурка должна быть треуголь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ой, маленькой и толст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от вторая – круглая, красная, не толстая и не маленькая. Значит, мы будем искать крас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ой, тонкий кр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мечательно, когда помогает смекалка! Теперь можно посмотреть и фокус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"/>
          <p:cNvSpPr/>
          <p:nvPr/>
        </p:nvSpPr>
        <p:spPr>
          <a:xfrm>
            <a:off x="465480" y="6120"/>
            <a:ext cx="62935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старшей группе мы устроили конкурсную игровую програм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естики - нолик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дно из заданий командам было -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стройка замка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Рисунок 2" descr="http://www.u-mama.ru/img/news/00001_1061.jpg"/>
          <p:cNvPicPr/>
          <p:nvPr/>
        </p:nvPicPr>
        <p:blipFill>
          <a:blip r:embed="rId1"/>
          <a:stretch/>
        </p:blipFill>
        <p:spPr>
          <a:xfrm>
            <a:off x="928800" y="1357200"/>
            <a:ext cx="7215120" cy="188604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2"/>
          <p:cNvSpPr/>
          <p:nvPr/>
        </p:nvSpPr>
        <p:spPr>
          <a:xfrm>
            <a:off x="0" y="22680"/>
            <a:ext cx="871524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манды анализировали чертеж замка, подбирали необходимые кирпич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ала та команда, у которой замок был построен быстро и правильн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"/>
          <p:cNvSpPr/>
          <p:nvPr/>
        </p:nvSpPr>
        <p:spPr>
          <a:xfrm>
            <a:off x="453960" y="2880"/>
            <a:ext cx="7381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ДЕЛИ БЛОКИ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гра научит разбивать множество по двум, трем совместимым свойства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оизводить логические операци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е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Рисунок 2" descr="http://www.u-mama.ru/img/news/00001_1062.jpg"/>
          <p:cNvPicPr/>
          <p:nvPr/>
        </p:nvPicPr>
        <p:blipFill>
          <a:blip r:embed="rId1"/>
          <a:stretch/>
        </p:blipFill>
        <p:spPr>
          <a:xfrm>
            <a:off x="4000680" y="857160"/>
            <a:ext cx="4071600" cy="32860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2"/>
          <p:cNvSpPr/>
          <p:nvPr/>
        </p:nvSpPr>
        <p:spPr>
          <a:xfrm>
            <a:off x="573120" y="29880"/>
            <a:ext cx="8071920" cy="53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лесу переполох! Лиса, волк и медведь никак не могут поделить подарки деда Мороз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Дед Мороз сказал взять лисе все маленькие подарки, медведю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се толстые, а волку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кругл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Но вот беда, есть подарки и круглые и маленькие одновременно. Их должна взять и лиса и вол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есть подарки и круглые, и маленькие, и толстые! Ими могут играть все звери в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и пересекающихся обруча (ленточки, веревочки) помогли нам разобраться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ыяснит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где чьи подарки, кто чем может пользоваться на правах совместной собственност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рямоугольник 1"/>
          <p:cNvSpPr/>
          <p:nvPr/>
        </p:nvSpPr>
        <p:spPr>
          <a:xfrm>
            <a:off x="714240" y="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Arial"/>
              </a:rPr>
              <a:t>«Развивалки" на х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2"/>
          <p:cNvSpPr/>
          <p:nvPr/>
        </p:nvSpPr>
        <p:spPr>
          <a:xfrm>
            <a:off x="285840" y="500040"/>
            <a:ext cx="84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1. Чаще считайте вместе с малышом все, чем вы пользуетесь в обыденной жизни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олько стульев стоит возле обеденного стола, сколько пар носок вы положили в стиральную машину, сколько картошек надо почистить, чтобы приготовить ужин. Пересчитывайте ступеньки в подъезде, окна в квартире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,  - дети любят счит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3"/>
          <p:cNvSpPr/>
          <p:nvPr/>
        </p:nvSpPr>
        <p:spPr>
          <a:xfrm>
            <a:off x="357120" y="2286000"/>
            <a:ext cx="8215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2. Измеряйте разные вещи – дома или на улиц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ими ладошками или ступнями.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Помните мультик про 38 попугаев – отличный повод пересмотреть его и проверить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ой рост у мамы или папы, сколько ладошек «поместится» в любимом див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оберите несколько пустых коробок из-под обуви или подарков. Лучше всего делать это после дня рождения или Нового Года. Коробки можно купить и специально для этой цели: они не так дорого стоят. Желательно чтобы они укладывались друг в друга как матрешки. Разложите крышки отдельно, а коробки – отдельно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просите подобрать крышку к каждому контейнеру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Чем младше ребенок, тем меньше должно быть коробок. Двухлетний малыш с удовольствием повозится с 4-5 коробками, а вот 10 для него будет слишком м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Місце для нижнього колонтитула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Прямоугольник 1"/>
          <p:cNvSpPr/>
          <p:nvPr/>
        </p:nvSpPr>
        <p:spPr>
          <a:xfrm>
            <a:off x="214200" y="428760"/>
            <a:ext cx="8715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4. Купите «липкие» цифры из пенки, наклейте их на пустой контейнер – от 0 до 5.  Соберите разнообразные предметы: одну маленькую машинку или куклу, две больших пуговицы, три бусины, четыре ореха, пять прищепок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просите разложить их в контейнеры в соответствии с номером на крыш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Сделайте карточки с цифрами из картона и наждачной бумаги или бархата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ведите пальчиком малыша по этим цифрам и назовите их. Попросите показать вам 3, 2, 1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Теперь вытащите одну из карточек из коробки наугад и  предложите ребенк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ести столько предметов, сколько изображено на его карточке.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 Особенно интересно получить карточку с нулем, ведь ничто не сравнится с личным открытие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Охота на геометрические фигуры. Предложите малышу поиграть в охоту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ь он попробует найти что-нибудь похожее на круг и показать </a:t>
            </a: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вам. А теперь квадрат или прямоугольник. Играть в эту игру можно по дороге в детский с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ложите на столе ложку, вилку и тарелку особым образом. Попросите малыша повторить вашу композицию.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 Когда у него будет хорошо получаться, поставьте какой-нибудь экран между вами и малышом или сядьте спиной друг к другу. Предложите ему разложить свои предметы, а затем объяснить вам, как он это сделал. Вы должны повторить его действия, следуя лишь устным инструкциям. Тоже неплохая игра для того, чтобы занять время ожидания приема в поликли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Прямоугольник 1"/>
          <p:cNvSpPr/>
          <p:nvPr/>
        </p:nvSpPr>
        <p:spPr>
          <a:xfrm>
            <a:off x="428760" y="357120"/>
            <a:ext cx="8501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8.Когда малыш или малышка купается, выдайте ему набор разнообразных чашек – мерных чашек, пластиковых кувшинчиков, воронок, разноцветных стаканчиков. Пусть переливает воду на здоровье. Поговорите о т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де воды больше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По Пиаже, это возраст интересных открытий для родителей. Налейте воду в два одинаковых стаканчика и спросите кроху, одинаково ли воды в обоих сосудах? А теперь перелейте воду из одного стаканчика в  высокий и тонкий стакан, а воду из другого стаканчика – в широкий и низкий стакан. Спросите, где больше? Скорее всего, ответ будет любопы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Поиграйте с ребенком в магазин. Купите игрушечные деньги или нарисуйте их сами. Рубли можно брать из экономических игр, вроде «Менеджер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Чаще готовьте еду вместе с малышом. Показывайте, как вы готовите то или иное блюдо, сколько продуктов берет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Используйте мерные чашки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, покажите, что для блинов нужно взять вот столько муки и вот столько сахара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2"/>
          <p:cNvSpPr/>
          <p:nvPr/>
        </p:nvSpPr>
        <p:spPr>
          <a:xfrm>
            <a:off x="1143000" y="785880"/>
            <a:ext cx="742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ЛБД  -       логические блоки З. Дьене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91581f"/>
                </a:solidFill>
                <a:latin typeface="Arial"/>
              </a:rPr>
              <a:t>развитие логического мышления</a:t>
            </a: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Рисунок 4" descr="http://www.u-mama.ru/img/news/00001_1051.jpg"/>
          <p:cNvPicPr/>
          <p:nvPr/>
        </p:nvPicPr>
        <p:blipFill>
          <a:blip r:embed="rId1"/>
          <a:stretch/>
        </p:blipFill>
        <p:spPr>
          <a:xfrm>
            <a:off x="1785960" y="1857240"/>
            <a:ext cx="6072120" cy="414360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11"/>
          <p:cNvSpPr/>
          <p:nvPr/>
        </p:nvSpPr>
        <p:spPr>
          <a:xfrm>
            <a:off x="-40147920" y="-428760"/>
            <a:ext cx="1828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ческие блоки Дьенеша представляют соб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ор из 48 геометрических фигу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четырех форм (круг, треугольник, квадра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угольник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четырех цветов (красный, синий, желты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двух размеров (большой, маленьк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двух видов толщины (толстый, тонки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ая геометрическая фиг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изуется четырьмя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ой, цветом, размером, толщи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боре нет ни одной одинаковой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428760" y="720360"/>
            <a:ext cx="821520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Логические блоки Дьенеша представляют собой набор из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48 геометрических фигур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а) четырех форм (круг, треугольник, квадрат, прямоугольник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б) четырех цветов (красный, синий, желты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) двух размеров (большой, маленьк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г) двух видов толщины (толстый, тонки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Каждая геометрическая фигура характеризуется четырьмя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формой, цветом, размером,толщи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наборе нет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ни одной одинаковой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4"/>
          <p:cNvSpPr/>
          <p:nvPr/>
        </p:nvSpPr>
        <p:spPr>
          <a:xfrm>
            <a:off x="371880" y="27720"/>
            <a:ext cx="4364280" cy="52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 многих играх с логически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ами используются карточ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 символами свой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мство ребенка с симво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важная ступенька в освоении вс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вой культур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грамоты математичес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имволов, программирования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чках условно обозначе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а бло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цвет, форма, размер, толщина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го 11 карточ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+ 11 карточ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отрицанием свойст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 красный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Рисунок 5" descr="http://www.u-mama.ru/img/news/00001_1052.jpg"/>
          <p:cNvPicPr/>
          <p:nvPr/>
        </p:nvPicPr>
        <p:blipFill>
          <a:blip r:embed="rId1"/>
          <a:stretch/>
        </p:blipFill>
        <p:spPr>
          <a:xfrm>
            <a:off x="5072040" y="1214280"/>
            <a:ext cx="3429000" cy="514368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1"/>
          <p:cNvSpPr/>
          <p:nvPr/>
        </p:nvSpPr>
        <p:spPr>
          <a:xfrm flipV="1" rot="10800000">
            <a:off x="3935520" y="713880"/>
            <a:ext cx="127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 – 1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0" y="-949320"/>
            <a:ext cx="8643960" cy="73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знакомить с формой, цветом, размером, толщиной объек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ространственные представ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логическое мышление, представление о множеств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и над множеств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(сравнение, разбиение, классификация, абстрагирование, код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декодирование информации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воить элементарные навыки алгоритмической культуры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умения выявлять свойства в объектах, называть и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общать объекты по их свойств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ъяснять сходства и различия объектов, обосновывать свои рассужд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ознавательные процессы, мыслительные опер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спитывать самостоятельность, инициативу, настойчив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достижении ц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творческие способности, воображ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фантазию, способности к моделированию и конструирова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реч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пешно овладеть основами математики и информа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"/>
          <p:cNvSpPr/>
          <p:nvPr/>
        </p:nvSpPr>
        <p:spPr>
          <a:xfrm>
            <a:off x="280080" y="82440"/>
            <a:ext cx="819324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 игры и игровые упражнения можно раздел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4 груп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постепенным усложнени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выявлять и абстрагировать свой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сравнивать предметы по их свойств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действий классификации и обобщ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способности к логическим действиям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ям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2"/>
          <p:cNvSpPr/>
          <p:nvPr/>
        </p:nvSpPr>
        <p:spPr>
          <a:xfrm>
            <a:off x="2286000" y="2828880"/>
            <a:ext cx="45720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Arial"/>
              </a:rPr>
              <a:t>Все игры и упражнения, за исключением четвёртой группы (логические), не адресуются конкретному возра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1" descr="http://www.u-mama.ru/img/news/00001_1053.jpg"/>
          <p:cNvPicPr/>
          <p:nvPr/>
        </p:nvPicPr>
        <p:blipFill>
          <a:blip r:embed="rId1"/>
          <a:stretch/>
        </p:blipFill>
        <p:spPr>
          <a:xfrm>
            <a:off x="3629160" y="2457360"/>
            <a:ext cx="1885680" cy="19432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"/>
          <p:cNvSpPr/>
          <p:nvPr/>
        </p:nvSpPr>
        <p:spPr>
          <a:xfrm>
            <a:off x="506880" y="8280"/>
            <a:ext cx="6944040" cy="17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ДОВЫЙ ЗАМОК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ил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ЕТИЙ ЛИШНИЙ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нку выкладываются 3 фигур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Две можно объединить по какому-то свойству, одн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лишня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518400" y="32760"/>
            <a:ext cx="6781320" cy="59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а замком может быть что угодно: сюрприз, вход в комнат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рога на прогулку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…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Ребенок должен открыть замок: догадаться, на какую кнопку наж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объяснить, поче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ут лишняя красная фигура. Потому что эти обе желт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жимаем на красную фигурку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1" descr="http://www.u-mama.ru/img/news/00001_1054.jpg"/>
          <p:cNvPicPr/>
          <p:nvPr/>
        </p:nvPicPr>
        <p:blipFill>
          <a:blip r:embed="rId1"/>
          <a:stretch/>
        </p:blipFill>
        <p:spPr>
          <a:xfrm>
            <a:off x="5643720" y="2357280"/>
            <a:ext cx="2857320" cy="21052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"/>
          <p:cNvSpPr/>
          <p:nvPr/>
        </p:nvSpPr>
        <p:spPr>
          <a:xfrm>
            <a:off x="525240" y="8280"/>
            <a:ext cx="659340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ЙДИ КЛАД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 или 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КУДА СПРЯТАЛСЯ ЩЕНОК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еред ребенком лежат 8 блоков, спрятана моне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 картинк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ще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0" y="-2310120"/>
            <a:ext cx="6523200" cy="84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Verdana"/>
                <a:ea typeface="Times New Roman"/>
              </a:rPr>
              <a:t>1 вариан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Кладоискатель отворачивается, ведущий под одним из блоко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ячет клад. Кладоиска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щет его, называя раз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личные свойства блоков. Если малы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ходит клад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то забирает его себе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под одним из блоков прячет новый клад.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Ведущий вначал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сам выполняе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роль кладоискател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пока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зывает, как вести поиск клада. Называет различ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блок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, ведущий спрашивает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Клад под синим блоко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, 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—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отвечает ребенок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желт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асн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больши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угл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ывает тот, кто найдет больше кладов. При повторении игры блоки меняю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увеличивается их количество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556920" y="11520"/>
            <a:ext cx="576468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2 вари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едущий говори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щенок спрятался под красным, большим круг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Можно карточками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символами написать письм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Рисунок 2" descr="http://www.u-mama.ru/img/news/00001_1055.jpg"/>
          <p:cNvPicPr/>
          <p:nvPr/>
        </p:nvPicPr>
        <p:blipFill>
          <a:blip r:embed="rId1"/>
          <a:stretch/>
        </p:blipFill>
        <p:spPr>
          <a:xfrm>
            <a:off x="714240" y="2500200"/>
            <a:ext cx="7643880" cy="271476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2:46:08Z</dcterms:created>
  <dc:creator>86091</dc:creator>
  <dc:description/>
  <dc:language>en-US</dc:language>
  <cp:lastModifiedBy>LEGION</cp:lastModifiedBy>
  <dcterms:modified xsi:type="dcterms:W3CDTF">2015-01-27T12:14:58Z</dcterms:modified>
  <cp:revision>29</cp:revision>
  <dc:subject/>
  <dc:title>Слайд 1</dc:title>
</cp:coreProperties>
</file>