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634-1D1A-44B6-B6FC-E446576567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6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BD9F-B724-4798-91A5-78FEBE5DF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44F9-ACC5-4E0A-A72A-12A8A00D5C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F137-BE1C-4DAD-9CAE-45D1C3C550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большой, тонкий круг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мечательно, когда помогает смекалка! Теперь можно посмотреть и фокусы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1303-8515-415F-945C-09A1EAE07F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0FE6-53E6-4BCD-B753-1B6F6F3F4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2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1548-3946-4F48-8404-BAED02236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«Развивалки" на 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4807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. Чаще считайте вместе с малышом все, чем вы пользуетесь в обыденной жизни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  - дети любят счит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2. Измеряйте разные вещи – дома или на улиц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оими ладошками или ступнями.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мните мультик про 38 попугаев – отличный повод пересмотреть его и проверить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акой рост у мамы или папы, сколько ладошек «поместится» в любимом див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подобрать крышку к каждому контейнеру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F4CE-1750-4028-B69A-04B7228C7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просите разложить их в контейнеры в соответствии с номером на крыш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Сделайте карточки с цифрами из картона и наждачной бумаги или бархата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Теперь вытащите одну из карточек из коробки наугад и  предложите ребенку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нести столько предметов, сколько изображено на его карточке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Охота на геометрические фигуры. Предложите малышу поиграть в охоту.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усть он попробует найти что-нибудь похожее на круг и показать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932B-68F1-40C3-A0D6-567F02544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де воды больше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 Используйте мерные чашки</a:t>
            </a:r>
            <a:r>
              <a:rPr b="1" lang="ru-RU" sz="1200" spc="-1" strike="noStrike">
                <a:solidFill>
                  <a:srgbClr val="984807"/>
                </a:solidFill>
                <a:latin typeface="Calibri"/>
              </a:rPr>
              <a:t>, покажите, что для блинов нужно взять вот столько муки и вот столько сахара.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270-3CF6-48E2-BFE1-CF8BE76A5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ЛБД  -       логические блоки З. Дьене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азвитие логического мышления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A946-E4CA-496F-A5E1-BFD341E2B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E1EE-8A0D-4209-8F59-4FD8FC55D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9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ADE0-5E2E-4CC6-940C-A162383CC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00"/>
              </a:spcBef>
              <a:buClr>
                <a:srgbClr val="603b1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8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8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A8FD-64B1-4086-BA0D-2E05ED4A3F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0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254160" algn="just">
              <a:lnSpc>
                <a:spcPct val="80000"/>
              </a:lnSpc>
              <a:spcBef>
                <a:spcPts val="374"/>
              </a:spcBef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0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84807"/>
                </a:solidFill>
                <a:latin typeface="Calibri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B0DA-521D-4D69-AF98-4556EF450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9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9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BE3F-C617-4977-8934-D9F2C6CDF8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5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5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8D72-266A-4D19-B8DB-E179EE90F5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8823-EAE7-45B3-A79D-7C2CA0B3B0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BF8-C85D-423D-8B4B-759BC1C5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99E-EC99-4D0D-B1B3-E65BC3C6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0969D-FEBE-4EC1-8683-7D927836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C832-BD4D-4FC5-93A0-A9839920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D8417-AE7C-4D03-B820-88AE1F9E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D2043-94FC-4BC6-B586-E2354A61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9828B-8D5F-4BC4-BA3B-91244BB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B24C8-06E3-477E-8A37-C868A01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39F9D-9516-4CBC-A645-44DDA887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DD2A9-3057-420D-9F8C-ED46BAC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F4CC-FD92-48B3-9530-C00268E4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7F9-C8AF-47B6-9251-BD553BF3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B92-65F1-41C0-9C0D-5ED1AA4D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0FB2-8F26-4C2D-BBA6-230E35B7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42F1-7DC9-4081-AED9-EAC2EA38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570-ED61-4B1F-98B1-332B2E2A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BD0B-4563-4E64-A72C-8EB2816E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B94B-606A-455D-B929-53BC6B81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8BA2-7DAD-4CA8-9EE8-4EC112A7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3595-D668-46FD-82E5-2DCF9DE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07C-B596-46C6-808A-F8DA4E82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7A6D-55D7-425F-B2FE-BBA065B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3E36-B35C-4D83-9F14-70A35D8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4A20-D4D0-4439-8C82-8026DC67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4781-92A9-449A-84F6-B91C2378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F666-4869-4E8D-B45F-6AA53361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8A8F-7384-497E-8006-6BE82145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C2D2-7DDF-46C1-B9D3-11D5EB8C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19F2-7A21-4FD6-A02F-396CEF0E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5679D-F037-4DAE-8678-0C98A6A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D1C5-23EB-48A1-8F2E-29539629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5B6-1434-426D-9B07-96F0969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9F82F-EA87-44B7-AFF3-97CB21B1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FD9F-1F64-49E1-B48A-7B8890D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B9DB-E519-4695-881F-A480AFC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842C8-DE29-49FF-B987-FB28488B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7C5C-7EB9-4C10-B7C2-2955DEDB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66128-142B-4983-AD12-B5D61D88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F3C2-50C2-4668-986F-BF6F1CF3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CD37-633C-481D-8D1F-DE956F57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369FA-833E-444B-8D0C-F415D4B9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0B7BC-37BA-4C4E-8121-2EC13BA7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F27-BFC6-4301-9A48-5427D6BA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89AAB-9930-4064-BA45-48AD8A8D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FA1A8-E5F6-4767-8B25-A558290A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078AD-D70B-4B56-965F-F9F2A87E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15C53-66C6-45A8-89A3-F195A337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9FA6-1DC0-466D-BF1A-792E0D2E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B374-1401-4B4F-8315-70C664BC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998E-8142-4923-A6DA-EFEB2FE6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96158-EEC1-4AAB-A0D5-3418E956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4D6CE-85CF-4851-BA05-8F7D43C1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8FCE-F8F2-42C2-82A6-95171878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7C8-CB00-4F6F-B937-C56A504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57403-A6EF-48A0-A7AB-021ABCF3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1F91-73C5-4796-B851-601B1087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06C5-0CA4-453C-AC84-61760FF2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CD3E-49BD-4627-8179-CD966A5B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161FF-F384-4024-9A4F-64B76EE2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9D464-66D8-4189-9986-28165B8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FCAAF-5DB3-44A2-AD96-44737822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9D71A-E400-445A-A48B-E69C492D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78D3B-DAE3-40B7-A1E6-16518664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8F3BE-ACEA-4175-9473-3EB85BAF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0A0E-CC54-4FAE-AA8F-A2D914AF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D9D44-89D6-42E3-AA43-09F5B903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03B9D-B3EC-4A51-94FB-2C3E6621F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EB05-9C67-4EB0-ACC2-5FA1E05D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160ED-2CB2-4D40-B2E5-58880650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F969-79A8-495A-9D38-9007D989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C8719-867E-46C3-B1BA-2054D4D5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3A652-6E9E-4E7E-9D3E-EE94E7A8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62F3F-8382-43E5-8AEB-AB2EA42C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9FB03-10B9-4858-88AE-096C67A1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047B6-913C-4397-A560-476CCF6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038-A683-4716-8860-ADEAC452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CF40-7E7C-408A-9E16-E6D007D5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77301-0B63-4971-8414-9FBA61F5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C68E1-E125-4EF7-BA95-823266AF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CAD5-CB3F-40A1-B588-B48777AC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20F5-5CB0-49F3-B1D5-71FA6316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B3B1F-C180-453C-8810-C4839F2E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2AC0-9CCC-473A-B5D6-60E7EEBA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4869F-ACFF-4ADD-A298-F4820809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A08AC-9ED7-4D51-B201-AFAA8595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0452F-8BB1-42B4-B56E-1778945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3F6-F31B-4346-912B-236208B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DA48-8058-434D-8AA6-4A90E194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4E630-0E3F-4649-A15E-C8C5CA1B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88799-08AB-4A05-8FF5-0D723E20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DAAFF-BDFE-4B5D-BC10-864C6007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5DF67-654B-45F7-B85F-CFFEE8A0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4F0DC-6C39-4C8E-B5ED-C023D2B9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D46F7-C886-4D7C-999D-7FEE1BB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0D3FA-844C-43C4-A4AF-497AEF3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C7DCF-BEB2-45D6-B7C7-D41551E1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064A0-7433-4DC1-A189-F58CFD40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D1E-E10A-4E9A-9395-4D396ED0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A1313-29C6-449E-BC2B-636C7508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9C615-4A12-44A5-8283-41DF73F0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4B8FC-6CFB-4BEA-95EE-51200E2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395FD-3623-42BA-A032-967931D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C993E-44AC-4569-894B-4EAC072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E46B8-E16A-4BE1-ADCF-D4934B9A7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7B60A-9C19-440B-B03C-F03CE5E9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9A8C5-D8CB-493E-921E-A4F6577C4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1ECA2-64C9-42D3-B419-0FD02AED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524EB-3050-4899-BB67-FD95793B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0DB9-A4EA-48E3-9CC7-2589824686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6708-C7D7-4624-9D3B-D51451402BC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BF26-CBCD-46E2-B431-A0915C37638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BC13-B39F-4D1C-9E16-45BD36F35F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02F7-F267-4CCE-82EF-98727BF5834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779D-D209-4197-8781-E22F8786E23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C801-12CD-429C-B5A4-C0F4A34D17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1139-1EE0-4D48-85C0-6961623DC8E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7475-CBA2-4971-93C2-3B91FDF3697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25360"/>
            <a:ext cx="8431200" cy="63277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520" y="714240"/>
            <a:ext cx="833436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8" name="Рисунок 5" descr="1208207092_index_2.jpg"/>
          <p:cNvPicPr/>
          <p:nvPr/>
        </p:nvPicPr>
        <p:blipFill>
          <a:blip r:embed="rId2"/>
          <a:stretch/>
        </p:blipFill>
        <p:spPr>
          <a:xfrm>
            <a:off x="5486400" y="2992320"/>
            <a:ext cx="3029040" cy="39690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9680" y="5785920"/>
            <a:ext cx="8286840" cy="1071720"/>
          </a:xfrm>
          <a:prstGeom prst="rect">
            <a:avLst/>
          </a:prstGeom>
          <a:noFill/>
          <a:ln w="0">
            <a:noFill/>
          </a:ln>
        </p:spPr>
        <p:txBody>
          <a:bodyPr lIns="109800" t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Documents and Settings\86091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428760" y="3214800"/>
            <a:ext cx="3857400" cy="2131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Documents and Settings\86091\Мои документы\Мои рисунки\LogicheskieIgry120120.gif"/>
          <p:cNvPicPr/>
          <p:nvPr/>
        </p:nvPicPr>
        <p:blipFill>
          <a:blip r:embed="rId4"/>
          <a:stretch/>
        </p:blipFill>
        <p:spPr>
          <a:xfrm>
            <a:off x="3643200" y="307188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C:\Documents and Settings\86091\Мои документы\Мои рисунки\IP75PCAFTYWARCA0SC40VCA3E1SDMCA3ZZNH2CAPPSKNBCAZI7ZAPCAB614J9CAMZ0BUJCA8U6ZHSCA01L1CFCA016QDQCAPAVJJWCAPJ2W6BCAQ9HCXICAG22YOMCAQNLWDECALJAHB1CAF8LVI5CAD35FJO.jpg"/>
          <p:cNvPicPr/>
          <p:nvPr/>
        </p:nvPicPr>
        <p:blipFill>
          <a:blip r:embed="rId5"/>
          <a:stretch/>
        </p:blipFill>
        <p:spPr>
          <a:xfrm>
            <a:off x="2428920" y="428616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"/>
          <p:cNvSpPr/>
          <p:nvPr/>
        </p:nvSpPr>
        <p:spPr>
          <a:xfrm>
            <a:off x="481320" y="6480"/>
            <a:ext cx="67795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ДБЕРИ ПО ЦВЕТУ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ей двух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четырех лет хорошо учить классифик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Цвет, форма, величина, толщи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Рисунок 2" descr="http://www.u-mama.ru/img/news/00001_1057.jpg"/>
          <p:cNvPicPr/>
          <p:nvPr/>
        </p:nvPicPr>
        <p:blipFill>
          <a:blip r:embed="rId1"/>
          <a:stretch/>
        </p:blipFill>
        <p:spPr>
          <a:xfrm>
            <a:off x="642960" y="2143080"/>
            <a:ext cx="7929720" cy="22147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"/>
          <p:cNvSpPr/>
          <p:nvPr/>
        </p:nvSpPr>
        <p:spPr>
          <a:xfrm>
            <a:off x="496440" y="30600"/>
            <a:ext cx="7549200" cy="54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детки собирали для ежика разноцветные лис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складывали их в коробочки по цвету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394560" y="3960"/>
            <a:ext cx="71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ОРОД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алыши прибыли в гости к Микки </a:t>
            </a:r>
            <a:r>
              <a:rPr b="0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Маусу! Посмотрите, какой это город фигур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2" descr="http://www.u-mama.ru/img/news/00001_1056.jpg"/>
          <p:cNvPicPr/>
          <p:nvPr/>
        </p:nvPicPr>
        <p:blipFill>
          <a:blip r:embed="rId1"/>
          <a:stretch/>
        </p:blipFill>
        <p:spPr>
          <a:xfrm>
            <a:off x="357120" y="1571760"/>
            <a:ext cx="8429760" cy="278604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2"/>
          <p:cNvSpPr/>
          <p:nvPr/>
        </p:nvSpPr>
        <p:spPr>
          <a:xfrm>
            <a:off x="527400" y="38880"/>
            <a:ext cx="8081280" cy="62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район больших и район маленьких домиков. В каждом районе есть улицы разного цв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мики имеют разную фо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Сережа ищет прямоугольный домик в районе маленьких домиков, на красной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Катюша зашла в гости к кротику. И говорит всем деткам: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отик живет в квадратном доми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синей улиц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районе маленьких домиков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 Четырехлетки с интересом гуляют по такому городу, выделя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делом, сразу три свойства фиг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 с трудом дается некоторым первоклашкам в программе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Школа 2100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"/>
          <p:cNvSpPr/>
          <p:nvPr/>
        </p:nvSpPr>
        <p:spPr>
          <a:xfrm>
            <a:off x="495720" y="3240"/>
            <a:ext cx="6552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АВТОТРАССА (ПОСТРОЙ ДОРОЖКУ)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таблич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равило построения дорожки</a:t>
            </a:r>
            <a:r>
              <a:rPr b="0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2" descr="http://www.u-mama.ru/img/news/00001_1058.jpg"/>
          <p:cNvPicPr/>
          <p:nvPr/>
        </p:nvPicPr>
        <p:blipFill>
          <a:blip r:embed="rId1"/>
          <a:stretch/>
        </p:blipFill>
        <p:spPr>
          <a:xfrm>
            <a:off x="6000840" y="1000080"/>
            <a:ext cx="2100240" cy="1714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393120" y="15120"/>
            <a:ext cx="521136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 строит дорожку по правилу: чередует блоки с учетом ц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формы: сначала красный, потом квадратный, затем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ый, и треугольный. Малыш учится выделять свойство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бстрагироваться от других признак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поддержания интереса детей хорошо предлагать различ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овые и практические задачи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мы строили дорожку до коробки с сюрпризо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еребирались по мостику через речку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выкладывали дорожку из льдинок во дворце Снежной Королевы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чтобы помочь убежать Каю и Герд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42880" y="27720"/>
            <a:ext cx="787068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на этом занятии ребята попали в болото. Строят крепкий мости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Между собой блоки должны быть похожи по двум признакам. Например: фигуры обе синие и толст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5" descr="http://www.u-mama.ru/img/news/00001_1059.jpg"/>
          <p:cNvPicPr/>
          <p:nvPr/>
        </p:nvPicPr>
        <p:blipFill>
          <a:blip r:embed="rId2"/>
          <a:stretch/>
        </p:blipFill>
        <p:spPr>
          <a:xfrm>
            <a:off x="642960" y="3714840"/>
            <a:ext cx="7715160" cy="223344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"/>
          <p:cNvSpPr/>
          <p:nvPr/>
        </p:nvSpPr>
        <p:spPr>
          <a:xfrm>
            <a:off x="0" y="9720"/>
            <a:ext cx="10380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сть игры и упражнения с блоками, которые предназначе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рших дошкольник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ни помогут раз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у детей умения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бивать множества на классы по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вить умение производить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логические операции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умения с помощью этих операций строить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авильные высказыван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кодировать и декодировать информацию о свойствах предметов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531000" y="77760"/>
            <a:ext cx="7829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ЗАГАДКИ БЕЗ СЛОВ</a:t>
            </a:r>
            <a:r>
              <a:rPr b="1" lang="ru-RU" sz="11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Мы поможем ребенку научиться расшифровывать (декодировать)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 наличии или отсутствии определенных свойств у предме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 их знаково-символическим обозначени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3" descr="http://www.u-mama.ru/img/news/00001_1060.jpg"/>
          <p:cNvPicPr/>
          <p:nvPr/>
        </p:nvPicPr>
        <p:blipFill>
          <a:blip r:embed="rId1"/>
          <a:stretch/>
        </p:blipFill>
        <p:spPr>
          <a:xfrm>
            <a:off x="1285920" y="3000240"/>
            <a:ext cx="6786360" cy="1814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3"/>
          <p:cNvSpPr/>
          <p:nvPr/>
        </p:nvSpPr>
        <p:spPr>
          <a:xfrm>
            <a:off x="363960" y="300240"/>
            <a:ext cx="820764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этом занят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путешествии дети попали к домику фокус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до сначала расколдов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его, а потом постучаться.Например: первая фигурка должна быть треугольно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желтой, маленькой и толс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от вторая – круглая, красная, не толстая и не маленькая. Значит, мы будем искать крас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, тонкий к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мечательно, когда помогает смекалка! Теперь можно посмотреть и фокус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"/>
          <p:cNvSpPr/>
          <p:nvPr/>
        </p:nvSpPr>
        <p:spPr>
          <a:xfrm>
            <a:off x="465480" y="6120"/>
            <a:ext cx="6293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 старшей группе мы устроили конкурсную игровую программ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рестики - нолик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Одно из заданий командам было -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стройка замка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2" descr="http://www.u-mama.ru/img/news/00001_1061.jpg"/>
          <p:cNvPicPr/>
          <p:nvPr/>
        </p:nvPicPr>
        <p:blipFill>
          <a:blip r:embed="rId1"/>
          <a:stretch/>
        </p:blipFill>
        <p:spPr>
          <a:xfrm>
            <a:off x="928800" y="1357200"/>
            <a:ext cx="7215120" cy="18860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2"/>
          <p:cNvSpPr/>
          <p:nvPr/>
        </p:nvSpPr>
        <p:spPr>
          <a:xfrm>
            <a:off x="0" y="22680"/>
            <a:ext cx="871524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манды анализировали чертеж замка, подбирали необходимые кирпич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ала та команда, у которой замок был построен быстро и правильно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453960" y="2880"/>
            <a:ext cx="7381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РАЗДЕЛИ БЛОКИ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гра научит разбивать множество по двум, трем совместимым свойствам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оизводить логические операци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е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,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Рисунок 2" descr="http://www.u-mama.ru/img/news/00001_1062.jpg"/>
          <p:cNvPicPr/>
          <p:nvPr/>
        </p:nvPicPr>
        <p:blipFill>
          <a:blip r:embed="rId1"/>
          <a:stretch/>
        </p:blipFill>
        <p:spPr>
          <a:xfrm>
            <a:off x="4000680" y="857160"/>
            <a:ext cx="4071600" cy="32860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3120" y="29880"/>
            <a:ext cx="807192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лесу переполох! Лиса, волк и медведь никак не могут поделить подарки деда Мороз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Дед Мороз сказал взять лисе все маленькие подарки, медведю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се толстые, а волку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кругл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Но вот беда, есть подарки и круглые и маленькие одновременно. Их должна взять и лиса и вол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есть подарки и круглые, и маленькие, и толстые! Ими могут играть все звери вме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и пересекающихся обруча (ленточки, веревочки) помогли нам разобраться </a:t>
            </a:r>
            <a:r>
              <a:rPr b="1" lang="ru-RU" sz="12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 выясни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где чьи подарки, кто чем может пользоваться на правах совместной собственност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1"/>
          <p:cNvSpPr/>
          <p:nvPr/>
        </p:nvSpPr>
        <p:spPr>
          <a:xfrm>
            <a:off x="714240" y="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«Развивалки" на х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3b14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2"/>
          <p:cNvSpPr/>
          <p:nvPr/>
        </p:nvSpPr>
        <p:spPr>
          <a:xfrm>
            <a:off x="285840" y="500040"/>
            <a:ext cx="84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. Чаще считайте вместе с малышом все, чем вы пользуетесь в обыденной жизн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стульев стоит возле обеденного стола, сколько пар носок вы положили в стиральную машину, сколько картошек надо почистить, чтобы приготовить ужин. Пересчитывайте ступеньки в подъезде, окна в квартир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  - дети любят счит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57120" y="228600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2. Измеряйте разные вещи – дома или на улиц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ими ладошками или ступнями.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мните мультик про 38 попугаев – отличный повод пересмотреть его и проверить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ост у мамы или папы, сколько ладошек «поместится» в любимом див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оберите несколько пустых коробок из-под обуви или подарков. Лучше всего делать это после дня рождения или Нового Года. Коробки можно купить и специально для этой цели: они не так дорого стоят. Желательно чтобы они укладывались друг в друга как матрешки. Разложите крышки отдельно, а коробки – отдельно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подобрать крышку к каждому контейнеру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Чем младше ребенок, тем меньше должно быть коробок. Двухлетний малыш с удовольствием повозится с 4-5 коробками, а вот 10 для него будет слишком м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Прямоугольник 1"/>
          <p:cNvSpPr/>
          <p:nvPr/>
        </p:nvSpPr>
        <p:spPr>
          <a:xfrm>
            <a:off x="214200" y="428760"/>
            <a:ext cx="87156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4. Купите «липкие» цифры из пенки, наклейте их на пустой контейнер – от 0 до 5.  Соберите разнообразные предметы: одну маленькую машинку или куклу, две больших пуговицы, три бусины, четыре ореха, пять прищепо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просите разложить их в контейнеры в соответствии с номером на крыш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Сделайте карточки с цифрами из картона и наждачной бумаги или бархата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ведите пальчиком малыша по этим цифрам и назовите их. Попросите показать вам 3, 2, 1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Теперь вытащите одну из карточек из коробки наугад и  предложите ребен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ести столько предметов, сколько изображено на его карточке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Особенно интересно получить карточку с нулем, ведь ничто не сравнится с личным открытие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Охота на геометрические фигуры. Предложите малышу поиграть в охоту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ь он попробует найти что-нибудь похожее на круг и показать </a:t>
            </a: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вам. А теперь квадрат или прямоугольник. Играть в эту игру можно по дороге в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1581f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ожите на столе ложку, вилку и тарелку особым образом. Попросите малыша повторить вашу композицию.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 Когда у него будет хорошо получаться, поставьте какой-нибудь экран между вами и малышом или сядьте спиной друг к другу. Предложите ему разложить свои предметы, а затем объяснить вам, как он это сделал. Вы должны повторить его действия, следуя лишь устным инструкциям. Тоже неплохая игра для того, чтобы занять время ожидания приема в поликли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1"/>
          <p:cNvSpPr/>
          <p:nvPr/>
        </p:nvSpPr>
        <p:spPr>
          <a:xfrm>
            <a:off x="428760" y="35712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8.Когда малыш или малышка купается, выдайте ему набор разнообразных чашек – мерных чашек, пластиковых кувшинчиков, воронок, разноцветных стаканчиков. Пусть переливает воду на здоровье. Поговорите о т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де воды больше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. По Пиаже, это возраст интересных открытий для родителей. Налейте воду в два одинаковых стаканчика и спросите кроху, одинаково ли воды в обоих сосудах? А теперь перелейте воду из одного стаканчика в  высокий и тонкий стакан, а воду из другого стаканчика – в широкий и низкий стакан. Спросите, где больше? Скорее всего, ответ будет любопы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Поиграйте с ребенком в магазин. Купите игрушечные деньги или нарисуйте их сами. Рубли можно брать из экономических игр, вроде «Менеджер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Чаще готовьте еду вместе с малышом. Показывайте, как вы готовите то или иное блюдо, сколько продуктов берет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Используйте мерные чашки</a:t>
            </a:r>
            <a:r>
              <a:rPr b="1" lang="ru-RU" sz="1800" spc="-1" strike="noStrike">
                <a:solidFill>
                  <a:srgbClr val="603b14"/>
                </a:solidFill>
                <a:latin typeface="Arial"/>
              </a:rPr>
              <a:t>, покажите, что для блинов нужно взять вот столько муки и вот столько сахар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1143000" y="78588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ЛБД  -       логические блоки З. Дьене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91581f"/>
                </a:solidFill>
                <a:latin typeface="Arial"/>
              </a:rPr>
              <a:t>развитие логического мышления</a:t>
            </a:r>
            <a:r>
              <a:rPr b="1" lang="ru-RU" sz="2400" spc="-1" strike="noStrike">
                <a:solidFill>
                  <a:srgbClr val="91581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Рисунок 4" descr="http://www.u-mama.ru/img/news/00001_1051.jpg"/>
          <p:cNvPicPr/>
          <p:nvPr/>
        </p:nvPicPr>
        <p:blipFill>
          <a:blip r:embed="rId1"/>
          <a:stretch/>
        </p:blipFill>
        <p:spPr>
          <a:xfrm>
            <a:off x="1785960" y="1857240"/>
            <a:ext cx="6072120" cy="414360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11"/>
          <p:cNvSpPr/>
          <p:nvPr/>
        </p:nvSpPr>
        <p:spPr>
          <a:xfrm>
            <a:off x="-40147920" y="-428760"/>
            <a:ext cx="1828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ие блоки Дьенеша представляют с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ор из 48 геометрических фигу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четырех форм (круг, треугольник, квадра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еометрическая фиг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ой, цветом, размером, 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боре нет ни одной одинаковой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428760" y="720360"/>
            <a:ext cx="82152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Логические блоки Дьенеша представляют собой набор из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8 геометрических фигур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а) четырех форм (круг, треугольник, квадрат, прямоугольник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б) четырех цветов (красный, синий, желты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) двух размеров (большой, маленьк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г) двух видов толщины (толстый, тонки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Каждая геометрическая фигура характеризуется четырьмя признак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формой, цветом, размером,толщи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наборе нет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ни одной одинаковой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4"/>
          <p:cNvSpPr/>
          <p:nvPr/>
        </p:nvSpPr>
        <p:spPr>
          <a:xfrm>
            <a:off x="371880" y="27720"/>
            <a:ext cx="4364280" cy="52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 многих играх с логически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фигурами используются карточ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символами свой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мство ребенка с симв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важная ступенька в освоении вс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наковой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грамоты матема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имволов, программирования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чках условно обозначе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а бло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цвет, форма, размер, толщина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го 11 карточ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    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+ 11 карточ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отрицанием свойств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 </a:t>
            </a:r>
            <a:r>
              <a:rPr b="1" lang="ru-RU" sz="1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е красный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Рисунок 5" descr="http://www.u-mama.ru/img/news/00001_105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429000" cy="514368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"/>
          <p:cNvSpPr/>
          <p:nvPr/>
        </p:nvSpPr>
        <p:spPr>
          <a:xfrm flipV="1" rot="10800000">
            <a:off x="3935520" y="713880"/>
            <a:ext cx="127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 – 1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"/>
          <p:cNvSpPr/>
          <p:nvPr/>
        </p:nvSpPr>
        <p:spPr>
          <a:xfrm>
            <a:off x="0" y="-949320"/>
            <a:ext cx="8643960" cy="73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ознакомить с формой, цветом, размером, толщиной объек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ространственные предст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логическое мышление, представление о множеств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и над множе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(сравнение, разбиение, классификация, абстрагирование, код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декодирование информации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воить элементарные навыки алгоритмической культуры мыш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умения выявлять свойства в объектах, называть и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общать объекты по их свойств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объяснять сходства и различия объектов, обосновывать свои рассужд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 Развивать познавательные процессы, мыслительные оп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оспитывать самостоятельность, инициативу, настойчив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 достижении ц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творческие способности, воображени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фантазию, способности к моделированию и конструир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Развивать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*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Успешно овладеть основами математики и информа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"/>
          <p:cNvSpPr/>
          <p:nvPr/>
        </p:nvSpPr>
        <p:spPr>
          <a:xfrm>
            <a:off x="280080" y="82440"/>
            <a:ext cx="819324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Все игры и игровые упражнения можно раз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4 групп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с постепенным усложнени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выявлять и абстрагировать свой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умений сравнивать предметы по их свойств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действий классификации и обоб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4160" algn="just">
              <a:lnSpc>
                <a:spcPct val="100000"/>
              </a:lnSpc>
              <a:buClr>
                <a:srgbClr val="603b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для развития способности к логическим действиям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603b14"/>
                </a:solidFill>
                <a:latin typeface="Verdana"/>
                <a:ea typeface="Times New Roman"/>
              </a:rPr>
              <a:t>операциям</a:t>
            </a:r>
            <a:r>
              <a:rPr b="1" lang="ru-RU" sz="1200" spc="-1" strike="noStrike">
                <a:solidFill>
                  <a:srgbClr val="603b14"/>
                </a:solidFill>
                <a:latin typeface="Verdan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2"/>
          <p:cNvSpPr/>
          <p:nvPr/>
        </p:nvSpPr>
        <p:spPr>
          <a:xfrm>
            <a:off x="2286000" y="2828880"/>
            <a:ext cx="457200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Arial"/>
              </a:rPr>
              <a:t>Все игры и упражнения, за исключением четвёртой группы (логические), не адресуются конкретному во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1" descr="http://www.u-mama.ru/img/news/00001_1053.jpg"/>
          <p:cNvPicPr/>
          <p:nvPr/>
        </p:nvPicPr>
        <p:blipFill>
          <a:blip r:embed="rId1"/>
          <a:stretch/>
        </p:blipFill>
        <p:spPr>
          <a:xfrm>
            <a:off x="3629160" y="2457360"/>
            <a:ext cx="1885680" cy="1943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"/>
          <p:cNvSpPr/>
          <p:nvPr/>
        </p:nvSpPr>
        <p:spPr>
          <a:xfrm>
            <a:off x="506880" y="8280"/>
            <a:ext cx="694404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КОДОВЫЙ ЗАМОК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РЕТИЙ ЛИШНИЙ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 картонку выкладываются 3 фигур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Две можно объединить по какому-то свойству, одн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лишня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18400" y="32760"/>
            <a:ext cx="6781320" cy="59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За замком может быть что угодно: сюрприз, вход в комнат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дорога на прогулку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…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Ребенок должен открыть замок: догадаться, на какую кнопку наж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объяснить, почем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:</a:t>
            </a:r>
            <a:r>
              <a:rPr b="1" lang="ru-RU" sz="14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Тут лишняя красная фигура. Потому что эти обе желт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жимаем на красную фигурку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http://www.u-mama.ru/img/news/00001_1054.jpg"/>
          <p:cNvPicPr/>
          <p:nvPr/>
        </p:nvPicPr>
        <p:blipFill>
          <a:blip r:embed="rId1"/>
          <a:stretch/>
        </p:blipFill>
        <p:spPr>
          <a:xfrm>
            <a:off x="5643720" y="2357280"/>
            <a:ext cx="2857320" cy="210528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"/>
          <p:cNvSpPr/>
          <p:nvPr/>
        </p:nvSpPr>
        <p:spPr>
          <a:xfrm>
            <a:off x="525240" y="8280"/>
            <a:ext cx="659340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ЙДИ КЛАД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или 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КУДА СПРЯТАЛСЯ ЩЕНОК</a:t>
            </a:r>
            <a:r>
              <a:rPr b="1" lang="ru-RU" sz="2000" spc="-1" strike="noStrike">
                <a:solidFill>
                  <a:srgbClr val="603b14"/>
                </a:solidFill>
                <a:latin typeface="Calibri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Перед ребенком лежат 8 блоков, спрятана моне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или картинка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щ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0" y="-2310120"/>
            <a:ext cx="6523200" cy="84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Verdana"/>
                <a:ea typeface="Times New Roman"/>
              </a:rPr>
              <a:t>1 вариа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Кладоискатель отворачивается, ведущий под одним из блоко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прячет клад. Кладоискат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щет его, называя раз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личные свойства блоков. Если малы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ходит клад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то забирает его себе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а под одним из блоков прячет новый клад.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 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Ведущий внача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ам выполня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роль кладоискател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и пока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­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зывает, как вести поиск клада. Называет различн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свойств блок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Например, ведущий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Клад под синим блоко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, </a:t>
            </a:r>
            <a:r>
              <a:rPr b="1" lang="ru-RU" sz="1100" spc="-1" strike="noStrike">
                <a:solidFill>
                  <a:srgbClr val="603b14"/>
                </a:solidFill>
                <a:latin typeface="Calibri"/>
                <a:ea typeface="Times New Roman"/>
              </a:rPr>
              <a:t>—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отвечает ребен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желт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Н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асн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больши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Под круглым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- 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Выигрывает тот, кто найдет больше кладов. При повторении игры блоки меняю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 </a:t>
            </a:r>
            <a:r>
              <a:rPr b="1" lang="ru-RU" sz="1100" spc="-1" strike="noStrike">
                <a:solidFill>
                  <a:srgbClr val="603b14"/>
                </a:solidFill>
                <a:latin typeface="Verdana"/>
                <a:ea typeface="Times New Roman"/>
              </a:rPr>
              <a:t>увеличивается их количество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556920" y="11520"/>
            <a:ext cx="576468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2 вари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Ведущий говори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щенок спрятался под красным, большим к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Можно карточками </a:t>
            </a:r>
            <a:r>
              <a:rPr b="1" lang="ru-RU" sz="1600" spc="-1" strike="noStrike">
                <a:solidFill>
                  <a:srgbClr val="603b14"/>
                </a:solidFill>
                <a:latin typeface="Calibri"/>
                <a:ea typeface="Times New Roman"/>
              </a:rPr>
              <a:t>–</a:t>
            </a:r>
            <a:r>
              <a:rPr b="1" lang="ru-RU" sz="1600" spc="-1" strike="noStrike">
                <a:solidFill>
                  <a:srgbClr val="603b14"/>
                </a:solidFill>
                <a:latin typeface="Verdana"/>
                <a:ea typeface="Times New Roman"/>
              </a:rPr>
              <a:t> символами написать письмо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2" descr="http://www.u-mama.ru/img/news/00001_1055.jpg"/>
          <p:cNvPicPr/>
          <p:nvPr/>
        </p:nvPicPr>
        <p:blipFill>
          <a:blip r:embed="rId1"/>
          <a:stretch/>
        </p:blipFill>
        <p:spPr>
          <a:xfrm>
            <a:off x="714240" y="2500200"/>
            <a:ext cx="7643880" cy="2714760"/>
          </a:xfrm>
          <a:prstGeom prst="rect">
            <a:avLst/>
          </a:prstGeom>
          <a:ln w="0">
            <a:noFill/>
          </a:ln>
        </p:spPr>
      </p:pic>
      <p:sp>
        <p:nvSpPr>
          <p:cNvPr id="43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2:46:08Z</dcterms:created>
  <dc:creator>86091</dc:creator>
  <dc:description/>
  <dc:language>en-US</dc:language>
  <cp:lastModifiedBy>LEGION</cp:lastModifiedBy>
  <dcterms:modified xsi:type="dcterms:W3CDTF">2015-01-27T12:14:58Z</dcterms:modified>
  <cp:revision>29</cp:revision>
  <dc:subject/>
  <dc:title>Слайд 1</dc:title>
</cp:coreProperties>
</file>