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20F-3384-4BCD-B0F1-BF53FF6E4F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CCA8-1B94-4E32-B2E3-95A79964F2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уровням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школь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йо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ластной (региональны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едера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693B-ED48-4AFF-A8B4-21A8CAF72D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личия между мониторингом и исследован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я признаками эмпирического исследовани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ниторинг имеет следующие существенные отли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а возникнов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тсутствие качественной информации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FCB7-F2A1-4ABA-8A24-8D863783A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е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е исследование предполагает минимизаци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а показате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ля мониторинга важен более широкий выб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9DD-7220-4692-91C9-7BA0741B52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лизок к наблюден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не предполагает на этапе проведения вмешательства в функционирование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ет цел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B36F-5DBE-4FE0-996F-43F33F701F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ъективность информации: процесс мониторинга должен опираться на объективные, максимально формализованные и легко проверяем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равнимость данных: 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4C64-D71A-4DA7-A9D8-E8A2745910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екватност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гностичность: получение данных, позволяющих прогнозировать будущее системы, возможные изменения в путях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инцип целевого назначения: получение необходимой и достаточной информации, исходя из обозначенной цел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25E0-2359-4089-8A1E-B4A6CE3BA0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кторы и условия проведения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о инструментар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3BA2-D114-4E76-8369-8F82F65DDC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изм и подготовленность специалис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экспертов в процессе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F48C-767A-4058-A395-D942CD5659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ая регресс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кажение результатов в процессе об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ик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бор испытуем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6330-2381-445F-836B-39FDA0BE5F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в информационных поток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ные мотивации участников в естественных условия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часто оказывается, что одни и те же действия в ситуациях управления осуществляются с неодинаковыми ц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ффект повторного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62E3-5859-467E-9FC8-9034BF5F43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нятия «мониторинг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A660-B7B5-4250-987C-E2136FAAC7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рупповая фальсификация результа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спонденты договариваются, какие оценки будут да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6594-AE77-4C23-AFA9-B1EC338BAD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в процессе эксперимен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тественное развит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-территориальные особенности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F778-572A-4E48-9CE0-CB99D8777A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ные события для разных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азличные воздействия в межэкспериментальный период могут вызвать различные смещения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о внутренней жизни групп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 скорости протекания внутригрупповых процес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0566-6131-461F-8B60-0318D37228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словия, вызывающие реакцию на эксперим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альные изменения, наблюдаемые в условиях и вне эксперимента, могут оказаться неэквивалент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терференция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озникает тогда, когда один и тот же испытуеый подвергается различным воздействиям, разнесенным по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ергиз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F201-D73B-4C2A-A0F8-2A6539740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енсатор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A5B6-28AE-40E3-9E0C-9666DA449D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-правовые основы мониторинга в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о составе службы мониторинга на текущий учебн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1D47-8492-4A2A-A83A-0F11068A96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тно заданы норм и стандарты мониторингов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D128-790F-40B4-888D-729D72128D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повышению культуры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636F-7BF5-4F04-842E-34EF93C1EA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арт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ативно-установоч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к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но-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тогов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метод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FDFA-CFE2-4F4E-8E87-B0EF8AA83C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феры применен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областям примен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редствам прове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пособам сбора информ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гр. – непосредственное описание объектов без каких-либо изме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гр.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посредственное физическое измерение параметров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56E6-75AB-41A2-84CE-F6FEDD33C3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ы мониторинга в образова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я гр. – накопление и структуризация информации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мониторинг законодательной базы управления образовани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F104-75F7-445F-B393-61B34E233D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цел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полагает структуризацию, накопление, распространение информации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редусматривает специально организованного обследования на этапе сбора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азо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являет проблемы и опасности до того, как они будут осознаны в сфере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153-CBE6-4672-9213-A2E06FFA01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влен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FB47-07E7-439F-BAEA-D767A84F93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снованиям эксперти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нами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курент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ются результаты идентичного обследования других образователь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итель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DC2A-D878-4D99-93AE-5F31307E61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пользуется несколько оснований для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снов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метом анализа являются результаты, полученные в одном исследовании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B2DA-481A-4E3A-96E2-C63D73CE45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A0E6-332F-48E9-9CCD-00474D36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DDC4-319D-4B18-81B6-AF29149B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14F6-7897-43A5-8806-25D72CC9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560A-7609-4CFA-8CA0-CBA52BF6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D278-46FD-47C0-A4D6-920AB778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CEA1-EF17-49FC-8897-EEB8B090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715A-4B32-4294-A961-9BAE04D0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B8E2-257C-4EFB-9C7E-A0CDDFD4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76DE-C3EF-481F-8F60-05A54F97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A943-03AB-42B4-9001-2DB3456A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1D0B-B8D1-4B02-B641-646E4B9F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0664-1A91-4D61-9CCF-304026F2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09D-557B-47A0-946D-E6A63CBD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03ED-366E-4849-8CAF-8FF4CF0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796B-4B2F-425C-86FF-1A5D7AE4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1209-9E9A-4F60-BB3E-AB1F3B50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8912-D954-466E-9C87-C3238441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DF8F-E789-4E64-B382-18E57889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5924-FDE4-4E0B-B8C3-5FB6B87F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3951-74AA-44E7-B4D3-176F599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7AE1-C724-4C9B-A191-0D6DE060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6431-9D04-4803-B36A-0A5767FA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828B-F18D-4458-BB68-7D2310D6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A241-39C7-4772-B27D-16BE8611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B4B1-E8B9-4990-9EA6-CB85D789D4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FFFF-5722-463E-BA59-836ADEDABD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образовани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ровням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шко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й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ластной (региональны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едера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личия между мониторингом и исслед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дая признаками эмпирического исследовани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иторинг имеет следующие существенные от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 возникнов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сутствие качественной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учное исследование предполагает минимизац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а показател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ля мониторинга важен более широки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к к наблюден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н не предполагает на этапе проведения вмешательства в функционирование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имеет цель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ъективность информац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мониторинга должен опираться на объективные, максимально формализованные и легко проверяем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авнимость данных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ост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огностич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данных, позволяющих прогнозировать будущее системы, возможные изменения в путях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инцип целевого на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необходимой и достаточной информации, исходя из обозначенной цел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ы и условия провед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о инструментар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изм и подготовленность специалис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экспертов в процессе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тистическая регресс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ажение результатов в процессе об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икл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бор испытуем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в информационных поток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ные мотивации участников в естественных условия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оказывается, что одни и те же действия в ситуациях управления осуществляются с неодинаковыми ц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ффект повторного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понятия «монитор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овая фальсификация результа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понденты договариваются, какие оценки будут да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в процессе эксперимен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е разви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циально-территориальные особенности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ные события для разных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личные воздействия в межэкспериментальный период могут вызвать различные смещения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о внутренней жизни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 скорости протекания внутригрупповых процес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, вызывающие реакцию на 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е изменения, наблюдаемые в условиях и вне эксперимента, могут оказаться неэквивал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ференция воз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тогда, когда один и тот же испытуеый подвергается различным воздействиям, разнесенным п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нерг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енсато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онно-правовые основы мониторинга в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о составе службы мониторинга на текущий учебн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тно заданы норм и стандарты мониторингово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повышению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установоч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к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о-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ежуточн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ы примен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бластям приме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редствам про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пособам сбора 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. – непосредственное описание объектов без каких-либо изме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средственное физическое измерение параметров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 мониторинга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. – накопление и структуризация информаци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ниторинг законодательной базы управления образ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. – построены по модели «вход – выход» ( в качестве входа – характеристики ученика, на выходе – эффект влияния шк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я гр. – системы мониторинга на уровне ОУ (попытка оценить эффективность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цел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полагает структуризацию, накопление, распространение информации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усматривает специально организованного обследования на этапе с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ов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выявляет проблемы и опасности до того, как они будут осознаны в сфере 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авленче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нованиям эксперти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ыбираются результаты идентичного обследования других образовательн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используется несколько оснований для эксперти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основ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метом анализа являются результаты, полученные в одном исследовани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2:59:49Z</dcterms:created>
  <dc:creator>Чистякова Л.А.</dc:creator>
  <dc:description/>
  <dc:language>en-US</dc:language>
  <cp:lastModifiedBy>LEGION</cp:lastModifiedBy>
  <dcterms:modified xsi:type="dcterms:W3CDTF">2015-01-27T12:15:50Z</dcterms:modified>
  <cp:revision>12</cp:revision>
  <dc:subject/>
  <dc:title>Мониторинг  в образовании </dc:title>
</cp:coreProperties>
</file>