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4483-CD7D-46D8-901D-D19E10DF80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2116-E459-4BD1-AD11-95E5D01CF5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уровням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школь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йо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ластной (региональны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едера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5CCB-7629-4003-B9A0-A526D6572E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личия между мониторингом и исследовани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дая признаками эмпирического исследовани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ниторинг имеет следующие существенные отли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а возникнов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тсутствие качественной информации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98B1-7639-41D8-ADCD-206262B132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е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е исследование предполагает минимизаци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а показате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ля мониторинга важен более широкий выб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D34E-E631-416D-B23E-25DCCB0FC2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лизок к наблюден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не предполагает на этапе проведения вмешательства в функционирование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ет цел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02B1-23AE-492A-BEE3-6AC712277B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ъективность информации: процесс мониторинга должен опираться на объективные, максимально формализованные и легко проверяемые д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равнимость данных: 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92DC-BEF9-4543-B60F-E5474BA303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екватность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гностичность: получение данных, позволяющих прогнозировать будущее системы, возможные изменения в путях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инцип целевого назначения: получение необходимой и достаточной информации, исходя из обозначенной цел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35F2-DC92-488C-915D-E35AA80BDE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кторы и условия проведения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о инструментар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A5FC-8E89-4B93-A607-0E4D6DD23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изм и подготовленность специалис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экспертов в процессе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6E6B-DC0F-4DB1-B6AF-650860B034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ая регресс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кажение результатов в процессе об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ик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бор испытуем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34EC-C629-433F-9971-13F52E382A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в информационных поток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ные мотивации участников в естественных условия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часто оказывается, что одни и те же действия в ситуациях управления осуществляются с неодинаковыми ц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ффект повторного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5595-87FB-4CEE-881D-9058671545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нятия «мониторинг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6886-6FA5-476F-A871-5127A249F8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рупповая фальсификация результа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спонденты договариваются, какие оценки будут да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2614-38A7-4737-9128-57B0F843B4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в процессе эксперимен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тественное развит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о-территориальные особенности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A024-49CD-47DB-863D-A5A14C360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ные события для разных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азличные воздействия в межэкспериментальный период могут вызвать различные смещения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о внутренней жизни групп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 скорости протекания внутригрупповых процес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7945-AE95-498F-9D63-6AA0E95C34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словия, вызывающие реакцию на эксперим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альные изменения, наблюдаемые в условиях и вне эксперимента, могут оказаться неэквивалент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терференция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озникает тогда, когда один и тот же испытуеый подвергается различным воздействиям, разнесенным по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ергиз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3ABB-7ECC-4E78-A29F-0461769974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енсатор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7A0-3E2D-4D61-A411-3F173BE415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-правовые основы мониторинга в 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о составе службы мониторинга на текущий учебн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4610-2A85-4200-9BD9-FE8FA6B9F3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тно заданы норм и стандарты мониторингов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7529-BDB2-4D21-8BA5-55F2FE955D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повышению культуры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F0DC-23B5-4868-8DCC-FADA5CF3EA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арт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ативно-установоч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к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но-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тогов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метод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5998-7E4A-4375-B661-1E6FEDEC7C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феры применен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областям примен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редствам прове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пособам сбора информ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гр. – непосредственное описание объектов без каких-либо изме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гр.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посредственное физическое измерение параметров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CA38-A7BC-4131-87B7-1DA40D9A5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ы мониторинга в образован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я гр. – накопление и структуризация информации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мониторинг законодательной базы управления образовани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19C1-1B6F-4C8F-87F0-81A2064979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цел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полагает структуризацию, накопление, распространение информации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редусматривает специально организованного обследования на этапе сбора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азо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являет проблемы и опасности до того, как они будут осознаны в сфере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9494-350C-4BBE-8618-40D72BAEEB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влен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38A9-53AA-4B2A-B483-ECBABBCA94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снованиям эксперти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нами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курент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ются результаты идентичного обследования других образователь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итель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1E12-A16E-4BE3-B1BE-20BF6315CA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пользуется несколько оснований для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снов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метом анализа являются результаты, полученные в одном исследовании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40A9-51C3-4185-955B-E23D966BFA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F838-98C7-4DA1-94C4-7F337FBA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C380-C4E6-48F1-96A2-3806D1FF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72DE3-0582-4EE0-8788-D8700E14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319D-70DC-4C99-9176-B2BF845D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A7CE-4C5F-4347-A96A-5EB16BDE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D515-EAF0-431D-ACE1-6CEE6510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84E6-53B3-4B37-9CD2-101E6B46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B6E3-5FAB-4E45-9FA9-3B183350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7D13-B94E-48B5-BF95-60BC5BC0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FDDF-1304-4A1E-A55E-6175ED5E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FD52-11B8-4744-AF0B-D92F1EE8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0048-F670-4467-88EA-BD6BE79A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FFC7-218A-4088-92D6-15E8CEA2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7CBB-DACC-4678-8669-51BD848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64F8-3BBB-43DC-8986-09F67232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6EBF-276E-4FE8-B1BA-0155104D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8DFF-CBDA-412F-A49C-C7079306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F2C3-C5D6-4879-BBAD-93E8ABE4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6E7D-737F-40CC-885C-7D759A76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F2B9-5D9B-4131-96DF-AB71D1D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BEEE6-67CF-4CD2-98D4-B6D9421F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065C-6351-41B4-90B3-7E7DB68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E806-7DA1-4D72-9147-5FDBD6ED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6D8A-E450-4BA8-9838-F11FB3E3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5758-E65F-4AC5-BF26-24E681115A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8887-58AD-4586-B1BA-0C272DE48A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ониторинг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 образовани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ровням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шко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й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ластной (региональны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едера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личия между мониторингом и исслед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дая признаками эмпирического исследовани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ниторинг имеет следующие существенные от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 возникнов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сутствие качественной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г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учное исследование предполагает минимизац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а показател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ля мониторинга важен более широкий вы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к к наблюдени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н не предполагает на этапе проведения вмешательства в функционирование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имеет цель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ъективность информаци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мониторинга должен опираться на объективные, максимально формализованные и легко проверяемы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равнимость данных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ость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огностич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данных, позволяющих прогнозировать будущее системы, возможные изменения в путях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инцип целевого на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необходимой и достаточной информации, исходя из обозначенной цел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оры и условия провед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о инструментар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изм и подготовленность специалис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экспертов в процессе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тистическая регресс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ажение результатов в процессе об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икл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бор испытуем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в информационных поток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ные мотивации участников в естественных условия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оказывается, что одни и те же действия в ситуациях управления осуществляются с неодинаковыми ц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ффект повторного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понятия «мониторин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овая фальсификация результа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понденты договариваются, какие оценки будут да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в процессе эксперимен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е разви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циально-территориальные особенности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ные события для разных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личные воздействия в межэкспериментальный период могут вызвать различные смещения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о внутренней жизни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 скорости протекания внутригрупповых процес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, вызывающие реакцию на 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е изменения, наблюдаемые в условиях и вне эксперимента, могут оказаться неэквивалент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ференция воз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тогда, когда один и тот же испытуеый подвергается различным воздействиям, разнесенным по врем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нергиз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енсато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зационно-правовые основы мониторинга в 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аз о составе службы мониторинга на текущий учебны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тно заданы норм и стандарты мониторингово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повышению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ческая карта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установоч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к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о-технолог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ежуточн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ов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-метод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ы примен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бластям приме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редствам прове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пособам сбора 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. – непосредственное описание объектов без каких-либо изме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средственное физическое измерение параметров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 мониторинга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. – накопление и структуризация информаци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ниторинг законодательной базы управления образова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. – построены по модели «вход – выход» ( в качестве входа – характеристики ученика, на выходе – эффект влияния шк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-я гр. – системы мониторинга на уровне ОУ (попытка оценить эффективность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цел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полагает структуризацию, накопление, распространение информации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усматривает специально организованного обследования на этапе с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зов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выявляет проблемы и опасности до того, как они будут осознаны в сфере упра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равленчес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нованиям эксперти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курен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ыбираются результаты идентичного обследования других образовательны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используется несколько оснований для эксперти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основ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метом анализа являются результаты, полученные в одном исследовани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2:59:49Z</dcterms:created>
  <dc:creator>Чистякова Л.А.</dc:creator>
  <dc:description/>
  <dc:language>en-US</dc:language>
  <cp:lastModifiedBy>LEGION</cp:lastModifiedBy>
  <dcterms:modified xsi:type="dcterms:W3CDTF">2015-01-27T12:15:50Z</dcterms:modified>
  <cp:revision>12</cp:revision>
  <dc:subject/>
  <dc:title>Мониторинг  в образовании </dc:title>
</cp:coreProperties>
</file>