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4.gif" ContentType="image/gif"/>
  <Override PartName="/ppt/media/image9.gif" ContentType="image/gif"/>
  <Override PartName="/ppt/media/image1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11.gif" ContentType="image/gif"/>
  <Override PartName="/ppt/media/image6.png" ContentType="image/png"/>
  <Override PartName="/ppt/media/image5.jpeg" ContentType="image/jpeg"/>
  <Override PartName="/ppt/media/image7.gif" ContentType="image/gif"/>
  <Override PartName="/ppt/media/image12.gif" ContentType="image/gif"/>
  <Override PartName="/ppt/media/image8.gif" ContentType="image/gif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02A9D-D3A7-4B3A-A01E-C6996FE69820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чь младших школьников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пути её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107C7-67AE-4106-94AB-16454A0835CF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ная реч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иало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разгово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ычно не полностью развернута, ситуативна, в ней многое не высказывается, а подразумева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оноло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высказывание одного челове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ует подготовки, рассчитана на определённую аудитор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E730C-2160-46B2-9CBE-DED373D6E368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Различные виды монологических высказыван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І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Репродуктивные высказыв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  <a:ea typeface="Arial"/>
              </a:rPr>
              <a:t>(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  <a:ea typeface="Arial"/>
              </a:rPr>
              <a:t>пересказы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ІІ Продуктивные высказыв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(развернутый устный ответ, сообщение, «слово» о писателе, рассказ о произведении искусства, речь экскурсовода, стихи, самостоятельно сочинённые рассказы, сказ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F6179-85DA-46B4-9C6D-7AB4EB462977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новные направления работы по развитию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Устной ре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над пониманием тек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сказы художественного тек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бщ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исьменной ре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невник чита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зыв о кни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нотация на книг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75421-E6D7-4670-995E-8D7856FBD4F5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ересказы художественного текст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дробный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краткий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жаты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выборочный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тбор фрагмен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 одну тем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. пересказ с изменением лица рассказчик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6F94F-D61B-4D3C-ABDE-E0A5B69ADFF3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ребования, предъявляемые к речи учеников младших классов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сность ре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зительность ре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ьность ре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гатство языковых сред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ность ре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гичность ре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тельность ре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08059-8156-481F-8140-7BEA6A5BB560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орма ведения (примерная) дневни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Автор. Заглав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ремя прочтения кни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Основные герои произ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Впечатления, вызванные книг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Строки, которые особенно понравили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79A75-8949-4447-A34B-729925FB748D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отзыва о книг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Автор, название, жанр кни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Кому, по-вашему, будет интересна книг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Время и место действия книги. О чём он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Основные персонажи кни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Как начинается книг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Каков конфликт? Проблем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Чем интересна книга в цел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Какой эпизод особенно показался интересны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Кто из героев понравился больше? 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Какое впечатление произвел стиль авто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. Ваше читательское мнение, мысли о книг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40238-D392-43B7-8434-EE248FE90F4C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ыпускник начальной школы должен уме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ать виды переск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ить текст на смысловые части и составлять простой план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нему рассказывать произ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ть тему. Объяснять развитие событий в текс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ходить главную мысль произведения и соотносить её с заглав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исывать героев (их поступки, характер), своё отношение к прочитанно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94484-1527-400C-981C-FF3515A2A410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ля ребёнка хорошая речь – залог успешного обучения и развития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«Язык не может быть плохим или хорошим…Ведь язык – это только зеркало. То самое зеркало, на которое глупо пенять.»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.Довлатов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25C85-A6A6-448A-90A2-990C3431A471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развитие речи школьников – низкий показатель духовной культуры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42843-88B8-41DD-A751-97B5CCE9AE88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ре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оянно протекающий в течение всей жизни человека процесс овладения речью и её механизмами в непосредственной взаимосвязи с духовным становлением личности, обогащением её внутреннего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F8397-D1AC-444D-B5DC-E675E019C258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сновная цель уроков литературного чт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чь ребенку стать читателем: подвести к осознанию богатого мира отечественной и зарубежной детской литературы как искусства художественного слова; обогатить читательский опы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ED11D-4FE0-4497-98C5-1063F18A9A90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дачи уроков литературного чтени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вать умения «видеть» слово в тексте, наблюдать за его значе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имать, почему данное слово отобрал писатель, как оно характеризует геро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зличать переносное образное значени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ь использовать в собственной речи меткие слова и выра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учать пониманию текс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вать навыки выразительного чтения, культуры речи, твор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68AC2-6526-4CF9-8728-8BA7308CAD0A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и приё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ент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прет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содержания и фо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зительное чт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аматизация произ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ие дей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образительная 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овые приё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сьм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Различные формы устной реч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2756D-F1E5-4A09-A462-0350939D4D17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1" lang="ru-RU" sz="1100" spc="-1" strike="noStrike">
                <a:solidFill>
                  <a:srgbClr val="ff0000"/>
                </a:solidFill>
                <a:latin typeface="Calibri"/>
              </a:rPr>
              <a:t>Различные формы устной речи </a:t>
            </a:r>
            <a:br>
              <a:rPr sz="1100"/>
            </a:b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высказы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ис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тельные характерис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ска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зывы на книг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нот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E6EE9-D94A-4A4B-9B8B-7C989CAC6F15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чь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 общения люде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редством язы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чевое общение организует совместную деятельность людей, способствует познанию друг друга, является существенным фактором в развитии межличностны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64AC4-FD43-4D9A-B382-A79F444B331C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ечь тесно связана с другими психическими процесса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рият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мина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роизведе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иды речевой д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яя (устна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енняя (письменна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DD72C-8BDB-41FD-8105-D7CD40A57774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E917-5C5D-46AF-9D4D-9099DC199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DA4E-D760-43BC-94D0-7EA66210E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F07F-033E-4C56-B0C6-6A3BEEEAA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D52B-710D-4ACF-91DB-72F67F03D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8C222-6753-4F51-B05C-7EF97CBF3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DFBE4-BE2B-43E6-B536-8F9762CE3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93F3B-A009-4B95-9DFC-CF9EFA69B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761EB-2BAC-4044-85DE-FA507076F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A187A-6697-400C-BCFF-C1DFAB564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1CF1D-B021-4FAD-984F-6ABCC68B0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E7189-6859-445F-A0DF-217C7660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DE06-467F-40B9-83C7-5CD49876C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36307-F816-426D-8C6B-EB8D96BF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F0F4E-D874-4E72-8D65-C01CA6B9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B9629-8A70-44A2-9A35-42802504F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2F3F5-8BA6-4268-BA9F-AF71C3A45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3A1E2-E5D3-4499-83A1-581E9682C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E284-1124-40D2-9A90-BE7235C67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9DA0-6D1C-49AD-AC31-B28032207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6370-0AD4-478D-9EB8-DE15E752D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2F5F-A1DE-4ABC-BAE2-B400D1010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DBCD-7B93-4E2A-90C7-2F43D862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02A7-BB98-4741-AA6C-C6CA6814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D02D-9A3A-40BB-90B8-FEF4E3B2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1507C-E75E-4FDF-AED2-C6F97AAAC1D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AB385-F508-455C-BEBC-7975377801C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Речь младших школьников 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и пути её развити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i-main-pic" descr="Картинка 4 из 103"/>
          <p:cNvPicPr/>
          <p:nvPr/>
        </p:nvPicPr>
        <p:blipFill>
          <a:blip r:embed="rId1"/>
          <a:stretch/>
        </p:blipFill>
        <p:spPr>
          <a:xfrm>
            <a:off x="4788000" y="2852640"/>
            <a:ext cx="4048200" cy="360072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Устная речь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Диалог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(разговор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бычно не полностью развернута, ситуативна, в ней многое не высказывается, а подразумеваетс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1480" y="1752480"/>
            <a:ext cx="3925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Монолог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(высказывание одного человека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Требует подготовки, рассчитана на определённую аудиторию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Verdana"/>
              </a:rPr>
              <a:t>Различные виды монологических высказываний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  <a:ea typeface="Arial"/>
              </a:rPr>
              <a:t>І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Arial"/>
              </a:rPr>
              <a:t>. </a:t>
            </a:r>
            <a:r>
              <a:rPr b="1" lang="ru-RU" sz="3000" spc="-1" strike="noStrike">
                <a:solidFill>
                  <a:srgbClr val="000000"/>
                </a:solidFill>
                <a:latin typeface="Verdana"/>
                <a:ea typeface="Arial"/>
              </a:rPr>
              <a:t>Репродуктивные высказывания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3000" spc="-1" strike="noStrike">
                <a:solidFill>
                  <a:srgbClr val="ff0000"/>
                </a:solidFill>
                <a:latin typeface="Verdana"/>
                <a:ea typeface="Arial"/>
              </a:rPr>
              <a:t>(</a:t>
            </a:r>
            <a:r>
              <a:rPr b="1" lang="ru-RU" sz="3000" spc="-1" strike="noStrike">
                <a:solidFill>
                  <a:srgbClr val="ff0000"/>
                </a:solidFill>
                <a:latin typeface="Verdana"/>
                <a:ea typeface="Arial"/>
              </a:rPr>
              <a:t>пересказы</a:t>
            </a:r>
            <a:r>
              <a:rPr b="0" lang="ru-RU" sz="3000" spc="-1" strike="noStrike">
                <a:solidFill>
                  <a:srgbClr val="ff0000"/>
                </a:solidFill>
                <a:latin typeface="Verdana"/>
                <a:ea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  <a:ea typeface="Arial"/>
              </a:rPr>
              <a:t>ІІ Продуктивные высказывания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Arial"/>
              </a:rPr>
              <a:t> (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Arial"/>
              </a:rPr>
              <a:t>развернутый устный ответ, сообщение, «слово» о писателе, рассказ о произведении искусства, речь экскурсовода, стихи, самостоятельно сочинённые рассказы, сказки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Основные направления работы по развитию  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6699"/>
                </a:solidFill>
                <a:latin typeface="Verdana"/>
              </a:rPr>
              <a:t>Устной реч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Работа над пониманием текст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ересказы художественного текст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ообщения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1480" y="1752480"/>
            <a:ext cx="3925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6699"/>
                </a:solidFill>
                <a:latin typeface="Verdana"/>
              </a:rPr>
              <a:t>Письменной реч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невник читател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тзыв о книг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Аннотация на книгу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Picture 6" descr="аним"/>
          <p:cNvPicPr/>
          <p:nvPr/>
        </p:nvPicPr>
        <p:blipFill>
          <a:blip r:embed="rId1"/>
          <a:stretch/>
        </p:blipFill>
        <p:spPr>
          <a:xfrm>
            <a:off x="5003640" y="4311720"/>
            <a:ext cx="2521080" cy="189072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Пересказы художественного текста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. подробный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2. краткий (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сжатый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3. выборочный (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отбор фрагментов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          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на одну тему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. пересказ с изменением лица рассказчик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Picture 4" descr="аним"/>
          <p:cNvPicPr/>
          <p:nvPr/>
        </p:nvPicPr>
        <p:blipFill>
          <a:blip r:embed="rId1"/>
          <a:stretch/>
        </p:blipFill>
        <p:spPr>
          <a:xfrm>
            <a:off x="6156360" y="3933720"/>
            <a:ext cx="2160720" cy="259092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Требования, предъявляемые к речи учеников младших классов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Ясность реч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ыразительность реч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авильность реч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Богатство языковых средств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Точность реч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Логичность реч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одержательность реч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4" descr="аним"/>
          <p:cNvPicPr/>
          <p:nvPr/>
        </p:nvPicPr>
        <p:blipFill>
          <a:blip r:embed="rId1"/>
          <a:stretch/>
        </p:blipFill>
        <p:spPr>
          <a:xfrm>
            <a:off x="5940360" y="3716280"/>
            <a:ext cx="2592360" cy="151308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Форма ведения (примерная) дневник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1.Автор. Заглавие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2. Время прочтения книг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3. Тем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4. Основные герои произведен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5. Впечатления, вызванные книгой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6. Строки, которые особенно понравились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лан отзыва о книге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1. Автор, название, жанр книг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2. Кому, по-вашему, будет интересна книга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3. Время и место действия книги. О чём она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4. Основные персонажи книги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5. Как начинается книга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6. Каков конфликт? Проблема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7. Чем интересна книга в целом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8. Какой эпизод особенно показался интересным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9. Кто из героев понравился больше? Почему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10. Какое впечатление произвел стиль автора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11. Ваше читательское мнение, мысли о книге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ыпускник начальной школы должен уме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различать виды пересказа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Делить текст на смысловые части и составлять простой план,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по нему рассказывать произведение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Определять тему. Объяснять развитие событий в тексте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находить главную мысль произведения и соотносить её с заглавием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Описывать героев (их поступки, характер), своё отношение к прочитанному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Picture 4" descr="читающая девочка"/>
          <p:cNvPicPr/>
          <p:nvPr/>
        </p:nvPicPr>
        <p:blipFill>
          <a:blip r:embed="rId1"/>
          <a:stretch/>
        </p:blipFill>
        <p:spPr>
          <a:xfrm>
            <a:off x="7308720" y="3933720"/>
            <a:ext cx="1468440" cy="244800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>
            <a:off x="1187280" y="2262240"/>
            <a:ext cx="7274160" cy="38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илучший источник обогащения словаря – живое общение, речь, устная и письменная, литература: слово в тексте всегда как бы высвечивается семантически и художественно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ля ребёнка хорошая речь – залог успешного обучения и развит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Verdana"/>
              </a:rPr>
              <a:t>«Язык не может быть плохим или хорошим…Ведь язык – это только зеркало. То самое зеркало, на которое глупо пенять.»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С.Довлатов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6"/>
          <p:cNvSpPr txBox="1"/>
          <p:nvPr/>
        </p:nvSpPr>
        <p:spPr>
          <a:xfrm>
            <a:off x="755640" y="476280"/>
            <a:ext cx="7772400" cy="146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Учите ребёнка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        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рассказывать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pic>
        <p:nvPicPr>
          <p:cNvPr id="163" name="Picture 7" descr="Sample11"/>
          <p:cNvPicPr/>
          <p:nvPr/>
        </p:nvPicPr>
        <p:blipFill>
          <a:blip r:embed="rId1"/>
          <a:stretch/>
        </p:blipFill>
        <p:spPr>
          <a:xfrm>
            <a:off x="1835280" y="1968480"/>
            <a:ext cx="6265800" cy="4700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аним"/>
          <p:cNvPicPr/>
          <p:nvPr/>
        </p:nvPicPr>
        <p:blipFill>
          <a:blip r:embed="rId2"/>
          <a:stretch/>
        </p:blipFill>
        <p:spPr>
          <a:xfrm flipH="1">
            <a:off x="703440" y="981000"/>
            <a:ext cx="799920" cy="122400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03280" y="836640"/>
            <a:ext cx="5111640" cy="13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облема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доразвитие речи школьников – низкий показатель духовной культуры личност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i-main-pic" descr="Картинка 53 из 103"/>
          <p:cNvPicPr/>
          <p:nvPr/>
        </p:nvPicPr>
        <p:blipFill>
          <a:blip r:embed="rId1"/>
          <a:stretch/>
        </p:blipFill>
        <p:spPr>
          <a:xfrm>
            <a:off x="539640" y="0"/>
            <a:ext cx="2400480" cy="233352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Развитие реч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971640" y="2636640"/>
            <a:ext cx="64008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тоянно протекающий в течение всей жизни человека процесс овладения речью и её механизмами в непосредственной взаимосвязи с духовным становлением личности, обогащением её внутреннего мир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6" descr="профессор в очках"/>
          <p:cNvPicPr/>
          <p:nvPr/>
        </p:nvPicPr>
        <p:blipFill>
          <a:blip r:embed="rId1"/>
          <a:stretch/>
        </p:blipFill>
        <p:spPr>
          <a:xfrm>
            <a:off x="7164360" y="438480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1191269140_c4121"/>
          <p:cNvPicPr/>
          <p:nvPr/>
        </p:nvPicPr>
        <p:blipFill>
          <a:blip r:embed="rId1"/>
          <a:stretch/>
        </p:blipFill>
        <p:spPr>
          <a:xfrm>
            <a:off x="6877080" y="2492280"/>
            <a:ext cx="2011320" cy="35924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Основная цель уроков литературного чтения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мочь ребенку стать читателем: подвести к осознанию богатого мира отечественной и зарубежной детской литературы как искусства художественного слова; обогатить читательский опы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Задачи уроков литературного чтения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Развивать умения «видеть» слово в тексте, наблюдать за его значением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нимать, почему данное слово отобрал писатель, как оно характеризует геро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Различать переносное образное значение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1480" y="1752480"/>
            <a:ext cx="3925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Учить использовать в собственной речи меткие слова и выражени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бучать пониманию текста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Развивать навыки выразительного чтения, культуры речи, творчества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Методы и приёмы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Комментировани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нтерпретац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Анализ содержания и форм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ыразительное чтени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раматизация произведен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1480" y="1752480"/>
            <a:ext cx="3925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актические действ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зобразительная деятельность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гровые приём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исьм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Verdana"/>
              </a:rPr>
              <a:t>Различные формы устной речи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ru-RU" sz="2500" spc="-1" strike="noStrike">
                <a:solidFill>
                  <a:srgbClr val="ff0000"/>
                </a:solidFill>
                <a:latin typeface="Verdana"/>
              </a:rPr>
              <a:t>Различные формы устной речи </a:t>
            </a:r>
            <a:br>
              <a:rPr sz="2500"/>
            </a:br>
            <a:r>
              <a:rPr b="1" lang="ru-RU" sz="3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оставление высказывани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писа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равнительные характеристик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ересказ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тзывы на книгу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ннотации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4" descr="книги"/>
          <p:cNvPicPr/>
          <p:nvPr/>
        </p:nvPicPr>
        <p:blipFill>
          <a:blip r:embed="rId1"/>
          <a:stretch/>
        </p:blipFill>
        <p:spPr>
          <a:xfrm>
            <a:off x="5651640" y="3529080"/>
            <a:ext cx="2881080" cy="269568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917120" cy="22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Речь-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форма общения людей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осредством язык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258560" y="3068280"/>
            <a:ext cx="6697800" cy="25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чевое общение организует совместную деятельность людей, способствует познанию друг друга, является существенным фактором в развитии межличностных отношен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5" descr="дети танцуют"/>
          <p:cNvPicPr/>
          <p:nvPr/>
        </p:nvPicPr>
        <p:blipFill>
          <a:blip r:embed="rId1"/>
          <a:stretch/>
        </p:blipFill>
        <p:spPr>
          <a:xfrm>
            <a:off x="6540480" y="4437000"/>
            <a:ext cx="1409760" cy="172872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Речь тесно связана с другими психическими процессами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осприятие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Запоминание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оспроизведением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71600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Виды речевой деятельности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нешняя (устная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нутренняя (письменная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10" descr="анимация шапка магистра"/>
          <p:cNvPicPr/>
          <p:nvPr/>
        </p:nvPicPr>
        <p:blipFill>
          <a:blip r:embed="rId1"/>
          <a:stretch/>
        </p:blipFill>
        <p:spPr>
          <a:xfrm>
            <a:off x="1116000" y="549360"/>
            <a:ext cx="1905120" cy="971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3" descr="анимация шапка магистра"/>
          <p:cNvPicPr/>
          <p:nvPr/>
        </p:nvPicPr>
        <p:blipFill>
          <a:blip r:embed="rId2"/>
          <a:stretch/>
        </p:blipFill>
        <p:spPr>
          <a:xfrm>
            <a:off x="5867280" y="549360"/>
            <a:ext cx="1905120" cy="97164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10:35:24Z</dcterms:created>
  <dc:creator>1</dc:creator>
  <dc:description/>
  <dc:language>en-US</dc:language>
  <cp:lastModifiedBy>LEGION</cp:lastModifiedBy>
  <dcterms:modified xsi:type="dcterms:W3CDTF">2015-01-27T12:16:24Z</dcterms:modified>
  <cp:revision>5</cp:revision>
  <dc:subject/>
  <dc:title> Речь младших школьников  и пути её развития</dc:title>
</cp:coreProperties>
</file>