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52.jpeg" ContentType="image/jpeg"/>
  <Override PartName="/ppt/media/image28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4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5.wmf" ContentType="image/x-wmf"/>
  <Override PartName="/ppt/media/image19.jpeg" ContentType="image/jpeg"/>
  <Override PartName="/ppt/media/image42.jpeg" ContentType="image/jpeg"/>
  <Override PartName="/ppt/media/image11.png" ContentType="image/png"/>
  <Override PartName="/ppt/media/image6.wmf" ContentType="image/x-wmf"/>
  <Override PartName="/ppt/media/image47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17.wmf" ContentType="image/x-wmf"/>
  <Override PartName="/ppt/media/image22.jpeg" ContentType="image/jpeg"/>
  <Override PartName="/ppt/media/image9.png" ContentType="image/png"/>
  <Override PartName="/ppt/media/image46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56.jpeg" ContentType="image/jpeg"/>
  <Override PartName="/ppt/media/image36.jpeg" ContentType="image/jpeg"/>
  <Override PartName="/ppt/media/image58.jpeg" ContentType="image/jpeg"/>
  <Override PartName="/ppt/media/image57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49.wmf" ContentType="image/x-wmf"/>
  <Override PartName="/ppt/media/image12.wmf" ContentType="image/x-wmf"/>
  <Override PartName="/ppt/media/image41.wmf" ContentType="image/x-wmf"/>
  <Override PartName="/ppt/media/image39.jpeg" ContentType="image/jpeg"/>
  <Override PartName="/ppt/media/image8.png" ContentType="image/png"/>
  <Override PartName="/ppt/media/image14.jpeg" ContentType="image/jpeg"/>
  <Override PartName="/ppt/media/image45.jpeg" ContentType="image/jpeg"/>
  <Override PartName="/ppt/media/image16.wmf" ContentType="image/x-wmf"/>
  <Override PartName="/ppt/media/image3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6D78E0-DE9E-4515-9E37-4476BFA50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МКОУ «Кулунская оош»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5F0862-7BF4-4B59-BC9B-29C0B7F6DBD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о спо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76D333-B307-4878-AC73-CD31126F1F2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«Одеть лыж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DFD96E-ACA4-40D9-B84E-05F8BDA64EB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ЯЧ И СКАК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880B67-5579-499E-A914-96B3CF80257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рт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16788B-F35F-4F66-95E1-0D13AEE0D0E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ртивная  аэроб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BF1CB3-4A09-4009-9487-F3B76630CAB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E8E7EF-1650-4AC0-95BA-A75564F3D77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ч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«Все в твоих руках»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341C33-FE0D-4A16-82EF-10E4261519B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доровье – это драгоценность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 притом единственная, рад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торой действительно стоит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е только не жалеть времени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ил, трудов и всяких благ но 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жертвовать ради него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тицей самой жизни, поскольку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жизнь без него становиться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естерпимой и унизительной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М. Монтень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2887D1-1C62-4EA7-97E5-1F704FF5850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105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105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1E6B19-664A-4A1E-940C-E3244201E82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88C08C-BADD-4132-8047-B2E583B30279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ую виктор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607370-5FBB-4BED-8208-6B4630CCEEC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9C862A-B7BD-422D-8542-13B7DA0B035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шечный турн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F87A7C-0427-4390-AE25-6478498644B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рисунков и плак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4B9D45-74AD-4C21-B536-8708FFE28A4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102-E1E0-408C-862A-A051E8CB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B4F-144A-49BE-9A34-DDC0C450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55F-104C-4A9F-AB51-B31F0B75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EC1-5494-401B-900D-E2D26C0D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7D42-21D1-4616-8B99-F37BBDB6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7881-1204-43ED-BFC7-2272E319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9188-581D-4DD7-A54F-C1B50D3C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9E93-DFA6-4470-B3A1-BFD21483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F011-2136-4775-B8CE-31B36693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E6FF-EDD8-46E1-9FCB-91D0F7F0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B663-D20B-46E9-A397-82032942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928-89EB-46D5-971D-C111B46D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8C8F-A01D-4150-9333-AB9DF794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B8FD-EBE7-4522-93EF-224C58D3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04BE-73CF-4B60-8F0B-118E5826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B7EF-A2AD-4A88-B142-F7DD3A05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F33B-AB6F-4B2C-9FD1-46983E2E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810-F54D-4093-9BE9-CA12E387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13A-66DA-4546-9AB1-EF95A819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12D-B179-4A1A-A800-A0C41CEC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8B1-E5D7-470A-BD62-78427E1F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0D9-C65F-4D02-93F3-B5A4C4D1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6F18-D141-4424-8450-A236E0A9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32D8-1B3D-4EDD-B1FB-4BEAF889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1DA132-1A28-49CE-8DA8-2ABCE5084AF2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80A21D-D78A-4660-8B8A-2FBB8DAACAED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2.wmf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7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040" cy="13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4e3b30"/>
                </a:solidFill>
                <a:latin typeface="Franklin Gothic Medium"/>
              </a:rPr>
              <a:t>МКОУ «Кулунская оош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1571760"/>
            <a:ext cx="9143640" cy="392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2a2003"/>
                </a:solidFill>
                <a:latin typeface="Comic Sans MS"/>
              </a:rPr>
              <a:t>Акц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000803_1055_5842_vnvv"/>
          <p:cNvPicPr/>
          <p:nvPr/>
        </p:nvPicPr>
        <p:blipFill>
          <a:blip r:embed="rId1"/>
          <a:stretch/>
        </p:blipFill>
        <p:spPr>
          <a:xfrm>
            <a:off x="380880" y="4908600"/>
            <a:ext cx="1190160" cy="1949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000803_1077_3437_vnvv"/>
          <p:cNvPicPr/>
          <p:nvPr/>
        </p:nvPicPr>
        <p:blipFill>
          <a:blip r:embed="rId2"/>
          <a:stretch/>
        </p:blipFill>
        <p:spPr>
          <a:xfrm>
            <a:off x="0" y="1112400"/>
            <a:ext cx="1856880" cy="173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000803_1077_3807_vnvv"/>
          <p:cNvPicPr/>
          <p:nvPr/>
        </p:nvPicPr>
        <p:blipFill>
          <a:blip r:embed="rId3"/>
          <a:stretch/>
        </p:blipFill>
        <p:spPr>
          <a:xfrm>
            <a:off x="7605720" y="1143000"/>
            <a:ext cx="1537920" cy="2130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000803_1079_3621_vuvv"/>
          <p:cNvPicPr/>
          <p:nvPr/>
        </p:nvPicPr>
        <p:blipFill>
          <a:blip r:embed="rId4"/>
          <a:stretch/>
        </p:blipFill>
        <p:spPr>
          <a:xfrm>
            <a:off x="6643800" y="4643280"/>
            <a:ext cx="2257200" cy="2067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3"/>
          <p:cNvSpPr>
            <a:spLocks noGrp="1"/>
          </p:cNvSpPr>
          <p:nvPr>
            <p:ph type="ftr" idx="1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5000760" y="1071720"/>
            <a:ext cx="38095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571320" y="407196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4"/>
          <a:stretch/>
        </p:blipFill>
        <p:spPr>
          <a:xfrm>
            <a:off x="4929120" y="412560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ftr" idx="1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Всё о спорте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4266720" cy="320004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357800" y="3268440"/>
            <a:ext cx="4785840" cy="358920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«Одеть лыжника»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314160" cy="248580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464328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5072040" y="1071720"/>
            <a:ext cx="3426480" cy="2569680"/>
          </a:xfrm>
          <a:prstGeom prst="rect">
            <a:avLst/>
          </a:prstGeom>
          <a:ln w="9525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ftr" idx="2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МЯЧ И СКАКАЛ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000803_1077_3526_vnvv"/>
          <p:cNvPicPr/>
          <p:nvPr/>
        </p:nvPicPr>
        <p:blipFill>
          <a:blip r:embed="rId1"/>
          <a:stretch/>
        </p:blipFill>
        <p:spPr>
          <a:xfrm>
            <a:off x="142920" y="0"/>
            <a:ext cx="905040" cy="121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5172120" y="121428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785880" y="37861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4"/>
          <a:stretch/>
        </p:blipFill>
        <p:spPr>
          <a:xfrm>
            <a:off x="785880" y="128592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5214960" y="3929040"/>
            <a:ext cx="3214440" cy="2410560"/>
          </a:xfrm>
          <a:prstGeom prst="rect">
            <a:avLst/>
          </a:prstGeom>
          <a:ln w="9525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ftr" idx="2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дартс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3790440" cy="2842920"/>
          </a:xfrm>
          <a:prstGeom prst="rect">
            <a:avLst/>
          </a:prstGeom>
          <a:ln w="9525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572000" y="128592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2928960" y="4227480"/>
            <a:ext cx="3507120" cy="2630160"/>
          </a:xfrm>
          <a:prstGeom prst="rect">
            <a:avLst/>
          </a:prstGeom>
          <a:ln w="9525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4e3b30"/>
                </a:solidFill>
                <a:latin typeface="Franklin Gothic Medium"/>
              </a:rPr>
              <a:t>Спортивная  аэроби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000803_1077_3446_vnvv"/>
          <p:cNvPicPr/>
          <p:nvPr/>
        </p:nvPicPr>
        <p:blipFill>
          <a:blip r:embed="rId1"/>
          <a:stretch/>
        </p:blipFill>
        <p:spPr>
          <a:xfrm>
            <a:off x="3357720" y="2643120"/>
            <a:ext cx="2280960" cy="235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42920" y="1357200"/>
            <a:ext cx="3221280" cy="241596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5643720" y="1428840"/>
            <a:ext cx="3214440" cy="241056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4"/>
          <a:stretch/>
        </p:blipFill>
        <p:spPr>
          <a:xfrm>
            <a:off x="214200" y="4143240"/>
            <a:ext cx="3212640" cy="240948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5572080" y="4071960"/>
            <a:ext cx="3411720" cy="2558880"/>
          </a:xfrm>
          <a:prstGeom prst="rect">
            <a:avLst/>
          </a:prstGeom>
          <a:ln w="9525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«</a:t>
            </a:r>
            <a:r>
              <a:rPr b="1" lang="ru-RU" sz="2400" spc="-1" strike="noStrike" cap="all">
                <a:solidFill>
                  <a:srgbClr val="4e3b30"/>
                </a:solidFill>
                <a:latin typeface="Franklin Gothic Medium"/>
              </a:rPr>
              <a:t>Я выбираю спорт как альтернативу пагубным привычкам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3642840" cy="273204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4500720" y="1392840"/>
            <a:ext cx="3649680" cy="273744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2214720" y="365760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ftr" idx="2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000803_1055_6324_vnvv"/>
          <p:cNvPicPr/>
          <p:nvPr/>
        </p:nvPicPr>
        <p:blipFill>
          <a:blip r:embed="rId1"/>
          <a:stretch/>
        </p:blipFill>
        <p:spPr>
          <a:xfrm>
            <a:off x="4000320" y="2571840"/>
            <a:ext cx="2549160" cy="4026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357960" y="5143680"/>
            <a:ext cx="1371240" cy="15235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4857840" y="5715000"/>
            <a:ext cx="1447560" cy="91404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7772400" y="5643720"/>
            <a:ext cx="1371240" cy="10663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000803_1055_5842_vnvv"/>
          <p:cNvPicPr/>
          <p:nvPr/>
        </p:nvPicPr>
        <p:blipFill>
          <a:blip r:embed="rId2"/>
          <a:stretch/>
        </p:blipFill>
        <p:spPr>
          <a:xfrm>
            <a:off x="6357960" y="2786040"/>
            <a:ext cx="1412640" cy="2312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357120" y="357120"/>
            <a:ext cx="4093200" cy="3069720"/>
          </a:xfrm>
          <a:prstGeom prst="rect">
            <a:avLst/>
          </a:prstGeom>
          <a:ln w="9525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Franklin Gothic Medium"/>
              </a:rPr>
              <a:t>Притча.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714240" y="1500120"/>
            <a:ext cx="81435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2000" spc="-1" strike="noStrike">
                <a:solidFill>
                  <a:srgbClr val="271e18"/>
                </a:solidFill>
                <a:latin typeface="Comic Sans MS"/>
              </a:rPr>
              <a:t>«Все в твоих руках»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240" cy="59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Здоровье – это драгоценность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И притом единственная, ради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Которой действительно стоит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Не только не жалеть времени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Сил, трудов и всяких благ но и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пожертвовать ради него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частицей самой жизни, поскольку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жизнь без него становиться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нестерпимой и унизительной.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                                                  </a:t>
            </a:r>
            <a:r>
              <a:rPr b="1" i="1" lang="ru-RU" sz="2000" spc="-1" strike="noStrike" cap="all">
                <a:solidFill>
                  <a:srgbClr val="4e3b30"/>
                </a:solidFill>
                <a:latin typeface="Franklin Gothic Medium"/>
              </a:rPr>
              <a:t>М. Монтень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28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Таблица 3"/>
          <p:cNvGraphicFramePr/>
          <p:nvPr/>
        </p:nvGraphicFramePr>
        <p:xfrm>
          <a:off x="428760" y="1357200"/>
          <a:ext cx="8286480" cy="5357520"/>
        </p:xfrm>
        <a:graphic>
          <a:graphicData uri="http://schemas.openxmlformats.org/drawingml/2006/table">
            <a:tbl>
              <a:tblPr/>
              <a:tblGrid>
                <a:gridCol w="1262520"/>
                <a:gridCol w="794520"/>
                <a:gridCol w="950400"/>
                <a:gridCol w="1592640"/>
                <a:gridCol w="1727280"/>
                <a:gridCol w="1958040"/>
              </a:tblGrid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-г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-хся в н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,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вших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обучаю-щихся, регулярно занимающихся физкультурой, спорт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064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ОУ «Кулунская ООШ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мастерская- газета «Я выбираю спорт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букл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мараф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езен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2"/>
          <p:cNvSpPr>
            <a:spLocks noGrp="1"/>
          </p:cNvSpPr>
          <p:nvPr>
            <p:ph type="ftr" idx="1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686440" cy="29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Хочешь быть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 здоровым, сильным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Молодым красивым, стильным,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С атлетической фигурой?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Занимайся физкультурой.</a:t>
            </a:r>
            <a:br>
              <a:rPr sz="1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803_1055_6316_vnvv"/>
          <p:cNvPicPr/>
          <p:nvPr/>
        </p:nvPicPr>
        <p:blipFill>
          <a:blip r:embed="rId1"/>
          <a:stretch/>
        </p:blipFill>
        <p:spPr>
          <a:xfrm>
            <a:off x="571320" y="2503440"/>
            <a:ext cx="2142720" cy="410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928880" y="400068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7000920" y="407196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3929040" y="4419720"/>
            <a:ext cx="3071520" cy="225216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5"/>
          <a:stretch/>
        </p:blipFill>
        <p:spPr>
          <a:xfrm>
            <a:off x="3929040" y="2500200"/>
            <a:ext cx="3080880" cy="231084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6"/>
          <a:stretch/>
        </p:blipFill>
        <p:spPr>
          <a:xfrm>
            <a:off x="7000920" y="1405080"/>
            <a:ext cx="1999800" cy="2666520"/>
          </a:xfrm>
          <a:prstGeom prst="rect">
            <a:avLst/>
          </a:prstGeom>
          <a:ln w="9525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ftr" idx="1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ую викторину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803_1077_9956_vnvv"/>
          <p:cNvPicPr/>
          <p:nvPr/>
        </p:nvPicPr>
        <p:blipFill>
          <a:blip r:embed="rId1"/>
          <a:stretch/>
        </p:blipFill>
        <p:spPr>
          <a:xfrm>
            <a:off x="5072040" y="1214280"/>
            <a:ext cx="2161800" cy="253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5000760" y="3714840"/>
            <a:ext cx="3855600" cy="2891520"/>
          </a:xfrm>
          <a:prstGeom prst="rect">
            <a:avLst/>
          </a:prstGeom>
          <a:ln w="9525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4"/>
          <a:stretch/>
        </p:blipFill>
        <p:spPr>
          <a:xfrm>
            <a:off x="285840" y="4071960"/>
            <a:ext cx="3714480" cy="2785680"/>
          </a:xfrm>
          <a:prstGeom prst="rect">
            <a:avLst/>
          </a:prstGeom>
          <a:ln w="9525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ые игр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000803_1055_5843_vnvv"/>
          <p:cNvPicPr/>
          <p:nvPr/>
        </p:nvPicPr>
        <p:blipFill>
          <a:blip r:embed="rId1"/>
          <a:stretch/>
        </p:blipFill>
        <p:spPr>
          <a:xfrm>
            <a:off x="6715080" y="4500720"/>
            <a:ext cx="1832400" cy="184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000803_1055_6007_vnvv"/>
          <p:cNvPicPr/>
          <p:nvPr/>
        </p:nvPicPr>
        <p:blipFill>
          <a:blip r:embed="rId2"/>
          <a:stretch/>
        </p:blipFill>
        <p:spPr>
          <a:xfrm>
            <a:off x="0" y="4429080"/>
            <a:ext cx="1788840" cy="173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3284280" cy="246312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4"/>
          <a:stretch/>
        </p:blipFill>
        <p:spPr>
          <a:xfrm>
            <a:off x="4643280" y="12859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5"/>
          <a:stretch/>
        </p:blipFill>
        <p:spPr>
          <a:xfrm>
            <a:off x="2357280" y="3929040"/>
            <a:ext cx="3602160" cy="2701440"/>
          </a:xfrm>
          <a:prstGeom prst="rect">
            <a:avLst/>
          </a:prstGeom>
          <a:ln w="9525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ftr" idx="1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3981240" cy="298584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857840" y="500040"/>
            <a:ext cx="3888000" cy="291600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4046040" cy="3034440"/>
          </a:xfrm>
          <a:prstGeom prst="rect">
            <a:avLst/>
          </a:prstGeom>
          <a:ln w="9525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998520" cy="2998800"/>
          </a:xfrm>
          <a:prstGeom prst="rect">
            <a:avLst/>
          </a:prstGeom>
          <a:ln w="9525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ftr" idx="1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Шашечный турнир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71320" y="1214280"/>
            <a:ext cx="3498480" cy="2623680"/>
          </a:xfrm>
          <a:prstGeom prst="rect">
            <a:avLst/>
          </a:prstGeom>
          <a:ln w="9525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643280" y="11430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571320" y="4000680"/>
            <a:ext cx="3569760" cy="267732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4643280" y="400068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рисунков и плакатов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ftr" idx="1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32</TotalTime>
  <Application>LibreOffice/7.4.7.2$Linux_X86_64 LibreOffice_project/40$Build-2</Application>
  <AppVersion>15.0000</AppVersion>
  <Words>573</Words>
  <Paragraphs>9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8:24:23Z</dcterms:created>
  <dc:creator>Горшкова</dc:creator>
  <dc:description/>
  <dc:language>en-US</dc:language>
  <cp:lastModifiedBy>LEGION</cp:lastModifiedBy>
  <dcterms:modified xsi:type="dcterms:W3CDTF">2015-01-27T12:18:11Z</dcterms:modified>
  <cp:revision>30</cp:revision>
  <dc:subject/>
  <dc:title>МОУ Поздняковская СО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</Properties>
</file>