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7DEA-247A-4726-8348-C84F748713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младших школь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чмасова С.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F87E-1F49-46D7-BB9A-32B79B3235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едущая педагогическая иде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ти способны – такова моя ведущая педагогическая идея. В связи с этим особое внимание уделяю созданию условий для развития творческого потенциала каждого ученика. Я считаю, что необходимо учитывать физиологические особенности ребенка, различный уровень обучаемости, готовности к участию в творческой деятельности. В связи с этим я сосредотачиваю внимание на подборе разноуровневых творческих заданий для каждого уче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2BE4-BE61-4F57-A9EA-8523A98FA9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 опы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вышение качества знаний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обретение навыка самостоятельно организовывать свою учебную деятель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ктивизация творческой и познавательной активности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положительных личностных качеств учен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осознанной потребности в ведении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ный педагогический опыт считаю актуальным и результа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35FD-F1FA-4319-A6DF-557B3AF8CF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учащихся зависит от эффективности используемых учителем методов и приёмов и того, насколько творчески он подходит к данной пробл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и форм творческих заданий позволило достичь определенного уровня в развитии творческих способностей, который оказался посильным для каждого учени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тическая работа по развитию творческих способностей дает следующие результаты: дети вырастают любознательными, активными, умеющими учиться, настоящими мечтателями и фантазерами, людьми, способными видеть чудо в привычных вещах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е творчество детей помогает прочнее усваивать и запоминать теоретические сведения. Легче решается проблема мотивации, дети сами проявляют желание творить. Важным моментом является то, что творческие работы привлекают внимание всех детей, здесь они открываются с положительной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38C3-AA72-40F4-9639-4916B6A134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ктуальность и перспективность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В душе каждого ребенка есть невидимые струны. Если тронуть их умелой рукой, они красиво зазвуча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0CBB-2253-45E1-B962-8C10AB3707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ворческие способ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ворческие способнос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это индивидуальные психологические особенности ребе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8557-0424-4BC6-A023-AD44875DF7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-  важнейшая задача начального образования, ведь этот процесс пронизывает все этапы развития личности ребенка, пробуждает инициативу и самостоятельность принимаемых решений,  привычку к свободному самовыражению, уверенность в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смотреть на современное состояние образования в России, то можно увидеть, что оно характеризуется качественными изменениями в области содержания, которое направлено на развитие творческих способностей личности ребенка. Актуальность и перспективность работы в данном направлении определяется тем, в какой мере учебно-воспитательный процесс обеспечивает развитие творческих способностей каждого ученика, формирует творческую личность, готовит его к творческой познавательной и обще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3A7F-C713-4F2C-811A-47FD06FD52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образие моего опыта заключается в определении  учащегося главной действующей фигурой учебно – воспитательного процесса, реализации  проблем творческого развития личности, разработке  педагогических технологий, целью которых не является накопление знаний и умений, а постоянное обогащение творческим опытом и формированием  механизма самоорганизации каждого уче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83E5-734F-450F-AFCC-3091560F72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 человека можно представить в виде дере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BA9C-455F-4F69-9B5B-61D621BEB5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ловия эффективного развития творческих способностей младших школьн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ются ситуации выбора, процесс обучения включает задания, которые выполняются с учетом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ся сотворчество в детском коллективе с целого проявления  и развития творческих способностей кажд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технологии развития твор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21D9-5B68-4400-A752-9022247F12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ах мы пишем и сочинения-сказки о частях речи и небольшие рассказы с использованием фразеологических оборотов и крылатых выражений,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017B-6D2A-48BC-95C0-6D2D80271B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 стимулирования творческих спосо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благоприятной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желательность со стороны учителя, его отказ от критики в адрес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гащение окружающей среды ребенка самыми разнообразными новыми для него предметами и стимулами с целью развития его любозна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ощрение высказывания оригинальных и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озможностей для прак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личного примера творческого подхода  к решению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детям возможности активно задавать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B27C-187E-44D5-9D8F-B2F44AC306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E64-1561-4377-A612-55F2FF80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718-9F3A-4564-BF3E-7E5D1DC6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F33-7A1A-4107-8080-9667E14E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1F2-8CF2-48F2-8A53-E14FC120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FCE1-442C-4283-8A3F-6BAEB704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7545-0822-4634-913E-E39CDFA0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3B2B-5E69-48C2-A236-206494A8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543C-A164-4013-9EF5-4614768F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2486-1E59-480D-9D9D-DCCCCC10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B0DE-5568-447A-BAA1-9A429B0F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1BFB-1F85-43E6-B912-DBCC2EB4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CA0-986C-44C2-B9DD-58DF1B46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1CE3-0917-46F0-8F84-6CF04929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11A5-C552-4C14-A396-06343F26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B5F1-7207-4AF3-8E81-EB446073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21E4-FA9F-4409-828D-F4B30418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3F43-E5DB-40AC-B18F-9E21B60C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DC018-01A1-41A7-93C8-CEE384AE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9FA72-98DE-4EDE-83C9-554E2F8C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E3C1D-73F2-4D71-BCD3-30A92EF3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8A99A-B1A6-484A-A8DB-14A2B40B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101E5-1F37-4215-9261-4908F3EE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938-B566-47A6-B4F1-B278432A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12515-2BF9-4EB7-A4C2-5B4A656B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46695-B001-46DF-9A52-E956D39E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1FF24-7142-440C-87B6-A75E1AD1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7F06B-BAE0-4A09-918E-3DE26690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8EBBF-39C9-4BFD-B653-1568E32A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545D2-BD90-4E4E-80E3-A2CB78C8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E4FA2-6B9C-4AE8-B2F9-88541D60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D1476-DC80-4901-AB0F-990E54AE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8EDA-F413-4A39-BE54-A5CACCF3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C73B0-643F-47D8-8C73-AFD02E1D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372-F6CB-413B-A49B-A4932FB5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75527-B290-4290-91F1-99C80D40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318A6-9BA4-427F-90A4-4DE5A40B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92EE2-E357-4CB5-AAEA-6EC3DF4A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429A5-F88B-4C8B-B1FD-C6D10464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A2AA7-6E36-4408-9A5D-071011BA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01E55-7BFF-429D-A174-47FB5694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171A8-B1B2-4DB6-A4DB-489811EE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2EB29-42F3-4328-AC72-06BEC035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D5B12-4077-4857-B007-4BEBBD54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2336E6-FC03-4440-B9EF-95DB18E5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F79-A03A-4BA4-A94A-CA432549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5357CE-9E2F-4E0F-942C-3CE8CB0C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44379A-4ED3-4098-8F9C-2A56228B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4EB697-3F78-4FC3-9EAD-583738C9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FA888-A877-4613-BCC5-A146AFD2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0608A-F813-4B8B-AC30-0A9B32C0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B3338-30FB-4AB0-A5E2-5ED9C054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FD683-8153-42C6-87C2-AC433A67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C169A-7C3E-4F43-98D0-E5CE50F8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505DA-B2AE-457B-A072-8DE4E310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D21CC-3E61-4CCA-95C0-80971B85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610-718E-4DF2-9292-5DFFF50B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D8007-8756-4192-9B53-FDACC88A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C354D-598E-4290-98BA-FF4CB680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01AC7-0381-4E37-906B-EB642F29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D6F18-C7DA-48D4-A4C4-E5070E5B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F50D7-F3CE-4B1F-ADD6-259BA274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BF1DAD-8E95-4BAE-967B-24316022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6C825-DB93-4065-83AA-A6748FDF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520A0-1B73-486C-B0E7-6EEBCA0A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4898CF-8ACD-42EE-AA8F-05389380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7D4401-EF49-4CE9-9948-F619167E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F9D-7267-4D53-B3A5-B2BA2CEF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2A858-9948-46CF-AE6A-1DCFE36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1ADA7-6C13-44C2-A0B1-B1A88188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C85AC8-3284-4E0A-86F6-80075623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7091D-F606-404F-9821-29ECF501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8627E8-E7D8-40BF-9DA5-A44007FD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B01ED9-CF48-4BED-905E-B8127740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BE0F8A-0DD0-4F5D-9995-77264872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D05484-6976-4337-86BC-9BD270C0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E66B5-C1FD-4EDA-861F-2A824B9B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8B2BA2-D1E8-46EF-BEB6-EF0EC4B2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9BD-D848-4878-97B4-12DAA16F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D301A9-117F-42E5-B8A2-969E1F73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A2F76B-B58C-4743-BEC2-7CC36BA8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48DBB-0A91-4804-A908-2EC538F7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C8E071-03A6-4DC3-AEA3-0E7CDECE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60C46C-D249-405E-BE00-B010C928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F451-9F89-4C99-AEC1-D09A723D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CC7C-F523-4F46-AB49-BF53CD51A2A1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7A7A-AC2B-4C49-9D0B-C350541F885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7339-7517-41B3-81D7-4AD6305ACEA9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61FD-4583-49D2-AF2E-6356B3DF402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73EB-5BF1-493F-B214-4BB261C79B5D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216F-AA4D-44BF-902B-CF9E8712929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dee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dee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edee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C7C6-8DF5-4E13-8723-FF195F498731}" type="datetime">
              <a:rPr b="0" lang="ru-RU" sz="1200" spc="-1" strike="noStrike">
                <a:solidFill>
                  <a:srgbClr val="dedee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e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e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F868-6D8C-46F8-A46E-2776997BD7E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8587-FDDE-47D3-81FE-6B4943DF4C42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6F75-C1DD-4658-ACAE-4A39C4D0046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2620-608D-4983-9D59-FDE5A6E57646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347A-7357-4E02-BC53-736314DF253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9B9A-9DCE-45DA-8168-90EEAF6EB746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8C7E-7023-4102-BE28-E3837CABFF8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34920" y="1700280"/>
            <a:ext cx="6769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Century Schoolbook"/>
              </a:rPr>
              <a:t>РАЗВИТИЕ ТВОРЧЕСКИХ СПОСОБНОСТЕЙ МЛАДШИХ ШКОЛЬНИКОВ</a:t>
            </a:r>
            <a:endParaRPr b="0" lang="en-US" sz="4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143320" y="5157720"/>
            <a:ext cx="38192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Кучмасова С.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2556000" y="333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БОУ ЕСОШ №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4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303030"/>
                </a:solidFill>
                <a:uFillTx/>
                <a:latin typeface="Century Schoolbook"/>
              </a:rPr>
              <a:t>ВЕДУЩАЯ ПЕДАГОГИЧЕСКАЯ ИДЕЯ</a:t>
            </a:r>
            <a:br>
              <a:rPr sz="3000"/>
            </a:b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дети способны – такова моя ведущая педагогическая идея. В связи с этим особое внимание уделяю созданию условий для развития творческого потенциала каждого ученика. Я считаю, что необходимо учитывать физиологические особенности ребенка, различный уровень обучаемости, готовности к участию в творческой деятельности. В связи с этим я сосредотачиваю внимание на подборе разноуровневых творческих заданий для каждого уче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РЕЗУЛЬТАТИВНОСТЬ ОПЫТА: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овышение качества знаний учащихс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риобретение навыка самостоятельно организовывать свою учебную деятельност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активизация творческой и познавательной активности учащихс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ние положительных личностных качеств ученик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ние осознанной потребности в ведении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денный педагогический опыт считаю актуальным и результативны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7547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ЗАКЛЮЧЕНИЕ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8920" y="1196640"/>
            <a:ext cx="67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учащихся зависит от эффективности используемых учителем методов и приёмов и того, насколько творчески он подходит к данной проблем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пользование различных видов и форм творческих заданий позволило достичь определенного уровня в развитии творческих способностей, который оказался посильным для каждого ученика.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истематическая работа по развитию творческих способностей дает следующие результаты: дети вырастают любознательными, активными, умеющими учиться, настоящими мечтателями и фантазерами, людьми, способными видеть чудо в привычных вещах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ственное творчество детей помогает прочнее усваивать и запоминать теоретические сведения. Легче решается проблема мотивации, дети сами проявляют желание творить. Важным моментом является то, что творческие работы привлекают внимание всех детей, здесь они открываются с положительной сторон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6676920" y="4046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АКТУАЛЬНОСТЬ И ПЕРСПЕКТИВНОСТЬ ОПЫТА 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«В душе каждого ребенка есть невидимые струны. Если тронуть их умелой рукой, они красиво зазвучат»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В.А. Сухомлински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ЧТО ТАКОЕ ТВОРЧЕСКИЕ СПОСОБНОСТИ?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4920" y="2276280"/>
            <a:ext cx="82803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ворческие способност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это индивидуальные психологические особенности ребе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9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АКТУАЛЬНОСТЬ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-  важнейшая задача начального образования, ведь этот процесс пронизывает все этапы развития личности ребенка, пробуждает инициативу и самостоятельность принимаемых решений,  привычку к свободному самовыражению, уверенность в себ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сли посмотреть на современное состояние образования в России, то можно увидеть, что оно характеризуется качественными изменениями в области содержания, которое направлено на развитие творческих способностей личности ребенка. Актуальность и перспективность работы в данном направлении определяется тем, в какой мере учебно-воспитательный процесс обеспечивает развитие творческих способностей каждого ученика, формирует творческую личность, готовит его к творческой познавательной и обще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КОНЦЕПТУАЛЬНОСТЬ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773360"/>
            <a:ext cx="82803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воеобразие моего опыта заключается в определении  учащегося главной действующей фигурой учебно – воспитательного процесса, реализации  проблем творческого развития личности, разработке  педагогических технологий, целью которых не является накопление знаний и умений, а постоянное обогащение творческим опытом и формированием  механизма самоорганизации каждого учени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0240" y="115920"/>
            <a:ext cx="80024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СПОСОБНОСТИ ЧЕЛОВЕКА МОЖНО ПРЕДСТАВИТЬ В ВИДЕ ДЕРЕВА: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3929040" cy="481500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3"/>
          <p:cNvSpPr/>
          <p:nvPr/>
        </p:nvSpPr>
        <p:spPr>
          <a:xfrm>
            <a:off x="4716360" y="1773360"/>
            <a:ext cx="395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орни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родные задатки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вол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бщие способности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етви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пециальные способности, в том числе и твор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5"/>
          <p:cNvSpPr/>
          <p:nvPr/>
        </p:nvSpPr>
        <p:spPr>
          <a:xfrm>
            <a:off x="468360" y="5950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Чем больше ветвей, тем дерево мощней, пышней и ветвистее его кро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  </a:t>
            </a:r>
            <a:r>
              <a:rPr b="0" lang="ru-RU" sz="2700" spc="-1" strike="noStrike">
                <a:solidFill>
                  <a:srgbClr val="303030"/>
                </a:solidFill>
                <a:latin typeface="Century Schoolbook"/>
              </a:rPr>
              <a:t>УСЛОВИЯ ЭФФЕКТИВНОГО РАЗВИТИЯ ТВОРЧЕСКИХ СПОСОБНОСТЕЙ МЛАДШИХ ШКОЛЬНИКОВ.</a:t>
            </a:r>
            <a:endParaRPr b="0" lang="en-US" sz="27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50920" y="1844640"/>
            <a:ext cx="785016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даются ситуации выбора, процесс обучения включает задания, которые выполняются с учетом воображ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изуется сотворчество в детском коллективе с целого проявления  и развития творческих способностей каждог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уются технологии развития творческого мыш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4920" y="259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уроках мы пишем и сочинения-сказки о частях речи и небольшие рассказы с использованием фразеологических оборотов и крылатых выражений, например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4181400" cy="30574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882960" cy="28810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5608800" y="51436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«уши развеси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1299960" y="522936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«заруби себе на нос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885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Century Schoolbook"/>
              </a:rPr>
              <a:t>СПОСОБЫ  СТИМУЛИРОВАНИЯ ТВОРЧЕСКИХ СПОСОБНОСТЕЙ</a:t>
            </a:r>
            <a:endParaRPr b="0" lang="en-US" sz="24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075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благоприятной атмосфер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брожелательность со стороны учителя, его отказ от критики в адрес ребен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гащение окружающей среды ребенка самыми разнообразными новыми для него предметами и стимулами с целью развития его любознательн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ощрение высказывания оригинальных ид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возможностей для практи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ование личного примера творческого подхода  к решению пробле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ставление детям возможности активно задавать вопро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03:13:40Z</dcterms:created>
  <dc:creator>Admin</dc:creator>
  <dc:description/>
  <dc:language>en-US</dc:language>
  <cp:lastModifiedBy>LEGION</cp:lastModifiedBy>
  <dcterms:modified xsi:type="dcterms:W3CDTF">2015-01-27T13:38:05Z</dcterms:modified>
  <cp:revision>29</cp:revision>
  <dc:subject/>
  <dc:title>Развитие творческих способностей младших школьников</dc:title>
</cp:coreProperties>
</file>