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4160-4DB9-438A-B1B1-DCCE46E38E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еатрализованная деятельность в детском са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им образом, театр помогает ребенку развиваться всесторон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DACE-C73D-4357-A671-4F31E87347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артистических способностей детей через театральную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0137-D815-479F-8CFF-776AC720C0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708D-4715-42A1-811A-50248B8C9F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Значение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театрализован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тских образовательных учреждениях можно и нужно уделять, всем видам детского театра, потому что они помо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формировать правильную модель поведения в современном мир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ысить общую культуру ребенка, приобщать к духовным ценност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комить его с детской литературой, музыкой, изобразительным искусством, правилами этикета, обрядами, традициями, привить устойчивый интер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элементарные представления о видах теа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ершенствовать навык воплощать в игре определенные переживания, побуждать к созданию новых образов, побуждать к мыш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особствуют развитию игрового поведения, эстетического чувства, способности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вает навыки публичного выступления и творческого содруж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C338-DFFD-496D-B2E8-4D715A4162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Разностороннее развитие  детей дошкольного возраста в театрализованной       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F609-C64E-4034-8AE8-65AF643BB5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0000ff"/>
                </a:solidFill>
                <a:latin typeface="Calibri"/>
              </a:rPr>
              <a:t>Основные направления </a:t>
            </a:r>
            <a:br>
              <a:rPr sz="3800"/>
            </a:br>
            <a:r>
              <a:rPr b="1" lang="ru-RU" sz="3800" spc="-1" strike="noStrike">
                <a:solidFill>
                  <a:srgbClr val="0000ff"/>
                </a:solidFill>
                <a:latin typeface="Calibri"/>
              </a:rPr>
              <a:t>работы с детьми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Театральная иг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Calibri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ультура и техника ре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сновы театральной куль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абота над спектакл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8C93-711B-4BDB-A2E6-CC02CA0601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организации театрал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376092"/>
                </a:solidFill>
                <a:latin typeface="Calibri"/>
              </a:rPr>
              <a:t>     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D05E-A329-4F69-BAD5-3A6DC05743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ормы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альны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чевы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тмопл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ценировка песен, попевок, хоров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теа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аматизация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теа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действие с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292C-6C88-4E1B-B0C1-D0B6821704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иды театра в детском саду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ба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тольный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на фланелеграф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нижка-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пяти пальц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ма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ручных те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льчиковый теневой театр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«живых» теней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гнитный теат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рионеточный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7BD0-728E-4E53-BE6A-2129DF06B7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рганизация уголка театрализованной деятельности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группа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тского сада организованы уголки для 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 уголке располагаютс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личные виды театров: бибабо, настольный, театр на фланелеграфе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AF2C-6000-46FD-8C68-DD884B78C8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:развитие творческой активности дошкольник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программа Н.Ф.Сорокиной и Л.Г.Миланович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атр – творчество – дет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хем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EB80-FB2F-4D40-A46E-B151E83978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CF1-6F5A-411A-B533-4370D8C9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8D3-7A97-4581-AC1F-E1FB3EA9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784-43BE-48C8-B9CE-8D074994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669-C57B-4837-AA8E-A439A751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363B-D7CF-44F3-ABE2-715AFF06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E6EC-3545-4F57-8F5F-F6FEF4DD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7BCB-8094-460D-B018-05D44D42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7974-13B9-4654-A594-0BA45F5F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82ED-08E2-41E9-B6A9-3663FA73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CD55-61D4-4D8E-9D02-028A425F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6EDE-1628-4318-8063-9114A5CC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42D-1A43-4EF7-BC02-7DCC117F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93FD-B127-463F-9975-A6BE5E34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3F75-52AE-4770-AFBA-9B9B1EB8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D63C-0E5D-4306-841F-6AA9CB72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3D5E-00C5-496D-B85C-DFE53EF8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C016-97FB-4CF8-898B-FAC6D857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0D4-5CE6-47A2-8130-DF28B1CC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582-55E5-40FE-AF49-32407FAA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9D5-3CA9-4CCF-87B1-3225CFB4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751-41B2-4E8B-BF81-057C47C5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536-82D9-48ED-B4C3-0BE27403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20D-0C3C-42F1-A4FC-29ED6F02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02B-B0E3-4251-97B8-21A12FBD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2240-93F3-4EDE-875E-CA60793AB4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A513-88B2-45F8-A3FC-0C3C1A58D5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838080" y="18172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им образом, театр помогает ребенку развиваться всесторон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Театрализованная деятельность в детском сад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7598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Развитие артистических способностей детей через театральную деятельность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52280" y="6248520"/>
            <a:ext cx="86868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агностика развития артистических способностей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434340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152280" y="762120"/>
            <a:ext cx="8686800" cy="1066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Последовательное знакомство детей с различными видами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Поэтапное освоение детьми различных видов твор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Совершенствование артистических навыков детей посредством переживания и воплощ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а в сказ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152280" y="1905120"/>
            <a:ext cx="868680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Инсценировка  пе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Театральные этю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Развле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Фольклорные празд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Сказки, мюзиклы, водевили, театрализованные предст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152280" y="34290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Создание театрального коллект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Изготовление декораций, шир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Приобретение кукол для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Организация оркес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152280" y="4419720"/>
            <a:ext cx="8686800" cy="685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Индивидуальные беседы с род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Консультации для воспит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Сотрудничество с городским театром кукол, с ТЮЗом, со школ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152280" y="52578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Работа с программой Н.Ф.Сорокиной, Л.Г.Миланович «Театр - творчество –де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Поиск высокохудожественных музыкальных произведений для аранжир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ьных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Изучение русских народных иг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44197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441972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449568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4419720" y="6172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4"/>
          <p:cNvSpPr/>
          <p:nvPr/>
        </p:nvSpPr>
        <p:spPr>
          <a:xfrm>
            <a:off x="1447920" y="380880"/>
            <a:ext cx="670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C:\Users\user\Desktop\МАМА\Эльвира\ФОТО\Рисунки\ладони.jpeg"/>
          <p:cNvPicPr/>
          <p:nvPr/>
        </p:nvPicPr>
        <p:blipFill>
          <a:blip r:embed="rId1"/>
          <a:stretch/>
        </p:blipFill>
        <p:spPr>
          <a:xfrm>
            <a:off x="3200400" y="1981080"/>
            <a:ext cx="3086280" cy="308628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Значение 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театрализованн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етских образовательных учреждениях можно и нужно уделять, всем видам детского театра, потому что они помог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ть правильную модель поведения в современном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сить общую культуру ребенка, приобщать к духовным ценнос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комить его с детской литературой, музыкой, изобразительным искусством, правилами этикета, обрядами, традициями, привить устойчивый интере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ет элементарные представления о видах теа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ршенствовать навык воплощать в игре определенные переживания, побуждать к созданию новых образов, побуждать к мышл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ствуют развитию игрового поведения, эстетического чувства, способности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ет навыки публичного выступления и творческого содруж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Разностороннее развитие  детей дошкольного возраста в театрализованной        деятельност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Diagram 18"/>
          <p:cNvGrpSpPr/>
          <p:nvPr/>
        </p:nvGrpSpPr>
        <p:grpSpPr>
          <a:xfrm>
            <a:off x="2295360" y="1758960"/>
            <a:ext cx="4554360" cy="4711320"/>
            <a:chOff x="2295360" y="1758960"/>
            <a:chExt cx="4554360" cy="4711320"/>
          </a:xfrm>
        </p:grpSpPr>
        <p:sp>
          <p:nvSpPr>
            <p:cNvPr id="112" name="_s1028"/>
            <p:cNvSpPr/>
            <p:nvPr/>
          </p:nvSpPr>
          <p:spPr>
            <a:xfrm flipH="1" flipV="1">
              <a:off x="3763800" y="327924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9"/>
            <p:cNvSpPr/>
            <p:nvPr/>
          </p:nvSpPr>
          <p:spPr>
            <a:xfrm>
              <a:off x="2795040" y="227736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ЛЕП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0"/>
            <p:cNvSpPr/>
            <p:nvPr/>
          </p:nvSpPr>
          <p:spPr>
            <a:xfrm flipH="1">
              <a:off x="3429360" y="4113720"/>
              <a:ext cx="572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1"/>
            <p:cNvSpPr/>
            <p:nvPr/>
          </p:nvSpPr>
          <p:spPr>
            <a:xfrm>
              <a:off x="2295360" y="352620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ФИЗИЧЕСК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2"/>
            <p:cNvSpPr/>
            <p:nvPr/>
          </p:nvSpPr>
          <p:spPr>
            <a:xfrm flipH="1">
              <a:off x="3763440" y="4529880"/>
              <a:ext cx="405720" cy="41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2795040" y="477504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ХУДОЖЕСТВЕННА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4570200" y="4700880"/>
              <a:ext cx="1440" cy="59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5"/>
            <p:cNvSpPr/>
            <p:nvPr/>
          </p:nvSpPr>
          <p:spPr>
            <a:xfrm>
              <a:off x="4002480" y="52938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ИС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6"/>
            <p:cNvSpPr/>
            <p:nvPr/>
          </p:nvSpPr>
          <p:spPr>
            <a:xfrm>
              <a:off x="4972680" y="452808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7"/>
            <p:cNvSpPr/>
            <p:nvPr/>
          </p:nvSpPr>
          <p:spPr>
            <a:xfrm>
              <a:off x="5211360" y="47772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КОНСТРУИРОВАНИ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УЧ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ТРУ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5137920" y="411372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9"/>
            <p:cNvSpPr/>
            <p:nvPr/>
          </p:nvSpPr>
          <p:spPr>
            <a:xfrm>
              <a:off x="5712840" y="3526200"/>
              <a:ext cx="113688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МУЗЫКАЛЬН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0"/>
            <p:cNvSpPr/>
            <p:nvPr/>
          </p:nvSpPr>
          <p:spPr>
            <a:xfrm flipV="1">
              <a:off x="4970880" y="3279240"/>
              <a:ext cx="4057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1"/>
            <p:cNvSpPr/>
            <p:nvPr/>
          </p:nvSpPr>
          <p:spPr>
            <a:xfrm>
              <a:off x="5211360" y="22755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АЗВИТ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ЕЧ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42"/>
            <p:cNvSpPr/>
            <p:nvPr/>
          </p:nvSpPr>
          <p:spPr>
            <a:xfrm flipV="1">
              <a:off x="4570200" y="2933280"/>
              <a:ext cx="0" cy="5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3"/>
            <p:cNvSpPr/>
            <p:nvPr/>
          </p:nvSpPr>
          <p:spPr>
            <a:xfrm>
              <a:off x="4002480" y="17589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ЭМ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4"/>
            <p:cNvSpPr/>
            <p:nvPr/>
          </p:nvSpPr>
          <p:spPr>
            <a:xfrm>
              <a:off x="4002480" y="35280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ТЕАТРАЛИЗОВАННА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ДЕЯТЕЛЬНОСТ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Основные направления </a:t>
            </a: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работы с детьм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Театральн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ультура и техника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сновы театральн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абота над спектак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Arial"/>
              </a:rPr>
              <a:t>Формы организации театрализованной деятель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Форм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ь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ев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тмопл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сценировка песен, попевок, хоро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различных видов теа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аматизация ска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ещение теа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аимодействие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Arial"/>
              </a:rPr>
              <a:t>Виды театра в детском саду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ба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оль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на фланелегра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ижка-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пяти паль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ма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ручных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ьчиковый теневой театр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«живых» тене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нитный теа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ионеточ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рганизация уголка театрализованной деятельности</a:t>
            </a:r>
            <a:br>
              <a:rPr sz="32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руппа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ского сада организованы уголки для 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уголке располагаю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личные виды театров: бибабо, настольный, театр на фланелеграфе и др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Модель:развитие творческой активности дошкольников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(программа Н.Ф.Сорокиной и Л.Г.Миланович 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«Театр – творчество – дети»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AutoShape 25"/>
          <p:cNvSpPr/>
          <p:nvPr/>
        </p:nvSpPr>
        <p:spPr>
          <a:xfrm>
            <a:off x="152280" y="121932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пров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733920" y="9907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7"/>
          <p:cNvSpPr/>
          <p:nvPr/>
        </p:nvSpPr>
        <p:spPr>
          <a:xfrm>
            <a:off x="152280" y="182880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ль костюм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корац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р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8"/>
          <p:cNvSpPr/>
          <p:nvPr/>
        </p:nvSpPr>
        <p:spPr>
          <a:xfrm>
            <a:off x="152280" y="274320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и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9"/>
          <p:cNvSpPr/>
          <p:nvPr/>
        </p:nvSpPr>
        <p:spPr>
          <a:xfrm>
            <a:off x="152280" y="3809880"/>
            <a:ext cx="175284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0"/>
          <p:cNvSpPr/>
          <p:nvPr/>
        </p:nvSpPr>
        <p:spPr>
          <a:xfrm>
            <a:off x="152280" y="44956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та н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торикой ру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ее дви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ши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1"/>
          <p:cNvSpPr/>
          <p:nvPr/>
        </p:nvSpPr>
        <p:spPr>
          <a:xfrm>
            <a:off x="228600" y="57150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онац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арактер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2"/>
          <p:cNvSpPr/>
          <p:nvPr/>
        </p:nvSpPr>
        <p:spPr>
          <a:xfrm>
            <a:off x="2438280" y="1600200"/>
            <a:ext cx="175284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3"/>
          <p:cNvSpPr/>
          <p:nvPr/>
        </p:nvSpPr>
        <p:spPr>
          <a:xfrm>
            <a:off x="2438280" y="43434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ольного теа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кукл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4"/>
          <p:cNvSpPr/>
          <p:nvPr/>
        </p:nvSpPr>
        <p:spPr>
          <a:xfrm>
            <a:off x="3886200" y="3200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5"/>
          <p:cNvSpPr/>
          <p:nvPr/>
        </p:nvSpPr>
        <p:spPr>
          <a:xfrm>
            <a:off x="5105520" y="160020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тер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сте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6"/>
          <p:cNvSpPr/>
          <p:nvPr/>
        </p:nvSpPr>
        <p:spPr>
          <a:xfrm>
            <a:off x="5257800" y="4343400"/>
            <a:ext cx="167652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тоя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изов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7"/>
          <p:cNvSpPr/>
          <p:nvPr/>
        </p:nvSpPr>
        <p:spPr>
          <a:xfrm>
            <a:off x="3809880" y="58672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здни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л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8"/>
          <p:cNvSpPr/>
          <p:nvPr/>
        </p:nvSpPr>
        <p:spPr>
          <a:xfrm>
            <a:off x="7315200" y="114300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овые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9"/>
          <p:cNvSpPr/>
          <p:nvPr/>
        </p:nvSpPr>
        <p:spPr>
          <a:xfrm>
            <a:off x="7315200" y="18288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7315200" y="2438280"/>
            <a:ext cx="1600200" cy="3049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м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1"/>
          <p:cNvSpPr/>
          <p:nvPr/>
        </p:nvSpPr>
        <p:spPr>
          <a:xfrm>
            <a:off x="7315200" y="28954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>
            <a:off x="7391520" y="38862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ектак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391520" y="47242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ы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4"/>
          <p:cNvSpPr/>
          <p:nvPr/>
        </p:nvSpPr>
        <p:spPr>
          <a:xfrm>
            <a:off x="7391520" y="54864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сказы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а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6"/>
          <p:cNvSpPr/>
          <p:nvPr/>
        </p:nvSpPr>
        <p:spPr>
          <a:xfrm flipV="1">
            <a:off x="4876920" y="27432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8"/>
          <p:cNvSpPr/>
          <p:nvPr/>
        </p:nvSpPr>
        <p:spPr>
          <a:xfrm flipH="1" flipV="1">
            <a:off x="3352680" y="27432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9"/>
          <p:cNvSpPr/>
          <p:nvPr/>
        </p:nvSpPr>
        <p:spPr>
          <a:xfrm flipH="1">
            <a:off x="3429000" y="38098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0"/>
          <p:cNvSpPr/>
          <p:nvPr/>
        </p:nvSpPr>
        <p:spPr>
          <a:xfrm>
            <a:off x="4876920" y="3809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1"/>
          <p:cNvSpPr/>
          <p:nvPr/>
        </p:nvSpPr>
        <p:spPr>
          <a:xfrm>
            <a:off x="4648320" y="3809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2"/>
          <p:cNvSpPr/>
          <p:nvPr/>
        </p:nvSpPr>
        <p:spPr>
          <a:xfrm flipH="1" flipV="1">
            <a:off x="1904760" y="144756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H="1">
            <a:off x="190476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4"/>
          <p:cNvSpPr/>
          <p:nvPr/>
        </p:nvSpPr>
        <p:spPr>
          <a:xfrm flipH="1">
            <a:off x="1828440" y="22860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5"/>
          <p:cNvSpPr/>
          <p:nvPr/>
        </p:nvSpPr>
        <p:spPr>
          <a:xfrm flipH="1" flipV="1">
            <a:off x="1904760" y="411444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6"/>
          <p:cNvSpPr/>
          <p:nvPr/>
        </p:nvSpPr>
        <p:spPr>
          <a:xfrm flipH="1">
            <a:off x="190476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7"/>
          <p:cNvSpPr/>
          <p:nvPr/>
        </p:nvSpPr>
        <p:spPr>
          <a:xfrm flipH="1">
            <a:off x="1904760" y="487692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8"/>
          <p:cNvSpPr/>
          <p:nvPr/>
        </p:nvSpPr>
        <p:spPr>
          <a:xfrm flipV="1">
            <a:off x="6705720" y="13712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9"/>
          <p:cNvSpPr/>
          <p:nvPr/>
        </p:nvSpPr>
        <p:spPr>
          <a:xfrm>
            <a:off x="670572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0"/>
          <p:cNvSpPr/>
          <p:nvPr/>
        </p:nvSpPr>
        <p:spPr>
          <a:xfrm>
            <a:off x="6705720" y="1981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1"/>
          <p:cNvSpPr/>
          <p:nvPr/>
        </p:nvSpPr>
        <p:spPr>
          <a:xfrm>
            <a:off x="6705720" y="19810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2"/>
          <p:cNvSpPr/>
          <p:nvPr/>
        </p:nvSpPr>
        <p:spPr>
          <a:xfrm flipV="1">
            <a:off x="6934320" y="42670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3"/>
          <p:cNvSpPr/>
          <p:nvPr/>
        </p:nvSpPr>
        <p:spPr>
          <a:xfrm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4"/>
          <p:cNvSpPr/>
          <p:nvPr/>
        </p:nvSpPr>
        <p:spPr>
          <a:xfrm>
            <a:off x="6934320" y="4952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1:15Z</dcterms:created>
  <dc:creator>USER</dc:creator>
  <dc:description/>
  <dc:language>en-US</dc:language>
  <cp:lastModifiedBy>LEGION</cp:lastModifiedBy>
  <dcterms:modified xsi:type="dcterms:W3CDTF">2015-01-27T13:38:3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