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AB5D6-677B-4A86-A1E0-71F917ED0EE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Театрализованная деятельность в детском са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хорошая возможность раскрытия творческого потенциала ребенка, воспитания творческой направленности личности. Дети учатся замечать в окружающем мире интересные идеи, воплощать их, создавать свой художественный образ персонаж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 них развивается творческое воображение, ассоциативное мышление, речь, умение видеть необычные моменты в обыденн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атрализованная деятельность помогает ребенку преодолеть робость, неуверенность в себе, застенчив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аким образом, театр помогает ребенку развиваться всесторонн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BE931-3F58-4FAF-8D45-2EF93E2BB1A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витие артистических способностей детей через театральную дея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97D8E-0689-4044-BDAF-30933C59C0F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СПАСИБО ЗА ВНИМ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800000"/>
                </a:solidFill>
                <a:latin typeface="Calibri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BA1C8-8C01-476B-9C19-250E01E7078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Значение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театрализованной деятель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етских образовательных учреждениях можно и нужно уделять, всем видам детского театра, потому что они помога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формировать правильную модель поведения в современном мир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высить общую культуру ребенка, приобщать к духовным ценностя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знакомить его с детской литературой, музыкой, изобразительным искусством, правилами этикета, обрядами, традициями, привить устойчивый интере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ает элементарные представления о видах теат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вершенствовать навык воплощать в игре определенные переживания, побуждать к созданию новых образов, побуждать к мышлен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пособствуют развитию игрового поведения, эстетического чувства, способности творчески относиться к любому делу, умение общаться со сверстниками и взрослыми, развитию сценического творчества , музыкальных и артистических способностей дет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вивает навыки публичного выступления и творческого содруж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668FC-6CAB-4D35-BE97-A7DA66BF2E0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Разностороннее развитие  детей дошкольного возраста в театрализованной       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A7C55-1141-4798-A150-406672F1988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ru-RU" sz="3800" spc="-1" strike="noStrike">
                <a:solidFill>
                  <a:srgbClr val="0000ff"/>
                </a:solidFill>
                <a:latin typeface="Calibri"/>
              </a:rPr>
              <a:t>Основные направления </a:t>
            </a:r>
            <a:br>
              <a:rPr sz="3800"/>
            </a:br>
            <a:r>
              <a:rPr b="1" lang="ru-RU" sz="3800" spc="-1" strike="noStrike">
                <a:solidFill>
                  <a:srgbClr val="0000ff"/>
                </a:solidFill>
                <a:latin typeface="Calibri"/>
              </a:rPr>
              <a:t>работы с детьми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Театральная иг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376092"/>
                </a:solidFill>
                <a:latin typeface="Calibri"/>
              </a:rPr>
              <a:t>       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Задачи: Учить детей ориентироваться в пространстве, равномерно размещаться по площадке, строить диалог с партнёром на заданную тему. Развивать способность произвольно напрягать и расслаблять отдельные группы мышц, запоминать слова героев спектаклей, развивать зрительное слуховое внимание, память, наблюдательность, образное мышление, фантазию, воображение, интерес к сценическому искусству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Ритмопласти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376092"/>
                </a:solidFill>
                <a:latin typeface="Calibri"/>
              </a:rPr>
              <a:t>      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Задачи: Развивать умение произвольно реагировать на команду или музыкальный сигнал, готовность действовать согласовано, развивать координацию движения, учить запоминать заданные позы и образно передавать их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Культура и техника реч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76092"/>
                </a:solidFill>
                <a:latin typeface="Calibri"/>
              </a:rPr>
              <a:t>      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Задачи: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Развивать речевое дыхание и правильною артикуляцию, чёткую дикцию, разнообразную интонацию логику речи; учить сочинять небольшие рассказы и сказки, подбирать простейшие рифмы; произносить скороговорки и стихи, пополнять словарный запас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Основы театральной культуры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76092"/>
                </a:solidFill>
                <a:latin typeface="Calibri"/>
              </a:rPr>
              <a:t>       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Задачи: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Познакомить детей с театральной терминологией, с основными видами театрального искусства, воспитывать культуру поведения в театре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Работа над спектакле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76092"/>
                </a:solidFill>
                <a:latin typeface="Calibri"/>
              </a:rPr>
              <a:t>       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Задачи: Учить сочинять этюды по сказкам; развивать навыки действий с воображаемыми предметами; развивать умение пользоваться интонациями, выражающими разнообразные эмоциональные состояния (грустно, радостно, сердито, удивленно, восхищённо, жалобно и т.д.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2A156-E49B-4C6E-8B7D-13917141F8F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Формы организации театрализованной деятель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376092"/>
                </a:solidFill>
                <a:latin typeface="Calibri"/>
              </a:rPr>
              <a:t>     </a:t>
            </a:r>
            <a:r>
              <a:rPr b="0" lang="ru-RU" sz="1000" spc="-1" strike="noStrike">
                <a:solidFill>
                  <a:srgbClr val="0000ff"/>
                </a:solidFill>
                <a:latin typeface="Calibri"/>
              </a:rPr>
              <a:t>Выбирая материал для инсценировки, нужно отталкиваться от возрастных возможностей, знаний и умений детей, обогащать их жизненный опыт, побуждать интерес к новым знаниям, расширять творческий потенциал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вместная театрализованная деятельность взрослых и детей, театральное занятие, театрализованная игра на праздниках и развлеч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амостоятельная театрально-художественная деятельность, театрализованные игра в повседневной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ини-игры на других занятиях, театрализованные игры-спектакли, посещение детьми театров совместно с родителями, мини-сценки с куклами в ходе изучения регионального компонента с детьми, привлечение главной куклы - Петрушки в решение познавательных  задач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27D42-24E5-4E29-9322-6D002B63920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Формы 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атральные иг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чевые иг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итмоплас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сценировка песен, попевок, хоров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пользование различных видов теат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раматизация сказ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сещение теат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заимодействие с родител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66D1C-4639-48E4-9C4A-2FA5D88802C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иды театра в детском саду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ибаб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стольный теат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атр на фланелеграф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нижка-теат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атр пяти пальце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атр мас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атр ручных тен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альчиковый теневой театр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атр «живых» теней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агнитный теат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арионеточный теат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B1282-EF0F-4B80-9969-BAF941E1034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Организация уголка театрализованной деятельности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группах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етского сада организованы уголки для  театрализованных представлений, спектаклей. В них отводится место для режиссёрских игр с пальчиковым, настольным театр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В уголке располагаются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различные виды театров: бибабо, настольный, театр на фланелеграфе и др.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реквизит для разыгрывания сценок и спектаклей: набор кукол, ширмы для кукольного театра, костюмы, элементы костюмов, маск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атрибуты для различных игровых позиций: театральный реквизит,  декорации, сценарии, книги, образцы музыкальных произведений, афиши, касса, билеты, карандаши, краски, клей, виды бумаги, природный материал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75449-C2F8-4B11-B721-765CCC5E83F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дель:развитие творческой активности дошкольников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программа Н.Ф.Сорокиной и Л.Г.Миланович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Театр – творчество – дети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Схема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B50F8-937E-44D5-8AA1-12EDB783CAD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C8B0-68CE-4C35-B273-153CD53EA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AB39-E4DE-4844-BCE7-7198579AA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EFE4-6F9F-4161-8889-73369B7AD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3520-3BC6-43CD-A88F-E9576CBB3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27A9B-4A8A-4E97-9F86-7FA99C3FA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E9B12-7C1C-41FE-A6BB-51D47070F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CA92F-3EF2-4B7B-A532-C00FF0746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12F1C-B083-465E-8DBB-88997840E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4C32A-A7E2-4865-9F9C-98E2E49DE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55B18-1BA8-4F70-A006-2CADBB7EF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C7302-178A-469B-9ACD-C4A51F23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8B1B-86AE-4DDF-BC17-CF282DB16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D46B6-599E-4383-B2B1-1A4DA7AF0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7574B-9C88-4E5D-9DD8-6B062590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1A620-E94E-4205-8775-AFFC6AE1B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52B0E-4ED7-43DA-BD4A-1848577AB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D459C-1693-4C42-A242-09E8698A9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B8AC-F860-4194-B392-D66CA91A4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AFDD-B7E3-49DF-BDDE-5BA130745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F714-F8DB-4C56-986C-25092D0BD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C0D5-BEA8-4E20-B29A-769B4FB2F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9FCD-249E-45C8-9F21-9F8172C2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7CFC-B1B9-42C7-ABA1-78D0A7D2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994B-2FFE-4CA9-A28D-D4A203CA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27A1F-7CB1-47D6-9623-45CB46284FF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0F711-C605-48A7-AD23-8A37A3CC76C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"/>
          <p:cNvSpPr/>
          <p:nvPr/>
        </p:nvSpPr>
        <p:spPr>
          <a:xfrm>
            <a:off x="838080" y="1817280"/>
            <a:ext cx="8305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 хорошая возможность раскрытия творческого потенциала ребенка, воспитания творческой направленности личности. Дети учатся замечать в окружающем мире интересные идеи, воплощать их, создавать свой художественный образ персонаж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них развивается творческое воображение, ассоциативное мышление, речь, умение видеть необычные моменты в обыденн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атрализованная деятельность помогает ребенку преодолеть робость, неуверенность в себе, застенчив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ким образом, театр помогает ребенку развиваться всесторонн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990033"/>
                </a:solidFill>
                <a:latin typeface="Times New Roman"/>
              </a:rPr>
              <a:t>Театрализованная деятельность в детском саду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7598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Развитие артистических способностей детей через театральную деятельность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152280" y="6248520"/>
            <a:ext cx="8686800" cy="380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иагностика развития артистических способностей дет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0"/>
          <p:cNvSpPr/>
          <p:nvPr/>
        </p:nvSpPr>
        <p:spPr>
          <a:xfrm>
            <a:off x="434340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1"/>
          <p:cNvSpPr/>
          <p:nvPr/>
        </p:nvSpPr>
        <p:spPr>
          <a:xfrm>
            <a:off x="152280" y="762120"/>
            <a:ext cx="8686800" cy="10666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.Последовательное знакомство детей с различными видами теат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Поэтапное освоение детьми различных видов творче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.Совершенствование артистических навыков детей посредством переживания и воплощ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раза в сказк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4"/>
          <p:cNvSpPr/>
          <p:nvPr/>
        </p:nvSpPr>
        <p:spPr>
          <a:xfrm>
            <a:off x="152280" y="1905120"/>
            <a:ext cx="8686800" cy="13716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.Инсценировка  песе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Театральные этюд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.Развлеч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4.Фольклорные праздни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.Сказки, мюзиклы, водевили, театрализованные предста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5"/>
          <p:cNvSpPr/>
          <p:nvPr/>
        </p:nvSpPr>
        <p:spPr>
          <a:xfrm>
            <a:off x="152280" y="3429000"/>
            <a:ext cx="8686800" cy="8380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.Создание театрального коллекти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Изготовление декораций, ширм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.Приобретение кукол для теат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4.Организация оркест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6"/>
          <p:cNvSpPr/>
          <p:nvPr/>
        </p:nvSpPr>
        <p:spPr>
          <a:xfrm>
            <a:off x="152280" y="4419720"/>
            <a:ext cx="8686800" cy="6858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.Индивидуальные беседы с родителя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Консультации для воспитател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.Сотрудничество с городским театром кукол, с ТЮЗом, со школой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7"/>
          <p:cNvSpPr/>
          <p:nvPr/>
        </p:nvSpPr>
        <p:spPr>
          <a:xfrm>
            <a:off x="152280" y="5257800"/>
            <a:ext cx="8686800" cy="8380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.Работа с программой Н.Ф.Сорокиной, Л.Г.Миланович «Театр - творчество –дети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Поиск высокохудожественных музыкальных произведений для аранжиров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еатральных представле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.Изучение русских народных иг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0"/>
          <p:cNvSpPr/>
          <p:nvPr/>
        </p:nvSpPr>
        <p:spPr>
          <a:xfrm>
            <a:off x="4419720" y="18288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1"/>
          <p:cNvSpPr/>
          <p:nvPr/>
        </p:nvSpPr>
        <p:spPr>
          <a:xfrm>
            <a:off x="4419720" y="18288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5"/>
          <p:cNvSpPr/>
          <p:nvPr/>
        </p:nvSpPr>
        <p:spPr>
          <a:xfrm>
            <a:off x="4419720" y="3276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6"/>
          <p:cNvSpPr/>
          <p:nvPr/>
        </p:nvSpPr>
        <p:spPr>
          <a:xfrm>
            <a:off x="4419720" y="4343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7"/>
          <p:cNvSpPr/>
          <p:nvPr/>
        </p:nvSpPr>
        <p:spPr>
          <a:xfrm>
            <a:off x="4495680" y="5105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9"/>
          <p:cNvSpPr/>
          <p:nvPr/>
        </p:nvSpPr>
        <p:spPr>
          <a:xfrm>
            <a:off x="4419720" y="61722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рямоугольник 4"/>
          <p:cNvSpPr/>
          <p:nvPr/>
        </p:nvSpPr>
        <p:spPr>
          <a:xfrm>
            <a:off x="1447920" y="380880"/>
            <a:ext cx="67053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СПАСИБО ЗА ВНИМ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C:\Users\user\Desktop\МАМА\Эльвира\ФОТО\Рисунки\ладони.jpeg"/>
          <p:cNvPicPr/>
          <p:nvPr/>
        </p:nvPicPr>
        <p:blipFill>
          <a:blip r:embed="rId1"/>
          <a:stretch/>
        </p:blipFill>
        <p:spPr>
          <a:xfrm>
            <a:off x="3200400" y="1981080"/>
            <a:ext cx="3086280" cy="3086280"/>
          </a:xfrm>
          <a:prstGeom prst="rect">
            <a:avLst/>
          </a:prstGeom>
          <a:ln w="0">
            <a:noFill/>
          </a:ln>
        </p:spPr>
      </p:pic>
      <p:sp>
        <p:nvSpPr>
          <p:cNvPr id="20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Значение </a:t>
            </a:r>
            <a:br>
              <a:rPr sz="3200"/>
            </a:b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театрализованной деятельност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детских образовательных учреждениях можно и нужно уделять, всем видам детского театра, потому что они помогаю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формировать правильную модель поведения в современном мир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высить общую культуру ребенка, приобщать к духовным ценностя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знакомить его с детской литературой, музыкой, изобразительным искусством, правилами этикета, обрядами, традициями, привить устойчивый интерес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ет элементарные представления о видах теат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вершенствовать навык воплощать в игре определенные переживания, побуждать к созданию новых образов, побуждать к мышлени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особствуют развитию игрового поведения, эстетического чувства, способности творчески относиться к любому делу, умение общаться со сверстниками и взрослыми, развитию сценического творчества , музыкальных и артистических способностей де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вивает навыки публичного выступления и творческого содруж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Разностороннее развитие  детей дошкольного возраста в театрализованной        деятельности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11" name="Diagram 18"/>
          <p:cNvGrpSpPr/>
          <p:nvPr/>
        </p:nvGrpSpPr>
        <p:grpSpPr>
          <a:xfrm>
            <a:off x="2295360" y="1758960"/>
            <a:ext cx="4554360" cy="4711320"/>
            <a:chOff x="2295360" y="1758960"/>
            <a:chExt cx="4554360" cy="4711320"/>
          </a:xfrm>
        </p:grpSpPr>
        <p:sp>
          <p:nvSpPr>
            <p:cNvPr id="112" name="_s1028"/>
            <p:cNvSpPr/>
            <p:nvPr/>
          </p:nvSpPr>
          <p:spPr>
            <a:xfrm flipH="1" flipV="1">
              <a:off x="3763800" y="3279240"/>
              <a:ext cx="403920" cy="419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1029"/>
            <p:cNvSpPr/>
            <p:nvPr/>
          </p:nvSpPr>
          <p:spPr>
            <a:xfrm>
              <a:off x="2795040" y="2277360"/>
              <a:ext cx="1137600" cy="117684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ЛЕП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1030"/>
            <p:cNvSpPr/>
            <p:nvPr/>
          </p:nvSpPr>
          <p:spPr>
            <a:xfrm flipH="1">
              <a:off x="3429360" y="4113720"/>
              <a:ext cx="5727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1031"/>
            <p:cNvSpPr/>
            <p:nvPr/>
          </p:nvSpPr>
          <p:spPr>
            <a:xfrm>
              <a:off x="2295360" y="3526200"/>
              <a:ext cx="1137600" cy="117684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ФИЗИЧЕСКО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ВОСПИТАНИ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032"/>
            <p:cNvSpPr/>
            <p:nvPr/>
          </p:nvSpPr>
          <p:spPr>
            <a:xfrm flipH="1">
              <a:off x="3763440" y="4529880"/>
              <a:ext cx="405720" cy="418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1033"/>
            <p:cNvSpPr/>
            <p:nvPr/>
          </p:nvSpPr>
          <p:spPr>
            <a:xfrm>
              <a:off x="2795040" y="4775040"/>
              <a:ext cx="1137600" cy="117684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ХУДОЖЕСТВЕННАЯ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ЛИТЕРАТУР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1034"/>
            <p:cNvSpPr/>
            <p:nvPr/>
          </p:nvSpPr>
          <p:spPr>
            <a:xfrm>
              <a:off x="4570200" y="4700880"/>
              <a:ext cx="1440" cy="59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1035"/>
            <p:cNvSpPr/>
            <p:nvPr/>
          </p:nvSpPr>
          <p:spPr>
            <a:xfrm>
              <a:off x="4002480" y="5293800"/>
              <a:ext cx="1136880" cy="117648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РИСОВАН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1036"/>
            <p:cNvSpPr/>
            <p:nvPr/>
          </p:nvSpPr>
          <p:spPr>
            <a:xfrm>
              <a:off x="4972680" y="4528080"/>
              <a:ext cx="403920" cy="419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1037"/>
            <p:cNvSpPr/>
            <p:nvPr/>
          </p:nvSpPr>
          <p:spPr>
            <a:xfrm>
              <a:off x="5211360" y="4777200"/>
              <a:ext cx="1136880" cy="117648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КОНСТРУИРОВАНИЕ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РУЧНО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ТРУ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1038"/>
            <p:cNvSpPr/>
            <p:nvPr/>
          </p:nvSpPr>
          <p:spPr>
            <a:xfrm>
              <a:off x="5137920" y="4113720"/>
              <a:ext cx="572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1039"/>
            <p:cNvSpPr/>
            <p:nvPr/>
          </p:nvSpPr>
          <p:spPr>
            <a:xfrm>
              <a:off x="5712840" y="3526200"/>
              <a:ext cx="1136880" cy="117684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МУЗЫКАЛЬНО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ВОСПИТАНИ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1040"/>
            <p:cNvSpPr/>
            <p:nvPr/>
          </p:nvSpPr>
          <p:spPr>
            <a:xfrm flipV="1">
              <a:off x="4970880" y="3279240"/>
              <a:ext cx="405720" cy="419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1041"/>
            <p:cNvSpPr/>
            <p:nvPr/>
          </p:nvSpPr>
          <p:spPr>
            <a:xfrm>
              <a:off x="5211360" y="2275560"/>
              <a:ext cx="1136880" cy="117648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РАЗВИТИ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РЕЧ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1042"/>
            <p:cNvSpPr/>
            <p:nvPr/>
          </p:nvSpPr>
          <p:spPr>
            <a:xfrm flipV="1">
              <a:off x="4570200" y="2933280"/>
              <a:ext cx="0" cy="59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1043"/>
            <p:cNvSpPr/>
            <p:nvPr/>
          </p:nvSpPr>
          <p:spPr>
            <a:xfrm>
              <a:off x="4002480" y="1758960"/>
              <a:ext cx="1136880" cy="117648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РЭМП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1044"/>
            <p:cNvSpPr/>
            <p:nvPr/>
          </p:nvSpPr>
          <p:spPr>
            <a:xfrm>
              <a:off x="4002480" y="3528000"/>
              <a:ext cx="1136880" cy="117648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990033"/>
                  </a:solidFill>
                  <a:latin typeface="Tahoma"/>
                </a:rPr>
                <a:t>ТЕАТРАЛИЗОВАННАЯ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990033"/>
                  </a:solidFill>
                  <a:latin typeface="Tahoma"/>
                </a:rPr>
                <a:t>ДЕЯТЕЛЬНОСТЬ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2640" y="22860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ru-RU" sz="3800" spc="-1" strike="noStrike">
                <a:solidFill>
                  <a:srgbClr val="990033"/>
                </a:solidFill>
                <a:latin typeface="Times New Roman"/>
              </a:rPr>
              <a:t>Основные направления </a:t>
            </a:r>
            <a:br>
              <a:rPr sz="3800"/>
            </a:br>
            <a:r>
              <a:rPr b="1" lang="ru-RU" sz="3800" spc="-1" strike="noStrike">
                <a:solidFill>
                  <a:srgbClr val="990033"/>
                </a:solidFill>
                <a:latin typeface="Times New Roman"/>
              </a:rPr>
              <a:t>работы с детьми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Театральная иг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376092"/>
                </a:solidFill>
                <a:latin typeface="Arial"/>
              </a:rPr>
              <a:t>      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Задачи: Учить детей ориентироваться в пространстве, равномерно размещаться по площадке, строить диалог с партнёром на заданную тему. Развивать способность произвольно напрягать и расслаблять отдельные группы мышц, запоминать слова героев спектаклей, развивать зрительное слуховое внимание, память, наблюдательность, образное мышление, фантазию, воображение, интерес к сценическому искусству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Ритмоплас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376092"/>
                </a:solidFill>
                <a:latin typeface="Arial"/>
              </a:rPr>
              <a:t>     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Задачи: Развивать умение произвольно реагировать на команду или музыкальный сигнал, готовность действовать согласовано, развивать координацию движения, учить запоминать заданные позы и образно передавать их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Культура и техника ре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76092"/>
                </a:solidFill>
                <a:latin typeface="Arial"/>
              </a:rPr>
              <a:t>     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Задачи: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Развивать речевое дыхание и правильною артикуляцию, чёткую дикцию, разнообразную интонацию логику речи; учить сочинять небольшие рассказы и сказки, подбирать простейшие рифмы; произносить скороговорки и стихи, пополнять словарный запас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Основы театральной культу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76092"/>
                </a:solidFill>
                <a:latin typeface="Arial"/>
              </a:rPr>
              <a:t>      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Задачи: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Познакомить детей с театральной терминологией, с основными видами театрального искусства, воспитывать культуру поведения в театре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Работа над спектакл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76092"/>
                </a:solidFill>
                <a:latin typeface="Arial"/>
              </a:rPr>
              <a:t>      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Задачи: Учить сочинять этюды по сказкам; развивать навыки действий с воображаемыми предметами; развивать умение пользоваться интонациями, выражающими разнообразные эмоциональные состояния (грустно, радостно, сердито, удивленно, восхищённо, жалобно и т.д.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990033"/>
                </a:solidFill>
                <a:latin typeface="Arial"/>
              </a:rPr>
              <a:t>Формы организации театрализованной деятельност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80773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76092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990033"/>
                </a:solidFill>
                <a:latin typeface="Arial"/>
              </a:rPr>
              <a:t>Выбирая материал для инсценировки, нужно отталкиваться от возрастных возможностей, знаний и умений детей, обогащать их жизненный опыт, побуждать интерес к новым знаниям, расширять творческий потенциал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вместная театрализованная деятельность взрослых и детей, театральное занятие, театрализованная игра на праздниках и развлечен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мостоятельная театрально-художественная деятельность, театрализованные игра в повседневной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ини-игры на других занятиях, театрализованные игры-спектакли, посещение детьми театров совместно с родителями, мини-сценки с куклами в ходе изучения регионального компонента с детьми, привлечение главной куклы - Петрушки в решение познавательных  зада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990033"/>
                </a:solidFill>
                <a:latin typeface="Times New Roman"/>
              </a:rPr>
              <a:t>Формы работ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атральные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чевые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итмоплас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сценировка песен, попевок, хоров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ользование различных видов теат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раматизация сказ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ещение теат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заимодействие с родител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990033"/>
                </a:solidFill>
                <a:latin typeface="Arial"/>
              </a:rPr>
              <a:t>Виды театра в детском саду 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баб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стольный теа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атр на фланелеграф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нижка-теа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атр пяти пальце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атр мас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атр ручных тен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льчиковый теневой театр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атр «живых» теней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гнитный теат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рионеточный теа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Организация уголка театрализованной деятельности</a:t>
            </a:r>
            <a:br>
              <a:rPr sz="3200"/>
            </a:b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группах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тского сада организованы уголки для  театрализованных представлений, спектаклей. В них отводится место для режиссёрских игр с пальчиковым, настольным теат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В уголке располагаютс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различные виды театров: бибабо, настольный, театр на фланелеграфе и др.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реквизит для разыгрывания сценок и спектаклей: набор кукол, ширмы для кукольного театра, костюмы, элементы костюмов, маск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атрибуты для различных игровых позиций: театральный реквизит,  декорации, сценарии, книги, образцы музыкальных произведений, афиши, касса, билеты, карандаши, краски, клей, виды бумаги, природный материа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33"/>
                </a:solidFill>
                <a:latin typeface="Times New Roman"/>
              </a:rPr>
              <a:t>Модель:развитие творческой активности дошкольников</a:t>
            </a:r>
            <a:br>
              <a:rPr sz="1800"/>
            </a:br>
            <a:r>
              <a:rPr b="1" lang="ru-RU" sz="1800" spc="-1" strike="noStrike">
                <a:solidFill>
                  <a:srgbClr val="330033"/>
                </a:solidFill>
                <a:latin typeface="Times New Roman"/>
              </a:rPr>
              <a:t>(программа Н.Ф.Сорокиной и Л.Г.Миланович </a:t>
            </a:r>
            <a:br>
              <a:rPr sz="1800"/>
            </a:br>
            <a:r>
              <a:rPr b="1" lang="ru-RU" sz="1800" spc="-1" strike="noStrike">
                <a:solidFill>
                  <a:srgbClr val="330033"/>
                </a:solidFill>
                <a:latin typeface="Times New Roman"/>
              </a:rPr>
              <a:t>«Театр – творчество – дети»)</a:t>
            </a:r>
            <a:endParaRPr b="0" lang="en-US" sz="1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AutoShape 25"/>
          <p:cNvSpPr/>
          <p:nvPr/>
        </p:nvSpPr>
        <p:spPr>
          <a:xfrm>
            <a:off x="152280" y="1219320"/>
            <a:ext cx="1752840" cy="45720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мпровиза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3733920" y="990720"/>
            <a:ext cx="167616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хем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27"/>
          <p:cNvSpPr/>
          <p:nvPr/>
        </p:nvSpPr>
        <p:spPr>
          <a:xfrm>
            <a:off x="152280" y="1828800"/>
            <a:ext cx="1752840" cy="83808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оль костюмов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екораци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метн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кру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28"/>
          <p:cNvSpPr/>
          <p:nvPr/>
        </p:nvSpPr>
        <p:spPr>
          <a:xfrm>
            <a:off x="152280" y="2743200"/>
            <a:ext cx="1752840" cy="68580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ис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ыразитель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редс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29"/>
          <p:cNvSpPr/>
          <p:nvPr/>
        </p:nvSpPr>
        <p:spPr>
          <a:xfrm>
            <a:off x="152280" y="3809880"/>
            <a:ext cx="1752840" cy="53352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гров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ви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0"/>
          <p:cNvSpPr/>
          <p:nvPr/>
        </p:nvSpPr>
        <p:spPr>
          <a:xfrm>
            <a:off x="152280" y="4495680"/>
            <a:ext cx="1752840" cy="91440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бота на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оторикой ру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ее движ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 ширм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1"/>
          <p:cNvSpPr/>
          <p:nvPr/>
        </p:nvSpPr>
        <p:spPr>
          <a:xfrm>
            <a:off x="228600" y="5715000"/>
            <a:ext cx="1676520" cy="68580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нтонаци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характер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укл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2"/>
          <p:cNvSpPr/>
          <p:nvPr/>
        </p:nvSpPr>
        <p:spPr>
          <a:xfrm>
            <a:off x="2438280" y="1600200"/>
            <a:ext cx="1752840" cy="114300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накомств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 основ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раматиз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33"/>
          <p:cNvSpPr/>
          <p:nvPr/>
        </p:nvSpPr>
        <p:spPr>
          <a:xfrm>
            <a:off x="2438280" y="4343400"/>
            <a:ext cx="1828800" cy="121932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наком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 основ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укольного теат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кукловожд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34"/>
          <p:cNvSpPr/>
          <p:nvPr/>
        </p:nvSpPr>
        <p:spPr>
          <a:xfrm>
            <a:off x="3886200" y="3200400"/>
            <a:ext cx="1447920" cy="60948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БЕ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35"/>
          <p:cNvSpPr/>
          <p:nvPr/>
        </p:nvSpPr>
        <p:spPr>
          <a:xfrm>
            <a:off x="5105520" y="1600200"/>
            <a:ext cx="1600200" cy="114300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накомств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 основ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ктерск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стер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36"/>
          <p:cNvSpPr/>
          <p:nvPr/>
        </p:nvSpPr>
        <p:spPr>
          <a:xfrm>
            <a:off x="5257800" y="4343400"/>
            <a:ext cx="1676520" cy="121932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амостоятель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еатрализован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еяте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37"/>
          <p:cNvSpPr/>
          <p:nvPr/>
        </p:nvSpPr>
        <p:spPr>
          <a:xfrm>
            <a:off x="3809880" y="5867280"/>
            <a:ext cx="1752840" cy="83844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аздник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звлеч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38"/>
          <p:cNvSpPr/>
          <p:nvPr/>
        </p:nvSpPr>
        <p:spPr>
          <a:xfrm>
            <a:off x="7315200" y="1143000"/>
            <a:ext cx="1676520" cy="45720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гровые дви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39"/>
          <p:cNvSpPr/>
          <p:nvPr/>
        </p:nvSpPr>
        <p:spPr>
          <a:xfrm>
            <a:off x="7315200" y="1828800"/>
            <a:ext cx="1600200" cy="45720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ыразительн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чт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40"/>
          <p:cNvSpPr/>
          <p:nvPr/>
        </p:nvSpPr>
        <p:spPr>
          <a:xfrm>
            <a:off x="7315200" y="2438280"/>
            <a:ext cx="1600200" cy="30492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им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41"/>
          <p:cNvSpPr/>
          <p:nvPr/>
        </p:nvSpPr>
        <p:spPr>
          <a:xfrm>
            <a:off x="7315200" y="2895480"/>
            <a:ext cx="1676520" cy="53352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ыразите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виж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42"/>
          <p:cNvSpPr/>
          <p:nvPr/>
        </p:nvSpPr>
        <p:spPr>
          <a:xfrm>
            <a:off x="7391520" y="3886200"/>
            <a:ext cx="1523880" cy="60948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становк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пектак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43"/>
          <p:cNvSpPr/>
          <p:nvPr/>
        </p:nvSpPr>
        <p:spPr>
          <a:xfrm>
            <a:off x="7391520" y="4724280"/>
            <a:ext cx="1523880" cy="53352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гры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раматиз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44"/>
          <p:cNvSpPr/>
          <p:nvPr/>
        </p:nvSpPr>
        <p:spPr>
          <a:xfrm>
            <a:off x="7391520" y="5486400"/>
            <a:ext cx="1600200" cy="53352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ссказыва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каз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46"/>
          <p:cNvSpPr/>
          <p:nvPr/>
        </p:nvSpPr>
        <p:spPr>
          <a:xfrm flipV="1">
            <a:off x="4876920" y="274320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48"/>
          <p:cNvSpPr/>
          <p:nvPr/>
        </p:nvSpPr>
        <p:spPr>
          <a:xfrm flipH="1" flipV="1">
            <a:off x="3352680" y="2743200"/>
            <a:ext cx="10670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49"/>
          <p:cNvSpPr/>
          <p:nvPr/>
        </p:nvSpPr>
        <p:spPr>
          <a:xfrm flipH="1">
            <a:off x="3429000" y="3809880"/>
            <a:ext cx="9907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50"/>
          <p:cNvSpPr/>
          <p:nvPr/>
        </p:nvSpPr>
        <p:spPr>
          <a:xfrm>
            <a:off x="4876920" y="380988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51"/>
          <p:cNvSpPr/>
          <p:nvPr/>
        </p:nvSpPr>
        <p:spPr>
          <a:xfrm>
            <a:off x="4648320" y="38098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52"/>
          <p:cNvSpPr/>
          <p:nvPr/>
        </p:nvSpPr>
        <p:spPr>
          <a:xfrm flipH="1" flipV="1">
            <a:off x="1904760" y="1447560"/>
            <a:ext cx="5331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53"/>
          <p:cNvSpPr/>
          <p:nvPr/>
        </p:nvSpPr>
        <p:spPr>
          <a:xfrm flipH="1">
            <a:off x="1904760" y="22096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54"/>
          <p:cNvSpPr/>
          <p:nvPr/>
        </p:nvSpPr>
        <p:spPr>
          <a:xfrm flipH="1">
            <a:off x="1828440" y="2286000"/>
            <a:ext cx="6094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55"/>
          <p:cNvSpPr/>
          <p:nvPr/>
        </p:nvSpPr>
        <p:spPr>
          <a:xfrm flipH="1" flipV="1">
            <a:off x="1904760" y="4114440"/>
            <a:ext cx="5331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56"/>
          <p:cNvSpPr/>
          <p:nvPr/>
        </p:nvSpPr>
        <p:spPr>
          <a:xfrm flipH="1">
            <a:off x="1904760" y="48769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57"/>
          <p:cNvSpPr/>
          <p:nvPr/>
        </p:nvSpPr>
        <p:spPr>
          <a:xfrm flipH="1">
            <a:off x="1904760" y="4876920"/>
            <a:ext cx="5331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58"/>
          <p:cNvSpPr/>
          <p:nvPr/>
        </p:nvSpPr>
        <p:spPr>
          <a:xfrm flipV="1">
            <a:off x="6705720" y="137124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59"/>
          <p:cNvSpPr/>
          <p:nvPr/>
        </p:nvSpPr>
        <p:spPr>
          <a:xfrm>
            <a:off x="6705720" y="1981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60"/>
          <p:cNvSpPr/>
          <p:nvPr/>
        </p:nvSpPr>
        <p:spPr>
          <a:xfrm>
            <a:off x="6705720" y="1981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61"/>
          <p:cNvSpPr/>
          <p:nvPr/>
        </p:nvSpPr>
        <p:spPr>
          <a:xfrm>
            <a:off x="6705720" y="1981080"/>
            <a:ext cx="60948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62"/>
          <p:cNvSpPr/>
          <p:nvPr/>
        </p:nvSpPr>
        <p:spPr>
          <a:xfrm flipV="1">
            <a:off x="6934320" y="42670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63"/>
          <p:cNvSpPr/>
          <p:nvPr/>
        </p:nvSpPr>
        <p:spPr>
          <a:xfrm>
            <a:off x="6934320" y="4876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64"/>
          <p:cNvSpPr/>
          <p:nvPr/>
        </p:nvSpPr>
        <p:spPr>
          <a:xfrm>
            <a:off x="6934320" y="49528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2T17:11:15Z</dcterms:created>
  <dc:creator>USER</dc:creator>
  <dc:description/>
  <dc:language>en-US</dc:language>
  <cp:lastModifiedBy>LEGION</cp:lastModifiedBy>
  <dcterms:modified xsi:type="dcterms:W3CDTF">2015-01-27T13:38:36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