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6FF70-78D8-4BB8-9D44-9E7EF51090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ОБЩАТЬСЯ С ПОДРОСТК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21C57-0415-4E8D-8B4E-CD4B0B54C05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ВЕДЕНИЕ ПОДРОСТ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 НОЧУЕТ ДО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*ТРЕБУЕТ ДЕНЕ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*ПРОГУЛИВАЕТ ШКОЛ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*ХАМИТ ВЗРОСЛЫ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*УГРОЖАЕТ СУИЦИД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81E12-A9E6-48E9-9D2E-7E8D940310A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ИПИЧНЫЕ ОШИБКИ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ДИТЕ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 САЖАЙТЕ РЕБЁНКА ПОД ДОМАШНИЙ АРЕ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*НЕ БЕЙТЕ И НЕ КРИЧИ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*НЕ ЗАПРЕШАЙТЕ ИГРАТЬ В КОМПЬЮТ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BB604-0A7A-4F3A-A478-51FA629FE24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ЛШЕБНЫЕ ФРАЗЫ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ЛЯ РОДИ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ЧИНАЙТЕ ПРЕДЛОЖЕНИЯ С МЕСТОИМЕНИЯ «Я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*ВМЕСТО «ТЫ ДОЛЖЕН» ГОВОРИТЕ:  «МНЕ БЫ ХОТЕЛОСЬ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*ПЕРЕД КРИТИКОЙ ПОХВАЛИТЕ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1F341-0DDE-4B3D-AE43-12FFE45647D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СТАТ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*Прикасайтесь к подростку как можно чаще - берите за руку, обнимайте, гладьте по голо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*Ребёнок будет чувствовать себя любимым и станет меньше бунтова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11EF6-348D-4CBF-9323-206AD2A8588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ВЕТ РОДИТЕЛЯ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БЕРИТЕСЬ ТЕРПЕНИ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*ИЗУЧИТЕ, КАК ВЕСТИ СЕБЯ В СЛОЖНЫХ СИТУАЦИ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*НЕ ТЕРЯЙТЕ КОНТАКТА С БУНТАРЁМ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74C01-E262-488C-9356-89B25191DD2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!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ПЕХОВ ВАМ В ОБЩЕНИИ С ПОДРОСТКАМИ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0D3B4-AF84-447D-B639-4004FB34B13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1F4B-C880-401F-837D-D637FFBE3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6A7A-C3AA-4AE7-ACB0-7A5620EDC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A4D3-4854-44FC-8F6C-151CE5519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20C0-B3A7-46C5-ADB1-3B84A67A3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DA0C-07AA-48D9-89AE-4E4E8D7E6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C6BA-7D6D-4279-BA38-B83EF0A5C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AEEF-70E2-46DD-BEF0-21A52291E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E776-DD83-4A74-9D2F-74D972844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876C-8E4B-4C37-93F2-36C0987C5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D76C-11DD-4DF8-AFF8-FA0CF822C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34B0-E111-4B76-ABDE-677652E1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DD90-F3DA-4505-90DD-9CBEDC95B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7901F-5AEB-40DE-9947-5DCC7C46689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klub-drug.ru/wp-content/uploads/2011/04/79966779.gif" TargetMode="Externa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5ffff"/>
                </a:solidFill>
                <a:latin typeface="Tahoma"/>
              </a:rPr>
              <a:t>КАК ОБЩАТЬСЯ С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5400" spc="-1" strike="noStrike">
                <a:solidFill>
                  <a:srgbClr val="e5ffff"/>
                </a:solidFill>
                <a:latin typeface="Tahoma"/>
              </a:rPr>
              <a:t>ПОДРОСТКОМ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9" name="Picture 4" descr="7996677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3573360"/>
            <a:ext cx="1995480" cy="216072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ffff"/>
                </a:solidFill>
                <a:latin typeface="Tahoma"/>
              </a:rPr>
              <a:t>ПОВЕДЕНИЕ ПОДРОСТКА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774072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НЕ НОЧУЕТ ДОМ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*ТРЕБУЕТ ДЕНЕГ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*ПРОГУЛИВАЕТ ШКОЛУ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*ХАМИТ ВЗРОСЛЫМ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*УГРОЖАЕТ СУИЦИДОМ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ffff"/>
                </a:solidFill>
                <a:latin typeface="Tahoma"/>
              </a:rPr>
              <a:t>ТИПИЧНЫЕ ОШИБКИ</a:t>
            </a:r>
            <a:br>
              <a:rPr sz="4800"/>
            </a:br>
            <a:r>
              <a:rPr b="1" lang="ru-RU" sz="4800" spc="-1" strike="noStrike">
                <a:solidFill>
                  <a:srgbClr val="e5ffff"/>
                </a:solidFill>
                <a:latin typeface="Tahoma"/>
              </a:rPr>
              <a:t>РОДИТЕЛЕЙ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НЕ САЖАЙТЕ РЕБЁНКА ПОД ДОМАШНИЙ АРЕС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*НЕ БЕЙТЕ И НЕ КРИЧИТ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*НЕ ЗАПРЕШАЙТЕ ИГРАТЬ В КОМПЬЮТЕР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ВОЛШЕБНЫЕ ФРАЗЫ</a:t>
            </a:r>
            <a:br>
              <a:rPr sz="4400"/>
            </a:b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ДЛЯ РОДИТЕЛЕЙ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300880" cy="46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НАЧИНАЙТЕ ПРЕДЛОЖЕНИЯ С МЕСТОИМЕНИЯ «Я»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*ВМЕСТО «ТЫ ДОЛЖЕН» ГОВОРИТЕ:  «МНЕ БЫ ХОТЕЛОСЬ»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*ПЕРЕД КРИТИКОЙ ПОХВАЛИТ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" name="Picture 4" descr="51470012"/>
          <p:cNvPicPr/>
          <p:nvPr/>
        </p:nvPicPr>
        <p:blipFill>
          <a:blip r:embed="rId1"/>
          <a:stretch/>
        </p:blipFill>
        <p:spPr>
          <a:xfrm flipH="1">
            <a:off x="6732360" y="5373720"/>
            <a:ext cx="1942920" cy="148428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ffff"/>
                </a:solidFill>
                <a:latin typeface="Tahoma"/>
              </a:rPr>
              <a:t>КСТАТИ!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*Прикасайтесь к подростку как можно чаще - берите за руку, обнимайте, гладьте по голове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*Ребёнок будет чувствовать себя любимым и станет меньше бунтовать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ffff"/>
                </a:solidFill>
                <a:latin typeface="Tahoma"/>
              </a:rPr>
              <a:t>СОВЕТ РОДИТЕЛЯМ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НАБЕРИТЕСЬ ТЕРПЕНИЯ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*ИЗУЧИТЕ, КАК ВЕСТИ СЕБЯ В СЛОЖНЫХ СИТУАЦИЯХ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*НЕ ТЕРЯЙТЕ КОНТАКТА С БУНТАРЁМ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6" name="Picture 4" descr="61444841"/>
          <p:cNvPicPr/>
          <p:nvPr/>
        </p:nvPicPr>
        <p:blipFill>
          <a:blip r:embed="rId1"/>
          <a:stretch/>
        </p:blipFill>
        <p:spPr>
          <a:xfrm flipH="1">
            <a:off x="4298760" y="5045040"/>
            <a:ext cx="1352520" cy="126360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d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41672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СПАСИБО ЗА ВНИМАНИЕ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!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УСПЕХОВ ВАМ В ОБЩЕНИИ С ПОДРОСТКАМИ!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9" name="Picture 4" descr="106"/>
          <p:cNvPicPr/>
          <p:nvPr/>
        </p:nvPicPr>
        <p:blipFill>
          <a:blip r:embed="rId1"/>
          <a:stretch/>
        </p:blipFill>
        <p:spPr>
          <a:xfrm>
            <a:off x="6861240" y="4842000"/>
            <a:ext cx="1525680" cy="1120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51470012"/>
          <p:cNvPicPr/>
          <p:nvPr/>
        </p:nvPicPr>
        <p:blipFill>
          <a:blip r:embed="rId2"/>
          <a:stretch/>
        </p:blipFill>
        <p:spPr>
          <a:xfrm>
            <a:off x="1258920" y="3292560"/>
            <a:ext cx="3163680" cy="257796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30T09:58:24Z</dcterms:created>
  <dc:creator>Admin</dc:creator>
  <dc:description/>
  <dc:language>en-US</dc:language>
  <cp:lastModifiedBy>LEGION</cp:lastModifiedBy>
  <dcterms:modified xsi:type="dcterms:W3CDTF">2015-01-27T14:00:22Z</dcterms:modified>
  <cp:revision>6</cp:revision>
  <dc:subject/>
  <dc:title>КАК ОБЩАТЬСЯ С ПОДРОСТКОМ</dc:title>
</cp:coreProperties>
</file>