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A173-F99D-4026-B6EE-F183C4470C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 будущих первокласс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1163-18B1-41FF-BED8-495FF69F71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чебники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ACB2-DCC4-425C-8670-876564B324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рописи и рабочие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3AA2-A067-46F0-86AD-98934D1650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B581-FE6C-47F0-AB46-2D7469757C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0805-EFC3-4B00-8F97-69738645CE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9631-587F-4B08-A5EE-05EDB7E6E0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4AEA-F4AA-48B4-98DA-78679CA67B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A8D2-14B6-4C68-ADAB-F8AA5348BB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1EB1-DBB5-46D7-A37C-B8E961C216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DEBB-C5C4-4226-A3FB-1B9DF57376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4E40-20BF-4DCA-82F3-051EA0F87D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C14-3CD0-4B78-AFED-5AE1CA34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FE3-E4DF-4D26-9CB1-57C6B711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3C490-3C68-4788-8524-0C3D7CB4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93D05-2EC7-447B-A7E9-32BC5288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52228-C2BA-46ED-9C22-9A10DEB1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158CE-CD81-4BAB-99E8-BD06BB55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F12C7-7E96-43D0-B979-650D20F8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8CA8F-FF8D-4C4A-95B1-1186BA58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4A563-54E4-4C81-A395-A9B1FFFB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C15FD-7F9B-4626-8F1B-8812498F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A9A5F-7D76-4C25-B0C9-956D1DEA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286FA-B14E-4FB0-A54C-9DD0672E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54F-73D6-4389-B3CE-CA88838F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7BC91-FDAF-4F43-8D13-BA251A2B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104AC-CC3B-4FBB-8CFA-232305E2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55140-3BDE-4DE4-B625-EF470920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88721-3ABE-4FB6-8921-32D2C175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8C1E5-37BB-4306-8E6B-75148629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C2351-E150-4D2F-B332-ECB2697D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48756-7EA2-40D4-B911-C021BB1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DEF34-ABFC-4513-B434-61DEF1CA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0F237-5541-4D8D-8ABA-1C3747E0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EB796-6443-4254-81EF-077B36DE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AE5-41F6-488C-BCA3-5B0530A0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C6023-34A8-4F44-A1DC-CDDC508B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A7ABA-4611-4953-AC64-4FB34615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AB043-C8BB-417D-9F87-B3F945F2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A42A6-2ED4-4559-9DE9-50C7E8C2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9CE78-3598-4901-8CE7-E2647CB3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C64EC-FD73-4B6E-B7C0-5B006BF6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63817-B3EF-4E34-A944-7BDCD84A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91F00-0F01-48B3-94E3-AFCA4390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740F7-8F33-4547-A773-37848A54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762B4-3669-4213-AC25-8C719BDB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F668-893A-4160-97B1-581B1FD3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60C67-1CD3-401F-AA70-E278CA3D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405CA-5D25-4D0C-A09C-15A4F26D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C1F6E-EEBD-49DF-B55E-B59C5CA6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F1432-42CA-47D3-BC99-CB40A95E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AA824-5AD9-4CFF-B5EC-BF4C2777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0C9BE-0853-4312-8BDF-4D4AC175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5F19C-8CE8-4B39-9FF6-FACF42A1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3B43B-2F3C-4A61-A4E6-84D94154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A7D3C-465B-4B13-B3D4-ED6AAF88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F67D3-F1E9-4598-A399-E15DF701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29A2-3F37-472A-BB5A-035D62FA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98F0E-EE88-4ABD-A156-AD046D1C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0135C-23CD-4F18-810B-8E19F792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70FAF-7842-429F-92C1-602FB76C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32FA5-9217-4961-8935-83DF5041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01A26-FAE9-4FE9-8FCA-05023A05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8F83A-27DD-4681-84E6-570CA905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575C0-4431-4B3D-8D2B-A973C8F0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F013C-018B-4219-8005-28856910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8B85C-82EC-4EAF-B1F5-6523F764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92651-B7CE-44D8-A10D-4E3CFBA7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D86B-A4AB-43E5-91CB-7AAD31B2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AF4CE-F199-498F-9D90-EB1F28C4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02492-3192-48D9-A326-12A7F1C1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A722E-EF3A-48D1-B57A-53F9027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A3D0D-1774-47E7-BCC8-8F5DCDE8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0891F-B22F-4076-B8FD-5D049107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19480-9315-4E8E-923F-23A1FB8D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5762F-AF1F-40BF-8F15-BC79011E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BAD76-7706-4319-909D-CCF443EB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6B75D-CF8B-4198-8D0E-44F70F3A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FECA46-C558-4591-8086-B31AC175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58C1-E887-4BAA-84DA-E499F500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AAE3D-ABE8-48B9-B7F8-8E8EEA01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C0526-B243-4974-8DA0-E21F516A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D18E6-3F94-4CD0-89F0-4A5322F0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40CE0C-4F8F-4F17-96C2-879F15EA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FA9BE-287C-4022-8DFD-247E6554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DEAEC-6933-4753-9545-2D5DA150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9C387-7D43-486C-9C62-B95243F9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B049A-F9E7-4A12-AA7A-FB9DCE24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6EFA4-113A-4800-BC71-F316645D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5FF4-AD15-4FE4-8A29-6507F50D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F9B8-651C-457F-844D-30D57F9B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8011-F745-4B65-8B13-284912D5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82C-C5ED-4A7E-A0EE-2B92F766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B04A-BBF0-4C2C-9688-01214E96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5AE3-5961-4A14-AE2B-195586BE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C489-EABC-484C-BFB1-E4C38EA1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40A9-87E3-4BC3-9862-2041FA02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83C1-1FC0-4625-BDB8-96705097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7270-A902-4BBF-B4F0-E9BC9A0A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0E74-5C27-439D-A2E5-E8933818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41B1-97B0-4F12-9BF6-ED7BF358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E538B-E7F1-42A8-9BBA-C1EC424B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B2C5-9E56-450A-AAF0-EA481325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B69-3557-418B-A9F6-A994E36D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70A86-FFE7-4742-A502-220B73D4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6455-C3FB-4EDB-9271-6892CE42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B558-D21D-41F6-89AB-C36ECDB3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1AF2-B35C-450E-90F9-6CB17D02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D4D4-ACB3-4F73-BA7E-4411B7BD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E812-7C76-403C-A397-267C2960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C5167-C445-44EA-9532-4F39592F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0C31F-B18D-48CA-A706-9657D290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4D03B-FA8F-4489-88DE-2E27ED85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EDDF1-5D57-485B-9C41-6BC16FA3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859-8FAC-4C26-894F-21B6A404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A352B-5619-461B-947F-3E337A55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D4D8D-259A-4F3F-BBC5-6398D70A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21E8E-B2F6-4A75-A8F4-612B7F6F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2D46-4027-4EE4-AB79-62000FFC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FE16C-68AA-4D3C-8C74-77D88621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A17A3-6A73-4A09-8855-582CEFFF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D31CC-DC0D-4CB6-9EDD-AA1A44A6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43233-B1AE-42D7-BDA2-D411DF7C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34CE-7CCF-4FBC-B3BB-4BC82252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BC9A5-8C76-4EB9-9728-5A9D4180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047-8A2F-4E68-A3B2-00317662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B9416-B0F0-4FD3-B217-2568A241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4BCEB-90C6-4103-8B1A-65668030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7AE9A-1A77-4C5C-A5C1-A90767F2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2EDF4-4429-404D-879E-F1E17F0F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DEF2A-9CAF-4583-AE66-40BCDA0F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90894-F2DC-4CE7-9E47-CB5BA185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94F4D-7372-4F6F-9F2A-D893C0CD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5F6A1-55A2-4D56-BA87-F196BD50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20F06-801A-409B-8EDA-200D693B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6E35-5BC3-4CB2-A1EB-60984AFB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CB6-8184-4DA2-866F-983BE257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A55F6-5806-4770-97AE-3804A3BD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83410-F2A1-48CE-AB6C-E58F8ECC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18443-D6F7-4940-BD25-C4F9C8CD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9C564-E57A-472D-ACA8-E6A89355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C9B7B-EB0F-44FB-9188-4216A6D5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F2677-5436-48AB-842E-31FC6F2C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9C839-7DE7-4270-B814-EB3AE2C1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62862-3227-4922-A731-901C9D99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740BA-F340-4B76-A1EC-25E0AEA4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D2493-6AA3-450F-A738-59AC2887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8A5-6838-4353-85E5-9D0F5C3C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4780D-B9A9-4314-AA7F-446B8EA0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D8A2F-34BA-4D28-9E52-947F8FD4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EACE1-DF94-45AB-B270-C3AC6142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59DAD-E8F2-4B29-B5CB-FBEC0694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F2130-379F-4113-83AC-A7BC2B12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C8E9E-395B-48F8-91C3-C5051E1F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73F96-D0FA-4BA5-9A90-CB5807B9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000C3-D48D-4957-A538-0CE887A0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C5F26-DF5D-4318-B6F6-EDACF0BF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280F0-7580-40B1-9826-49B61C6A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771-DE70-4F88-A8B1-F2706E7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11BE6-AFE4-4278-9273-78D6D5D9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2D2DF-9A1F-4A39-9F38-64DD6E10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88C36-1FAB-45AB-91C3-091FCA05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417BC-0486-4972-8B6D-BA899C3D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EAE9F-A8C4-46F9-9219-6EA5DE2D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25583-02E5-4EB0-A180-23D1C964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98C86-A25F-4752-9E8A-D87E4B7E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097BA-6704-4D01-A094-D50EBAE0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8B510-900E-40FA-8317-719BAAB7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BCE18-46B6-4CF7-AE08-8067F602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D07-2ED4-4FF2-ADC6-24C23603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E9F44-60F5-4F0A-BA60-EEB934AA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7129E-4E3B-4923-ABA8-5FC25647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8193-F7EB-4C86-83F0-EC2BB170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B1D1B-2993-4803-A354-F3A815D4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4FC8F-4C45-4B7F-B067-1508916A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7502B-0B0F-4F73-9325-B1B1419D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EE677-3B44-4507-8719-50FCCF7C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A9F21-BEA1-4935-AB4F-A0B78FA0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135DD-DD05-46A7-8DC5-3D5C5C41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945E9-6B68-4071-B181-2802D35D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F9E0-079B-462E-BEB7-5E4D23F64A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034A-7122-4936-8700-E2BB43374B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4B45-1E5A-4A84-8BDD-A52F4E155A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CE2D-1B2B-4CD0-9C8D-5F20A84CFF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62EB-A18E-4EAD-A0B0-05919D13F4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7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9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3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00BF-075A-4D3A-972F-48EE04C14F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8F4A-E755-419B-8328-BF8401F72F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9447-59D3-4AEF-BFB6-52EF71BDD3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200D-9E3C-4172-9A6B-D4522A5BE9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8517-973B-4E5C-9215-E86EB4331D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A982-DB63-4752-B6F4-F77293D04F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4FE2-D569-496A-BC6A-3DF903671D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7065-00A3-46EA-88C4-B20DBA5B11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E4EB-0938-41EF-AE94-19425D8E82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71680" y="1285920"/>
            <a:ext cx="7772400" cy="35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Советы родителям будущих первоклассников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Учебники для 1 клас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16" name="Picture 4" descr="b-04-0001-01"/>
          <p:cNvPicPr/>
          <p:nvPr/>
        </p:nvPicPr>
        <p:blipFill>
          <a:blip r:embed="rId1"/>
          <a:stretch/>
        </p:blipFill>
        <p:spPr>
          <a:xfrm>
            <a:off x="1384200" y="1616040"/>
            <a:ext cx="1803600" cy="226692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3" descr="b-06-0010-01"/>
          <p:cNvPicPr/>
          <p:nvPr/>
        </p:nvPicPr>
        <p:blipFill>
          <a:blip r:embed="rId2"/>
          <a:stretch/>
        </p:blipFill>
        <p:spPr>
          <a:xfrm>
            <a:off x="5742000" y="1616040"/>
            <a:ext cx="1731960" cy="216396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2" descr="b-07-0019-01"/>
          <p:cNvPicPr/>
          <p:nvPr/>
        </p:nvPicPr>
        <p:blipFill>
          <a:blip r:embed="rId3"/>
          <a:stretch/>
        </p:blipFill>
        <p:spPr>
          <a:xfrm>
            <a:off x="1457280" y="4260960"/>
            <a:ext cx="1730520" cy="218268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b-08-0015-01"/>
          <p:cNvPicPr/>
          <p:nvPr/>
        </p:nvPicPr>
        <p:blipFill>
          <a:blip r:embed="rId4"/>
          <a:stretch/>
        </p:blipFill>
        <p:spPr>
          <a:xfrm>
            <a:off x="5742000" y="4260960"/>
            <a:ext cx="1658880" cy="2116080"/>
          </a:xfrm>
          <a:prstGeom prst="rect">
            <a:avLst/>
          </a:prstGeom>
          <a:ln w="0">
            <a:noFill/>
          </a:ln>
        </p:spPr>
      </p:pic>
      <p:sp>
        <p:nvSpPr>
          <p:cNvPr id="1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6"/>
          <p:cNvSpPr/>
          <p:nvPr/>
        </p:nvSpPr>
        <p:spPr>
          <a:xfrm>
            <a:off x="4838040" y="2049120"/>
            <a:ext cx="38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8"/>
          <p:cNvSpPr/>
          <p:nvPr/>
        </p:nvSpPr>
        <p:spPr>
          <a:xfrm>
            <a:off x="4804560" y="59065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4" name="Рисунок 10" descr="b-05-0036-06.jpg"/>
          <p:cNvPicPr/>
          <p:nvPr/>
        </p:nvPicPr>
        <p:blipFill>
          <a:blip r:embed="rId5"/>
          <a:stretch/>
        </p:blipFill>
        <p:spPr>
          <a:xfrm>
            <a:off x="3597120" y="2475000"/>
            <a:ext cx="1876680" cy="2421000"/>
          </a:xfrm>
          <a:prstGeom prst="rect">
            <a:avLst/>
          </a:prstGeom>
          <a:ln w="0">
            <a:noFill/>
          </a:ln>
        </p:spPr>
      </p:pic>
      <p:sp>
        <p:nvSpPr>
          <p:cNvPr id="15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1" descr="http://30wbask-s11.edusite.ru/images/propis-4.jpg"/>
          <p:cNvPicPr/>
          <p:nvPr/>
        </p:nvPicPr>
        <p:blipFill>
          <a:blip r:embed="rId1"/>
          <a:stretch/>
        </p:blipFill>
        <p:spPr>
          <a:xfrm>
            <a:off x="3529080" y="1762200"/>
            <a:ext cx="1519200" cy="20714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2" descr="http://30wbask-s11.edusite.ru/images/propis-2.jpg"/>
          <p:cNvPicPr/>
          <p:nvPr/>
        </p:nvPicPr>
        <p:blipFill>
          <a:blip r:embed="rId2"/>
          <a:stretch/>
        </p:blipFill>
        <p:spPr>
          <a:xfrm>
            <a:off x="2457360" y="1328760"/>
            <a:ext cx="1517760" cy="21207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3" descr="http://30wbask-s11.edusite.ru/images/small.jpg"/>
          <p:cNvPicPr/>
          <p:nvPr/>
        </p:nvPicPr>
        <p:blipFill>
          <a:blip r:embed="rId3"/>
          <a:stretch/>
        </p:blipFill>
        <p:spPr>
          <a:xfrm>
            <a:off x="1243080" y="1828800"/>
            <a:ext cx="1530360" cy="2090880"/>
          </a:xfrm>
          <a:prstGeom prst="rect">
            <a:avLst/>
          </a:prstGeom>
          <a:ln w="0">
            <a:noFill/>
          </a:ln>
        </p:spPr>
      </p:pic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Прописи и рабочие тетрад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1" name="Picture 4" descr="http://30wbask-s11.edusite.ru/images/propis-1.jpg"/>
          <p:cNvPicPr/>
          <p:nvPr/>
        </p:nvPicPr>
        <p:blipFill>
          <a:blip r:embed="rId4"/>
          <a:stretch/>
        </p:blipFill>
        <p:spPr>
          <a:xfrm>
            <a:off x="311040" y="3187800"/>
            <a:ext cx="1548000" cy="20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2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3" name="Picture 6" descr="http://30wbask-s11.edusite.ru/images/tetrad-pomatem.jpg"/>
          <p:cNvPicPr/>
          <p:nvPr/>
        </p:nvPicPr>
        <p:blipFill>
          <a:blip r:embed="rId5"/>
          <a:stretch/>
        </p:blipFill>
        <p:spPr>
          <a:xfrm>
            <a:off x="7102440" y="1762200"/>
            <a:ext cx="1371600" cy="185256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5" descr="b-07-0048-03"/>
          <p:cNvPicPr/>
          <p:nvPr/>
        </p:nvPicPr>
        <p:blipFill>
          <a:blip r:embed="rId6"/>
          <a:stretch/>
        </p:blipFill>
        <p:spPr>
          <a:xfrm>
            <a:off x="6242040" y="1474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535" name="Рисунок 10" descr="b-05-0023-04.jpg"/>
          <p:cNvPicPr/>
          <p:nvPr/>
        </p:nvPicPr>
        <p:blipFill>
          <a:blip r:embed="rId7"/>
          <a:stretch/>
        </p:blipFill>
        <p:spPr>
          <a:xfrm>
            <a:off x="2597040" y="3902040"/>
            <a:ext cx="2108160" cy="2730600"/>
          </a:xfrm>
          <a:prstGeom prst="rect">
            <a:avLst/>
          </a:prstGeom>
          <a:ln w="0">
            <a:noFill/>
          </a:ln>
        </p:spPr>
      </p:pic>
      <p:pic>
        <p:nvPicPr>
          <p:cNvPr id="1536" name="Рисунок 11" descr="b-08-0015-01.jpg"/>
          <p:cNvPicPr/>
          <p:nvPr/>
        </p:nvPicPr>
        <p:blipFill>
          <a:blip r:embed="rId8"/>
          <a:stretch/>
        </p:blipFill>
        <p:spPr>
          <a:xfrm>
            <a:off x="5095800" y="3975120"/>
            <a:ext cx="2133720" cy="2730600"/>
          </a:xfrm>
          <a:prstGeom prst="rect">
            <a:avLst/>
          </a:prstGeom>
          <a:ln w="0">
            <a:noFill/>
          </a:ln>
        </p:spPr>
      </p:pic>
      <p:sp>
        <p:nvSpPr>
          <p:cNvPr id="153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5" name="Picture 6" descr="images 2"/>
          <p:cNvPicPr/>
          <p:nvPr/>
        </p:nvPicPr>
        <p:blipFill>
          <a:blip r:embed="rId1"/>
          <a:stretch/>
        </p:blipFill>
        <p:spPr>
          <a:xfrm>
            <a:off x="5429160" y="2357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8" name="Picture 6" descr="3"/>
          <p:cNvPicPr/>
          <p:nvPr/>
        </p:nvPicPr>
        <p:blipFill>
          <a:blip r:embed="rId1"/>
          <a:stretch/>
        </p:blipFill>
        <p:spPr>
          <a:xfrm>
            <a:off x="5286240" y="2286000"/>
            <a:ext cx="2857680" cy="2152800"/>
          </a:xfrm>
          <a:prstGeom prst="rect">
            <a:avLst/>
          </a:prstGeom>
          <a:ln w="0">
            <a:noFill/>
          </a:ln>
        </p:spPr>
      </p:pic>
      <p:sp>
        <p:nvSpPr>
          <p:cNvPr id="1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/>
          </p:nvPr>
        </p:nvSpPr>
        <p:spPr>
          <a:xfrm>
            <a:off x="3132000" y="162864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1" name="Picture 6" descr="images"/>
          <p:cNvPicPr/>
          <p:nvPr/>
        </p:nvPicPr>
        <p:blipFill>
          <a:blip r:embed="rId1"/>
          <a:stretch/>
        </p:blipFill>
        <p:spPr>
          <a:xfrm>
            <a:off x="285840" y="2928960"/>
            <a:ext cx="2857320" cy="1485720"/>
          </a:xfrm>
          <a:prstGeom prst="rect">
            <a:avLst/>
          </a:prstGeom>
          <a:ln w="0">
            <a:noFill/>
          </a:ln>
        </p:spPr>
      </p:pic>
      <p:sp>
        <p:nvSpPr>
          <p:cNvPr id="1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6119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4" name="Picture 6" descr="5"/>
          <p:cNvPicPr/>
          <p:nvPr/>
        </p:nvPicPr>
        <p:blipFill>
          <a:blip r:embed="rId1"/>
          <a:stretch/>
        </p:blipFill>
        <p:spPr>
          <a:xfrm>
            <a:off x="5929200" y="3500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/>
          </p:nvPr>
        </p:nvSpPr>
        <p:spPr>
          <a:xfrm>
            <a:off x="4308480" y="1844280"/>
            <a:ext cx="4835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7" name="Picture 6" descr="63laundes_kak_vlubit"/>
          <p:cNvPicPr/>
          <p:nvPr/>
        </p:nvPicPr>
        <p:blipFill>
          <a:blip r:embed="rId1"/>
          <a:stretch/>
        </p:blipFill>
        <p:spPr>
          <a:xfrm>
            <a:off x="1000080" y="2571840"/>
            <a:ext cx="2857680" cy="1886040"/>
          </a:xfrm>
          <a:prstGeom prst="rect">
            <a:avLst/>
          </a:prstGeom>
          <a:ln w="0">
            <a:noFill/>
          </a:ln>
        </p:spPr>
      </p:pic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/>
          </p:nvPr>
        </p:nvSpPr>
        <p:spPr>
          <a:xfrm>
            <a:off x="464292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0" name="Picture 6" descr="7"/>
          <p:cNvPicPr/>
          <p:nvPr/>
        </p:nvPicPr>
        <p:blipFill>
          <a:blip r:embed="rId1"/>
          <a:stretch/>
        </p:blipFill>
        <p:spPr>
          <a:xfrm>
            <a:off x="1000080" y="2357280"/>
            <a:ext cx="2857680" cy="2705400"/>
          </a:xfrm>
          <a:prstGeom prst="rect">
            <a:avLst/>
          </a:prstGeom>
          <a:ln w="0">
            <a:noFill/>
          </a:ln>
        </p:spPr>
      </p:pic>
      <p:sp>
        <p:nvSpPr>
          <p:cNvPr id="1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3780000" y="1285560"/>
            <a:ext cx="536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3" name="Рисунок 3" descr="IMG_0392.JPG"/>
          <p:cNvPicPr/>
          <p:nvPr/>
        </p:nvPicPr>
        <p:blipFill>
          <a:blip r:embed="rId1"/>
          <a:stretch/>
        </p:blipFill>
        <p:spPr>
          <a:xfrm>
            <a:off x="214200" y="20001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8:09:45Z</dcterms:created>
  <dc:creator>СОШ №3</dc:creator>
  <dc:description/>
  <dc:language>en-US</dc:language>
  <cp:lastModifiedBy>LEGION</cp:lastModifiedBy>
  <dcterms:modified xsi:type="dcterms:W3CDTF">2015-01-27T13:41:37Z</dcterms:modified>
  <cp:revision>17</cp:revision>
  <dc:subject/>
  <dc:title>Советы родителям будущих первоклассников.</dc:title>
</cp:coreProperties>
</file>