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4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B410-F5DE-4F5A-820F-0D58B08F96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1292"/>
                </a:solidFill>
                <a:latin typeface="Calibri"/>
              </a:rPr>
              <a:t>Внедрение ФГОС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педагогический сов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2969-1F1C-4781-A038-AB03332BF41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танда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«На ступени начального общего образования должно быть осуществлено формирование основ умения учиться и способности к организации своей деятельности – умение принимать, сохранять цели и следовать им в учебной деятельности, планировать свою деятельность, осуществлять ее контроль и оценку, взаимодействовать с педагогом и сверстниками в учебном процесс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52A3-2564-49B7-9921-09F807E1A7F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Требования к </a:t>
            </a:r>
            <a:r>
              <a:rPr b="0" lang="ru-RU" sz="1100" spc="-1" strike="noStrike" u="sng">
                <a:solidFill>
                  <a:srgbClr val="ff0000"/>
                </a:solidFill>
                <a:uFillTx/>
                <a:latin typeface="Calibri"/>
              </a:rPr>
              <a:t>результатам</a:t>
            </a: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 освоения </a:t>
            </a:r>
            <a:br>
              <a:rPr sz="1100"/>
            </a:b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основной образовательной программы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Личнос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готовность и способность к само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мотивация к обучению и п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ценностно-смысловые устано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оциальные компетенции, личност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Метапредме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ниверсальные учебные действ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знав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Предме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пыт деятельности специфической для данной предметной обл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истема основополагающих элементов научного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776D-C151-47F1-B9C0-25F0D9835DF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  <a:ea typeface="Arial"/>
              </a:rPr>
              <a:t>Универсальные учебные действ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овокупность способов действия учащегося, обеспечивающих его способность к самостоятельному усвоению новых знаний, включая организацию эт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A867-240B-497B-914B-486433F022A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Calibri"/>
              </a:rPr>
              <a:t>Виды универсальных учебных дейст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Личностные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жизненное, личностное, профессиональное самоопределение, умение соотносить поступки и события с принятыми этическими принципами), а также ориентация в социальных ролях и межличностны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Регуля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ействия, обеспечивающие организацию учащимися своей учебной деятельности (целеполагание, планирование, прогнозирование результатов деятельности, коррекция, оцен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6733-FBF2-4593-BD3D-6D8E3FC39C3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Calibri"/>
              </a:rPr>
              <a:t>Виды универсальных учебных действ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00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Calibri"/>
              </a:rPr>
              <a:t>Познавательные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щеучебные, включа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о-предметные 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ределяющиеся содержанием конкретной дисциплины (постановка и решение проблем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00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Calibri"/>
              </a:rPr>
              <a:t>Коммуник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циальная компетентность, учет позиции других людей, умение слушать, участвовать в коллективном обсуждении проблем, планирование учебного сотрудничества с учителей и сверстн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B4D4-AD42-41DA-AB58-B575FC8C67A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9900"/>
                </a:solidFill>
                <a:latin typeface="Calibri"/>
              </a:rPr>
              <a:t>Фрагмент тематического планиров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вездное небо – великая книга природ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р. 16-21, Т. стр. 7-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Что такое созвездие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ак определить направление сторон горизонта по Полярной звезде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чему ученый назвал  звездное небо   Великой книгой     Природы?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ебесные тела, планета, Млечный путь, созвездие, астроном, названия созвезд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нать название созвездий; уметь пользоваться атласом-определителем и находи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озвездия на звездной карте и в ночном небе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Регулятивны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ланировать свои действия в соответствии с поставленной задачей, в сотрудничестве с учителем ставить новые учебные задач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ознавательные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делять существенную информацию из текстов разных видов, строить рассуждения в форме связи простых суждений об объекте и его строен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Коммуникативны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ладеть полученной информацией и строить монологическое высказыв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вышение самооценки учени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56F8-1AEE-4F21-8B0A-53E4446676C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Calibri"/>
              </a:rPr>
              <a:t>ФГОС  повлечет за собой изменения в БУП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урочная деятельность как важная составная часть содержания образования, увеличивающая его вариативность и адаптивность к интересам, потребностям и способностям шк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ждом классе школы предполагается выделить в среднем по 10 часов в неделю на внеурочную деятельность – спортивно-оздоровительную, познавательную и исследовательскую, художественно-эстетическую, трудовую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3C83-F0C2-4527-BE30-2EA996A60B8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тандарты обеспе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Monotype Corsiva"/>
              </a:rPr>
              <a:t>Переход от «догоняющ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Monotype Corsiva"/>
              </a:rPr>
              <a:t>к «опережающей» модели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B37F-B432-4725-BCF5-AB50F3598D5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Личност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Внутренняя позиция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декватная мотивация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риентация на моральные нормы и их выпол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пособность к моральной децен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2E81-2450-4853-9184-B6D66422BFE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Регулятив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владение всеми типами учеб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ланировать реализацию учебной цели и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Контролировать и оценивать свои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58CB-84DB-4696-AEF6-14B2E41EF71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Новые подходы к определению  стратегических целей стандар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тандарты - социальная норма, общест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договор между семьей, обществом и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D6B0-D0A6-410F-8FB9-4210301B91F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Познаватель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Использовать знаково-символическ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владеть действием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Коммуникатив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Учитывать позицию собесед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рганизовывать и осуществлять сотрудничество с учителем и сверст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ередавать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E584-B433-4FC4-8872-5FD62A1A4ED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Выж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не самый силь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и не самый ум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а тот, к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лучше всех отклик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на происходящие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Calibri"/>
              </a:rPr>
              <a:t>                                                                      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Чарльз Дарв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пасибо за сотрудничество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5EE3-ADDB-4605-B37D-B74BB2E65E4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лжны получать удовл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фессион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дача учителя!</a:t>
            </a:r>
            <a:r>
              <a:rPr b="0" lang="ru-RU" sz="1200" spc="-1" strike="noStrike">
                <a:solidFill>
                  <a:srgbClr val="502652"/>
                </a:solidFill>
                <a:latin typeface="Calibri"/>
              </a:rPr>
              <a:t>(отличие стандартов второго поко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49DB-41B9-43B7-B98C-B7EC004BFB2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4E4B-E434-45D5-871D-D31F95E01DE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6E20-8BEA-46FF-A022-577CC4530CC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й результат – развитие личности на основе деятельности по преобразованию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еш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еятельности во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сновная педагогическая задач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создание и организация условий, инициирующих ученическое действ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 основе реализации стандарта –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истемно – деятельностный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одход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авным деятелем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лжен быть РЕБЁ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3E4A-D886-4EE1-8023-197AA448839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32f4d"/>
                </a:solidFill>
                <a:latin typeface="Calibri"/>
              </a:rPr>
              <a:t>Требования к структуре основ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32f4d"/>
                </a:solidFill>
                <a:latin typeface="Calibri"/>
              </a:rPr>
              <a:t>образовательно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2467-C3E2-4BDD-9D21-03772724F68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40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Требования к структуре </a:t>
            </a:r>
            <a:br>
              <a:rPr sz="2400"/>
            </a:b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основной образовательной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програм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Зафиксированы требования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количеству и наименованию разделов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(всего-9), в том числе к учебному плану общеобразовательного учреж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минимальному и максимальному количеству учебных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часов за 4 года (2 904 - 3 210 час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содержанию каждого из разделов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соотношению частей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основной общеобразовательной  программы (80/20% для первой ступен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организации внеуроч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2723-2F72-468D-B6AB-1B525585272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3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4f81bd"/>
                </a:solidFill>
                <a:latin typeface="Calibri"/>
              </a:rPr>
              <a:t>Требования к структур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89000">
              <a:lnSpc>
                <a:spcPct val="60000"/>
              </a:lnSpc>
              <a:spcBef>
                <a:spcPts val="52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основная образовательная программа –целостный докумен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ояснительная запис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ланируемые результаты освоения основной образовательной  програм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учебный план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 формирования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ы  учебных предме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 духовно-нравственного развития, воспит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формирования культуры  здорового и безопасного образа жиз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 коррекционной работы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система оценки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достижения планируемых результа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89000">
              <a:lnSpc>
                <a:spcPct val="60000"/>
              </a:lnSpc>
              <a:spcBef>
                <a:spcPts val="52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внеурочная деятельность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время, отводимое на внеурочную деятельность, составляет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до 1350 часов 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(учебные занятия: не менее 2904 ч. и не более 3210 ч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7F86-494E-4D2D-9723-EC43F51957B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ED0C-83FD-4294-9021-251B072EA2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Основные трудности педагогических работников   </a:t>
            </a:r>
            <a:br>
              <a:rPr sz="1200"/>
            </a:b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на этапе введения ФГО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прощенное понимание сущности и технологии ре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истемно - деятельностного подх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ложившаяся за предыдущие  годы устойчи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ка проведения урока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готовности руководителей ОУ и педагогических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 планированию и  организации образовательного процесса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чальной школе в соответствии с требованиями ФГО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радиционный подход руководителей ОУ к анализу урока и стрем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держиваться старых подходов к оценке деятельности учи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нципиальная новизна вопросов инструменталь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ческого обеспечения достижения и оценки планируем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зультатов (личностных, метапредметных и предметных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опыта  разработки разделов ОО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методических рекомендаций авторов УМ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430-AF03-4B02-911F-B3C37AFC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0DCE-0CF1-45B6-B232-F0C961B4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A7D-C361-4024-9D89-DFBD04D5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DF0-9D79-47B7-8C1D-9CBEE365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7B43E-945E-40DA-8ECF-01ECC80B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338A4-B62A-41EB-B08D-BF3F353B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ED0A8-9778-43FA-BEFA-34BAED19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D85DB-53E8-481A-900E-462F0890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85D04-ED79-4A74-83F9-BBF11905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EF498-78C2-453F-A272-DA7B5BD4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2301F-2DB6-45A4-8FB4-8893A38F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526-386D-4395-82BA-15608A73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93809-1B2E-434D-AF26-905159B6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35B1D-A8BC-493C-8C81-02B486C7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A2293-9DBD-4937-BF43-C746BB2B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13214-CA88-47B2-97D2-2362AC96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542C2-5950-4B00-93EA-97392703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E837A-B9F1-4210-833E-A58D0679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7DA65-418F-4B35-801B-60EF9093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E813B-66EE-46BC-B563-0E81057C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F423A-CC1D-473A-8309-5354A1A4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A1FFA-1EE7-429F-B546-327A4575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A64-0F83-4CF4-B650-DBABD37E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5984E-5662-4745-A677-DC13654A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A7697-F07D-436D-8A27-999CDBBB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268B4-3077-414A-B568-F108407A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03065-46C2-4884-AEE4-BD27F21B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D4AA1-2244-482B-A107-C68A316B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96A32-8762-4A5B-9EA7-6BA65D55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C061-A759-4A57-8EB8-460B6D4A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F88263-7FB2-44CB-B070-2DAA457B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FDDFC2-D84E-4E26-8B5E-0BA2F19A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A5F3F8-A74F-4FD7-A400-BD929B90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336E-B003-4230-AD73-24C9B596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65BAF5-8271-403E-B695-BEC177C1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D5BA9E-7625-4D70-A9B6-4FF22FE3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0A3E1D-1A0E-4D29-9553-68810A9A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594EEA-3A24-4B32-9DD1-7C5B6D9B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A42861-78C8-44E9-B6B4-3E415E2E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D205B8-41EF-41CA-AB50-7390948E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EC5BBC-BFF4-424B-A3DA-E1224C6F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CC928-8AFD-42BE-BC39-A6601897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B39BCD-D8A8-4C04-BEAF-D4047663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CE8-11F8-4D30-BEDC-5FA62BA2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705-A772-4020-9D62-703CE295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53B6-8425-407A-8CFE-00E8B656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4D7B-0325-4AF8-85C7-CE1C3906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0FE-00DD-45CF-AD74-9659D34F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97D1-CC8D-447F-B6E4-29A91130742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012E-AB4B-4659-8C2D-E1F27F08A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a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F31E-DADA-422A-8C16-712D08470065}" type="datetime">
              <a:rPr b="0" lang="ru-RU" sz="800" spc="-1" strike="noStrike">
                <a:solidFill>
                  <a:srgbClr val="438086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6085-6FA1-403B-8D94-B7FFDD90407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167B-E9A2-43BD-A27C-A3211D42659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6C90-979C-4B45-BEAD-46B80FC54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a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C864-BDB5-4E42-9109-5F9374C1A7C7}" type="datetime">
              <a:rPr b="0" lang="ru-RU" sz="800" spc="-1" strike="noStrike">
                <a:solidFill>
                  <a:srgbClr val="438086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80B9-4BA2-4461-BF24-09A937AE7E4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71292"/>
                </a:solidFill>
                <a:latin typeface="Arial Black"/>
              </a:rPr>
              <a:t>Внедрение ФГОС в начальной школе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546280" y="4316400"/>
            <a:ext cx="481968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дагогический со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 Black"/>
              </a:rPr>
              <a:t>Стандарт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3640" y="1356840"/>
            <a:ext cx="85215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«На ступени начального общего образования должно быть осуществлено формирование основ умения учиться и способности к организации своей деятельности – умение принимать, сохранять цели и следовать им в учебной деятельности, планировать свою деятельность, осуществлять ее контроль и оценку, взаимодействовать с педагогом и сверстниками в учебном процесс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3296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Требования к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 Black"/>
              </a:rPr>
              <a:t>результатам</a:t>
            </a: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 освоения </a:t>
            </a:r>
            <a:br>
              <a:rPr sz="1800"/>
            </a:b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основной образовательной программы</a:t>
            </a:r>
            <a:br>
              <a:rPr sz="18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Личнос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готовность и способность к саморазвит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мотивация к обучению и позна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ценностно-смысловые установ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оциальные компетенции, личностные ка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Метапредм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универсальные учебные действ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ознава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егуля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Предм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опыт деятельности специфической для данной предметной обла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истема основополагающих элементов научного 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3" descr=""/>
          <p:cNvPicPr/>
          <p:nvPr/>
        </p:nvPicPr>
        <p:blipFill>
          <a:blip r:embed="rId1"/>
          <a:stretch/>
        </p:blipFill>
        <p:spPr>
          <a:xfrm>
            <a:off x="542880" y="907920"/>
            <a:ext cx="8229600" cy="5505480"/>
          </a:xfrm>
          <a:prstGeom prst="rect">
            <a:avLst/>
          </a:prstGeom>
          <a:ln w="0">
            <a:noFill/>
          </a:ln>
        </p:spPr>
      </p:pic>
      <p:sp>
        <p:nvSpPr>
          <p:cNvPr id="268" name="WordArt 4"/>
          <p:cNvSpPr txBox="1"/>
          <p:nvPr/>
        </p:nvSpPr>
        <p:spPr>
          <a:xfrm>
            <a:off x="914400" y="838080"/>
            <a:ext cx="7543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b7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b7"/>
              </a:solidFill>
              <a:latin typeface="Arial"/>
              <a:ea typeface="Arial"/>
            </a:endParaRPr>
          </a:p>
        </p:txBody>
      </p:sp>
      <p:pic>
        <p:nvPicPr>
          <p:cNvPr id="269" name="Picture 4" descr="D:\анимашки\дети\комп.gif"/>
          <p:cNvPicPr/>
          <p:nvPr/>
        </p:nvPicPr>
        <p:blipFill>
          <a:blip r:embed="rId2"/>
          <a:stretch/>
        </p:blipFill>
        <p:spPr>
          <a:xfrm>
            <a:off x="6156360" y="4292640"/>
            <a:ext cx="2365200" cy="236520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Виды универсальных учебных действи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Личностные</a:t>
            </a: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жизненное, личностное, профессиональное самоопределение, умение соотносить поступки и события с принятыми этическими принципами), а также ориентация в социальных ролях и межличностных отноше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Регулятив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действия, обеспечивающие организацию учащимися своей учебной деятельности (целеполагание, планирование, прогнозирование результатов деятельности, коррекция, оцен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44240"/>
            <a:ext cx="838512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Виды универсальных учебных действи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66"/>
                </a:solidFill>
                <a:uFillTx/>
                <a:latin typeface="Arial"/>
              </a:rPr>
              <a:t>Познавательные</a:t>
            </a: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бщеучебные, включа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циально-предметные действ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определяющиеся содержанием конкретной дисциплины (постановка и решение проблем и т.д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c0066"/>
                </a:solidFill>
                <a:uFillTx/>
                <a:latin typeface="Arial"/>
              </a:rPr>
              <a:t>Коммуникативные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социальная компетентность, учет позиции других людей, умение слушать, участвовать в коллективном обсуждении проблем, планирование учебного сотрудничества с учителей и сверстника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244080"/>
            <a:ext cx="79423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</a:rPr>
              <a:t>Фрагмент тематического планирования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00040" y="2000160"/>
          <a:ext cx="8358120" cy="4206960"/>
        </p:xfrm>
        <a:graphic>
          <a:graphicData uri="http://schemas.openxmlformats.org/drawingml/2006/table">
            <a:tbl>
              <a:tblPr/>
              <a:tblGrid>
                <a:gridCol w="452520"/>
                <a:gridCol w="1495440"/>
                <a:gridCol w="1454040"/>
                <a:gridCol w="1198440"/>
                <a:gridCol w="1022400"/>
                <a:gridCol w="1711440"/>
                <a:gridCol w="1023840"/>
              </a:tblGrid>
              <a:tr h="4206960">
                <a:tc>
                  <a:txBody>
                    <a:bodyPr lIns="47520" rIns="4752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 Blac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Звездное небо – великая книга приро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Стр. 16-21, Т. стр. 7-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Что такое созвездие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Как определить направление сторон горизонта по Полярной звезде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очему ученый назвал  звездное небо   Великой книгой     Природы?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Небесные тела, планета, Млечный путь, созвездие, астроном, названия созвезд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знать название созвездий; уметь пользоваться атласом-определителем и находи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созвездия на звездной карте и в ночном небе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Регулятив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ланировать свои действия в соответствии с поставленной задачей, в сотрудничестве с учителем ставить новые учебные зада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Познавательные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Выделять существенную информацию из текстов разных видов, строить рассуждения в форме связи простых суждений об объекте и его строе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Коммуникатив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Владеть полученной информацией и строить монологическое высказы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овышение самооценки учен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00040" y="1000080"/>
          <a:ext cx="8286840" cy="978120"/>
        </p:xfrm>
        <a:graphic>
          <a:graphicData uri="http://schemas.openxmlformats.org/drawingml/2006/table">
            <a:tbl>
              <a:tblPr/>
              <a:tblGrid>
                <a:gridCol w="449280"/>
                <a:gridCol w="1482840"/>
                <a:gridCol w="1441440"/>
                <a:gridCol w="1187280"/>
                <a:gridCol w="1014480"/>
                <a:gridCol w="1697040"/>
                <a:gridCol w="1014480"/>
              </a:tblGrid>
              <a:tr h="42012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Тема уро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(страницы учебника, тетрад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Решаемые пробле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ланируемые результат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(в соответствии с ФГОС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0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онят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редмет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УУ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Личностные 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3851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00"/>
                </a:solidFill>
                <a:latin typeface="Arial Black"/>
              </a:rPr>
              <a:t>ФГОС  повлечет за собой изменения в БУП</a:t>
            </a:r>
            <a:r>
              <a:rPr b="1" lang="ru-RU" sz="3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1844640"/>
            <a:ext cx="84582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урочная деятельность как важная составная часть содержания образования, увеличивающая его вариативность и адаптивность к интересам, потребностям и способностям школь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ждом классе школы предполагается выделить в среднем по 10 часов в неделю на внеурочную деятельность – спортивно-оздоровительную, познавательную и исследовательскую, художественно-эстетическую, трудовую и т.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Прямоугольник с двумя скругленными противолежащими углами 5"/>
          <p:cNvSpPr/>
          <p:nvPr/>
        </p:nvSpPr>
        <p:spPr>
          <a:xfrm>
            <a:off x="228600" y="1268280"/>
            <a:ext cx="8763120" cy="432000"/>
          </a:xfrm>
          <a:prstGeom prst="pi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Базисный учебный план – Базисный образовательный пл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33"/>
                </a:solidFill>
                <a:latin typeface="Arial Black"/>
              </a:rPr>
              <a:t>Стандарты обеспечивают</a:t>
            </a:r>
            <a:endParaRPr b="1" lang="en-US" sz="5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Monotype Corsiva"/>
              </a:rPr>
              <a:t>Переход от «догоняющей»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Monotype Corsiva"/>
              </a:rPr>
              <a:t>к «опережающей» модели образован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D:\Мама\анимашки\дети\6e512718eb4ddfdeb3be803fc4e3f797.gif"/>
          <p:cNvPicPr/>
          <p:nvPr/>
        </p:nvPicPr>
        <p:blipFill>
          <a:blip r:embed="rId1"/>
          <a:stretch/>
        </p:blipFill>
        <p:spPr>
          <a:xfrm>
            <a:off x="7358040" y="1143000"/>
            <a:ext cx="1571760" cy="1816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D:\Мама\анимашки\дети\28.gif"/>
          <p:cNvPicPr/>
          <p:nvPr/>
        </p:nvPicPr>
        <p:blipFill>
          <a:blip r:embed="rId2"/>
          <a:stretch/>
        </p:blipFill>
        <p:spPr>
          <a:xfrm>
            <a:off x="4643280" y="3929040"/>
            <a:ext cx="2786400" cy="27464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946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Личност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Внутренняя позиция школь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Адекватная мотивация учеб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риентация на моральные нормы и их выпол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пособность к моральной децентр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9464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Регулятив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владение всеми типами учебных дейст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ланировать реализацию учебной цели и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онтролировать и оценивать свои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Новые подходы к определению  стратегических целей стандарт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13840" y="1213920"/>
            <a:ext cx="8758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Стандарты - социальная норма, обществе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договор между семьей, обществом и государств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" descr="AG00315_"/>
          <p:cNvPicPr/>
          <p:nvPr/>
        </p:nvPicPr>
        <p:blipFill>
          <a:blip r:embed="rId1"/>
          <a:stretch/>
        </p:blipFill>
        <p:spPr>
          <a:xfrm>
            <a:off x="3000240" y="2928960"/>
            <a:ext cx="1828800" cy="20574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9"/>
          <p:cNvSpPr/>
          <p:nvPr/>
        </p:nvSpPr>
        <p:spPr>
          <a:xfrm>
            <a:off x="4357800" y="18572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0"/>
          <p:cNvSpPr/>
          <p:nvPr/>
        </p:nvSpPr>
        <p:spPr>
          <a:xfrm>
            <a:off x="4572000" y="521496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ятно 2 8"/>
          <p:cNvSpPr/>
          <p:nvPr/>
        </p:nvSpPr>
        <p:spPr>
          <a:xfrm rot="21540000">
            <a:off x="-183960" y="3032280"/>
            <a:ext cx="3718080" cy="3792240"/>
          </a:xfrm>
          <a:prstGeom prst="irregularSeal2">
            <a:avLst/>
          </a:prstGeom>
          <a:solidFill>
            <a:srgbClr val="00ffcc"/>
          </a:solidFill>
          <a:ln w="255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ЕМЬ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ичностная 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циальная 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фессиональн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Облако 9"/>
          <p:cNvSpPr/>
          <p:nvPr/>
        </p:nvSpPr>
        <p:spPr>
          <a:xfrm rot="660000">
            <a:off x="4430520" y="2595600"/>
            <a:ext cx="4493880" cy="1942920"/>
          </a:xfrm>
          <a:prstGeom prst="pie">
            <a:avLst/>
          </a:prstGeom>
          <a:solidFill>
            <a:srgbClr val="66ccff"/>
          </a:solidFill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Б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опасность и здоров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и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циальная справедлив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ососто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Овал 10"/>
          <p:cNvSpPr/>
          <p:nvPr/>
        </p:nvSpPr>
        <p:spPr>
          <a:xfrm>
            <a:off x="4714920" y="5214960"/>
            <a:ext cx="4286160" cy="164304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00"/>
                </a:solidFill>
                <a:uFillTx/>
                <a:latin typeface="Georgia"/>
              </a:rPr>
              <a:t>ГОСУДАР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Национальное един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Безопасно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Развитие человеческого потенциа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Конкурентоспособ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Прямая со стрелкой 11"/>
          <p:cNvCxnSpPr/>
          <p:nvPr/>
        </p:nvCxnSpPr>
        <p:spPr>
          <a:xfrm>
            <a:off x="4416480" y="4611960"/>
            <a:ext cx="952920" cy="991080"/>
          </a:xfrm>
          <a:prstGeom prst="straightConnector1">
            <a:avLst/>
          </a:prstGeom>
          <a:ln w="38160">
            <a:solidFill>
              <a:srgbClr val="004d00"/>
            </a:solidFill>
            <a:miter/>
            <a:tailEnd len="med" type="arrow" w="med"/>
          </a:ln>
        </p:spPr>
      </p:cxnSp>
      <p:cxnSp>
        <p:nvCxnSpPr>
          <p:cNvPr id="212" name="Прямая со стрелкой 13"/>
          <p:cNvCxnSpPr/>
          <p:nvPr/>
        </p:nvCxnSpPr>
        <p:spPr>
          <a:xfrm flipH="1">
            <a:off x="2315160" y="3315960"/>
            <a:ext cx="1013040" cy="296280"/>
          </a:xfrm>
          <a:prstGeom prst="straightConnector1">
            <a:avLst/>
          </a:prstGeom>
          <a:ln w="38160">
            <a:solidFill>
              <a:srgbClr val="66ccff"/>
            </a:solidFill>
            <a:miter/>
            <a:tailEnd len="med" type="arrow" w="med"/>
          </a:ln>
        </p:spPr>
      </p:cxnSp>
      <p:cxnSp>
        <p:nvCxnSpPr>
          <p:cNvPr id="213" name="Прямая со стрелкой 18"/>
          <p:cNvCxnSpPr/>
          <p:nvPr/>
        </p:nvCxnSpPr>
        <p:spPr>
          <a:xfrm flipV="1">
            <a:off x="4286160" y="3857400"/>
            <a:ext cx="858240" cy="429120"/>
          </a:xfrm>
          <a:prstGeom prst="straightConnector1">
            <a:avLst/>
          </a:prstGeom>
          <a:ln w="38160">
            <a:solidFill>
              <a:srgbClr val="e0ff85"/>
            </a:solidFill>
            <a:miter/>
            <a:tailEnd len="med" type="arrow" w="med"/>
          </a:ln>
        </p:spPr>
      </p:cxnSp>
      <p:sp>
        <p:nvSpPr>
          <p:cNvPr id="2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946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Познаватель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Использовать знаково-символические сре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владеть действием модел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Коммуникатив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Учитывать позицию собесед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рганизовывать и осуществлять сотрудничество с учителем и сверстни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ередавать информац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FGOS"/>
          <p:cNvPicPr/>
          <p:nvPr/>
        </p:nvPicPr>
        <p:blipFill>
          <a:blip r:embed="rId1"/>
          <a:stretch/>
        </p:blipFill>
        <p:spPr>
          <a:xfrm>
            <a:off x="0" y="171360"/>
            <a:ext cx="9144000" cy="668664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932000" y="333000"/>
            <a:ext cx="4211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Выжив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не самый силь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и не самый ум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а тот, кт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лучше всех отклик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на происходящие измен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Чарльз Дарв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4968720" cy="344952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262080" y="1316160"/>
            <a:ext cx="8040600" cy="2165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" descr="K:\анимашки\погода\88.gif"/>
          <p:cNvPicPr/>
          <p:nvPr/>
        </p:nvPicPr>
        <p:blipFill>
          <a:blip r:embed="rId2"/>
          <a:stretch/>
        </p:blipFill>
        <p:spPr>
          <a:xfrm>
            <a:off x="5143680" y="2357280"/>
            <a:ext cx="3571560" cy="328644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26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Дети </a:t>
            </a:r>
            <a:r>
              <a:rPr b="0" lang="ru-RU" sz="3600" spc="-1" strike="noStrike" u="sng">
                <a:solidFill>
                  <a:srgbClr val="ffffb7"/>
                </a:solidFill>
                <a:uFillTx/>
                <a:latin typeface="Arial Black"/>
              </a:rPr>
              <a:t>должны</a:t>
            </a:r>
            <a:r>
              <a:rPr b="1" lang="ru-RU" sz="3600" spc="-1" strike="noStrike" u="sng">
                <a:solidFill>
                  <a:srgbClr val="ffffb7"/>
                </a:solidFill>
                <a:uFillTx/>
                <a:latin typeface="Arial Black"/>
              </a:rPr>
              <a:t> получать удовлетворение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–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рофессиональная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задача учителя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!</a:t>
            </a:r>
            <a:r>
              <a:rPr b="1" lang="ru-RU" sz="3600" spc="-1" strike="noStrike">
                <a:solidFill>
                  <a:srgbClr val="502652"/>
                </a:solidFill>
                <a:latin typeface="Arial Black"/>
              </a:rPr>
              <a:t>(отличие стандартов второго поколения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6" name="Picture 2" descr="D:\Мама\анимашки\дети\уснул.gif"/>
          <p:cNvPicPr/>
          <p:nvPr/>
        </p:nvPicPr>
        <p:blipFill>
          <a:blip r:embed="rId1"/>
          <a:stretch/>
        </p:blipFill>
        <p:spPr>
          <a:xfrm>
            <a:off x="285840" y="3643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D:\Мама\анимашки\дети\9ca9fd62ccc9c889e8d891d4a07831b3.gif"/>
          <p:cNvPicPr/>
          <p:nvPr/>
        </p:nvPicPr>
        <p:blipFill>
          <a:blip r:embed="rId2"/>
          <a:stretch/>
        </p:blipFill>
        <p:spPr>
          <a:xfrm>
            <a:off x="5286240" y="3589200"/>
            <a:ext cx="3400560" cy="30736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1015560"/>
            <a:ext cx="914400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ой результат – развитие личности на основе деятельности по преобразованию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неш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едмет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ятельности во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нутренню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новная педагогическая задач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оздание и организация условий, инициирующих ученическое действ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6012000" y="364500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3384720" y="3645000"/>
            <a:ext cx="2339640" cy="2340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Ради ч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5"/>
          <p:cNvSpPr/>
          <p:nvPr/>
        </p:nvSpPr>
        <p:spPr>
          <a:xfrm>
            <a:off x="755640" y="371628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Чему 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50920" y="260280"/>
            <a:ext cx="871200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008000"/>
            </a:solidFill>
            <a:miter/>
          </a:ln>
          <a:effectLst>
            <a:outerShdw dist="107932" dir="270000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истемно-деятельностный подх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0" y="5985000"/>
            <a:ext cx="9144000" cy="87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92929"/>
                </a:solidFill>
                <a:latin typeface="Arial"/>
              </a:rPr>
              <a:t>формирование универсальных способов действий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971640" y="3141720"/>
            <a:ext cx="7740720" cy="43164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Georgia"/>
              </a:rPr>
              <a:t>Вектор смещения акцентов нового стандар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1642680"/>
            <a:ext cx="8001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В основе реализации стандарта –</a:t>
            </a:r>
            <a:r>
              <a:rPr b="1" lang="ru-RU" sz="37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3700"/>
            </a:b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системно – деятельностный </a:t>
            </a:r>
            <a:br>
              <a:rPr sz="3700"/>
            </a:b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подход</a:t>
            </a:r>
            <a:br>
              <a:rPr sz="3700"/>
            </a:br>
            <a:endParaRPr b="1" lang="en-US" sz="3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55640" y="3860280"/>
            <a:ext cx="6229080" cy="22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лавным деятелем на уро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олжен быть РЕБЁ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1858884"/>
          <p:cNvPicPr/>
          <p:nvPr/>
        </p:nvPicPr>
        <p:blipFill>
          <a:blip r:embed="rId1"/>
          <a:stretch/>
        </p:blipFill>
        <p:spPr>
          <a:xfrm>
            <a:off x="324000" y="5013360"/>
            <a:ext cx="1738080" cy="13161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B35B-4E54-420A-8F44-06ACAEBA2ADD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3"/>
          <p:cNvSpPr/>
          <p:nvPr/>
        </p:nvSpPr>
        <p:spPr>
          <a:xfrm>
            <a:off x="228600" y="357120"/>
            <a:ext cx="8640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2f4d"/>
                </a:solidFill>
                <a:latin typeface="Arial"/>
              </a:rPr>
              <a:t>Требования к структуре основн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2f4d"/>
                </a:solidFill>
                <a:latin typeface="Arial"/>
              </a:rPr>
              <a:t>образовательной програм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26"/>
          <p:cNvSpPr/>
          <p:nvPr/>
        </p:nvSpPr>
        <p:spPr>
          <a:xfrm>
            <a:off x="250920" y="1371600"/>
            <a:ext cx="8642160" cy="1336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2f4d"/>
                </a:solidFill>
                <a:latin typeface="Georgia"/>
              </a:rPr>
              <a:t>ТРЕБ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27"/>
          <p:cNvSpPr/>
          <p:nvPr/>
        </p:nvSpPr>
        <p:spPr>
          <a:xfrm rot="5400000">
            <a:off x="252000" y="2997360"/>
            <a:ext cx="719280" cy="57600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73080" y="4005360"/>
            <a:ext cx="1114200" cy="1655640"/>
          </a:xfrm>
          <a:custGeom>
            <a:avLst/>
            <a:gdLst>
              <a:gd name="textAreaLeft" fmla="*/ 54360 w 1114200"/>
              <a:gd name="textAreaRight" fmla="*/ 1059840 w 1114200"/>
              <a:gd name="textAreaTop" fmla="*/ 54360 h 1655640"/>
              <a:gd name="textAreaBottom" fmla="*/ 1601280 h 1655640"/>
            </a:gdLst>
            <a:ahLst/>
            <a:rect l="textAreaLeft" t="textAreaTop" r="textAreaRight" b="textAreaBottom"/>
            <a:pathLst>
              <a:path w="21600" h="32093">
                <a:moveTo>
                  <a:pt x="3600" y="0"/>
                </a:moveTo>
                <a:arcTo wR="3600" hR="3600" stAng="16200000" swAng="-5400000"/>
                <a:lnTo>
                  <a:pt x="0" y="28493"/>
                </a:lnTo>
                <a:arcTo wR="3600" hR="3600" stAng="10800000" swAng="-5400000"/>
                <a:lnTo>
                  <a:pt x="18000" y="320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ланиру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езульта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3492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здоров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обр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жиз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05360"/>
            <a:ext cx="936720" cy="165564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1655640"/>
              <a:gd name="textAreaBottom" fmla="*/ 1609920 h 1655640"/>
            </a:gdLst>
            <a:ahLst/>
            <a:rect l="textAreaLeft" t="textAreaTop" r="textAreaRight" b="textAreaBottom"/>
            <a:pathLst>
              <a:path w="21600" h="38171">
                <a:moveTo>
                  <a:pt x="3600" y="0"/>
                </a:moveTo>
                <a:arcTo wR="3600" hR="3600" stAng="16200000" swAng="-5400000"/>
                <a:lnTo>
                  <a:pt x="0" y="34571"/>
                </a:lnTo>
                <a:arcTo wR="3600" hR="3600" stAng="10800000" swAng="-5400000"/>
                <a:lnTo>
                  <a:pt x="18000" y="38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Учеб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4716360" y="4005360"/>
            <a:ext cx="1116000" cy="1655640"/>
          </a:xfrm>
          <a:custGeom>
            <a:avLst/>
            <a:gdLst>
              <a:gd name="textAreaLeft" fmla="*/ 54360 w 1116000"/>
              <a:gd name="textAreaRight" fmla="*/ 1061640 w 1116000"/>
              <a:gd name="textAreaTop" fmla="*/ 54360 h 1655640"/>
              <a:gd name="textAreaBottom" fmla="*/ 1601280 h 1655640"/>
            </a:gdLst>
            <a:ahLst/>
            <a:rect l="textAreaLeft" t="textAreaTop" r="textAreaRight" b="textAreaBottom"/>
            <a:pathLst>
              <a:path w="21600" h="32041">
                <a:moveTo>
                  <a:pt x="3600" y="0"/>
                </a:moveTo>
                <a:arcTo wR="3600" hR="3600" stAng="16200000" swAng="-5400000"/>
                <a:lnTo>
                  <a:pt x="0" y="28441"/>
                </a:lnTo>
                <a:arcTo wR="3600" hR="3600" stAng="10800000" swAng="-5400000"/>
                <a:lnTo>
                  <a:pt x="18000" y="320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азви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УУ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2268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духов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нравственн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воспит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940360" y="4005360"/>
            <a:ext cx="863640" cy="1655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655640"/>
              <a:gd name="textAreaBottom" fmla="*/ 1613520 h 1655640"/>
            </a:gdLst>
            <a:ahLst/>
            <a:rect l="textAreaLeft" t="textAreaTop" r="textAreaRight" b="textAreaBottom"/>
            <a:pathLst>
              <a:path w="21600" h="41400">
                <a:moveTo>
                  <a:pt x="3600" y="0"/>
                </a:moveTo>
                <a:arcTo wR="3600" hR="3600" stAng="16200000" swAng="-5400000"/>
                <a:lnTo>
                  <a:pt x="0" y="37800"/>
                </a:lnTo>
                <a:arcTo wR="3600" hR="3600" stAng="10800000" swAng="-5400000"/>
                <a:lnTo>
                  <a:pt x="18000" y="41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едмет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6948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коррекцион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аб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27"/>
          <p:cNvSpPr/>
          <p:nvPr/>
        </p:nvSpPr>
        <p:spPr>
          <a:xfrm rot="5400000">
            <a:off x="140472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27"/>
          <p:cNvSpPr/>
          <p:nvPr/>
        </p:nvSpPr>
        <p:spPr>
          <a:xfrm rot="5400000">
            <a:off x="2339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27"/>
          <p:cNvSpPr/>
          <p:nvPr/>
        </p:nvSpPr>
        <p:spPr>
          <a:xfrm rot="5400000">
            <a:off x="3348000" y="2995560"/>
            <a:ext cx="718920" cy="576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7"/>
          <p:cNvSpPr/>
          <p:nvPr/>
        </p:nvSpPr>
        <p:spPr>
          <a:xfrm rot="5400000">
            <a:off x="4571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7"/>
          <p:cNvSpPr/>
          <p:nvPr/>
        </p:nvSpPr>
        <p:spPr>
          <a:xfrm rot="5400000">
            <a:off x="5795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 rot="5400000">
            <a:off x="7021440" y="2995560"/>
            <a:ext cx="718920" cy="576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7"/>
          <p:cNvSpPr/>
          <p:nvPr/>
        </p:nvSpPr>
        <p:spPr>
          <a:xfrm rot="5400000">
            <a:off x="810072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8172360" y="4005360"/>
            <a:ext cx="863640" cy="1655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655640"/>
              <a:gd name="textAreaBottom" fmla="*/ 1613520 h 1655640"/>
            </a:gdLst>
            <a:ahLst/>
            <a:rect l="textAreaLeft" t="textAreaTop" r="textAreaRight" b="textAreaBottom"/>
            <a:pathLst>
              <a:path w="21600" h="41400">
                <a:moveTo>
                  <a:pt x="3600" y="0"/>
                </a:moveTo>
                <a:arcTo wR="3600" hR="3600" stAng="16200000" swAng="-5400000"/>
                <a:lnTo>
                  <a:pt x="0" y="37800"/>
                </a:lnTo>
                <a:arcTo wR="3600" hR="3600" stAng="10800000" swAng="-5400000"/>
                <a:lnTo>
                  <a:pt x="18000" y="41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Систе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оцен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38512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5000" spc="-1" strike="noStrike">
                <a:solidFill>
                  <a:srgbClr val="99cc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Требования к структуре </a:t>
            </a:r>
            <a:br>
              <a:rPr sz="3600"/>
            </a:b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основной образовательной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программы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0040" y="2565000"/>
            <a:ext cx="8229600" cy="38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фиксированы требования 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количеству и наименованию разделов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(всего-9), в том числе к учебному плану общеобразовательного учреж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минимальному и максимальному количеству учебных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часов за 4 года (2 904 - 3 210 час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содержанию каждого из разделов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соотношению частей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основной общеобразовательной  программы (80/20% для первой ступен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организации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1583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4200" spc="-1" strike="noStrike">
                <a:solidFill>
                  <a:srgbClr val="99cc00"/>
                </a:solidFill>
                <a:latin typeface="Arial Black"/>
              </a:rPr>
              <a:t> </a:t>
            </a:r>
            <a:r>
              <a:rPr b="0" lang="ru-RU" sz="4200" spc="-1" strike="noStrike">
                <a:solidFill>
                  <a:srgbClr val="99cc00"/>
                </a:solidFill>
                <a:latin typeface="Arial Black"/>
              </a:rPr>
              <a:t>Требования к структуре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57120" y="1557000"/>
            <a:ext cx="8786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0360" indent="-1890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новная образовательная программа –целостный доку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ояснительная запи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ланируемые результаты освоения основной образовательной  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учебный пл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 формирования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УУ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ы  учебных предме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духовно-нравственного развития, воспит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формирования культуры  здорового и безопасного образа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коррекционной работы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истема оценки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достижения планируемых результ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1890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неурочная деятельность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время, отводимое на внеурочную деятельность, составля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 1350 часов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учебные занятия: не менее 2904 ч. и не более 3210 ч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1106640"/>
          </a:xfrm>
          <a:prstGeom prst="rect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 Black"/>
              </a:rPr>
              <a:t>Основные трудности педагогических работников   </a:t>
            </a:r>
            <a:br>
              <a:rPr sz="2400"/>
            </a:br>
            <a:r>
              <a:rPr b="1" lang="ru-RU" sz="2400" spc="-1" strike="noStrike">
                <a:solidFill>
                  <a:srgbClr val="cc0066"/>
                </a:solidFill>
                <a:latin typeface="Arial Black"/>
              </a:rPr>
              <a:t> на этапе введения ФГОС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358920" y="1143000"/>
            <a:ext cx="8785080" cy="5357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5ec9e"/>
              </a:gs>
              <a:gs pos="100000">
                <a:srgbClr val="ecf8e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прощенное понимание сущности и технологии реализ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истемно - деятельностного подхо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ложившаяся за предыдущие  годы устойчив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ка проведения урока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готовности руководителей ОУ и педагогических работ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 планированию и  организации образовательного процесса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чальной школе в соответствии с требованиями ФГОС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радиционный подход руководителей ОУ к анализу урока и стрем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держиваться старых подходов к оценке деятельности учи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нципиальная новизна вопросов инструментальн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ческого обеспечения достижения и оценки планируем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зультатов (личностных, метапредметных и предметных)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опыта  разработки разделов ООП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методических рекомендаций авторов УМ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2:41:38Z</dcterms:created>
  <dc:creator>1</dc:creator>
  <dc:description/>
  <dc:language>en-US</dc:language>
  <cp:lastModifiedBy>LEGION</cp:lastModifiedBy>
  <dcterms:modified xsi:type="dcterms:W3CDTF">2015-01-27T13:42:25Z</dcterms:modified>
  <cp:revision>12</cp:revision>
  <dc:subject/>
  <dc:title>Слайд 1</dc:title>
</cp:coreProperties>
</file>