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gif" ContentType="image/gif"/>
  <Override PartName="/ppt/media/image11.png" ContentType="image/png"/>
  <Override PartName="/ppt/media/image3.gif" ContentType="image/gif"/>
  <Override PartName="/ppt/media/image4.png" ContentType="image/png"/>
  <Override PartName="/ppt/media/image6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4D75-4713-48FE-9991-873CA9366D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1292"/>
                </a:solidFill>
                <a:latin typeface="Calibri"/>
              </a:rPr>
              <a:t>Внедрение ФГОС в начальной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педагогический сове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6455-059B-43FE-8F88-7D8C7A659C2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Стандар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«На ступени начального общего образования должно быть осуществлено формирование основ умения учиться и способности к организации своей деятельности – умение принимать, сохранять цели и следовать им в учебной деятельности, планировать свою деятельность, осуществлять ее контроль и оценку, взаимодействовать с педагогом и сверстниками в учебном процесс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54F4-86BA-4CD2-A65B-55E84945A24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f81bd"/>
                </a:solidFill>
                <a:latin typeface="Calibri"/>
              </a:rPr>
              <a:t>Требования к </a:t>
            </a:r>
            <a:r>
              <a:rPr b="0" lang="ru-RU" sz="1100" spc="-1" strike="noStrike" u="sng">
                <a:solidFill>
                  <a:srgbClr val="ff0000"/>
                </a:solidFill>
                <a:uFillTx/>
                <a:latin typeface="Calibri"/>
              </a:rPr>
              <a:t>результатам</a:t>
            </a:r>
            <a:r>
              <a:rPr b="0" lang="ru-RU" sz="1100" spc="-1" strike="noStrike">
                <a:solidFill>
                  <a:srgbClr val="4f81bd"/>
                </a:solidFill>
                <a:latin typeface="Calibri"/>
              </a:rPr>
              <a:t> освоения </a:t>
            </a:r>
            <a:br>
              <a:rPr sz="1100"/>
            </a:br>
            <a:r>
              <a:rPr b="0" lang="ru-RU" sz="1100" spc="-1" strike="noStrike">
                <a:solidFill>
                  <a:srgbClr val="4f81bd"/>
                </a:solidFill>
                <a:latin typeface="Calibri"/>
              </a:rPr>
              <a:t>основной образовательной программы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3300"/>
                </a:solidFill>
                <a:uFillTx/>
                <a:latin typeface="Calibri"/>
              </a:rPr>
              <a:t>Личност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готовность и способность к саморазвит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мотивация к обучению и позн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ценностно-смысловые установ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социальные компетенции, личностные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3300"/>
                </a:solidFill>
                <a:uFillTx/>
                <a:latin typeface="Calibri"/>
              </a:rPr>
              <a:t>Метапредмет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универсальные учебные действ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ознава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регуля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коммуника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3300"/>
                </a:solidFill>
                <a:uFillTx/>
                <a:latin typeface="Calibri"/>
              </a:rPr>
              <a:t>Предмет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опыт деятельности специфической для данной предметной обла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система основополагающих элементов научного 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6B4E-C2C4-4A8B-AC57-16EBD397F5E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Calibri"/>
                <a:ea typeface="Arial"/>
              </a:rPr>
              <a:t>Универсальные учебные действ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овокупность способов действия учащегося, обеспечивающих его способность к самостоятельному усвоению новых знаний, включая организацию эт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5AB4-832E-4F01-8E44-39291ED16F0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Calibri"/>
              </a:rPr>
              <a:t>Виды универсальных учебных действ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Личностные</a:t>
            </a:r>
            <a:r>
              <a:rPr b="0" lang="ru-RU" sz="1200" spc="-1" strike="noStrike">
                <a:solidFill>
                  <a:srgbClr val="cc0066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жизненное, личностное, профессиональное самоопределение, умение соотносить поступки и события с принятыми этическими принципами), а также ориентация в социальных ролях и межличностных отно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Регулятив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действия, обеспечивающие организацию учащимися своей учебной деятельности (целеполагание, планирование, прогнозирование результатов деятельности, коррекция, оцен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1A38-BA31-479E-B31D-C80842CEA02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00"/>
                </a:solidFill>
                <a:latin typeface="Calibri"/>
              </a:rPr>
              <a:t>Виды универсальных учебных действ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c006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66"/>
                </a:solidFill>
                <a:uFillTx/>
                <a:latin typeface="Calibri"/>
              </a:rPr>
              <a:t>Познавательные</a:t>
            </a:r>
            <a:r>
              <a:rPr b="0" lang="ru-RU" sz="1200" spc="-1" strike="noStrike">
                <a:solidFill>
                  <a:srgbClr val="cc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общеучебные, включа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ециально-предметные действ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пределяющиеся содержанием конкретной дисциплины (постановка и решение проблем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c006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66"/>
                </a:solidFill>
                <a:uFillTx/>
                <a:latin typeface="Calibri"/>
              </a:rPr>
              <a:t>Коммуникатив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социальная компетентность, учет позиции других людей, умение слушать, участвовать в коллективном обсуждении проблем, планирование учебного сотрудничества с учителей и сверстни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81E7-1038-42EE-9EFD-95E9BE58884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9900"/>
                </a:solidFill>
                <a:latin typeface="Calibri"/>
              </a:rPr>
              <a:t>Фрагмент тематического планирован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Звездное небо – великая книга природы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тр. 16-21, Т. стр. 7-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Что такое созвездие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ак определить направление сторон горизонта по Полярной звезде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очему ученый назвал  звездное небо   Великой книгой     Природы?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ебесные тела, планета, Млечный путь, созвездие, астроном, названия созвезд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знать название созвездий; уметь пользоваться атласом-определителем и находит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озвездия на звездной карте и в ночном небе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Регулятивны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ланировать свои действия в соответствии с поставленной задачей, в сотрудничестве с учителем ставить новые учебные задач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Познавательные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ыделять существенную информацию из текстов разных видов, строить рассуждения в форме связи простых суждений об объекте и его строени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Коммуникативны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ладеть полученной информацией и строить монологическое высказыван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овышение самооценки учени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718C-AB6E-447B-858D-544EEE9C556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00"/>
                </a:solidFill>
                <a:latin typeface="Calibri"/>
              </a:rPr>
              <a:t>ФГОС  повлечет за собой изменения в БУП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урочная деятельность как важная составная часть содержания образования, увеличивающая его вариативность и адаптивность к интересам, потребностям и способностям школь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ждом классе школы предполагается выделить в среднем по 10 часов в неделю на внеурочную деятельность – спортивно-оздоровительную, познавательную и исследовательскую, художественно-эстетическую, трудовую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A57A-A762-41C1-850F-D23D723C2C7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Стандарты обеспечив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Monotype Corsiva"/>
              </a:rPr>
              <a:t>Переход от «догоняющей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Monotype Corsiva"/>
              </a:rPr>
              <a:t>к «опережающей» модели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27FD-AAA4-400F-892E-0F42E80F804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У выпускника начальной школы должны быть сформирова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66"/>
                </a:solidFill>
                <a:latin typeface="Calibri"/>
              </a:rPr>
              <a:t>Личностные УУ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Внутренняя позиция шк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Адекватная мотивация учеб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Ориентация на моральные нормы и их выпол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Способность к моральной децент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BD63-5C23-4920-97CC-D9032ADED64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У выпускника начальной школы должны быть сформирова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66"/>
                </a:solidFill>
                <a:latin typeface="Calibri"/>
              </a:rPr>
              <a:t>Регулятивные УУ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Овладение всеми типами учеб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Планировать реализацию учебной цели и 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Контролировать и оценивать свои 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C0B8-D736-43C8-9845-8DF3E046AA2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Новые подходы к определению  стратегических целей стандар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Стандарты - социальная норма, обществе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договор между семьей, обществом и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99FE-CB47-46CB-9D00-B167A75C6D6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У выпускника начальной школы должны быть сформирова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66"/>
                </a:solidFill>
                <a:latin typeface="Calibri"/>
              </a:rPr>
              <a:t>Познавательные УУ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Использовать знаково-символические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Овладеть действием моде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66"/>
                </a:solidFill>
                <a:latin typeface="Calibri"/>
              </a:rPr>
              <a:t>Коммуникативные УУ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Учитывать позицию собесед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Организовывать и осуществлять сотрудничество с учителем и сверстни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Передавать информ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7BF0-D903-4CD0-B776-5E2F97C1611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Выжи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не самый силь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и не самый умн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а тот, к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лучше всех отклик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на происходящие изме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cc0066"/>
                </a:solidFill>
                <a:latin typeface="Calibri"/>
              </a:rPr>
              <a:t>                                                                        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                       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Чарльз Дарв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пасибо за сотрудничество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C0EC-B06E-4F02-A1F6-7F81F0CE205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лжны получать удовл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офессиональ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задача учителя!</a:t>
            </a:r>
            <a:r>
              <a:rPr b="0" lang="ru-RU" sz="1200" spc="-1" strike="noStrike">
                <a:solidFill>
                  <a:srgbClr val="502652"/>
                </a:solidFill>
                <a:latin typeface="Calibri"/>
              </a:rPr>
              <a:t>(отличие стандартов второго покол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257B-97E8-4829-90F3-B684406CF69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3F35-CB6C-4050-B002-998E9007EC1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CAC3-DF3A-44C9-B0CA-765C7BA8CF6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ой результат – развитие личности на основе деятельности по преобразованию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неш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едметн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деятельности во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нутрен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Основная педагогическая задача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создание и организация условий, инициирующих ученическое действ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В основе реализации стандарта – 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истемно – деятельностный 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одход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Главным деятелем на уро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лжен быть РЕБЁ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C963-A577-4736-A1A7-C6AC43896BA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32f4d"/>
                </a:solidFill>
                <a:latin typeface="Calibri"/>
              </a:rPr>
              <a:t>Требования к структуре основ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32f4d"/>
                </a:solidFill>
                <a:latin typeface="Calibri"/>
              </a:rPr>
              <a:t>образовательной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FDE3-A8F7-4158-8FE1-61D7B563EF2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40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Требования к структуре </a:t>
            </a:r>
            <a:br>
              <a:rPr sz="2400"/>
            </a:b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основной образовательной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программ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Зафиксированы требования 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количеству и наименованию разделов</a:t>
            </a: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 (всего-9), в том числе к учебному плану общеобразовательного учрежд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cc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минимальному и максимальному количеству учебных</a:t>
            </a: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 часов за 4 года (2 904 - 3 210 час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содержанию каждого из разделов</a:t>
            </a: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cc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соотношению частей</a:t>
            </a: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 основной общеобразовательной  программы (80/20% для первой ступен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-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организации внеуроч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1A4A-58C0-4974-BB0D-F910E919ECF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ru-RU" sz="33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ru-RU" sz="3300" spc="-1" strike="noStrike">
                <a:solidFill>
                  <a:srgbClr val="4f81bd"/>
                </a:solidFill>
                <a:latin typeface="Calibri"/>
              </a:rPr>
              <a:t>Требования к структуре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189000">
              <a:lnSpc>
                <a:spcPct val="60000"/>
              </a:lnSpc>
              <a:spcBef>
                <a:spcPts val="524"/>
              </a:spcBef>
              <a:buClr>
                <a:srgbClr val="cc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основная образовательная программа –целостный докумен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пояснительная запис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планируемые результаты освоения основной образовательной  программ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учебный план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программа формирования </a:t>
            </a: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УУ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программы  учебных предмет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программа</a:t>
            </a: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 духовно-нравственного развития, воспит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программа </a:t>
            </a: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формирования культуры  здорового и безопасного образа жизн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программа</a:t>
            </a: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 коррекционной работы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система оценки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достижения планируемых результат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189000">
              <a:lnSpc>
                <a:spcPct val="60000"/>
              </a:lnSpc>
              <a:spcBef>
                <a:spcPts val="524"/>
              </a:spcBef>
              <a:buClr>
                <a:srgbClr val="cc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внеурочная деятельность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время, отводимое на внеурочную деятельность, составляет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до 1350 часов </a:t>
            </a:r>
            <a:r>
              <a:rPr b="0" lang="ru-RU" sz="1400" spc="-1" strike="noStrike">
                <a:solidFill>
                  <a:srgbClr val="003399"/>
                </a:solidFill>
                <a:latin typeface="Calibri"/>
              </a:rPr>
              <a:t>(учебные занятия: не менее 2904 ч. и не более 3210 ч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5B15-2D85-4BA6-85F4-8774FF8700A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0973-AE55-4625-8197-F40438E6364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Calibri"/>
              </a:rPr>
              <a:t>Основные трудности педагогических работников   </a:t>
            </a:r>
            <a:br>
              <a:rPr sz="1200"/>
            </a:br>
            <a:r>
              <a:rPr b="0" lang="ru-RU" sz="1200" spc="-1" strike="noStrike">
                <a:solidFill>
                  <a:srgbClr val="cc0066"/>
                </a:solidFill>
                <a:latin typeface="Calibri"/>
              </a:rPr>
              <a:t> на этапе введения ФГО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упрощенное понимание сущности и технологии реал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истемно - деятельностного подхо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ложившаяся за предыдущие  годы устойчив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етодика проведения урока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тсутствие готовности руководителей ОУ и педагогических раб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 планированию и  организации образовательного процесса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ачальной школе в соответствии с требованиями ФГОС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традиционный подход руководителей ОУ к анализу урока и стрем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идерживаться старых подходов к оценке деятельности учите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 </a:t>
            </a: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инципиальная новизна вопросов инструментальн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етодического обеспечения достижения и оценки планируем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результатов (личностных, метапредметных и предметных)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тсутствие опыта  разработки разделов ООП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тсутствие методических рекомендаций авторов УМ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4485-5B51-43C0-BB50-22A3B67DD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6490-AF7B-40DC-A691-EAF6CC68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0F91-C39A-47CA-B146-50268D9A0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04D7-D10A-4196-9070-D78AE111E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82D17-FB93-481B-88F0-49808343E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125AD-1845-43FC-9128-6EBD7B27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E46477-E07B-4766-87F1-C1C1B365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F0367-6FA9-4861-98F1-3A6D7A46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C6936-21A2-467C-982E-7ED6D17C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7CCED-CF26-4B01-8328-9292DD3E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2A396-1FEE-4A9B-BE60-7903DFFC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B6EB-1610-41F8-8EF2-01581160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89AAE-B184-447F-85DB-F850D76B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C1AD5-B875-4AEB-8EA4-36DEE6D7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9C760-3603-46A9-8B32-BD0E6853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A41A7-0342-4E06-9E11-D7F4F31E7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2899B-7C4C-478B-8949-8C95929F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2D6CB-9DAA-4A93-B6FB-553EA8D2D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DB35F-4174-4531-B160-976E7FC8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85E61-9A8D-463B-81C2-8FC99F1B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EEFDB-DF40-4D56-B74B-CF93E9A9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2F66F-B3CA-48FA-A171-569E8953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310D-FE7E-4EFC-A29A-F4845891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9AB25-8A62-49A6-A961-AD637E85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48068-C2D8-4A71-B0EC-81D468F8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8ADAB-B953-49AE-B10D-7ACB24C4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5A008-6F28-45F2-957D-C5DA07C1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66B13-EAF7-4191-A072-94929F71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AB9ED-8330-4D29-915E-32A7B1FF6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26083-DB02-485D-BAD1-14DB6E3CF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D8E0B1-74FB-4598-AF60-3F46E379F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259015-9AAB-4308-9183-B505619F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6079A2-A3A3-45B4-B845-1374DF85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A785-A62F-42B3-ACFE-D92BE00E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61CC8F-A438-4436-9D5D-EE2A868E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1176D8-DCA7-4339-A9F0-5968800E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90A8D7-8A33-4617-BD25-809F0469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8153C5-6BB3-4D88-B297-36FB2D2A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A42D67-305E-4B47-8C61-67D82B33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BE9A0F-21E5-4210-B205-C319FB32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1FAEE1-33A5-4590-B2FE-81E16F91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D2E02E-ED0B-471B-9502-60240F740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F2632B-A015-4DDB-BB1D-505A30A7B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CE7C-7881-42FC-AC69-98792578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6173-EF3C-48B4-9D08-501A0635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7DF9-81CE-41AE-8C1D-DD67C59A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0D06-3E69-4BD2-9CD0-C2652E24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84D7-B555-4DE3-A09D-C2F2CDE9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88E1-C751-4D5B-B38C-BF08E037FC2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B391-DE72-49AC-8861-A8B1D4CB8B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af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207C-EC1B-4BCC-A0CB-646FAE7D7C83}" type="datetime">
              <a:rPr b="0" lang="ru-RU" sz="800" spc="-1" strike="noStrike">
                <a:solidFill>
                  <a:srgbClr val="438086"/>
                </a:solidFill>
                <a:latin typeface="Arial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85D7-F316-47A0-874C-C5057E08AD84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E399-E5F9-43F5-AF81-F331E2C344E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2851-E656-4871-8C0D-DA176987D2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af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6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7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Прямоугольник 8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Прямоугольник 9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Прямоугольник 10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Скругленный прямоугольник 11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Скругленный прямоугольник 12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рямоугольник 13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Прямоугольник 14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Прямоугольник 15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Прямоугольник 16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Прямоугольник 17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оугольник 18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CA5A-56C8-4329-B3FE-449D44AC938B}" type="datetime">
              <a:rPr b="0" lang="ru-RU" sz="800" spc="-1" strike="noStrike">
                <a:solidFill>
                  <a:srgbClr val="438086"/>
                </a:solidFill>
                <a:latin typeface="Arial"/>
              </a:rPr>
              <a:t>30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1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5060-C370-44D1-9286-B8140BCBA96A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1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71292"/>
                </a:solidFill>
                <a:latin typeface="Arial Black"/>
              </a:rPr>
              <a:t>Внедрение ФГОС в начальной школе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2546280" y="4316400"/>
            <a:ext cx="4819680" cy="16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дагогический сов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Arial Black"/>
              </a:rPr>
              <a:t>Стандарт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23640" y="1356840"/>
            <a:ext cx="852156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«На ступени начального общего образования должно быть осуществлено формирование основ умения учиться и способности к организации своей деятельности – умение принимать, сохранять цели и следовать им в учебной деятельности, планировать свою деятельность, осуществлять ее контроль и оценку, взаимодействовать с педагогом и сверстниками в учебном процессе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32968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cc00"/>
                </a:solidFill>
                <a:latin typeface="Arial Black"/>
              </a:rPr>
              <a:t>Требования к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 Black"/>
              </a:rPr>
              <a:t>результатам</a:t>
            </a:r>
            <a:r>
              <a:rPr b="0" lang="ru-RU" sz="1800" spc="-1" strike="noStrike">
                <a:solidFill>
                  <a:srgbClr val="99cc00"/>
                </a:solidFill>
                <a:latin typeface="Arial Black"/>
              </a:rPr>
              <a:t> освоения </a:t>
            </a:r>
            <a:br>
              <a:rPr sz="1800"/>
            </a:br>
            <a:r>
              <a:rPr b="0" lang="ru-RU" sz="1800" spc="-1" strike="noStrike">
                <a:solidFill>
                  <a:srgbClr val="99cc00"/>
                </a:solidFill>
                <a:latin typeface="Arial Black"/>
              </a:rPr>
              <a:t>основной образовательной программы</a:t>
            </a:r>
            <a:br>
              <a:rPr sz="1800"/>
            </a:b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980640"/>
            <a:ext cx="822960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99ff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Личност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99ff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готовность и способность к саморазвит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мотивация к обучению и позна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ценностно-смысловые установ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социальные компетенции, личностные кач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99ff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99ff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Метапредмет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универсальные учебные действия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познаватель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регулятив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коммуникатив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99ff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Предмет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опыт деятельности специфической для данной предметной обла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система основополагающих элементов научного зн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99ff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Місце для нижнього колонтитула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2000"/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2000"/>
                                        <p:tgtEl>
                                          <p:spTgt spid="2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2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Rectangle 3" descr=""/>
          <p:cNvPicPr/>
          <p:nvPr/>
        </p:nvPicPr>
        <p:blipFill>
          <a:blip r:embed="rId1"/>
          <a:stretch/>
        </p:blipFill>
        <p:spPr>
          <a:xfrm>
            <a:off x="542880" y="907920"/>
            <a:ext cx="8229600" cy="5505480"/>
          </a:xfrm>
          <a:prstGeom prst="rect">
            <a:avLst/>
          </a:prstGeom>
          <a:ln w="0">
            <a:noFill/>
          </a:ln>
        </p:spPr>
      </p:pic>
      <p:sp>
        <p:nvSpPr>
          <p:cNvPr id="268" name="WordArt 4"/>
          <p:cNvSpPr txBox="1"/>
          <p:nvPr/>
        </p:nvSpPr>
        <p:spPr>
          <a:xfrm>
            <a:off x="914400" y="838080"/>
            <a:ext cx="7543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b7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b7"/>
              </a:solidFill>
              <a:latin typeface="Arial"/>
              <a:ea typeface="Arial"/>
            </a:endParaRPr>
          </a:p>
        </p:txBody>
      </p:sp>
      <p:pic>
        <p:nvPicPr>
          <p:cNvPr id="269" name="Picture 4" descr="D:\анимашки\дети\комп.gif"/>
          <p:cNvPicPr/>
          <p:nvPr/>
        </p:nvPicPr>
        <p:blipFill>
          <a:blip r:embed="rId2"/>
          <a:stretch/>
        </p:blipFill>
        <p:spPr>
          <a:xfrm>
            <a:off x="6156360" y="4292640"/>
            <a:ext cx="2365200" cy="2365200"/>
          </a:xfrm>
          <a:prstGeom prst="rect">
            <a:avLst/>
          </a:prstGeom>
          <a:ln w="0">
            <a:noFill/>
          </a:ln>
        </p:spPr>
      </p:pic>
      <p:sp>
        <p:nvSpPr>
          <p:cNvPr id="27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5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 Black"/>
              </a:rPr>
              <a:t>Виды универсальных учебных действий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Личностные</a:t>
            </a:r>
            <a:r>
              <a:rPr b="0" lang="ru-RU" sz="2800" spc="-1" strike="noStrike">
                <a:solidFill>
                  <a:srgbClr val="cc00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жизненное, личностное, профессиональное самоопределение, умение соотносить поступки и события с принятыми этическими принципами), а также ориентация в социальных ролях и межличностных отношения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Регулятивны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действия, обеспечивающие организацию учащимися своей учебной деятельности (целеполагание, планирование, прогнозирование результатов деятельности, коррекция, оценк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44240"/>
            <a:ext cx="838512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 Black"/>
              </a:rPr>
              <a:t>Виды универсальных учебных действий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99ff6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66"/>
                </a:solidFill>
                <a:uFillTx/>
                <a:latin typeface="Arial"/>
              </a:rPr>
              <a:t>Познавательные</a:t>
            </a:r>
            <a:r>
              <a:rPr b="0" lang="ru-RU" sz="32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общеучебные, включая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ециально-предметные действ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определяющиеся содержанием конкретной дисциплины (постановка и решение проблем и т.д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99ff6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cc0066"/>
                </a:solidFill>
                <a:uFillTx/>
                <a:latin typeface="Arial"/>
              </a:rPr>
              <a:t>Коммуникативные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– социальная компетентность, учет позиции других людей, умение слушать, участвовать в коллективном обсуждении проблем, планирование учебного сотрудничества с учителей и сверстникам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99ff6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00000" y="244080"/>
            <a:ext cx="79423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</a:rPr>
              <a:t>Фрагмент тематического планирования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500040" y="2000160"/>
          <a:ext cx="8358120" cy="4206960"/>
        </p:xfrm>
        <a:graphic>
          <a:graphicData uri="http://schemas.openxmlformats.org/drawingml/2006/table">
            <a:tbl>
              <a:tblPr/>
              <a:tblGrid>
                <a:gridCol w="452520"/>
                <a:gridCol w="1495440"/>
                <a:gridCol w="1454040"/>
                <a:gridCol w="1198440"/>
                <a:gridCol w="1022400"/>
                <a:gridCol w="1711440"/>
                <a:gridCol w="1023840"/>
              </a:tblGrid>
              <a:tr h="4206960">
                <a:tc>
                  <a:txBody>
                    <a:bodyPr lIns="47520" rIns="47520" tIns="0" bIns="0" anchor="t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 Blac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Звездное небо – великая книга природы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Стр. 16-21, Т. стр. 7-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Что такое созвездие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Как определить направление сторон горизонта по Полярной звезде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Почему ученый назвал  звездное небо   Великой книгой     Природы?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Небесные тела, планета, Млечный путь, созвездие, астроном, названия созвезд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знать название созвездий; уметь пользоваться атласом-определителем и находи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созвездия на звездной карте и в ночном небе;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660033"/>
                          </a:solidFill>
                          <a:uFillTx/>
                          <a:latin typeface="Calibri"/>
                          <a:ea typeface="Times New Roman"/>
                        </a:rPr>
                        <a:t>Регулятив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Планировать свои действия в соответствии с поставленной задачей, в сотрудничестве с учителем ставить новые учебные задач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660033"/>
                          </a:solidFill>
                          <a:uFillTx/>
                          <a:latin typeface="Calibri"/>
                          <a:ea typeface="Times New Roman"/>
                        </a:rPr>
                        <a:t>Познавательные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Выделять существенную информацию из текстов разных видов, строить рассуждения в форме связи простых суждений об объекте и его строен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660033"/>
                          </a:solidFill>
                          <a:uFillTx/>
                          <a:latin typeface="Calibri"/>
                          <a:ea typeface="Times New Roman"/>
                        </a:rPr>
                        <a:t>Коммуникатив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Владеть полученной информацией и строить монологическое высказы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Повышение самооценки учен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500040" y="1000080"/>
          <a:ext cx="8286840" cy="978120"/>
        </p:xfrm>
        <a:graphic>
          <a:graphicData uri="http://schemas.openxmlformats.org/drawingml/2006/table">
            <a:tbl>
              <a:tblPr/>
              <a:tblGrid>
                <a:gridCol w="449280"/>
                <a:gridCol w="1482840"/>
                <a:gridCol w="1441440"/>
                <a:gridCol w="1187280"/>
                <a:gridCol w="1014480"/>
                <a:gridCol w="1697040"/>
                <a:gridCol w="1014480"/>
              </a:tblGrid>
              <a:tr h="42012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Тема урок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(страницы учебника, тетради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Решаемые проблем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Планируемые результаты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(в соответствии с ФГОС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000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Понят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Предмет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результа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УУ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Личностные результа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3851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00"/>
                </a:solidFill>
                <a:latin typeface="Arial Black"/>
              </a:rPr>
              <a:t>ФГОС  повлечет за собой изменения в БУП</a:t>
            </a:r>
            <a:r>
              <a:rPr b="1" lang="ru-RU" sz="3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3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94920" y="1844640"/>
            <a:ext cx="84582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урочная деятельность как важная составная часть содержания образования, увеличивающая его вариативность и адаптивность к интересам, потребностям и способностям школь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каждом классе школы предполагается выделить в среднем по 10 часов в неделю на внеурочную деятельность – спортивно-оздоровительную, познавательную и исследовательскую, художественно-эстетическую, трудовую и т.д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Прямоугольник с двумя скругленными противолежащими углами 5"/>
          <p:cNvSpPr/>
          <p:nvPr/>
        </p:nvSpPr>
        <p:spPr>
          <a:xfrm>
            <a:off x="228600" y="1268280"/>
            <a:ext cx="8763120" cy="432000"/>
          </a:xfrm>
          <a:prstGeom prst="pie">
            <a:avLst/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Базисный учебный план – Базисный образовательный пла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660033"/>
                </a:solidFill>
                <a:latin typeface="Arial Black"/>
              </a:rPr>
              <a:t>Стандарты обеспечивают</a:t>
            </a:r>
            <a:endParaRPr b="1" lang="en-US" sz="5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cc00"/>
                </a:solidFill>
                <a:latin typeface="Monotype Corsiva"/>
              </a:rPr>
              <a:t>Переход от «догоняющей»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cc00"/>
                </a:solidFill>
                <a:latin typeface="Monotype Corsiva"/>
              </a:rPr>
              <a:t>к «опережающей» модели образовани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2" descr="D:\Мама\анимашки\дети\6e512718eb4ddfdeb3be803fc4e3f797.gif"/>
          <p:cNvPicPr/>
          <p:nvPr/>
        </p:nvPicPr>
        <p:blipFill>
          <a:blip r:embed="rId1"/>
          <a:stretch/>
        </p:blipFill>
        <p:spPr>
          <a:xfrm>
            <a:off x="7358040" y="1143000"/>
            <a:ext cx="1571760" cy="18162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D:\Мама\анимашки\дети\28.gif"/>
          <p:cNvPicPr/>
          <p:nvPr/>
        </p:nvPicPr>
        <p:blipFill>
          <a:blip r:embed="rId2"/>
          <a:stretch/>
        </p:blipFill>
        <p:spPr>
          <a:xfrm>
            <a:off x="4643280" y="3929040"/>
            <a:ext cx="2786400" cy="274644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3851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 Black"/>
              </a:rPr>
              <a:t>У выпускника начальной школы должны быть сформированы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59464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66"/>
                </a:solidFill>
                <a:latin typeface="Arial"/>
              </a:rPr>
              <a:t>Личностные УУ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Внутренняя позиция школь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Адекватная мотивация учебной 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Ориентация на моральные нормы и их выполн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Способность к моральной децентр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83851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 Black"/>
              </a:rPr>
              <a:t>У выпускника начальной школы должны быть сформированы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59464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66"/>
                </a:solidFill>
                <a:latin typeface="Arial"/>
              </a:rPr>
              <a:t>Регулятивные УУ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Овладение всеми типами учебных действ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Планировать реализацию учебной цели и зада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Контролировать и оценивать свои действ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Arial"/>
              </a:rPr>
              <a:t>Новые подходы к определению  стратегических целей стандартов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13840" y="1213920"/>
            <a:ext cx="87584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Стандарты - социальная норма, обществен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договор между семьей, обществом и государств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2" descr="AG00315_"/>
          <p:cNvPicPr/>
          <p:nvPr/>
        </p:nvPicPr>
        <p:blipFill>
          <a:blip r:embed="rId1"/>
          <a:stretch/>
        </p:blipFill>
        <p:spPr>
          <a:xfrm>
            <a:off x="3000240" y="2928960"/>
            <a:ext cx="1828800" cy="205740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9"/>
          <p:cNvSpPr/>
          <p:nvPr/>
        </p:nvSpPr>
        <p:spPr>
          <a:xfrm>
            <a:off x="4357800" y="185724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оугольник 10"/>
          <p:cNvSpPr/>
          <p:nvPr/>
        </p:nvSpPr>
        <p:spPr>
          <a:xfrm>
            <a:off x="4572000" y="521496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Пятно 2 8"/>
          <p:cNvSpPr/>
          <p:nvPr/>
        </p:nvSpPr>
        <p:spPr>
          <a:xfrm rot="21540000">
            <a:off x="-183960" y="3032280"/>
            <a:ext cx="3718080" cy="3792240"/>
          </a:xfrm>
          <a:prstGeom prst="irregularSeal2">
            <a:avLst/>
          </a:prstGeom>
          <a:solidFill>
            <a:srgbClr val="00ffcc"/>
          </a:solidFill>
          <a:ln w="255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СЕМЬ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Личностная успеш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оциальная успеш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офессиональна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успеш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Облако 9"/>
          <p:cNvSpPr/>
          <p:nvPr/>
        </p:nvSpPr>
        <p:spPr>
          <a:xfrm rot="660000">
            <a:off x="4430520" y="2595600"/>
            <a:ext cx="4493880" cy="1942920"/>
          </a:xfrm>
          <a:prstGeom prst="pie">
            <a:avLst/>
          </a:prstGeom>
          <a:solidFill>
            <a:srgbClr val="66ccff"/>
          </a:solidFill>
          <a:ln w="255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ОБЩ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зопасность и здоровь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а и ответств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циальная справедлив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лагосостоя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Овал 10"/>
          <p:cNvSpPr/>
          <p:nvPr/>
        </p:nvSpPr>
        <p:spPr>
          <a:xfrm>
            <a:off x="4714920" y="5214960"/>
            <a:ext cx="4286160" cy="1643040"/>
          </a:xfrm>
          <a:prstGeom prst="ellipse">
            <a:avLst/>
          </a:prstGeom>
          <a:solidFill>
            <a:srgbClr val="cc99ff"/>
          </a:solidFill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6600"/>
                </a:solidFill>
                <a:uFillTx/>
                <a:latin typeface="Georgia"/>
              </a:rPr>
              <a:t>ГОСУДАР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eorgia"/>
              </a:rPr>
              <a:t>Национальное един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eorgia"/>
              </a:rPr>
              <a:t>Безопасност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eorgia"/>
              </a:rPr>
              <a:t>Развитие человеческого потенциал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eorgia"/>
              </a:rPr>
              <a:t>Конкурентоспособ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1" name="Прямая со стрелкой 11"/>
          <p:cNvCxnSpPr/>
          <p:nvPr/>
        </p:nvCxnSpPr>
        <p:spPr>
          <a:xfrm>
            <a:off x="4416480" y="4611960"/>
            <a:ext cx="952920" cy="991080"/>
          </a:xfrm>
          <a:prstGeom prst="straightConnector1">
            <a:avLst/>
          </a:prstGeom>
          <a:ln w="38160">
            <a:solidFill>
              <a:srgbClr val="004d00"/>
            </a:solidFill>
            <a:miter/>
            <a:tailEnd len="med" type="arrow" w="med"/>
          </a:ln>
        </p:spPr>
      </p:cxnSp>
      <p:cxnSp>
        <p:nvCxnSpPr>
          <p:cNvPr id="212" name="Прямая со стрелкой 13"/>
          <p:cNvCxnSpPr/>
          <p:nvPr/>
        </p:nvCxnSpPr>
        <p:spPr>
          <a:xfrm flipH="1">
            <a:off x="2315160" y="3315960"/>
            <a:ext cx="1013040" cy="296280"/>
          </a:xfrm>
          <a:prstGeom prst="straightConnector1">
            <a:avLst/>
          </a:prstGeom>
          <a:ln w="38160">
            <a:solidFill>
              <a:srgbClr val="66ccff"/>
            </a:solidFill>
            <a:miter/>
            <a:tailEnd len="med" type="arrow" w="med"/>
          </a:ln>
        </p:spPr>
      </p:cxnSp>
      <p:cxnSp>
        <p:nvCxnSpPr>
          <p:cNvPr id="213" name="Прямая со стрелкой 18"/>
          <p:cNvCxnSpPr/>
          <p:nvPr/>
        </p:nvCxnSpPr>
        <p:spPr>
          <a:xfrm flipV="1">
            <a:off x="4286160" y="3857400"/>
            <a:ext cx="858240" cy="429120"/>
          </a:xfrm>
          <a:prstGeom prst="straightConnector1">
            <a:avLst/>
          </a:prstGeom>
          <a:ln w="38160">
            <a:solidFill>
              <a:srgbClr val="e0ff85"/>
            </a:solidFill>
            <a:miter/>
            <a:tailEnd len="med" type="arrow" w="med"/>
          </a:ln>
        </p:spPr>
      </p:cxnSp>
      <p:sp>
        <p:nvSpPr>
          <p:cNvPr id="21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3851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 Black"/>
              </a:rPr>
              <a:t>У выпускника начальной школы должны быть сформированы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59464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66"/>
                </a:solidFill>
                <a:latin typeface="Arial"/>
              </a:rPr>
              <a:t>Познавательные УУ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Использовать знаково-символические сред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Овладеть действием моделир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66"/>
                </a:solidFill>
                <a:latin typeface="Arial"/>
              </a:rPr>
              <a:t>Коммуникативные УУ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Учитывать позицию собесед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Организовывать и осуществлять сотрудничество с учителем и сверстник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Передавать информац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2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20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2000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2" dur="20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2000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4" descr="FGOS"/>
          <p:cNvPicPr/>
          <p:nvPr/>
        </p:nvPicPr>
        <p:blipFill>
          <a:blip r:embed="rId1"/>
          <a:stretch/>
        </p:blipFill>
        <p:spPr>
          <a:xfrm>
            <a:off x="0" y="171360"/>
            <a:ext cx="9144000" cy="6686640"/>
          </a:xfrm>
          <a:prstGeom prst="rect">
            <a:avLst/>
          </a:prstGeom>
          <a:ln w="0">
            <a:noFill/>
          </a:ln>
        </p:spPr>
      </p:pic>
      <p:sp>
        <p:nvSpPr>
          <p:cNvPr id="30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932000" y="333000"/>
            <a:ext cx="4211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Выжива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не самый сильн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и не самый умны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а тот, кт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лучше всех откликае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на происходящие измен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                                                                         </a:t>
            </a: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                        </a:t>
            </a: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Чарльз Дарв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0" y="836640"/>
            <a:ext cx="4968720" cy="3449520"/>
          </a:xfrm>
          <a:prstGeom prst="rect">
            <a:avLst/>
          </a:prstGeom>
          <a:ln w="0">
            <a:noFill/>
          </a:ln>
        </p:spPr>
      </p:pic>
      <p:sp>
        <p:nvSpPr>
          <p:cNvPr id="30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1" descr=""/>
          <p:cNvPicPr/>
          <p:nvPr/>
        </p:nvPicPr>
        <p:blipFill>
          <a:blip r:embed="rId1"/>
          <a:stretch/>
        </p:blipFill>
        <p:spPr>
          <a:xfrm>
            <a:off x="262080" y="1316160"/>
            <a:ext cx="8040600" cy="21654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" descr="K:\анимашки\погода\88.gif"/>
          <p:cNvPicPr/>
          <p:nvPr/>
        </p:nvPicPr>
        <p:blipFill>
          <a:blip r:embed="rId2"/>
          <a:stretch/>
        </p:blipFill>
        <p:spPr>
          <a:xfrm>
            <a:off x="5143680" y="2357280"/>
            <a:ext cx="3571560" cy="3286440"/>
          </a:xfrm>
          <a:prstGeom prst="rect">
            <a:avLst/>
          </a:prstGeom>
          <a:ln w="0">
            <a:noFill/>
          </a:ln>
        </p:spPr>
      </p:pic>
      <p:sp>
        <p:nvSpPr>
          <p:cNvPr id="308" name="Місце для нижнього колонтитула 2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8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4200" y="704520"/>
            <a:ext cx="8715600" cy="26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Дети </a:t>
            </a:r>
            <a:r>
              <a:rPr b="0" lang="ru-RU" sz="3600" spc="-1" strike="noStrike" u="sng">
                <a:solidFill>
                  <a:srgbClr val="ffffb7"/>
                </a:solidFill>
                <a:uFillTx/>
                <a:latin typeface="Arial Black"/>
              </a:rPr>
              <a:t>должны</a:t>
            </a:r>
            <a:r>
              <a:rPr b="1" lang="ru-RU" sz="3600" spc="-1" strike="noStrike" u="sng">
                <a:solidFill>
                  <a:srgbClr val="ffffb7"/>
                </a:solidFill>
                <a:uFillTx/>
                <a:latin typeface="Arial Black"/>
              </a:rPr>
              <a:t> получать удовлетворение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–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профессиональная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задача учителя</a:t>
            </a: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!</a:t>
            </a:r>
            <a:r>
              <a:rPr b="1" lang="ru-RU" sz="3600" spc="-1" strike="noStrike">
                <a:solidFill>
                  <a:srgbClr val="502652"/>
                </a:solidFill>
                <a:latin typeface="Arial Black"/>
              </a:rPr>
              <a:t>(отличие стандартов второго поколения)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16" name="Picture 2" descr="D:\Мама\анимашки\дети\уснул.gif"/>
          <p:cNvPicPr/>
          <p:nvPr/>
        </p:nvPicPr>
        <p:blipFill>
          <a:blip r:embed="rId1"/>
          <a:stretch/>
        </p:blipFill>
        <p:spPr>
          <a:xfrm>
            <a:off x="285840" y="36432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D:\Мама\анимашки\дети\9ca9fd62ccc9c889e8d891d4a07831b3.gif"/>
          <p:cNvPicPr/>
          <p:nvPr/>
        </p:nvPicPr>
        <p:blipFill>
          <a:blip r:embed="rId2"/>
          <a:stretch/>
        </p:blipFill>
        <p:spPr>
          <a:xfrm>
            <a:off x="5286240" y="3589200"/>
            <a:ext cx="3400560" cy="307368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2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0" y="1015560"/>
            <a:ext cx="9144000" cy="21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ой результат – развитие личности на основе деятельности по преобразованию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нешн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редметно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еятельности во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нутренню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сновная педагогическая задач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оздание и организация условий, инициирующих ученическое действ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Oval 6"/>
          <p:cNvSpPr/>
          <p:nvPr/>
        </p:nvSpPr>
        <p:spPr>
          <a:xfrm>
            <a:off x="6012000" y="3645000"/>
            <a:ext cx="2340000" cy="234000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Как учи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обнов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средст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обуч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3384720" y="3645000"/>
            <a:ext cx="2339640" cy="23400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Ради ч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учи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ценно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образ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Oval 5"/>
          <p:cNvSpPr/>
          <p:nvPr/>
        </p:nvSpPr>
        <p:spPr>
          <a:xfrm>
            <a:off x="755640" y="3716280"/>
            <a:ext cx="2340000" cy="234000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Чему учи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обнов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содерж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250920" y="260280"/>
            <a:ext cx="8712000" cy="576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008000"/>
            </a:solidFill>
            <a:miter/>
          </a:ln>
          <a:effectLst>
            <a:outerShdw dist="107932" dir="2700000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истемно-деятельностный подхо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7"/>
          <p:cNvSpPr/>
          <p:nvPr/>
        </p:nvSpPr>
        <p:spPr>
          <a:xfrm>
            <a:off x="0" y="5985000"/>
            <a:ext cx="9144000" cy="87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292929"/>
                </a:solidFill>
                <a:latin typeface="Arial"/>
              </a:rPr>
              <a:t>формирование универсальных способов действий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971640" y="3141720"/>
            <a:ext cx="7740720" cy="431640"/>
          </a:xfrm>
          <a:prstGeom prst="pie">
            <a:avLst/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Georgia"/>
              </a:rPr>
              <a:t>Вектор смещения акцентов нового стандар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1642680"/>
            <a:ext cx="80010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00"/>
                </a:solidFill>
                <a:latin typeface="Arial Black"/>
              </a:rPr>
              <a:t>В основе реализации стандарта –</a:t>
            </a:r>
            <a:r>
              <a:rPr b="1" lang="ru-RU" sz="3700" spc="-1" strike="noStrike">
                <a:solidFill>
                  <a:srgbClr val="ffff00"/>
                </a:solidFill>
                <a:latin typeface="Arial Black"/>
              </a:rPr>
              <a:t> </a:t>
            </a:r>
            <a:br>
              <a:rPr sz="3700"/>
            </a:br>
            <a:r>
              <a:rPr b="0" lang="ru-RU" sz="3700" spc="-1" strike="noStrike">
                <a:solidFill>
                  <a:srgbClr val="ffff00"/>
                </a:solidFill>
                <a:latin typeface="Arial Black"/>
              </a:rPr>
              <a:t>системно – деятельностный </a:t>
            </a:r>
            <a:br>
              <a:rPr sz="3700"/>
            </a:br>
            <a:r>
              <a:rPr b="0" lang="ru-RU" sz="3700" spc="-1" strike="noStrike">
                <a:solidFill>
                  <a:srgbClr val="ffff00"/>
                </a:solidFill>
                <a:latin typeface="Arial Black"/>
              </a:rPr>
              <a:t>подход</a:t>
            </a:r>
            <a:br>
              <a:rPr sz="3700"/>
            </a:br>
            <a:endParaRPr b="1" lang="en-US" sz="37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555640" y="3860280"/>
            <a:ext cx="6229080" cy="22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Главным деятелем на уро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должен быть РЕБЁН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1858884"/>
          <p:cNvPicPr/>
          <p:nvPr/>
        </p:nvPicPr>
        <p:blipFill>
          <a:blip r:embed="rId1"/>
          <a:stretch/>
        </p:blipFill>
        <p:spPr>
          <a:xfrm>
            <a:off x="324000" y="5013360"/>
            <a:ext cx="1738080" cy="131616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Номер слайда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18EB-F9BB-4EA8-B3F4-3BEED77E88B0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23"/>
          <p:cNvSpPr/>
          <p:nvPr/>
        </p:nvSpPr>
        <p:spPr>
          <a:xfrm>
            <a:off x="228600" y="357120"/>
            <a:ext cx="86407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2f4d"/>
                </a:solidFill>
                <a:latin typeface="Arial"/>
              </a:rPr>
              <a:t>Требования к структуре основно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2f4d"/>
                </a:solidFill>
                <a:latin typeface="Arial"/>
              </a:rPr>
              <a:t>образовательной програм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26"/>
          <p:cNvSpPr/>
          <p:nvPr/>
        </p:nvSpPr>
        <p:spPr>
          <a:xfrm>
            <a:off x="250920" y="1371600"/>
            <a:ext cx="8642160" cy="13366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2f4d"/>
                </a:solidFill>
                <a:latin typeface="Georgia"/>
              </a:rPr>
              <a:t>ТРЕБ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27"/>
          <p:cNvSpPr/>
          <p:nvPr/>
        </p:nvSpPr>
        <p:spPr>
          <a:xfrm rot="5400000">
            <a:off x="252000" y="2997360"/>
            <a:ext cx="719280" cy="576000"/>
          </a:xfrm>
          <a:custGeom>
            <a:avLst/>
            <a:gdLst>
              <a:gd name="textAreaLeft" fmla="*/ 112320 w 719280"/>
              <a:gd name="textAreaRight" fmla="*/ 629640 w 71928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73080" y="4005360"/>
            <a:ext cx="1114200" cy="1655640"/>
          </a:xfrm>
          <a:custGeom>
            <a:avLst/>
            <a:gdLst>
              <a:gd name="textAreaLeft" fmla="*/ 54360 w 1114200"/>
              <a:gd name="textAreaRight" fmla="*/ 1059840 w 1114200"/>
              <a:gd name="textAreaTop" fmla="*/ 54360 h 1655640"/>
              <a:gd name="textAreaBottom" fmla="*/ 1601280 h 1655640"/>
            </a:gdLst>
            <a:ahLst/>
            <a:rect l="textAreaLeft" t="textAreaTop" r="textAreaRight" b="textAreaBottom"/>
            <a:pathLst>
              <a:path w="21600" h="32093">
                <a:moveTo>
                  <a:pt x="3600" y="0"/>
                </a:moveTo>
                <a:arcTo wR="3600" hR="3600" stAng="16200000" swAng="-5400000"/>
                <a:lnTo>
                  <a:pt x="0" y="28493"/>
                </a:lnTo>
                <a:arcTo wR="3600" hR="3600" stAng="10800000" swAng="-5400000"/>
                <a:lnTo>
                  <a:pt x="18000" y="320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ланируем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результа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8"/>
          <p:cNvSpPr/>
          <p:nvPr/>
        </p:nvSpPr>
        <p:spPr>
          <a:xfrm>
            <a:off x="3492360" y="4005360"/>
            <a:ext cx="1079640" cy="165564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655640"/>
              <a:gd name="textAreaBottom" fmla="*/ 1603080 h 1655640"/>
            </a:gdLst>
            <a:ahLst/>
            <a:rect l="textAreaLeft" t="textAreaTop" r="textAreaRight" b="textAreaBottom"/>
            <a:pathLst>
              <a:path w="21600" h="33120">
                <a:moveTo>
                  <a:pt x="3600" y="0"/>
                </a:moveTo>
                <a:arcTo wR="3600" hR="3600" stAng="16200000" swAng="-5400000"/>
                <a:lnTo>
                  <a:pt x="0" y="29520"/>
                </a:lnTo>
                <a:arcTo wR="3600" hR="3600" stAng="10800000" swAng="-5400000"/>
                <a:lnTo>
                  <a:pt x="18000" y="331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рограм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здоровог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обра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жизн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1258920" y="4005360"/>
            <a:ext cx="936720" cy="1655640"/>
          </a:xfrm>
          <a:custGeom>
            <a:avLst/>
            <a:gdLst>
              <a:gd name="textAreaLeft" fmla="*/ 45720 w 936720"/>
              <a:gd name="textAreaRight" fmla="*/ 891000 w 936720"/>
              <a:gd name="textAreaTop" fmla="*/ 45720 h 1655640"/>
              <a:gd name="textAreaBottom" fmla="*/ 1609920 h 1655640"/>
            </a:gdLst>
            <a:ahLst/>
            <a:rect l="textAreaLeft" t="textAreaTop" r="textAreaRight" b="textAreaBottom"/>
            <a:pathLst>
              <a:path w="21600" h="38171">
                <a:moveTo>
                  <a:pt x="3600" y="0"/>
                </a:moveTo>
                <a:arcTo wR="3600" hR="3600" stAng="16200000" swAng="-5400000"/>
                <a:lnTo>
                  <a:pt x="0" y="34571"/>
                </a:lnTo>
                <a:arcTo wR="3600" hR="3600" stAng="10800000" swAng="-5400000"/>
                <a:lnTo>
                  <a:pt x="18000" y="381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Учеб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8"/>
          <p:cNvSpPr/>
          <p:nvPr/>
        </p:nvSpPr>
        <p:spPr>
          <a:xfrm>
            <a:off x="4716360" y="4005360"/>
            <a:ext cx="1116000" cy="1655640"/>
          </a:xfrm>
          <a:custGeom>
            <a:avLst/>
            <a:gdLst>
              <a:gd name="textAreaLeft" fmla="*/ 54360 w 1116000"/>
              <a:gd name="textAreaRight" fmla="*/ 1061640 w 1116000"/>
              <a:gd name="textAreaTop" fmla="*/ 54360 h 1655640"/>
              <a:gd name="textAreaBottom" fmla="*/ 1601280 h 1655640"/>
            </a:gdLst>
            <a:ahLst/>
            <a:rect l="textAreaLeft" t="textAreaTop" r="textAreaRight" b="textAreaBottom"/>
            <a:pathLst>
              <a:path w="21600" h="32041">
                <a:moveTo>
                  <a:pt x="3600" y="0"/>
                </a:moveTo>
                <a:arcTo wR="3600" hR="3600" stAng="16200000" swAng="-5400000"/>
                <a:lnTo>
                  <a:pt x="0" y="28441"/>
                </a:lnTo>
                <a:arcTo wR="3600" hR="3600" stAng="10800000" swAng="-5400000"/>
                <a:lnTo>
                  <a:pt x="18000" y="320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рограм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Развит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УУ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2268360" y="4005360"/>
            <a:ext cx="1079640" cy="165564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655640"/>
              <a:gd name="textAreaBottom" fmla="*/ 1603080 h 1655640"/>
            </a:gdLst>
            <a:ahLst/>
            <a:rect l="textAreaLeft" t="textAreaTop" r="textAreaRight" b="textAreaBottom"/>
            <a:pathLst>
              <a:path w="21600" h="33120">
                <a:moveTo>
                  <a:pt x="3600" y="0"/>
                </a:moveTo>
                <a:arcTo wR="3600" hR="3600" stAng="16200000" swAng="-5400000"/>
                <a:lnTo>
                  <a:pt x="0" y="29520"/>
                </a:lnTo>
                <a:arcTo wR="3600" hR="3600" stAng="10800000" swAng="-5400000"/>
                <a:lnTo>
                  <a:pt x="18000" y="331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рограм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духовно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нравственног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воспит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8"/>
          <p:cNvSpPr/>
          <p:nvPr/>
        </p:nvSpPr>
        <p:spPr>
          <a:xfrm>
            <a:off x="5940360" y="4005360"/>
            <a:ext cx="863640" cy="165564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655640"/>
              <a:gd name="textAreaBottom" fmla="*/ 1613520 h 1655640"/>
            </a:gdLst>
            <a:ahLst/>
            <a:rect l="textAreaLeft" t="textAreaTop" r="textAreaRight" b="textAreaBottom"/>
            <a:pathLst>
              <a:path w="21600" h="41400">
                <a:moveTo>
                  <a:pt x="3600" y="0"/>
                </a:moveTo>
                <a:arcTo wR="3600" hR="3600" stAng="16200000" swAng="-5400000"/>
                <a:lnTo>
                  <a:pt x="0" y="37800"/>
                </a:lnTo>
                <a:arcTo wR="3600" hR="3600" stAng="10800000" swAng="-5400000"/>
                <a:lnTo>
                  <a:pt x="18000" y="41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рограмм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редмета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8"/>
          <p:cNvSpPr/>
          <p:nvPr/>
        </p:nvSpPr>
        <p:spPr>
          <a:xfrm>
            <a:off x="6948360" y="4005360"/>
            <a:ext cx="1079640" cy="165564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655640"/>
              <a:gd name="textAreaBottom" fmla="*/ 1603080 h 1655640"/>
            </a:gdLst>
            <a:ahLst/>
            <a:rect l="textAreaLeft" t="textAreaTop" r="textAreaRight" b="textAreaBottom"/>
            <a:pathLst>
              <a:path w="21600" h="33120">
                <a:moveTo>
                  <a:pt x="3600" y="0"/>
                </a:moveTo>
                <a:arcTo wR="3600" hR="3600" stAng="16200000" swAng="-5400000"/>
                <a:lnTo>
                  <a:pt x="0" y="29520"/>
                </a:lnTo>
                <a:arcTo wR="3600" hR="3600" stAng="10800000" swAng="-5400000"/>
                <a:lnTo>
                  <a:pt x="18000" y="331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рограмм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коррекционн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рабо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27"/>
          <p:cNvSpPr/>
          <p:nvPr/>
        </p:nvSpPr>
        <p:spPr>
          <a:xfrm rot="5400000">
            <a:off x="1404720" y="2995560"/>
            <a:ext cx="718920" cy="576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AutoShape 27"/>
          <p:cNvSpPr/>
          <p:nvPr/>
        </p:nvSpPr>
        <p:spPr>
          <a:xfrm rot="5400000">
            <a:off x="2339640" y="2995560"/>
            <a:ext cx="718920" cy="576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27"/>
          <p:cNvSpPr/>
          <p:nvPr/>
        </p:nvSpPr>
        <p:spPr>
          <a:xfrm rot="5400000">
            <a:off x="3348000" y="2995560"/>
            <a:ext cx="718920" cy="57600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27"/>
          <p:cNvSpPr/>
          <p:nvPr/>
        </p:nvSpPr>
        <p:spPr>
          <a:xfrm rot="5400000">
            <a:off x="4571640" y="2995560"/>
            <a:ext cx="718920" cy="576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27"/>
          <p:cNvSpPr/>
          <p:nvPr/>
        </p:nvSpPr>
        <p:spPr>
          <a:xfrm rot="5400000">
            <a:off x="5795640" y="2995560"/>
            <a:ext cx="718920" cy="576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27"/>
          <p:cNvSpPr/>
          <p:nvPr/>
        </p:nvSpPr>
        <p:spPr>
          <a:xfrm rot="5400000">
            <a:off x="7021440" y="2995560"/>
            <a:ext cx="718920" cy="57600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27"/>
          <p:cNvSpPr/>
          <p:nvPr/>
        </p:nvSpPr>
        <p:spPr>
          <a:xfrm rot="5400000">
            <a:off x="8100720" y="2995560"/>
            <a:ext cx="718920" cy="576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8"/>
          <p:cNvSpPr/>
          <p:nvPr/>
        </p:nvSpPr>
        <p:spPr>
          <a:xfrm>
            <a:off x="8172360" y="4005360"/>
            <a:ext cx="863640" cy="165564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655640"/>
              <a:gd name="textAreaBottom" fmla="*/ 1613520 h 1655640"/>
            </a:gdLst>
            <a:ahLst/>
            <a:rect l="textAreaLeft" t="textAreaTop" r="textAreaRight" b="textAreaBottom"/>
            <a:pathLst>
              <a:path w="21600" h="41400">
                <a:moveTo>
                  <a:pt x="3600" y="0"/>
                </a:moveTo>
                <a:arcTo wR="3600" hR="3600" stAng="16200000" swAng="-5400000"/>
                <a:lnTo>
                  <a:pt x="0" y="37800"/>
                </a:lnTo>
                <a:arcTo wR="3600" hR="3600" stAng="10800000" swAng="-5400000"/>
                <a:lnTo>
                  <a:pt x="18000" y="41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Систе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оцен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838512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5000" spc="-1" strike="noStrike">
                <a:solidFill>
                  <a:srgbClr val="99cc0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99cc00"/>
                </a:solidFill>
                <a:latin typeface="Arial Black"/>
              </a:rPr>
              <a:t>Требования к структуре </a:t>
            </a:r>
            <a:br>
              <a:rPr sz="3600"/>
            </a:br>
            <a:r>
              <a:rPr b="0" lang="ru-RU" sz="3600" spc="-1" strike="noStrike">
                <a:solidFill>
                  <a:srgbClr val="99cc00"/>
                </a:solidFill>
                <a:latin typeface="Arial Black"/>
              </a:rPr>
              <a:t>основной образовательной</a:t>
            </a:r>
            <a:r>
              <a:rPr b="0" lang="ru-RU" sz="36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99cc00"/>
                </a:solidFill>
                <a:latin typeface="Arial Black"/>
              </a:rPr>
              <a:t>программы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00040" y="2565000"/>
            <a:ext cx="8229600" cy="38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Зафиксированы требования к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количеству и наименованию разделов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(всего-9), в том числе к учебному плану общеобразовательного учрежд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минимальному и максимальному количеству учебных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часов за 4 года (2 904 - 3 210 часов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содержанию каждого из разделов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соотношению частей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основной общеобразовательной  программы (80/20% для первой ступени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организации внеурочной деятель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81583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0" lang="ru-RU" sz="4200" spc="-1" strike="noStrike">
                <a:solidFill>
                  <a:srgbClr val="99cc00"/>
                </a:solidFill>
                <a:latin typeface="Arial Black"/>
              </a:rPr>
              <a:t> </a:t>
            </a:r>
            <a:r>
              <a:rPr b="0" lang="ru-RU" sz="4200" spc="-1" strike="noStrike">
                <a:solidFill>
                  <a:srgbClr val="99cc00"/>
                </a:solidFill>
                <a:latin typeface="Arial Black"/>
              </a:rPr>
              <a:t>Требования к структуре</a:t>
            </a:r>
            <a:endParaRPr b="1" lang="en-US" sz="4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57120" y="1557000"/>
            <a:ext cx="87868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0360" indent="-1890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основная образовательная программа –целостный докуме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ояснительная запис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ланируемые результаты освоения основной образовательной  програм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учебный пла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ограмма формирования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УУ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ограммы  учебных предме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ограмма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духовно-нравственного развития, воспит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ограмма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формирования культуры  здорового и безопасного образа жиз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ограмма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коррекционной работы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система оценки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достижения планируемых результа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1890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неурочная деятельность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время, отводимое на внеурочную деятельность, составля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до 1350 часов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(учебные занятия: не менее 2904 ч. и не более 3210 ч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53352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10480" cy="1106640"/>
          </a:xfrm>
          <a:prstGeom prst="rect">
            <a:avLst/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 Black"/>
              </a:rPr>
              <a:t>Основные трудности педагогических работников   </a:t>
            </a:r>
            <a:br>
              <a:rPr sz="2400"/>
            </a:br>
            <a:r>
              <a:rPr b="1" lang="ru-RU" sz="2400" spc="-1" strike="noStrike">
                <a:solidFill>
                  <a:srgbClr val="cc0066"/>
                </a:solidFill>
                <a:latin typeface="Arial Black"/>
              </a:rPr>
              <a:t> на этапе введения ФГОС 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9" name="AutoShape 4"/>
          <p:cNvSpPr/>
          <p:nvPr/>
        </p:nvSpPr>
        <p:spPr>
          <a:xfrm>
            <a:off x="358920" y="1143000"/>
            <a:ext cx="8785080" cy="53578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c5ec9e"/>
              </a:gs>
              <a:gs pos="100000">
                <a:srgbClr val="ecf8e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упрощенное понимание сущности и технологии реализац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истемно - деятельностного подход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ложившаяся за предыдущие  годы устойчив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етодика проведения урока;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тсутствие готовности руководителей ОУ и педагогических работни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 планированию и  организации образовательного процесса 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ачальной школе в соответствии с требованиями ФГОС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традиционный подход руководителей ОУ к анализу урока и стремл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идерживаться старых подходов к оценке деятельности учител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инципиальная новизна вопросов инструментально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етодического обеспечения достижения и оценки планируемы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результатов (личностных, метапредметных и предметных);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тсутствие опыта  разработки разделов ООП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тсутствие методических рекомендаций авторов УМ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2:41:38Z</dcterms:created>
  <dc:creator>1</dc:creator>
  <dc:description/>
  <dc:language>en-US</dc:language>
  <cp:lastModifiedBy>LEGION</cp:lastModifiedBy>
  <dcterms:modified xsi:type="dcterms:W3CDTF">2015-01-27T13:42:25Z</dcterms:modified>
  <cp:revision>12</cp:revision>
  <dc:subject/>
  <dc:title>Слайд 1</dc:title>
</cp:coreProperties>
</file>