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D5E4-C59A-4EA0-B04B-B389FD8FF44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а. Правовая норма. Источник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24AA-9CAF-40D9-8E09-A80DE54FC2E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пределение понятия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ся с основными правовыми норм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источники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0902-F7BD-45C5-9D9E-8332B12D95B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Право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универсальный регулятор обществен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1f497d"/>
                </a:solidFill>
                <a:uFillTx/>
                <a:latin typeface="Calibri"/>
              </a:rPr>
              <a:t>Правовая нор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бщее правило поведения, установленное государством, регулирующим посредством его 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ипотеза, диспозиция, санкц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27D7-1B01-411C-9670-D9D2DA6FFC6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испол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антированность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кратность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F864-5E28-4CD4-A64F-0FCBE3BD837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сточники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ормативные акты,   прецеденты, правовые обычаи и правовые договор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5B3B-A165-4450-85E9-AACC6583737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ового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овенство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е вла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антии соблюдения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правовая культура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1AF1-425C-4671-9651-D71CF9C00B4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22D6-F2AC-43CA-82A3-C3E401E0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71B5-049F-492A-896E-B685161F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AC6F-84F1-4BA4-929D-B5A17519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7A74-5D12-40E9-96B7-04F230D8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2D0B-A45E-4B42-9FAE-9EE523C4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18CA-128E-4E24-A5E7-48956E47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CB6E-8C39-475F-A9CC-F71A61CC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25EC-22D8-48DE-BAF2-E273EE1D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89AA-1BB9-434F-BB6F-D0CBF7C5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D530-CFA6-458B-AE40-ECD64E16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596C-6F59-4E84-AB5B-97C1C07A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60CD-95A2-4F4B-9282-D31420C6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6046-5812-4D73-ACC8-BEF93C1F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242A-D74F-441D-9CD9-CD754267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6365-4811-4672-8FBA-DDDB34BD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0DCF-2201-4E2F-BE8F-5124F3AB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968D-4737-4EC9-852F-CEAE6414A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B55B-B677-4101-9638-E683C725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F364-BC11-4001-90AD-8A7E89F0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BDC5-F544-4FFB-9C01-1ED53F05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261F-64BC-45A3-BE75-C7B8EBFE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11C5-B1D5-42EF-945B-6F7EB2F2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4521-C555-409A-AF64-4A318D51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3DF8-B026-4910-AA3C-C65BF67E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93FF-94C1-481B-87A4-B5ADD6ACEF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746F-FD79-45D6-8964-8EC388E8C7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Понятие права. Правовая норма. Источники права.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Цель урока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ать определение понятия прав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знакомиться с основными правовыми нормам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ить источники прав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 u="sng">
                <a:solidFill>
                  <a:srgbClr val="0000cc"/>
                </a:solidFill>
                <a:uFillTx/>
                <a:latin typeface="Verdana"/>
              </a:rPr>
              <a:t>Право</a:t>
            </a:r>
            <a:r>
              <a:rPr b="0" lang="ru-RU" sz="28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– универсальный регулятор общественных отноше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cc"/>
                </a:solidFill>
                <a:uFillTx/>
                <a:latin typeface="Verdana"/>
              </a:rPr>
              <a:t>Правовая норм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это общее правило поведения, установленное государством, регулирующим посредством его общественные отно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гипотеза, диспозиция, санкция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-147960"/>
            <a:ext cx="731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07" name="Organization Chart 6"/>
          <p:cNvGrpSpPr/>
          <p:nvPr/>
        </p:nvGrpSpPr>
        <p:grpSpPr>
          <a:xfrm>
            <a:off x="431640" y="907920"/>
            <a:ext cx="8208360" cy="5140080"/>
            <a:chOff x="431640" y="907920"/>
            <a:chExt cx="8208360" cy="5140080"/>
          </a:xfrm>
        </p:grpSpPr>
        <p:cxnSp>
          <p:nvCxnSpPr>
            <p:cNvPr id="108" name="_s1028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5457960" y="2040480"/>
              <a:ext cx="1028520" cy="2873520"/>
            </a:xfrm>
            <a:prstGeom prst="bentConnector3">
              <a:avLst>
                <a:gd name="adj1" fmla="val 127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0" idx="2"/>
            </p:cNvCxnSpPr>
            <p:nvPr/>
          </p:nvCxnSpPr>
          <p:spPr>
            <a:xfrm flipV="1">
              <a:off x="4536000" y="2963160"/>
              <a:ext cx="3600" cy="102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030"/>
            <p:cNvCxnSpPr>
              <a:stCxn id="114" idx="0"/>
              <a:endCxn id="110" idx="2"/>
            </p:cNvCxnSpPr>
            <p:nvPr/>
          </p:nvCxnSpPr>
          <p:spPr>
            <a:xfrm flipH="1" flipV="1" rot="5400000">
              <a:off x="2585160" y="2040840"/>
              <a:ext cx="1028520" cy="2873520"/>
            </a:xfrm>
            <a:prstGeom prst="bentConnector3">
              <a:avLst>
                <a:gd name="adj1" fmla="val 127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0" name="_s1031"/>
            <p:cNvSpPr/>
            <p:nvPr/>
          </p:nvSpPr>
          <p:spPr>
            <a:xfrm>
              <a:off x="3304440" y="907920"/>
              <a:ext cx="2462400" cy="2055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иды норм права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_s1032"/>
            <p:cNvSpPr/>
            <p:nvPr/>
          </p:nvSpPr>
          <p:spPr>
            <a:xfrm>
              <a:off x="431640" y="3992040"/>
              <a:ext cx="2462400" cy="2055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Управомачивающие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_s1033"/>
            <p:cNvSpPr/>
            <p:nvPr/>
          </p:nvSpPr>
          <p:spPr>
            <a:xfrm>
              <a:off x="3304440" y="3992040"/>
              <a:ext cx="2462400" cy="2055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бязывающие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_s1034"/>
            <p:cNvSpPr/>
            <p:nvPr/>
          </p:nvSpPr>
          <p:spPr>
            <a:xfrm>
              <a:off x="6177600" y="3992040"/>
              <a:ext cx="2462400" cy="20559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Запрещающие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17" name="Diagram 7"/>
          <p:cNvGrpSpPr/>
          <p:nvPr/>
        </p:nvGrpSpPr>
        <p:grpSpPr>
          <a:xfrm>
            <a:off x="1319400" y="410760"/>
            <a:ext cx="6432480" cy="5611680"/>
            <a:chOff x="1319400" y="410760"/>
            <a:chExt cx="6432480" cy="5611680"/>
          </a:xfrm>
        </p:grpSpPr>
        <p:sp>
          <p:nvSpPr>
            <p:cNvPr id="118" name="_s2052"/>
            <p:cNvSpPr/>
            <p:nvPr/>
          </p:nvSpPr>
          <p:spPr>
            <a:xfrm flipH="1" flipV="1">
              <a:off x="3382560" y="2073240"/>
              <a:ext cx="682200" cy="71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_s2053"/>
            <p:cNvSpPr/>
            <p:nvPr/>
          </p:nvSpPr>
          <p:spPr>
            <a:xfrm>
              <a:off x="2181960" y="92916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голов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цессуаль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_s2054"/>
            <p:cNvSpPr/>
            <p:nvPr/>
          </p:nvSpPr>
          <p:spPr>
            <a:xfrm flipH="1" flipV="1">
              <a:off x="2770920" y="3009240"/>
              <a:ext cx="1042920" cy="16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_s2055"/>
            <p:cNvSpPr/>
            <p:nvPr/>
          </p:nvSpPr>
          <p:spPr>
            <a:xfrm>
              <a:off x="1319400" y="224784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ражданск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цессуаль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_s2056"/>
            <p:cNvSpPr/>
            <p:nvPr/>
          </p:nvSpPr>
          <p:spPr>
            <a:xfrm flipH="1">
              <a:off x="2985840" y="3604680"/>
              <a:ext cx="915840" cy="46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_s2057"/>
            <p:cNvSpPr/>
            <p:nvPr/>
          </p:nvSpPr>
          <p:spPr>
            <a:xfrm>
              <a:off x="1619280" y="3746520"/>
              <a:ext cx="1469160" cy="1297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международ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_s2058"/>
            <p:cNvSpPr/>
            <p:nvPr/>
          </p:nvSpPr>
          <p:spPr>
            <a:xfrm flipH="1">
              <a:off x="3924000" y="3889080"/>
              <a:ext cx="360720" cy="87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_s2059"/>
            <p:cNvSpPr/>
            <p:nvPr/>
          </p:nvSpPr>
          <p:spPr>
            <a:xfrm>
              <a:off x="2939760" y="472572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голов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_s2060"/>
            <p:cNvSpPr/>
            <p:nvPr/>
          </p:nvSpPr>
          <p:spPr>
            <a:xfrm>
              <a:off x="4784400" y="3889080"/>
              <a:ext cx="362880" cy="87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_s2061"/>
            <p:cNvSpPr/>
            <p:nvPr/>
          </p:nvSpPr>
          <p:spPr>
            <a:xfrm>
              <a:off x="4662360" y="472572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инансов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_s2062"/>
            <p:cNvSpPr/>
            <p:nvPr/>
          </p:nvSpPr>
          <p:spPr>
            <a:xfrm>
              <a:off x="5166720" y="3604680"/>
              <a:ext cx="915840" cy="46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_s2063"/>
            <p:cNvSpPr/>
            <p:nvPr/>
          </p:nvSpPr>
          <p:spPr>
            <a:xfrm>
              <a:off x="5982840" y="3746520"/>
              <a:ext cx="1469160" cy="12974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административ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_s2064"/>
            <p:cNvSpPr/>
            <p:nvPr/>
          </p:nvSpPr>
          <p:spPr>
            <a:xfrm flipV="1">
              <a:off x="5254560" y="3006720"/>
              <a:ext cx="1037520" cy="16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_s2065"/>
            <p:cNvSpPr/>
            <p:nvPr/>
          </p:nvSpPr>
          <p:spPr>
            <a:xfrm>
              <a:off x="6282720" y="224784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емейн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_s2066"/>
            <p:cNvSpPr/>
            <p:nvPr/>
          </p:nvSpPr>
          <p:spPr>
            <a:xfrm flipV="1">
              <a:off x="5003640" y="2073240"/>
              <a:ext cx="677160" cy="71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_s2067"/>
            <p:cNvSpPr/>
            <p:nvPr/>
          </p:nvSpPr>
          <p:spPr>
            <a:xfrm>
              <a:off x="5420160" y="93132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рудов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_s2068"/>
            <p:cNvSpPr/>
            <p:nvPr/>
          </p:nvSpPr>
          <p:spPr>
            <a:xfrm flipV="1">
              <a:off x="4533480" y="1705680"/>
              <a:ext cx="0" cy="93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_s2069"/>
            <p:cNvSpPr/>
            <p:nvPr/>
          </p:nvSpPr>
          <p:spPr>
            <a:xfrm>
              <a:off x="3799800" y="41076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ражданско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_s2070"/>
            <p:cNvSpPr/>
            <p:nvPr/>
          </p:nvSpPr>
          <p:spPr>
            <a:xfrm>
              <a:off x="3799800" y="2637000"/>
              <a:ext cx="1469160" cy="12967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трасль права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Признаки права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32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ормативный характер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язательность исполн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арантированность государство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ногократность примен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9152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i="1" lang="ru-RU" sz="2400" spc="-1" strike="noStrike" u="sng">
                <a:solidFill>
                  <a:srgbClr val="0000cc"/>
                </a:solidFill>
                <a:uFillTx/>
                <a:latin typeface="Arial"/>
              </a:rPr>
              <a:t>Источники права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– нормативные акты,   прецеденты, правовые обычаи и правовые договоры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42" name="Organization Chart 6"/>
          <p:cNvGrpSpPr/>
          <p:nvPr/>
        </p:nvGrpSpPr>
        <p:grpSpPr>
          <a:xfrm>
            <a:off x="431640" y="1700280"/>
            <a:ext cx="8208360" cy="4349160"/>
            <a:chOff x="431640" y="1700280"/>
            <a:chExt cx="8208360" cy="4349160"/>
          </a:xfrm>
        </p:grpSpPr>
        <p:cxnSp>
          <p:nvCxnSpPr>
            <p:cNvPr id="143" name="_s3076"/>
            <p:cNvCxnSpPr>
              <a:stCxn id="144" idx="1"/>
              <a:endCxn id="145" idx="2"/>
            </p:cNvCxnSpPr>
            <p:nvPr/>
          </p:nvCxnSpPr>
          <p:spPr>
            <a:xfrm rot="10800000">
              <a:off x="1879200" y="2211120"/>
              <a:ext cx="2173680" cy="358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3077"/>
            <p:cNvCxnSpPr>
              <a:stCxn id="147" idx="0"/>
              <a:endCxn id="148" idx="2"/>
            </p:cNvCxnSpPr>
            <p:nvPr/>
          </p:nvCxnSpPr>
          <p:spPr>
            <a:xfrm flipV="1" rot="16200000">
              <a:off x="6218280" y="3797280"/>
              <a:ext cx="255960" cy="1690200"/>
            </a:xfrm>
            <a:prstGeom prst="bentConnector3">
              <a:avLst>
                <a:gd name="adj1" fmla="val 477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3078"/>
            <p:cNvCxnSpPr>
              <a:stCxn id="150" idx="0"/>
              <a:endCxn id="148" idx="2"/>
            </p:cNvCxnSpPr>
            <p:nvPr/>
          </p:nvCxnSpPr>
          <p:spPr>
            <a:xfrm flipH="1" flipV="1" rot="5400000">
              <a:off x="4528800" y="3796920"/>
              <a:ext cx="255960" cy="1690920"/>
            </a:xfrm>
            <a:prstGeom prst="bentConnector3">
              <a:avLst>
                <a:gd name="adj1" fmla="val 477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1" name="_s3079"/>
            <p:cNvCxnSpPr>
              <a:stCxn id="148" idx="1"/>
              <a:endCxn id="145" idx="2"/>
            </p:cNvCxnSpPr>
            <p:nvPr/>
          </p:nvCxnSpPr>
          <p:spPr>
            <a:xfrm rot="10800000">
              <a:off x="1879200" y="2211120"/>
              <a:ext cx="2173680" cy="204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3080"/>
            <p:cNvCxnSpPr>
              <a:stCxn id="153" idx="1"/>
              <a:endCxn id="145" idx="2"/>
            </p:cNvCxnSpPr>
            <p:nvPr/>
          </p:nvCxnSpPr>
          <p:spPr>
            <a:xfrm rot="10800000">
              <a:off x="1879200" y="2211120"/>
              <a:ext cx="2173680" cy="1281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4" name="_s3081"/>
            <p:cNvCxnSpPr>
              <a:stCxn id="155" idx="1"/>
              <a:endCxn id="145" idx="2"/>
            </p:cNvCxnSpPr>
            <p:nvPr/>
          </p:nvCxnSpPr>
          <p:spPr>
            <a:xfrm rot="10800000">
              <a:off x="1879200" y="2211120"/>
              <a:ext cx="2173680" cy="511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5" name="_s3082"/>
            <p:cNvSpPr/>
            <p:nvPr/>
          </p:nvSpPr>
          <p:spPr>
            <a:xfrm>
              <a:off x="431640" y="170028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точники пра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_s3083"/>
            <p:cNvSpPr/>
            <p:nvPr/>
          </p:nvSpPr>
          <p:spPr>
            <a:xfrm>
              <a:off x="4053240" y="246780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ыча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_s3084"/>
            <p:cNvSpPr/>
            <p:nvPr/>
          </p:nvSpPr>
          <p:spPr>
            <a:xfrm>
              <a:off x="4053240" y="323532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говор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_s3085"/>
            <p:cNvSpPr/>
            <p:nvPr/>
          </p:nvSpPr>
          <p:spPr>
            <a:xfrm>
              <a:off x="4053240" y="400284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ормативные ак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_s3086"/>
            <p:cNvSpPr/>
            <p:nvPr/>
          </p:nvSpPr>
          <p:spPr>
            <a:xfrm>
              <a:off x="2363040" y="477036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акон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_s3087"/>
            <p:cNvSpPr/>
            <p:nvPr/>
          </p:nvSpPr>
          <p:spPr>
            <a:xfrm>
              <a:off x="5743080" y="477036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одзаконные ак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_s3088"/>
            <p:cNvSpPr/>
            <p:nvPr/>
          </p:nvSpPr>
          <p:spPr>
            <a:xfrm>
              <a:off x="4053240" y="5537880"/>
              <a:ext cx="2896920" cy="5115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Юридические прецеден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99640" y="301680"/>
            <a:ext cx="778356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Признаки правового государства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699920"/>
            <a:ext cx="7313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ерховенство закон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азделение власт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арантии соблюдения прав человек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ысокая правовая культура населе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4:58:21Z</dcterms:created>
  <dc:creator>МАКС</dc:creator>
  <dc:description/>
  <dc:language>en-US</dc:language>
  <cp:lastModifiedBy>LEGION</cp:lastModifiedBy>
  <dcterms:modified xsi:type="dcterms:W3CDTF">2015-01-28T08:17:42Z</dcterms:modified>
  <cp:revision>5</cp:revision>
  <dc:subject/>
  <dc:title>Понятие права. Правовая норма. Источники права.</dc:title>
</cp:coreProperties>
</file>