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A04A-41A4-49AE-A1EC-5B93ACC564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 Правовая норма. Источник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311D-5E7F-4C6B-8ED3-AD594E1AF23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 понятия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основными правовыми норм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источники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A044-044C-4262-9441-A4DD0C47D23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раво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универсальный регулятор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равовая нор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щее правило поведения, установленное государством, регулирующим посредством его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ипотеза, диспозиция, санк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5B27-E00D-465A-A86E-49D70255941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испол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рованность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C16E-3402-410C-802A-620D5D90700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ормативные акты,   прецеденты, правовые обычаи и правовые договор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9C5A-C654-47D0-A073-3F54FC3AF5E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ового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овенств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вл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и соблюден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правовая культура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E5C0-D6E2-4D13-8E3C-8E33F8E8524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7F1-D2DA-415F-9B6E-86CDDB1C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C32-2E97-4F9B-8583-590BAA95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12E-8807-48C2-8D98-78E61E75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FEEC-A8B7-4E17-BDB2-1E214EE5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339F-055C-4B19-833D-D1116F57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643E-F81C-4FB7-8356-6FEACD83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CC79-0B22-465D-A106-567FBB3F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B040-96D4-4834-9BA6-649E84F3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D356-7D67-412D-BE01-16A5BB4B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BE69-DFA5-42A0-8F95-62E25714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CC23-7A29-4B0E-A975-CF2F3CB6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B43-61DE-4653-8C93-453FDDF2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C46F-0E67-4D61-A8CF-846345F6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4AC6-FCF7-4B29-A33A-977FF99E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C135-5790-4969-92F2-47958965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F7AC-44BC-43A6-97C1-348CD0F3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8360-0DAE-4CD5-AEEE-D59D46A3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BA1-CF4B-4AE0-8844-F388BEEF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8E54-74A0-4DC9-AF5B-FF82ED46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AD99-4FF3-4E61-887D-CD39147B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DA9-A888-4701-99A8-ADBE3F22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C56-4EB9-4716-ACE5-40BCB2C9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AA9A-82AE-4854-B8C8-2C9E1A9D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B561-B553-4730-A8DC-73ED3BEB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2B60-A332-489E-95D9-0385606B6A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4E7F-7201-4967-A4CB-5A21165619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Понятие права. Правовая норма. Источники права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ать определение понятия прав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знакомиться с основными правовыми нормам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ить источники прав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 u="sng">
                <a:solidFill>
                  <a:srgbClr val="0000cc"/>
                </a:solidFill>
                <a:uFillTx/>
                <a:latin typeface="Verdana"/>
              </a:rPr>
              <a:t>Право</a:t>
            </a: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 универсальный регулятор общественных отнош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cc"/>
                </a:solidFill>
                <a:uFillTx/>
                <a:latin typeface="Verdana"/>
              </a:rPr>
              <a:t>Правовая норм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это общее правило поведения, установленное государством, регулирующим посредством его общественные отно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гипотеза, диспозиция, санкция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-14796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07" name="Organization Chart 6"/>
          <p:cNvGrpSpPr/>
          <p:nvPr/>
        </p:nvGrpSpPr>
        <p:grpSpPr>
          <a:xfrm>
            <a:off x="431640" y="907920"/>
            <a:ext cx="8208360" cy="5140080"/>
            <a:chOff x="431640" y="907920"/>
            <a:chExt cx="8208360" cy="514008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457960" y="2040480"/>
              <a:ext cx="1028520" cy="2873520"/>
            </a:xfrm>
            <a:prstGeom prst="bentConnector3">
              <a:avLst>
                <a:gd name="adj1" fmla="val 127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>
              <a:off x="4536000" y="2963160"/>
              <a:ext cx="3600" cy="102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585160" y="2040840"/>
              <a:ext cx="1028520" cy="2873520"/>
            </a:xfrm>
            <a:prstGeom prst="bentConnector3">
              <a:avLst>
                <a:gd name="adj1" fmla="val 127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031"/>
            <p:cNvSpPr/>
            <p:nvPr/>
          </p:nvSpPr>
          <p:spPr>
            <a:xfrm>
              <a:off x="3304440" y="90792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иды норм права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43164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Управомачив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30444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языв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617760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Запрещ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7" name="Diagram 7"/>
          <p:cNvGrpSpPr/>
          <p:nvPr/>
        </p:nvGrpSpPr>
        <p:grpSpPr>
          <a:xfrm>
            <a:off x="1319400" y="410760"/>
            <a:ext cx="6432480" cy="5611680"/>
            <a:chOff x="1319400" y="410760"/>
            <a:chExt cx="6432480" cy="5611680"/>
          </a:xfrm>
        </p:grpSpPr>
        <p:sp>
          <p:nvSpPr>
            <p:cNvPr id="118" name="_s2052"/>
            <p:cNvSpPr/>
            <p:nvPr/>
          </p:nvSpPr>
          <p:spPr>
            <a:xfrm flipH="1" flipV="1">
              <a:off x="3382560" y="2073240"/>
              <a:ext cx="682200" cy="71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_s2053"/>
            <p:cNvSpPr/>
            <p:nvPr/>
          </p:nvSpPr>
          <p:spPr>
            <a:xfrm>
              <a:off x="2181960" y="92916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о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цессуаль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_s2054"/>
            <p:cNvSpPr/>
            <p:nvPr/>
          </p:nvSpPr>
          <p:spPr>
            <a:xfrm flipH="1" flipV="1">
              <a:off x="2770920" y="3009240"/>
              <a:ext cx="1042920" cy="16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_s2055"/>
            <p:cNvSpPr/>
            <p:nvPr/>
          </p:nvSpPr>
          <p:spPr>
            <a:xfrm>
              <a:off x="1319400" y="224784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ражданск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цессуаль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_s2056"/>
            <p:cNvSpPr/>
            <p:nvPr/>
          </p:nvSpPr>
          <p:spPr>
            <a:xfrm flipH="1">
              <a:off x="2985840" y="3604680"/>
              <a:ext cx="915840" cy="46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_s2057"/>
            <p:cNvSpPr/>
            <p:nvPr/>
          </p:nvSpPr>
          <p:spPr>
            <a:xfrm>
              <a:off x="1619280" y="3746520"/>
              <a:ext cx="1469160" cy="1297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еждународ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_s2058"/>
            <p:cNvSpPr/>
            <p:nvPr/>
          </p:nvSpPr>
          <p:spPr>
            <a:xfrm flipH="1">
              <a:off x="3924000" y="3889080"/>
              <a:ext cx="360720" cy="87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_s2059"/>
            <p:cNvSpPr/>
            <p:nvPr/>
          </p:nvSpPr>
          <p:spPr>
            <a:xfrm>
              <a:off x="2939760" y="47257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о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_s2060"/>
            <p:cNvSpPr/>
            <p:nvPr/>
          </p:nvSpPr>
          <p:spPr>
            <a:xfrm>
              <a:off x="4784400" y="3889080"/>
              <a:ext cx="362880" cy="87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_s2061"/>
            <p:cNvSpPr/>
            <p:nvPr/>
          </p:nvSpPr>
          <p:spPr>
            <a:xfrm>
              <a:off x="4662360" y="47257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_s2062"/>
            <p:cNvSpPr/>
            <p:nvPr/>
          </p:nvSpPr>
          <p:spPr>
            <a:xfrm>
              <a:off x="5166720" y="3604680"/>
              <a:ext cx="915840" cy="46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_s2063"/>
            <p:cNvSpPr/>
            <p:nvPr/>
          </p:nvSpPr>
          <p:spPr>
            <a:xfrm>
              <a:off x="5982840" y="3746520"/>
              <a:ext cx="1469160" cy="1297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администрати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_s2064"/>
            <p:cNvSpPr/>
            <p:nvPr/>
          </p:nvSpPr>
          <p:spPr>
            <a:xfrm flipV="1">
              <a:off x="5254560" y="3006720"/>
              <a:ext cx="1037520" cy="16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_s2065"/>
            <p:cNvSpPr/>
            <p:nvPr/>
          </p:nvSpPr>
          <p:spPr>
            <a:xfrm>
              <a:off x="6282720" y="224784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емей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_s2066"/>
            <p:cNvSpPr/>
            <p:nvPr/>
          </p:nvSpPr>
          <p:spPr>
            <a:xfrm flipV="1">
              <a:off x="5003640" y="2073240"/>
              <a:ext cx="677160" cy="71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_s2067"/>
            <p:cNvSpPr/>
            <p:nvPr/>
          </p:nvSpPr>
          <p:spPr>
            <a:xfrm>
              <a:off x="5420160" y="9313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рудов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2068"/>
            <p:cNvSpPr/>
            <p:nvPr/>
          </p:nvSpPr>
          <p:spPr>
            <a:xfrm flipV="1">
              <a:off x="4533480" y="1705680"/>
              <a:ext cx="0" cy="93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_s2069"/>
            <p:cNvSpPr/>
            <p:nvPr/>
          </p:nvSpPr>
          <p:spPr>
            <a:xfrm>
              <a:off x="3799800" y="41076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ражданск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_s2070"/>
            <p:cNvSpPr/>
            <p:nvPr/>
          </p:nvSpPr>
          <p:spPr>
            <a:xfrm>
              <a:off x="3799800" y="263700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трасль прав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ризнаки прав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ормативный характер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язательность исполн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арантированность государств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ногократность примен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9152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i="1" lang="ru-RU" sz="2400" spc="-1" strike="noStrike" u="sng">
                <a:solidFill>
                  <a:srgbClr val="0000cc"/>
                </a:solidFill>
                <a:uFillTx/>
                <a:latin typeface="Arial"/>
              </a:rPr>
              <a:t>Источники прав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– нормативные акты,   прецеденты, правовые обычаи и правовые договоры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42" name="Organization Chart 6"/>
          <p:cNvGrpSpPr/>
          <p:nvPr/>
        </p:nvGrpSpPr>
        <p:grpSpPr>
          <a:xfrm>
            <a:off x="431640" y="1700280"/>
            <a:ext cx="8208360" cy="4349160"/>
            <a:chOff x="431640" y="1700280"/>
            <a:chExt cx="8208360" cy="4349160"/>
          </a:xfrm>
        </p:grpSpPr>
        <p:cxnSp>
          <p:nvCxnSpPr>
            <p:cNvPr id="143" name="_s3076"/>
            <p:cNvCxnSpPr>
              <a:stCxn id="144" idx="1"/>
              <a:endCxn id="145" idx="2"/>
            </p:cNvCxnSpPr>
            <p:nvPr/>
          </p:nvCxnSpPr>
          <p:spPr>
            <a:xfrm rot="10800000">
              <a:off x="1879200" y="2211120"/>
              <a:ext cx="2173680" cy="358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3077"/>
            <p:cNvCxnSpPr>
              <a:stCxn id="147" idx="0"/>
              <a:endCxn id="148" idx="2"/>
            </p:cNvCxnSpPr>
            <p:nvPr/>
          </p:nvCxnSpPr>
          <p:spPr>
            <a:xfrm flipV="1" rot="16200000">
              <a:off x="6218280" y="3797280"/>
              <a:ext cx="255960" cy="1690200"/>
            </a:xfrm>
            <a:prstGeom prst="bentConnector3">
              <a:avLst>
                <a:gd name="adj1" fmla="val 477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3078"/>
            <p:cNvCxnSpPr>
              <a:stCxn id="150" idx="0"/>
              <a:endCxn id="148" idx="2"/>
            </p:cNvCxnSpPr>
            <p:nvPr/>
          </p:nvCxnSpPr>
          <p:spPr>
            <a:xfrm flipH="1" flipV="1" rot="5400000">
              <a:off x="4528800" y="3796920"/>
              <a:ext cx="255960" cy="1690920"/>
            </a:xfrm>
            <a:prstGeom prst="bentConnector3">
              <a:avLst>
                <a:gd name="adj1" fmla="val 477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3079"/>
            <p:cNvCxnSpPr>
              <a:stCxn id="148" idx="1"/>
              <a:endCxn id="145" idx="2"/>
            </p:cNvCxnSpPr>
            <p:nvPr/>
          </p:nvCxnSpPr>
          <p:spPr>
            <a:xfrm rot="10800000">
              <a:off x="1879200" y="2211120"/>
              <a:ext cx="2173680" cy="204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3080"/>
            <p:cNvCxnSpPr>
              <a:stCxn id="153" idx="1"/>
              <a:endCxn id="145" idx="2"/>
            </p:cNvCxnSpPr>
            <p:nvPr/>
          </p:nvCxnSpPr>
          <p:spPr>
            <a:xfrm rot="10800000">
              <a:off x="1879200" y="2211120"/>
              <a:ext cx="2173680" cy="128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3081"/>
            <p:cNvCxnSpPr>
              <a:stCxn id="155" idx="1"/>
              <a:endCxn id="145" idx="2"/>
            </p:cNvCxnSpPr>
            <p:nvPr/>
          </p:nvCxnSpPr>
          <p:spPr>
            <a:xfrm rot="10800000">
              <a:off x="1879200" y="2211120"/>
              <a:ext cx="2173680" cy="511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5" name="_s3082"/>
            <p:cNvSpPr/>
            <p:nvPr/>
          </p:nvSpPr>
          <p:spPr>
            <a:xfrm>
              <a:off x="431640" y="170028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точники пра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_s3083"/>
            <p:cNvSpPr/>
            <p:nvPr/>
          </p:nvSpPr>
          <p:spPr>
            <a:xfrm>
              <a:off x="4053240" y="246780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ыча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_s3084"/>
            <p:cNvSpPr/>
            <p:nvPr/>
          </p:nvSpPr>
          <p:spPr>
            <a:xfrm>
              <a:off x="4053240" y="323532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говор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_s3085"/>
            <p:cNvSpPr/>
            <p:nvPr/>
          </p:nvSpPr>
          <p:spPr>
            <a:xfrm>
              <a:off x="4053240" y="400284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ормативные ак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_s3086"/>
            <p:cNvSpPr/>
            <p:nvPr/>
          </p:nvSpPr>
          <p:spPr>
            <a:xfrm>
              <a:off x="2363040" y="477036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кон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_s3087"/>
            <p:cNvSpPr/>
            <p:nvPr/>
          </p:nvSpPr>
          <p:spPr>
            <a:xfrm>
              <a:off x="5743080" y="477036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дзаконные ак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_s3088"/>
            <p:cNvSpPr/>
            <p:nvPr/>
          </p:nvSpPr>
          <p:spPr>
            <a:xfrm>
              <a:off x="4053240" y="553788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Юридические прецеден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9640" y="301680"/>
            <a:ext cx="778356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ризнаки правового государств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699920"/>
            <a:ext cx="7313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ерховенство закон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зделение власт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арантии соблюдения прав человек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сокая правовая культура насел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58:21Z</dcterms:created>
  <dc:creator>МАКС</dc:creator>
  <dc:description/>
  <dc:language>en-US</dc:language>
  <cp:lastModifiedBy>LEGION</cp:lastModifiedBy>
  <dcterms:modified xsi:type="dcterms:W3CDTF">2015-01-28T08:17:42Z</dcterms:modified>
  <cp:revision>5</cp:revision>
  <dc:subject/>
  <dc:title>Понятие права. Правовая норма. Источники права.</dc:title>
</cp:coreProperties>
</file>