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move the slide</a:t>
            </a:r>
            <a:endParaRPr b="0" lang="en-US" sz="3000" spc="-1" strike="noStrike">
              <a:solidFill>
                <a:srgbClr val="575f6d"/>
              </a:solidFill>
              <a:latin typeface="Constantia"/>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3D7F-CA74-40AB-A349-3BDD48F8FF3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d63"/>
                </a:solidFill>
                <a:latin typeface="Calibri"/>
              </a:rPr>
              <a:t>СИБИРСКИЙ ФЕДЕРАЛЬНЫЙ УНИВЕРСИТЕТ</a:t>
            </a:r>
            <a:br>
              <a:rPr sz="1200"/>
            </a:br>
            <a:r>
              <a:rPr b="0" lang="ru-RU" sz="1200" spc="-1" strike="noStrike">
                <a:solidFill>
                  <a:srgbClr val="595d63"/>
                </a:solidFill>
                <a:latin typeface="Calibri"/>
              </a:rPr>
              <a:t>ЮРИДИЧЕСКИЙ ИНСТИТУТ</a:t>
            </a:r>
            <a:br>
              <a:rPr sz="1200"/>
            </a:br>
            <a:br>
              <a:rPr sz="1200"/>
            </a:br>
            <a:r>
              <a:rPr b="0" lang="ru-RU" sz="1200" spc="-1" strike="noStrike">
                <a:solidFill>
                  <a:srgbClr val="595d63"/>
                </a:solidFill>
                <a:latin typeface="Calibri"/>
              </a:rPr>
              <a:t>МАГИСТЕРСКАЯ ПРОГРАММА</a:t>
            </a:r>
            <a:br>
              <a:rPr sz="1200"/>
            </a:br>
            <a:br>
              <a:rPr sz="1200"/>
            </a:br>
            <a:r>
              <a:rPr b="0" lang="ru-RU" sz="1200" spc="-1" strike="noStrike">
                <a:solidFill>
                  <a:srgbClr val="595d63"/>
                </a:solidFill>
                <a:latin typeface="Calibri"/>
              </a:rPr>
              <a:t>ГРАЖДАНСКОЕ ПРАВО, СЕМЕЙНОЕ ПРАВО, МЕЖДУНАРОДНОЕ ЧАСТНОЕ ПРАВ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EF66-2E70-407F-8D83-785185F3E6B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ПРОГРАММЫ</a:t>
            </a: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alibri"/>
              </a:rPr>
              <a:t>    </a:t>
            </a:r>
            <a:r>
              <a:rPr b="0" lang="ru-RU" sz="1600" spc="-1" strike="noStrike">
                <a:solidFill>
                  <a:srgbClr val="4f81bd"/>
                </a:solidFill>
                <a:latin typeface="Calibri"/>
              </a:rPr>
              <a:t>Сахнова Татьяна Владимировна, д.ю.н., профессор</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Образовани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Защита докторской диссертации (1998 г.) – МГУ им. М.В. Ломоносова (г. Моск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Публикации:</a:t>
            </a:r>
            <a:r>
              <a:rPr b="0" lang="ru-RU" sz="1200" spc="-1" strike="noStrike">
                <a:solidFill>
                  <a:srgbClr val="3c3e42"/>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     </a:t>
            </a:r>
            <a:r>
              <a:rPr b="1" lang="ru-RU" sz="1200" spc="-1" strike="noStrike">
                <a:solidFill>
                  <a:srgbClr val="3c3e42"/>
                </a:solidFill>
                <a:latin typeface="Calibri"/>
              </a:rPr>
              <a:t>Место работы и должност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Сибирский федеральный университет, Юридический институт, зав. кафедрой гражданского процесс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Является руководителем двух магистерских програм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ий процесс, арбитражный процес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ое право, семейное право, международно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частное прав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2D20-6BF3-4B2A-ACA7-724E36368A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МАГИСТЕРСКОЙ ПРОГРАММЕ «ГРАЖДАНСКОЕ ПРАВО, СЕМЕЙНОЕ ПРАВО, МЕЖДУНАРОДНОЕ </a:t>
            </a:r>
            <a:br>
              <a:rPr sz="1200"/>
            </a:br>
            <a:r>
              <a:rPr b="0" lang="ru-RU" sz="1200" spc="-1" strike="noStrike">
                <a:solidFill>
                  <a:srgbClr val="000000"/>
                </a:solidFill>
                <a:latin typeface="Calibri"/>
              </a:rPr>
              <a:t>ЧАСТНОЕ ПРАВО»</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4AF3-C86B-4F53-B01D-B615DD5EB81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ЕНЬ ИЗУЧАЕМЫХ ДИСЦИПЛИН</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деральный компонент</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циплины по выбору магистра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41A6-CA41-483C-9A03-F8D4808D668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ьные дисципл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ъектов недвижимости и их правовой реж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гражданско-правовой сдел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жилищ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емей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гражданско-правовой ответств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института несосто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 в международных отношен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D159-F211-433E-97D3-9BF84C903E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кие навыки получает выпускник программы?</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применительны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юридических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управленческая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ание нормативных а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ьски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ация на реальные юридические пробл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721B-C22A-4700-829C-85E7F01C922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с портфоли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частия в конкурсе документов (потрфолио) поступающий предоставляет следующие докумен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 бакалавра, специалиста. Магист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тификаты, подтверждающие уровень знания иностранного я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ации в профессиональных журналах, сборниках студенческих рабо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специалис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5714-30D5-4458-AF93-4B4929E6FEA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09282-E5C6-407F-B647-AE1BE18B4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705E7-22AB-401C-9CA3-2B7099587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DF96C-2463-44B1-9133-56625AF68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59B61-F8E9-45E6-8312-C6772D2BE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E0B45-75B7-43BB-BF98-F31BF1C9A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C579A-156B-4DFE-BBAF-E8FC22D71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60130-99AB-4A97-B199-4332C2C29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7853E-E944-441B-A398-4B51E284F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0A6AE-5DB0-444A-8631-A0D8FC038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E16D4-9579-4453-984B-935E0806E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DF5AE-FE23-4B06-A1C5-1DF09D904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C2796-0A8D-4A6D-B7E4-1A0B688A3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190D0-1720-4929-87FD-BA015D1F9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F5529-1C88-4012-820D-9F6BE9D08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E0A7E-2D59-4955-BA27-852CD74BC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0DA61-8788-4380-9106-228F17463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60E8B-793F-4E73-BED0-D0D39D1B0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A3B46D6-0ED1-4495-9BD0-C16E848212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A872278-1501-44E2-BC3B-57F485460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8320F48-CBA1-47ED-A0DC-AC195EB53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4F4747-49FD-425D-87FD-625174A2E6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3737FA-7227-4303-AB52-F6CAE79BE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EB9C3-101F-4E57-BCD5-93E8A07AB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D646F44-602E-4BD4-8486-605C44D1B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C91628-3E39-4F63-AA1C-2680CEDA8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1D669B-3AE6-44E5-8FF3-1FAA3DC55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055E67-DB59-4D36-B104-F8A9E6F74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B4CB29-15E0-4CF4-90E8-E381D5C22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774AAEA-3497-44CC-8A3A-F184596255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0CA09FE-B6D9-4723-857E-71AAF4D416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ACBA9F-18E5-4B5A-89A2-ADBE4B1728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97C7D3-7A9A-47AF-8ACB-91636D698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B47EF-EBA8-491A-9E3C-001EAE090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54B9C-285C-4127-B945-A61696EBA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3893E-A3F3-4465-AC03-6E448B3B57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45B6CF-B1D2-4759-9DB0-36D31D54B0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FE9EC-9FCC-4CA2-B9C8-CF9549BEF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D8BA8-D6E4-42D6-9BC3-7AB44F112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E67FA-5622-4A30-A756-0B30C7BDE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A3924-2613-48E6-9605-6889B7136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73BD7-6BF2-4407-AB75-8ABE36227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5052B1-17CB-4CA7-AD21-C9CF838144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08175A-962D-41E3-9A4E-517D0AAC1A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C28E345-12BB-4B9E-A5A4-B10AE5EFD4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98074-1B24-4553-BF52-1600F7FBF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320F22A-C952-4F48-8B97-47C01026C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D9AB0D-BFDA-41F0-B3B4-AEBDAC6769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C70685-1DF2-4CA5-BB6F-CC98D91A4A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FE14F86-6E09-4EBB-9C48-65FD7BE1D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A152C9-0A94-4354-88E9-4F211894F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2F46C7-02A7-4BB5-9769-C341216DC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E1ACF3-F6FA-488F-ADC5-57FA38B41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05DDBB-EDC7-476E-BD16-0DA7A3F64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75C6DB-2692-43B3-A7DF-DC688207AC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94C4645-9DE4-49C8-88BD-3298C29287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B2035-FC24-4A14-ACEE-C9B1C2D8B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F543225-BEDF-462B-B2CF-9699B5B39A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73BCFAC-67B0-45A7-807E-54BE5B7011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A90EACF-7EC2-42C1-88B0-49131AA1BA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6180D94-0BF8-4ACF-B130-40D6119098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B1A1A59-7542-4389-837E-D7AAA6F805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DD6BC24-A64E-4AF5-8C07-0AE3BABB8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27E7D0C-226B-47D9-BF8B-E87D2CF3C3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7300917-587B-4E9E-B281-A64E86DFF6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7D9EC88-66A5-4519-B6E3-204E54AFF9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7FD6CE2-784E-4826-9B6C-220BBF1C7B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EDEE4-99AC-4E01-AE05-23082594C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27E9DF7-966F-49C7-9B5D-8C1E038444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C912881-56E4-48F3-A9E8-AB92DE7D56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3AB1F88-FB45-4AC0-A9A8-02B2AD3D17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5DE56AA-5B3A-4D62-A791-549011CAF6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E005242-3DF1-4051-A1CA-D6FD27A70E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AEE164-654F-4779-83BB-CDAE8FD5B4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D836A0F-82EC-43E4-BF51-663761514D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A3790BB-B316-4231-8EF1-8AF4A93703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DF17853-F4E3-40FE-8800-DAFD6116A6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AE0FD7-8C29-4CAF-AB3B-37B2B6AAE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8F5DE-CB30-45D5-B1F3-A094AFBDA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74BAC92-54B2-454F-ABB3-75D3E50A1F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B0653B-20F7-4D18-98E7-E663F164B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0387230-AD7B-42A0-BE91-A29B52256C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5779CE3-E258-4083-B642-D85036AC1C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3289E5D-3A86-44EF-9D0F-80D19FE6BF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F7A30-1B34-43CE-BA09-2032BA0D9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1DEF-AFB5-4C43-9F83-F47AC76AB108}"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9A0A-DAA7-4057-9D7C-02800C8AB75C}"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9655-0F69-452B-902F-BF297EE2BF40}"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4BAF-A612-4E1C-8AC1-7681C4E59E0E}"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C2AD-AF21-4229-BEB0-277E5AF2E6CE}"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83CE-3C26-4B18-906E-318F12552788}"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onstantia"/>
              </a:rPr>
              <a:t>Click to edit the title text format</a:t>
            </a:r>
            <a:endParaRPr b="0" lang="en-US" sz="3000" spc="-1" strike="noStrike">
              <a:solidFill>
                <a:srgbClr val="fff39d"/>
              </a:solidFill>
              <a:latin typeface="Constant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lick to edit the outline text format</a:t>
            </a:r>
            <a:endParaRPr b="0" lang="en-US" sz="2400" spc="-1" strike="noStrike">
              <a:solidFill>
                <a:srgbClr val="ffffff"/>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cond Outline Level</a:t>
            </a:r>
            <a:endParaRPr b="0" lang="en-US" sz="2400" spc="-1" strike="noStrike">
              <a:solidFill>
                <a:srgbClr val="ffffff"/>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rd Outline Level</a:t>
            </a:r>
            <a:endParaRPr b="0" lang="en-US" sz="2400" spc="-1" strike="noStrike">
              <a:solidFill>
                <a:srgbClr val="ffffff"/>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urth Outline Level</a:t>
            </a:r>
            <a:endParaRPr b="0" lang="en-US" sz="2400" spc="-1" strike="noStrike">
              <a:solidFill>
                <a:srgbClr val="ffffff"/>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ifth Outline Level</a:t>
            </a:r>
            <a:endParaRPr b="0" lang="en-US" sz="2400" spc="-1" strike="noStrike">
              <a:solidFill>
                <a:srgbClr val="ffffff"/>
              </a:solidFill>
              <a:latin typeface="Constantia"/>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xth Outline Level</a:t>
            </a:r>
            <a:endParaRPr b="0" lang="en-US" sz="2400" spc="-1" strike="noStrike">
              <a:solidFill>
                <a:srgbClr val="ffffff"/>
              </a:solidFill>
              <a:latin typeface="Constantia"/>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venth Outline Level</a:t>
            </a:r>
            <a:endParaRPr b="0" lang="en-US" sz="2400" spc="-1" strike="noStrike">
              <a:solidFill>
                <a:srgbClr val="ffffff"/>
              </a:solidFill>
              <a:latin typeface="Constantia"/>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3D3E-2793-450C-8837-DA1A678A2071}" type="datetime">
              <a:rPr b="0" lang="en-US" sz="1200" spc="-1" strike="noStrike">
                <a:solidFill>
                  <a:srgbClr val="fff39d"/>
                </a:solidFill>
                <a:latin typeface="Constantia"/>
              </a:rPr>
              <a:t>07/31/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onstantia"/>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1A10-9EEA-4386-BF9F-FD3A74DC26D6}"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C2F3-46C5-4C93-83CC-CEC0A77EC9C2}"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AB3F-26DC-421E-BC97-966CD6EC564D}"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32EF-1479-4A7C-9B15-507B2110EB71}"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0931-095E-418E-A504-D301634D3C19}"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43CB-73B7-40C3-90DB-62327122787A}"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F9B1-5C5A-48AF-80BA-060E11CFF752}"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914040"/>
            <a:ext cx="8610480" cy="4267080"/>
          </a:xfrm>
          <a:prstGeom prst="rect">
            <a:avLst/>
          </a:prstGeom>
          <a:noFill/>
          <a:ln w="0">
            <a:noFill/>
          </a:ln>
        </p:spPr>
        <p:txBody>
          <a:bodyPr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95d63"/>
                </a:solidFill>
                <a:latin typeface="Constantia"/>
              </a:rPr>
              <a:t>СИБИРСКИЙ ФЕДЕРАЛЬНЫЙ УНИВЕРСИТЕТ</a:t>
            </a:r>
            <a:br>
              <a:rPr sz="2400"/>
            </a:br>
            <a:r>
              <a:rPr b="1" lang="ru-RU" sz="2400" spc="-1" strike="noStrike">
                <a:solidFill>
                  <a:srgbClr val="595d63"/>
                </a:solidFill>
                <a:latin typeface="Constantia"/>
              </a:rPr>
              <a:t>ЮРИДИЧЕСКИЙ ИНСТИТУТ</a:t>
            </a:r>
            <a:br>
              <a:rPr sz="2400"/>
            </a:br>
            <a:br>
              <a:rPr sz="2400"/>
            </a:br>
            <a:r>
              <a:rPr b="1" lang="ru-RU" sz="2400" spc="-1" strike="noStrike">
                <a:solidFill>
                  <a:srgbClr val="595d63"/>
                </a:solidFill>
                <a:latin typeface="Constantia"/>
              </a:rPr>
              <a:t>МАГИСТЕРСКАЯ ПРОГРАММА</a:t>
            </a:r>
            <a:br>
              <a:rPr sz="2400"/>
            </a:br>
            <a:br>
              <a:rPr sz="2400"/>
            </a:br>
            <a:r>
              <a:rPr b="1" lang="ru-RU" sz="2400" spc="-1" strike="noStrike">
                <a:solidFill>
                  <a:srgbClr val="595d63"/>
                </a:solidFill>
                <a:latin typeface="Constantia"/>
              </a:rPr>
              <a:t>ГРАЖДАНСКОЕ ПРАВО, СЕМЕЙНОЕ ПРАВО, МЕЖДУНАРОДНОЕ ЧАСТНОЕ ПРАВО</a:t>
            </a:r>
            <a:br>
              <a:rPr sz="2400"/>
            </a:br>
            <a:endParaRPr b="0" lang="en-US" sz="2400" spc="-1" strike="noStrike">
              <a:solidFill>
                <a:srgbClr val="575f6d"/>
              </a:solidFill>
              <a:latin typeface="Constantia"/>
            </a:endParaRPr>
          </a:p>
        </p:txBody>
      </p:sp>
      <p:sp>
        <p:nvSpPr>
          <p:cNvPr id="359" name="Місце для нижнього колонтитула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Заголовок 1"/>
          <p:cNvGrpSpPr/>
          <p:nvPr/>
        </p:nvGrpSpPr>
        <p:grpSpPr>
          <a:xfrm>
            <a:off x="781200" y="189000"/>
            <a:ext cx="7588080" cy="920520"/>
            <a:chOff x="781200" y="189000"/>
            <a:chExt cx="7588080" cy="920520"/>
          </a:xfrm>
        </p:grpSpPr>
        <p:pic>
          <p:nvPicPr>
            <p:cNvPr id="361" name="Заголовок 1" descr=""/>
            <p:cNvPicPr/>
            <p:nvPr/>
          </p:nvPicPr>
          <p:blipFill>
            <a:blip r:embed="rId1"/>
            <a:stretch/>
          </p:blipFill>
          <p:spPr>
            <a:xfrm>
              <a:off x="781200" y="189000"/>
              <a:ext cx="7588080" cy="920520"/>
            </a:xfrm>
            <a:prstGeom prst="rect">
              <a:avLst/>
            </a:prstGeom>
            <a:ln w="0">
              <a:noFill/>
            </a:ln>
          </p:spPr>
        </p:pic>
        <p:sp>
          <p:nvSpPr>
            <p:cNvPr id="362" name=""/>
            <p:cNvSpPr/>
            <p:nvPr/>
          </p:nvSpPr>
          <p:spPr>
            <a:xfrm>
              <a:off x="838080" y="228600"/>
              <a:ext cx="74678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РУКОВОДИТЕЛЬ ПРОГРАММЫ</a:t>
              </a:r>
              <a:endParaRPr b="0" lang="en-US" sz="3000" spc="-1" strike="noStrike">
                <a:solidFill>
                  <a:srgbClr val="000000"/>
                </a:solidFill>
                <a:latin typeface="Arial"/>
              </a:endParaRPr>
            </a:p>
          </p:txBody>
        </p:sp>
      </p:grpSp>
      <p:sp>
        <p:nvSpPr>
          <p:cNvPr id="363" name=""/>
          <p:cNvSpPr txBox="1"/>
          <p:nvPr/>
        </p:nvSpPr>
        <p:spPr>
          <a:xfrm>
            <a:off x="304560" y="1066680"/>
            <a:ext cx="5715000" cy="5639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3c3e42"/>
                </a:solidFill>
                <a:latin typeface="Constantia"/>
              </a:rPr>
              <a:t>    </a:t>
            </a:r>
            <a:r>
              <a:rPr b="0" lang="ru-RU" sz="1800" spc="-1" strike="noStrike">
                <a:solidFill>
                  <a:srgbClr val="fe8637"/>
                </a:solidFill>
                <a:latin typeface="Constantia"/>
              </a:rPr>
              <a:t>Сахнова Татьяна Владимировна, д.ю.н., профессор</a:t>
            </a:r>
            <a:endParaRPr b="0" lang="en-US" sz="1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Образование: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Защита докторской диссертации (1998 г.) – МГУ им. М.В. Ломоносова (г. Москва).</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Публикации:</a:t>
            </a:r>
            <a:r>
              <a:rPr b="0" lang="ru-RU" sz="1400" spc="-1" strike="noStrike">
                <a:solidFill>
                  <a:srgbClr val="3c3e42"/>
                </a:solidFill>
                <a:latin typeface="Constantia"/>
              </a:rPr>
              <a:t>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     </a:t>
            </a:r>
            <a:r>
              <a:rPr b="1" lang="ru-RU" sz="1400" spc="-1" strike="noStrike">
                <a:solidFill>
                  <a:srgbClr val="3c3e42"/>
                </a:solidFill>
                <a:latin typeface="Constantia"/>
              </a:rPr>
              <a:t>Место работы и должность: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Сибирский федеральный университет, Юридический институт, зав. кафедрой гражданского процесса.</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Является руководителем двух магистерских программ: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ий процесс, арбитражный процесс»;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ое право, семейное право, международное</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частное право».</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364" name="Picture 2" descr="C:\Documents and Settings\Владыка Инна)\Рабочий стол\b.200.150.16777215.0.ff.sahnova_t.jpg"/>
          <p:cNvPicPr/>
          <p:nvPr/>
        </p:nvPicPr>
        <p:blipFill>
          <a:blip r:embed="rId2"/>
          <a:stretch/>
        </p:blipFill>
        <p:spPr>
          <a:xfrm>
            <a:off x="6172200" y="1600200"/>
            <a:ext cx="2435400" cy="2467080"/>
          </a:xfrm>
          <a:prstGeom prst="rect">
            <a:avLst/>
          </a:prstGeom>
          <a:ln w="0">
            <a:noFill/>
          </a:ln>
        </p:spPr>
      </p:pic>
      <p:grpSp>
        <p:nvGrpSpPr>
          <p:cNvPr id="365" name="Прямоугольник 5"/>
          <p:cNvGrpSpPr/>
          <p:nvPr/>
        </p:nvGrpSpPr>
        <p:grpSpPr>
          <a:xfrm>
            <a:off x="6029280" y="4230720"/>
            <a:ext cx="2797200" cy="1622160"/>
            <a:chOff x="6029280" y="4230720"/>
            <a:chExt cx="2797200" cy="1622160"/>
          </a:xfrm>
        </p:grpSpPr>
        <p:pic>
          <p:nvPicPr>
            <p:cNvPr id="366" name="Прямоугольник 5" descr=""/>
            <p:cNvPicPr/>
            <p:nvPr/>
          </p:nvPicPr>
          <p:blipFill>
            <a:blip r:embed="rId3"/>
            <a:stretch/>
          </p:blipFill>
          <p:spPr>
            <a:xfrm>
              <a:off x="6029280" y="4230720"/>
              <a:ext cx="2797200" cy="1541520"/>
            </a:xfrm>
            <a:prstGeom prst="rect">
              <a:avLst/>
            </a:prstGeom>
            <a:ln w="0">
              <a:noFill/>
            </a:ln>
          </p:spPr>
        </p:pic>
        <p:sp>
          <p:nvSpPr>
            <p:cNvPr id="367" name=""/>
            <p:cNvSpPr/>
            <p:nvPr/>
          </p:nvSpPr>
          <p:spPr>
            <a:xfrm>
              <a:off x="6095880" y="4267080"/>
              <a:ext cx="2667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Доктор юридических наук, професс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Адрес: 660075, г. Красноярс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ул. Маерчака, 6.  Каб.  3-09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тел: +7 (391) 221-88-8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факс: +7 (391) 221-63-66</a:t>
              </a:r>
              <a:endParaRPr b="0" lang="en-US" sz="1400" spc="-1" strike="noStrike">
                <a:solidFill>
                  <a:srgbClr val="000000"/>
                </a:solidFill>
                <a:latin typeface="Arial"/>
              </a:endParaRPr>
            </a:p>
          </p:txBody>
        </p:sp>
      </p:grpSp>
      <p:sp>
        <p:nvSpPr>
          <p:cNvPr id="36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Заголовок 1"/>
          <p:cNvGrpSpPr/>
          <p:nvPr/>
        </p:nvGrpSpPr>
        <p:grpSpPr>
          <a:xfrm>
            <a:off x="781200" y="139680"/>
            <a:ext cx="7588080" cy="2043000"/>
            <a:chOff x="781200" y="139680"/>
            <a:chExt cx="7588080" cy="2043000"/>
          </a:xfrm>
        </p:grpSpPr>
        <p:pic>
          <p:nvPicPr>
            <p:cNvPr id="370" name="Заголовок 1" descr=""/>
            <p:cNvPicPr/>
            <p:nvPr/>
          </p:nvPicPr>
          <p:blipFill>
            <a:blip r:embed="rId1"/>
            <a:stretch/>
          </p:blipFill>
          <p:spPr>
            <a:xfrm>
              <a:off x="781200" y="139680"/>
              <a:ext cx="7588080" cy="2043000"/>
            </a:xfrm>
            <a:prstGeom prst="rect">
              <a:avLst/>
            </a:prstGeom>
            <a:ln w="0">
              <a:noFill/>
            </a:ln>
          </p:spPr>
        </p:pic>
        <p:sp>
          <p:nvSpPr>
            <p:cNvPr id="371" name=""/>
            <p:cNvSpPr/>
            <p:nvPr/>
          </p:nvSpPr>
          <p:spPr>
            <a:xfrm>
              <a:off x="838080" y="228600"/>
              <a:ext cx="7467840" cy="1722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nstantia"/>
                </a:rPr>
                <a:t>О МАГИСТЕРСКОЙ ПРОГРАММЕ «ГРАЖДАНСКОЕ ПРАВО, СЕМЕЙНОЕ ПРАВО, МЕЖДУНАРОДНОЕ </a:t>
              </a:r>
              <a:br>
                <a:rPr sz="2700"/>
              </a:br>
              <a:r>
                <a:rPr b="0" lang="ru-RU" sz="2700" spc="-1" strike="noStrike">
                  <a:solidFill>
                    <a:srgbClr val="000000"/>
                  </a:solidFill>
                  <a:latin typeface="Constantia"/>
                </a:rPr>
                <a:t>ЧАСТНОЕ ПРАВО»</a:t>
              </a:r>
              <a:endParaRPr b="0" lang="en-US" sz="2700" spc="-1" strike="noStrike">
                <a:solidFill>
                  <a:srgbClr val="000000"/>
                </a:solidFill>
                <a:latin typeface="Arial"/>
              </a:endParaRPr>
            </a:p>
          </p:txBody>
        </p:sp>
      </p:grpSp>
      <p:sp>
        <p:nvSpPr>
          <p:cNvPr id="372" name=""/>
          <p:cNvSpPr txBox="1"/>
          <p:nvPr/>
        </p:nvSpPr>
        <p:spPr>
          <a:xfrm>
            <a:off x="456840" y="220968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73"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Заголовок 1"/>
          <p:cNvGrpSpPr/>
          <p:nvPr/>
        </p:nvGrpSpPr>
        <p:grpSpPr>
          <a:xfrm>
            <a:off x="378000" y="347760"/>
            <a:ext cx="7699320" cy="957240"/>
            <a:chOff x="378000" y="347760"/>
            <a:chExt cx="7699320" cy="957240"/>
          </a:xfrm>
        </p:grpSpPr>
        <p:pic>
          <p:nvPicPr>
            <p:cNvPr id="375" name="Заголовок 1" descr=""/>
            <p:cNvPicPr/>
            <p:nvPr/>
          </p:nvPicPr>
          <p:blipFill>
            <a:blip r:embed="rId1"/>
            <a:stretch/>
          </p:blipFill>
          <p:spPr>
            <a:xfrm>
              <a:off x="378000" y="347760"/>
              <a:ext cx="7699320" cy="957240"/>
            </a:xfrm>
            <a:prstGeom prst="rect">
              <a:avLst/>
            </a:prstGeom>
            <a:ln w="0">
              <a:noFill/>
            </a:ln>
          </p:spPr>
        </p:pic>
        <p:sp>
          <p:nvSpPr>
            <p:cNvPr id="376" name=""/>
            <p:cNvSpPr/>
            <p:nvPr/>
          </p:nvSpPr>
          <p:spPr>
            <a:xfrm>
              <a:off x="457200" y="380880"/>
              <a:ext cx="7543800" cy="654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ПЕРЕЧЕНЬ ИЗУЧАЕМЫХ ДИСЦИПЛИН</a:t>
              </a:r>
              <a:endParaRPr b="0" lang="en-US" sz="3000" spc="-1" strike="noStrike">
                <a:solidFill>
                  <a:srgbClr val="000000"/>
                </a:solidFill>
                <a:latin typeface="Arial"/>
              </a:endParaRPr>
            </a:p>
          </p:txBody>
        </p:sp>
      </p:grpSp>
      <p:sp>
        <p:nvSpPr>
          <p:cNvPr id="377" name=""/>
          <p:cNvSpPr txBox="1"/>
          <p:nvPr/>
        </p:nvSpPr>
        <p:spPr>
          <a:xfrm>
            <a:off x="489240" y="1602000"/>
            <a:ext cx="3593520" cy="594720"/>
          </a:xfrm>
          <a:prstGeom prst="rect">
            <a:avLst/>
          </a:prstGeom>
          <a:solidFill>
            <a:srgbClr val="fe8637"/>
          </a:solidFill>
          <a:ln w="0">
            <a:noFill/>
          </a:ln>
        </p:spPr>
        <p:txBody>
          <a:bodyPr anchor="ctr">
            <a:normAutofit fontScale="90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Федеральный компонент</a:t>
            </a:r>
            <a:endParaRPr b="0" lang="en-US" sz="2000" spc="-1" strike="noStrike">
              <a:solidFill>
                <a:srgbClr val="000000"/>
              </a:solidFill>
              <a:latin typeface="Constantia"/>
            </a:endParaRPr>
          </a:p>
        </p:txBody>
      </p:sp>
      <p:sp>
        <p:nvSpPr>
          <p:cNvPr id="378" name=""/>
          <p:cNvSpPr txBox="1"/>
          <p:nvPr/>
        </p:nvSpPr>
        <p:spPr>
          <a:xfrm>
            <a:off x="4375440" y="1602000"/>
            <a:ext cx="3593520" cy="594720"/>
          </a:xfrm>
          <a:prstGeom prst="rect">
            <a:avLst/>
          </a:prstGeom>
          <a:solidFill>
            <a:srgbClr val="fe8637"/>
          </a:solidFill>
          <a:ln w="0">
            <a:noFill/>
          </a:ln>
        </p:spPr>
        <p:txBody>
          <a:bodyPr anchor="ctr">
            <a:normAutofit fontScale="8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Дисциплины по выбору магистранта</a:t>
            </a:r>
            <a:endParaRPr b="0" lang="en-US" sz="2000" spc="-1" strike="noStrike">
              <a:solidFill>
                <a:srgbClr val="000000"/>
              </a:solidFill>
              <a:latin typeface="Constantia"/>
            </a:endParaRPr>
          </a:p>
        </p:txBody>
      </p:sp>
      <p:sp>
        <p:nvSpPr>
          <p:cNvPr id="379" name="Text Box 9"/>
          <p:cNvSpPr/>
          <p:nvPr/>
        </p:nvSpPr>
        <p:spPr>
          <a:xfrm>
            <a:off x="457200" y="23623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457200" y="2362320"/>
            <a:ext cx="3657600" cy="17017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временные проблемы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тория и методология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мпьютерные технологии в науке и юридической практике</a:t>
            </a:r>
            <a:endParaRPr b="0" lang="en-US" sz="1500" spc="-1" strike="noStrike">
              <a:solidFill>
                <a:srgbClr val="000000"/>
              </a:solidFill>
              <a:latin typeface="Arial"/>
            </a:endParaRPr>
          </a:p>
        </p:txBody>
      </p:sp>
      <p:sp>
        <p:nvSpPr>
          <p:cNvPr id="381" name="Text Box 11"/>
          <p:cNvSpPr/>
          <p:nvPr/>
        </p:nvSpPr>
        <p:spPr>
          <a:xfrm>
            <a:off x="4343400" y="2362320"/>
            <a:ext cx="3657600" cy="30913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наследственного прав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ликтные отношения с иностранным элементом</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граниченные вещные права на земельные участ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авовое регулирование международных перевозок</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защиты прав потребителей</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нцип свободы договор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Специальные дисциплины:</a:t>
            </a:r>
            <a:endParaRPr b="0" lang="en-US" sz="3000" spc="-1" strike="noStrike">
              <a:solidFill>
                <a:srgbClr val="575f6d"/>
              </a:solidFill>
              <a:latin typeface="Constantia"/>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истема объектов недвижимости и их правовой режим</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еория гражданско-правовой сдел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жилищ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семей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гражданско-правовой ответствен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института несостоятель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Юридические лица в международных отношениях</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5"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0528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5f6d"/>
                </a:solidFill>
                <a:latin typeface="Constantia"/>
              </a:rPr>
              <a:t>Какие навыки получает выпускник программы?</a:t>
            </a:r>
            <a:endParaRPr b="0" lang="en-US" sz="2800" spc="-1" strike="noStrike">
              <a:solidFill>
                <a:srgbClr val="575f6d"/>
              </a:solidFill>
              <a:latin typeface="Constantia"/>
            </a:endParaRPr>
          </a:p>
        </p:txBody>
      </p:sp>
      <p:sp>
        <p:nvSpPr>
          <p:cNvPr id="387" name="PlaceHolder 2"/>
          <p:cNvSpPr>
            <a:spLocks noGrp="1"/>
          </p:cNvSpPr>
          <p:nvPr>
            <p:ph/>
          </p:nvPr>
        </p:nvSpPr>
        <p:spPr>
          <a:xfrm>
            <a:off x="456840" y="9907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воприменительны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оставление юридических докумен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ганизационно-управленческая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олкование нормативных ак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тельски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иентация на реальные юридические проблемы</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8"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Конкурс портфолио</a:t>
            </a:r>
            <a:endParaRPr b="0" lang="en-US" sz="3000" spc="-1" strike="noStrike">
              <a:solidFill>
                <a:srgbClr val="575f6d"/>
              </a:solidFill>
              <a:latin typeface="Constantia"/>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ля участия в конкурсе документов (потрфолио) поступающий предоставляет следующие документы:</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 бакалавра, специалиста. Магистр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ертификаты, подтверждающие уровень знания иностранного язык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убликации в профессиональных журналах, сборниках студенческих работ</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комендации специалиста</a:t>
            </a:r>
            <a:endParaRPr b="0" lang="en-US" sz="2000" spc="-1" strike="noStrike">
              <a:solidFill>
                <a:srgbClr val="000000"/>
              </a:solidFill>
              <a:latin typeface="Constantia"/>
            </a:endParaRPr>
          </a:p>
        </p:txBody>
      </p:sp>
      <p:sp>
        <p:nvSpPr>
          <p:cNvPr id="391"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LEGION</cp:lastModifiedBy>
  <dcterms:modified xsi:type="dcterms:W3CDTF">2015-01-28T08:18:01Z</dcterms:modified>
  <cp:revision>38</cp:revision>
  <dc:subject/>
  <dc:title>Сибирский федеральный университет Юридический институт  Магистерская программа  ГРАЖДАНСКОЕ ПРАВО, СЕМЕЙНОЕ ПРАВО, МЕЖДУНАРОДНОЕ ЧАСТНОЕ ПРАВО</dc:title>
</cp:coreProperties>
</file>