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7E9A-5F81-4F50-B0BA-CF04DA0C5B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DF67-F45A-4292-8793-652B3565F4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4FE2-B9E4-4310-AD9E-0152E02862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E143-32EA-468F-B436-F4C6B07519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2EEB-795F-4414-A3F1-E040F445D5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B993-6C6B-4F7C-8259-970E3D29CD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C4F0-FB18-4AE4-8A5F-B0706D0816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374F-40C9-4E1C-95AF-8BE893464A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C5920-78AF-430C-9259-62ABA4EFA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5098-3E5E-4714-BBBE-75AF0CBDB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B5E3C-40FB-4CE7-B2FD-0E2A339C3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44B16-C98D-4808-B6B1-42279E81F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E0574-631F-4701-984A-7BD4DC37D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E4D13-4D48-429D-8FD6-FF238EE15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8D2BF-ACEB-4134-A4A2-5486CFF27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D60E-B5C2-4B05-BB26-CBCA8277B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4E891-1D47-4629-8B92-7D625B64E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A3188-B1D2-43AB-9860-7811FB42E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BC37E-9944-4769-A362-780363C96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BA26-A43B-4DC7-B77F-5D103D75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BC20C-7198-4193-A96F-6A9D87A70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00E6-3891-4F84-93A6-DE2AA7AD8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B1EF7-4290-43B5-B6E5-A3806BBA1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E80F2-BD0B-4F43-A4FE-936E01516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2C7DA-5FCA-42BF-8610-A20EC94D2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8F6BA6-C2DC-4549-97E5-F79DB5A228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8C65A6-3A7D-4953-8B43-3FB4011B6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493775-B0D6-4D16-9F10-92382E898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C3245B-C253-4EDF-8F83-7980F502A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1109A3-02DF-41BC-8888-966663FD8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7736-793B-422D-9144-441278612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43D809-3B4B-437B-907D-47F92AB07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E12205-B876-4F52-8E84-0D6AAF489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327A10-AAE1-410D-9075-E7650AAE0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19532B-4511-480C-8374-2DFA1746F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900295-0E67-4A1E-89BC-17C4C1F72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24BD41E-9822-4E22-8776-1EE9D4D12F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B505A1-C127-438A-85E5-C653790EA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043003-6098-4154-96AA-8DB882C4E7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BF18F-5D5A-4064-BED8-2A4A9366E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6ED7F-3CDC-462E-99D9-53467D666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48389-C2CF-4FF1-8AAB-DA1F02774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51FCE-C995-4935-8AB3-28F3EDD8F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05243-8451-4904-9EBD-13785398F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61828-82A8-4F4D-B05C-213B66A42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6644F-22DF-47B4-AF65-DDA97B938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E950C-2A73-43A4-8542-4A4EA569D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9B10-9A0E-4C77-9DDD-E094F2FF9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1B19E-7785-4111-95B7-7E2CBDCEE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CC6DF-01B4-4007-ACE4-6E067D7145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DDAC6-2EA3-43F8-AC16-FD94CE6B4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B04E33-ED7C-418F-8C06-1E4A4A3F19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CEE47-19F5-4C0D-9ECB-5715A8328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AC0CBC-F194-4018-94CC-1018E07BF2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57B340-87EB-405D-945F-F6A35E9D2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E4D4E7-BC76-40E4-9CDB-03E0DB6E2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824F91-9BC5-45DC-B19D-9AB407811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BACAD7-8BF6-43B0-B05C-8A0D40888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9B9BA6-D9B6-485E-9F99-7194F7608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9437A3-6C29-4851-BCD3-06C465FEF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4AE124-52D0-4446-B047-1E1BAA4EE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2E36D2-B2CB-4685-BC04-85771C1D61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439F6B-F951-47D9-80E8-97DBB7F8B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9DF06-CBE6-4241-B036-9F8AA8F4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4FC8DA-CF0D-4228-B90B-6458E5032C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820F31C-35FF-4DF8-953E-77CC3D8021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8D138D-1167-4CCF-8925-61E77A6FA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9C1781-31A4-48B1-B8B3-177DAF11E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34CB90C-F9C7-4A32-B583-EF888CAD9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7F093ED-594B-4B8A-A9A2-A177BF9A7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2654F4B-5D2A-4C1D-8D59-1A7EC61A5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FEB3B8-68E3-423E-BE5E-4B2DCB06B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D4D998-79EE-4949-8E64-BDEF994FF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7E692D-BE4B-4F8F-9942-BC8D0B015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BD7A-B4AE-4101-B713-E335B08D8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8ADD7C9-FAEA-4DCA-BD5D-632BED1C0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A484B13-CD22-4A60-B121-442373249B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A2A7FA2-D4B9-4F0E-B95E-30DB2939CD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A7FD3C-D723-44F3-9B06-16EE57D440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7D14CB-7518-4DC9-BF54-BB7437069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DBD28C-1CC0-4A93-B991-9F56AFB5B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9BD383D-C0A3-47F9-B439-15DFB3B8A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6D54A4-D0D4-4043-AACC-D302A5033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2F6E68-A2E4-4EE2-A1CD-49F321872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D6C7D3-2FA3-4067-95E5-407EE22D8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0733-F273-4A09-BB22-4CFC77CE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934C26-D759-4851-B6F8-BEAF719A6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8C6569-CB50-4789-8140-0BFBF5739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070546F-829A-41FA-A7A8-420F00FC0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BF30E6-7706-48B4-AD58-990CE9C91E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A1D397B-D74A-4AB0-ABEA-9F2B57CC7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BF365-AD27-4C5B-9D5A-F76E4EEB9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98F4-F561-4260-B392-15F7A7A8DFDB}"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DD96-16D6-472B-9AB0-FEB6BA9D91B1}"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839A-EFB6-4851-A838-452CE3960BAC}"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E9F5-33D8-4A3A-93C7-681EC1C6C0CF}"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EB81-474F-44D8-B184-24F419E1D3AE}"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5765-D93A-430A-82C9-8E11BA407E7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539E-B6D7-4889-9A82-CABF755F2AB7}" type="datetime">
              <a:rPr b="0" lang="en-US" sz="1200" spc="-1" strike="noStrike">
                <a:solidFill>
                  <a:srgbClr val="fff39d"/>
                </a:solidFill>
                <a:latin typeface="Constantia"/>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9DD5-B193-46ED-A37D-679BC2C59EC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28EB-C9EA-4E94-BE05-EC268F91DE23}"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084C-8573-46A6-AFDD-7F13FF2E587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15AF-B13E-4349-A4B3-66D584293C6F}"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DA85-DD93-48F2-AE44-D5355125A13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5622-F79E-423A-AC51-54E44AB3724B}"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ED33-3BB8-4927-A4B7-FD8FFC61622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