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move the slide</a:t>
            </a:r>
            <a:endParaRPr b="0" lang="en-US" sz="3000" spc="-1" strike="noStrike">
              <a:solidFill>
                <a:srgbClr val="575f6d"/>
              </a:solidFill>
              <a:latin typeface="Constantia"/>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C4BD-C2A7-443E-BA52-26CE7F6BA91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95d63"/>
                </a:solidFill>
                <a:latin typeface="Calibri"/>
              </a:rPr>
              <a:t>СИБИРСКИЙ ФЕДЕРАЛЬНЫЙ УНИВЕРСИТЕТ</a:t>
            </a:r>
            <a:br>
              <a:rPr sz="1200"/>
            </a:br>
            <a:r>
              <a:rPr b="0" lang="ru-RU" sz="1200" spc="-1" strike="noStrike">
                <a:solidFill>
                  <a:srgbClr val="595d63"/>
                </a:solidFill>
                <a:latin typeface="Calibri"/>
              </a:rPr>
              <a:t>ЮРИДИЧЕСКИЙ ИНСТИТУТ</a:t>
            </a:r>
            <a:br>
              <a:rPr sz="1200"/>
            </a:br>
            <a:br>
              <a:rPr sz="1200"/>
            </a:br>
            <a:r>
              <a:rPr b="0" lang="ru-RU" sz="1200" spc="-1" strike="noStrike">
                <a:solidFill>
                  <a:srgbClr val="595d63"/>
                </a:solidFill>
                <a:latin typeface="Calibri"/>
              </a:rPr>
              <a:t>МАГИСТЕРСКАЯ ПРОГРАММА</a:t>
            </a:r>
            <a:br>
              <a:rPr sz="1200"/>
            </a:br>
            <a:br>
              <a:rPr sz="1200"/>
            </a:br>
            <a:r>
              <a:rPr b="0" lang="ru-RU" sz="1200" spc="-1" strike="noStrike">
                <a:solidFill>
                  <a:srgbClr val="595d63"/>
                </a:solidFill>
                <a:latin typeface="Calibri"/>
              </a:rPr>
              <a:t>ГРАЖДАНСКОЕ ПРАВО, СЕМЕЙНОЕ ПРАВО, МЕЖДУНАРОДНОЕ ЧАСТНОЕ ПРАВ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B30F1-5BE4-4A69-A25A-DF57160A12D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ПРОГРАММЫ</a:t>
            </a:r>
            <a:endParaRPr b="0" lang="en-US" sz="12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alibri"/>
              </a:rPr>
              <a:t>    </a:t>
            </a:r>
            <a:r>
              <a:rPr b="0" lang="ru-RU" sz="1600" spc="-1" strike="noStrike">
                <a:solidFill>
                  <a:srgbClr val="4f81bd"/>
                </a:solidFill>
                <a:latin typeface="Calibri"/>
              </a:rPr>
              <a:t>Сахнова Татьяна Владимировна, д.ю.н., профессор</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Образование: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Аспирантура Института государства и права АН СССР; защита кандидатской диссертации – в ИГПАН СССР (г. Москва, научный руководитель – проф. А.А. Мельников).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Защита докторской диссертации (1998 г.) – МГУ им. М.В. Ломоносова (г. Моск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Публикации:</a:t>
            </a:r>
            <a:r>
              <a:rPr b="0" lang="ru-RU" sz="1200" spc="-1" strike="noStrike">
                <a:solidFill>
                  <a:srgbClr val="3c3e42"/>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Общее количество публикаций – около 100. Имеет публикации за рубежом и на иностранном языке. Опубликовано восемь книг (шесть – в центральных издательствах : БЕК, Юристъ, Городец, МЦФЭР, Волтерс  Клувер; г. Москва). Автор Курса гражданского процесса (М.: Волтерс Клувер, 2008. -  43,5 п.л.) и Практикума по гражданскому процессу (М.: МЦФЭР, 2006. - 26 п.л).</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c3e42"/>
                </a:solidFill>
                <a:latin typeface="Calibri"/>
              </a:rPr>
              <a:t>     </a:t>
            </a:r>
            <a:r>
              <a:rPr b="1" lang="ru-RU" sz="1200" spc="-1" strike="noStrike">
                <a:solidFill>
                  <a:srgbClr val="3c3e42"/>
                </a:solidFill>
                <a:latin typeface="Calibri"/>
              </a:rPr>
              <a:t>Место работы и должност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Сибирский федеральный университет, Юридический институт, зав. кафедрой гражданского процесс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Является руководителем двух магистерских программ: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Гражданский процесс, арбитражный процесс»;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Гражданское право, семейное право, международно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c3e42"/>
                </a:solidFill>
                <a:latin typeface="Calibri"/>
              </a:rPr>
              <a:t>частное право».</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4080C-4E30-4F47-A90F-511507B3B40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 МАГИСТЕРСКОЙ ПРОГРАММЕ «ГРАЖДАНСКОЕ ПРАВО, СЕМЕЙНОЕ ПРАВО, МЕЖДУНАРОДНОЕ </a:t>
            </a:r>
            <a:br>
              <a:rPr sz="1200"/>
            </a:br>
            <a:r>
              <a:rPr b="0" lang="ru-RU" sz="1200" spc="-1" strike="noStrike">
                <a:solidFill>
                  <a:srgbClr val="000000"/>
                </a:solidFill>
                <a:latin typeface="Calibri"/>
              </a:rPr>
              <a:t>ЧАСТНОЕ ПРАВО»</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ая программа магистерской подготовки имеет целью подготовку высокопрофессиональных кадров, обладающих фундаментальными знаниями в области гражданского, семейного и международного частного права.  </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ушатели этой программы получат не только знания общих проблем современного гражданского, семейного и международного частного права,  но и  приобретут профессиональные навыки  с ориентацией на деятельность  в государственных органах Российской Федерации, международных организациях, в предпринимательских и частных структурах.</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обенностью магистерской программы является междисциплинарный характер обучения, предлагающий рассмотрение проблем гражданского, семейного и международного частного права в различных дисциплинарных аспектах. Двухлетний курс обучения (четыре семестра) включает в себя аудиторные учебные занятия, научно-исследовательскую и научно-педагогическую практику. </a:t>
            </a:r>
            <a:endParaRPr b="0" lang="en-US" sz="1200" spc="-1" strike="noStrike">
              <a:solidFill>
                <a:srgbClr val="000000"/>
              </a:solidFill>
              <a:latin typeface="Calibri"/>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мках реализации Болонского процесса, учебные планы магистерских программ по «Юриспруденции» Сибирского федерального университета предоставляют студентам возможность выбора индивидуальной образовательной траектории. Помимо обязательных для изучения курсов, магистрант  каждый семестр имеет возможность выбрать одну дисциплину специализации (из трех)  и два курса по выбору (из шести). Таким образом, слушатель магистерской программы имеет возможность углубленного освоения дисциплин по своему выбору в соответствии с индивидуальными интересами.</a:t>
            </a:r>
            <a:endParaRPr b="0" lang="en-US" sz="1200" spc="-1" strike="noStrike">
              <a:solidFill>
                <a:srgbClr val="000000"/>
              </a:solidFill>
              <a:latin typeface="Calibri"/>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6B5E-574B-4FEE-8DD3-9F9AFFAF464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ЧЕНЬ ИЗУЧАЕМЫХ ДИСЦИПЛИН</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едеральный компонент</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сциплины по выбору магистра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E07C-127B-43D8-B24F-53088EE75DD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ьные дисципли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объектов недвижимости и их правовой режи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гражданско-правовой сдел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жилищ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семей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гражданско-правовой ответствен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института несосто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идические лица в международных отношения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DD04-5E9B-42C2-B2D6-3B6837093F6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акие навыки получает выпускник программы?</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оприменительные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ление юридических докумен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управленческая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кование нормативных акт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тельские навы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иентация на реальные юридические пробле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6D03-6970-48C6-98F3-7CF6A7D4E30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с портфоли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частия в конкурсе документов (потрфолио) поступающий предоставляет следующие документ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плом бакалавра, специалиста. Магист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тификаты, подтверждающие уровень знания иностранного язы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пломы победителей, призеров, лауреатов студенческих конкурсов научных работ, исследовтельских пролектов и олимпиад различных уров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авки о получении именных, республиканских стипендий, стипендий Правительства РФ, президента РФ. Фондов и общественных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бликации в профессиональных журналах, сборниках студенческих рабо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 специалис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C3C0-0C12-4FC2-A5D6-0D05FE670B8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E2E81-C04F-4176-B1E9-30A2ED2ED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EFC5E-6755-4F63-A65A-FF2AEF385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B881E-5258-4C80-AD02-2DA12EC4D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985B4-28E6-48A6-B2F3-CF771D4CB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B04A8B-4AE8-49F0-8F3F-EBCD9D1C8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11333-655E-4507-B61F-2EAC11C13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FBFA3-6D05-43D1-B88B-69263F98E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57C5B-922A-4C21-98E4-069823AD4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ACF5D-4B99-40F5-AD18-BD7857628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43547-13E4-47C2-B01A-FD1889CA5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D7854-1722-43FC-ABA6-819011222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E583C-77F6-4717-B969-435418419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FC16C-76E6-4272-86FC-45023F764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2F200-558D-471B-8949-ACF502521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CD302-36DF-44C9-ABCD-C3B925695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572229-0E21-4771-8BCB-1E8C89F63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83121B-2222-4F31-B97E-945F30FEF4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ECE4180-1EE3-4DE7-A2C2-EABE5221C5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B111B78-5C2E-49F4-B93F-F6A739571A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21DA10C-A242-4515-B15C-3D320929A2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C9D6ECC-B40F-49DF-A1B3-C52AB4A4DD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3B43A5E-393C-4EB0-A81D-312A17A10E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26AAE-5CDC-4CCA-A974-332D51588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71C1DF1-0ABA-444A-805F-91D5B7A191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1C11778-E31F-4F16-9F47-65795C3F13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51CE08D-84F1-40D7-BE1E-99DE3421CC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C4667A-FFB0-40ED-8367-F06F2FBE17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A3EE40E-242C-4664-8781-DDC1981595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ACBFB8C-1B57-4468-89A0-31994AA877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8141FF2-F084-4F8C-ADD0-AA0073752E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6BE2A8-8884-4CC0-81A7-2F989D5ACA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44760F-71D8-4988-AE84-2024B30086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200F4A-5AA0-4863-8B69-E16DD40DBC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17522-BDAC-45AA-A262-2A1AA7B9A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BD4803-14EE-4E88-8366-E834A8AA9F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AA025E-DD4C-4896-AA49-A8F0AB6AFD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5734BF-9359-48E3-811F-D5C9FC9398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4B8C16-B89E-4DD0-AA68-6459EA7477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336710-25C3-4557-8623-8F522EF211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D621AE-CA78-4060-8FDC-E85BEFC768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B6F25A-7C30-496E-A410-0407D9D998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180E52-6462-4084-B22F-254700ED9F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55F77E-53BA-42CD-8106-BA728B68F9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352CB57-B775-4372-A48F-27ABFABADC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94CFC-263A-4CBA-8381-B69F32872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BF38C25-B365-43AD-B3B5-0932CA3A5A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434E636-A962-451A-8B76-FB7945050E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9B32B04-9CE3-4DBB-ACA2-34B0A5DAC6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A1FB72F-3815-41E5-92B5-4DD9117AFB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C96C5AF-1A5D-400D-8112-5D73984612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8821C4-6891-4685-A4F8-53E10CB5D0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CD4DDE5-CBA3-43A2-BE74-D2AACC6A2D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FCF47F4-B5EB-4CBD-A153-0CD4C43AD5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33EDA76-7AE9-4404-86E1-A1C60C346F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20C8C7C-6B5B-47F8-B86E-A1D8D6BC44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11816-96E4-4B48-8F15-9CABF7217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892F7F5-8DA8-4A04-87CA-6AC094ADC2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BFE1AF0-FB35-4C44-ABBD-02AE4B0FBB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A4DBB14-BA11-421B-8F5C-413F6DF7CC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99EC2F1-39BD-4123-8980-0D703E72B6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0C7090C-1AE9-4C43-8439-0990E594D0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EA8815B-B074-4CB7-99F9-D79B7E974F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FC702E0-5989-403E-B6AE-F685EB47D9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DA25A94-3041-4BCE-8A02-12FE7BEF74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C5C7FBF-10E5-493B-8D47-9F3D8ACEA3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E7D24DE-9627-44D7-A7F2-76ADE713D0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1F498-E8F1-4F23-AF74-962DBD803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7A291B7-A017-44A2-BB8A-7DFEE4773B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8132D65-3023-4246-A702-F8F19DD9EB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D9369F2-A50B-4FBB-8B64-7CB49A9BDA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CB911B4-3196-4C56-8ADC-5579A39887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2517B46-5163-43C3-91C4-6D7A6F0836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0648619-EFCB-49C9-8BAC-C0D16D8C38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50E4079-8FCD-4027-BCBE-170563C26D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C0E6C3A-9998-4BCE-B895-C9008CA691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BEF3223-59B7-4F65-B56B-7100417624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97D9A5D-E065-420C-83F5-4DA46D5965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E3DC3-0611-456B-9BF9-660F9D2E2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BFE88F8-F784-4790-9720-87F3E9F0C7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2D82934-FA18-49A7-A413-8985FD451D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D753564-3C9A-4FCE-8317-F411EC059B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1D929B7-3485-40AC-8F9C-FFC5BD9DC6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5891C9F-DBA1-4B8A-A23F-1F5FFF4063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onstantia"/>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C5308-CD94-4A34-9954-8A7D86B75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11A2-972C-4817-9031-E26A6BDA2F94}" type="datetime">
              <a:rPr b="0" lang="en-US" sz="1200" spc="-1" strike="noStrike">
                <a:solidFill>
                  <a:srgbClr val="575f6d"/>
                </a:solidFill>
                <a:latin typeface="Constantia"/>
              </a:rPr>
              <a:t>07/28/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0919C-3670-4D7F-9557-252BB3942AA3}"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1D9E-F807-4B1A-9E20-BAE9DC638B8A}" type="datetime">
              <a:rPr b="0" lang="en-US" sz="1200" spc="-1" strike="noStrike">
                <a:solidFill>
                  <a:srgbClr val="575f6d"/>
                </a:solidFill>
                <a:latin typeface="Constantia"/>
              </a:rPr>
              <a:t>07/28/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5B8B-432E-41F4-84B2-D414948D3064}"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9F46-0E37-4194-AF69-0345A2D0E28F}" type="datetime">
              <a:rPr b="0" lang="en-US" sz="1200" spc="-1" strike="noStrike">
                <a:solidFill>
                  <a:srgbClr val="575f6d"/>
                </a:solidFill>
                <a:latin typeface="Constantia"/>
              </a:rPr>
              <a:t>07/28/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3000-46C5-4826-A8BA-69AEDEAABAB9}"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onstantia"/>
              </a:rPr>
              <a:t>Click to edit the title text format</a:t>
            </a:r>
            <a:endParaRPr b="0" lang="en-US" sz="3000" spc="-1" strike="noStrike">
              <a:solidFill>
                <a:srgbClr val="fff39d"/>
              </a:solidFill>
              <a:latin typeface="Constantia"/>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lick to edit the outline text format</a:t>
            </a:r>
            <a:endParaRPr b="0" lang="en-US" sz="2400" spc="-1" strike="noStrike">
              <a:solidFill>
                <a:srgbClr val="ffffff"/>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econd Outline Level</a:t>
            </a:r>
            <a:endParaRPr b="0" lang="en-US" sz="2400" spc="-1" strike="noStrike">
              <a:solidFill>
                <a:srgbClr val="ffffff"/>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hird Outline Level</a:t>
            </a:r>
            <a:endParaRPr b="0" lang="en-US" sz="2400" spc="-1" strike="noStrike">
              <a:solidFill>
                <a:srgbClr val="ffffff"/>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ourth Outline Level</a:t>
            </a:r>
            <a:endParaRPr b="0" lang="en-US" sz="2400" spc="-1" strike="noStrike">
              <a:solidFill>
                <a:srgbClr val="ffffff"/>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Fifth Outline Level</a:t>
            </a:r>
            <a:endParaRPr b="0" lang="en-US" sz="2400" spc="-1" strike="noStrike">
              <a:solidFill>
                <a:srgbClr val="ffffff"/>
              </a:solidFill>
              <a:latin typeface="Constantia"/>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ixth Outline Level</a:t>
            </a:r>
            <a:endParaRPr b="0" lang="en-US" sz="2400" spc="-1" strike="noStrike">
              <a:solidFill>
                <a:srgbClr val="ffffff"/>
              </a:solidFill>
              <a:latin typeface="Constantia"/>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eventh Outline Level</a:t>
            </a:r>
            <a:endParaRPr b="0" lang="en-US" sz="2400" spc="-1" strike="noStrike">
              <a:solidFill>
                <a:srgbClr val="ffffff"/>
              </a:solidFill>
              <a:latin typeface="Constantia"/>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7A2D-E3AB-455A-8ED8-ADC00C373B1F}" type="datetime">
              <a:rPr b="0" lang="en-US" sz="1200" spc="-1" strike="noStrike">
                <a:solidFill>
                  <a:srgbClr val="fff39d"/>
                </a:solidFill>
                <a:latin typeface="Constantia"/>
              </a:rPr>
              <a:t>07/28/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onstantia"/>
              </a:rPr>
              <a:t>www.sliderpoint.org</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1CEA-C005-40A2-A037-53667A111D58}"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E0717-7ABD-47E2-BE1A-0F0A73B9636D}" type="datetime">
              <a:rPr b="0" lang="en-US" sz="1200" spc="-1" strike="noStrike">
                <a:solidFill>
                  <a:srgbClr val="575f6d"/>
                </a:solidFill>
                <a:latin typeface="Constantia"/>
              </a:rPr>
              <a:t>07/28/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BB9F-C9C2-484D-AE6E-380F9E4840DC}"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9BD2-A4A6-4BFE-8DA2-42161875077E}" type="datetime">
              <a:rPr b="0" lang="en-US" sz="1200" spc="-1" strike="noStrike">
                <a:solidFill>
                  <a:srgbClr val="575f6d"/>
                </a:solidFill>
                <a:latin typeface="Constantia"/>
              </a:rPr>
              <a:t>07/28/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1C50-3A59-4A2B-9F19-1AB81DC6DBF4}"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nstantia"/>
              </a:rPr>
              <a:t>Click to edit the title text format</a:t>
            </a:r>
            <a:endParaRPr b="0" lang="en-US" sz="3000" spc="-1" strike="noStrike">
              <a:solidFill>
                <a:srgbClr val="575f6d"/>
              </a:solidFill>
              <a:latin typeface="Constantia"/>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ick to edit the outline text format</a:t>
            </a:r>
            <a:endParaRPr b="0" lang="en-US" sz="2400" spc="-1" strike="noStrike">
              <a:solidFill>
                <a:srgbClr val="000000"/>
              </a:solidFill>
              <a:latin typeface="Constantia"/>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rd Outline Level</a:t>
            </a:r>
            <a:endParaRPr b="0" lang="en-US" sz="2400" spc="-1" strike="noStrike">
              <a:solidFill>
                <a:srgbClr val="000000"/>
              </a:solidFill>
              <a:latin typeface="Constantia"/>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urth Outline Level</a:t>
            </a:r>
            <a:endParaRPr b="0" lang="en-US" sz="2400" spc="-1" strike="noStrike">
              <a:solidFill>
                <a:srgbClr val="000000"/>
              </a:solidFill>
              <a:latin typeface="Constantia"/>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fth Outline Level</a:t>
            </a:r>
            <a:endParaRPr b="0" lang="en-US" sz="2400" spc="-1" strike="noStrike">
              <a:solidFill>
                <a:srgbClr val="000000"/>
              </a:solidFill>
              <a:latin typeface="Constantia"/>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xth Outline Level</a:t>
            </a:r>
            <a:endParaRPr b="0" lang="en-US" sz="2400" spc="-1" strike="noStrike">
              <a:solidFill>
                <a:srgbClr val="000000"/>
              </a:solidFill>
              <a:latin typeface="Constantia"/>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nth Outline Level</a:t>
            </a:r>
            <a:endParaRPr b="0" lang="en-US" sz="2400" spc="-1" strike="noStrike">
              <a:solidFill>
                <a:srgbClr val="000000"/>
              </a:solidFill>
              <a:latin typeface="Constantia"/>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8949-8B94-4827-9EF4-8223E875A463}" type="datetime">
              <a:rPr b="0" lang="en-US" sz="1200" spc="-1" strike="noStrike">
                <a:solidFill>
                  <a:srgbClr val="575f6d"/>
                </a:solidFill>
                <a:latin typeface="Constantia"/>
              </a:rPr>
              <a:t>07/28/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C9D09-B915-4220-BF33-F79E6F57F458}" type="slidenum">
              <a:rPr b="1" lang="en-US" sz="1400" spc="-1" strike="noStrike">
                <a:solidFill>
                  <a:srgbClr val="ffffff"/>
                </a:solidFill>
                <a:latin typeface="Constantia"/>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33520" y="914040"/>
            <a:ext cx="8610480" cy="4267080"/>
          </a:xfrm>
          <a:prstGeom prst="rect">
            <a:avLst/>
          </a:prstGeom>
          <a:noFill/>
          <a:ln w="0">
            <a:noFill/>
          </a:ln>
        </p:spPr>
        <p:txBody>
          <a:bodyPr anchor="b">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595d63"/>
                </a:solidFill>
                <a:latin typeface="Constantia"/>
              </a:rPr>
              <a:t>СИБИРСКИЙ ФЕДЕРАЛЬНЫЙ УНИВЕРСИТЕТ</a:t>
            </a:r>
            <a:br>
              <a:rPr sz="2400"/>
            </a:br>
            <a:r>
              <a:rPr b="1" lang="ru-RU" sz="2400" spc="-1" strike="noStrike">
                <a:solidFill>
                  <a:srgbClr val="595d63"/>
                </a:solidFill>
                <a:latin typeface="Constantia"/>
              </a:rPr>
              <a:t>ЮРИДИЧЕСКИЙ ИНСТИТУТ</a:t>
            </a:r>
            <a:br>
              <a:rPr sz="2400"/>
            </a:br>
            <a:br>
              <a:rPr sz="2400"/>
            </a:br>
            <a:r>
              <a:rPr b="1" lang="ru-RU" sz="2400" spc="-1" strike="noStrike">
                <a:solidFill>
                  <a:srgbClr val="595d63"/>
                </a:solidFill>
                <a:latin typeface="Constantia"/>
              </a:rPr>
              <a:t>МАГИСТЕРСКАЯ ПРОГРАММА</a:t>
            </a:r>
            <a:br>
              <a:rPr sz="2400"/>
            </a:br>
            <a:br>
              <a:rPr sz="2400"/>
            </a:br>
            <a:r>
              <a:rPr b="1" lang="ru-RU" sz="2400" spc="-1" strike="noStrike">
                <a:solidFill>
                  <a:srgbClr val="595d63"/>
                </a:solidFill>
                <a:latin typeface="Constantia"/>
              </a:rPr>
              <a:t>ГРАЖДАНСКОЕ ПРАВО, СЕМЕЙНОЕ ПРАВО, МЕЖДУНАРОДНОЕ ЧАСТНОЕ ПРАВО</a:t>
            </a:r>
            <a:br>
              <a:rPr sz="2400"/>
            </a:br>
            <a:endParaRPr b="0" lang="en-US" sz="2400" spc="-1" strike="noStrike">
              <a:solidFill>
                <a:srgbClr val="575f6d"/>
              </a:solidFill>
              <a:latin typeface="Constantia"/>
            </a:endParaRPr>
          </a:p>
        </p:txBody>
      </p:sp>
      <p:sp>
        <p:nvSpPr>
          <p:cNvPr id="359" name="Місце для нижнього колонтитула 1"/>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Заголовок 1"/>
          <p:cNvGrpSpPr/>
          <p:nvPr/>
        </p:nvGrpSpPr>
        <p:grpSpPr>
          <a:xfrm>
            <a:off x="781200" y="189000"/>
            <a:ext cx="7588080" cy="920520"/>
            <a:chOff x="781200" y="189000"/>
            <a:chExt cx="7588080" cy="920520"/>
          </a:xfrm>
        </p:grpSpPr>
        <p:pic>
          <p:nvPicPr>
            <p:cNvPr id="361" name="Заголовок 1" descr=""/>
            <p:cNvPicPr/>
            <p:nvPr/>
          </p:nvPicPr>
          <p:blipFill>
            <a:blip r:embed="rId1"/>
            <a:stretch/>
          </p:blipFill>
          <p:spPr>
            <a:xfrm>
              <a:off x="781200" y="189000"/>
              <a:ext cx="7588080" cy="920520"/>
            </a:xfrm>
            <a:prstGeom prst="rect">
              <a:avLst/>
            </a:prstGeom>
            <a:ln w="0">
              <a:noFill/>
            </a:ln>
          </p:spPr>
        </p:pic>
        <p:sp>
          <p:nvSpPr>
            <p:cNvPr id="362" name=""/>
            <p:cNvSpPr/>
            <p:nvPr/>
          </p:nvSpPr>
          <p:spPr>
            <a:xfrm>
              <a:off x="838080" y="228600"/>
              <a:ext cx="746784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РУКОВОДИТЕЛЬ ПРОГРАММЫ</a:t>
              </a:r>
              <a:endParaRPr b="0" lang="en-US" sz="3000" spc="-1" strike="noStrike">
                <a:solidFill>
                  <a:srgbClr val="000000"/>
                </a:solidFill>
                <a:latin typeface="Arial"/>
              </a:endParaRPr>
            </a:p>
          </p:txBody>
        </p:sp>
      </p:grpSp>
      <p:sp>
        <p:nvSpPr>
          <p:cNvPr id="363" name=""/>
          <p:cNvSpPr txBox="1"/>
          <p:nvPr/>
        </p:nvSpPr>
        <p:spPr>
          <a:xfrm>
            <a:off x="304560" y="1066680"/>
            <a:ext cx="5715000" cy="5639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3c3e42"/>
                </a:solidFill>
                <a:latin typeface="Constantia"/>
              </a:rPr>
              <a:t>    </a:t>
            </a:r>
            <a:r>
              <a:rPr b="0" lang="ru-RU" sz="1800" spc="-1" strike="noStrike">
                <a:solidFill>
                  <a:srgbClr val="fe8637"/>
                </a:solidFill>
                <a:latin typeface="Constantia"/>
              </a:rPr>
              <a:t>Сахнова Татьяна Владимировна, д.ю.н., профессор</a:t>
            </a:r>
            <a:endParaRPr b="0" lang="en-US" sz="1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Образование: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Аспирантура Института государства и права АН СССР; защита кандидатской диссертации – в ИГПАН СССР (г. Москва, научный руководитель – проф. А.А. Мельников).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Защита докторской диссертации (1998 г.) – МГУ им. М.В. Ломоносова (г. Москва).</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Публикации:</a:t>
            </a:r>
            <a:r>
              <a:rPr b="0" lang="ru-RU" sz="1400" spc="-1" strike="noStrike">
                <a:solidFill>
                  <a:srgbClr val="3c3e42"/>
                </a:solidFill>
                <a:latin typeface="Constantia"/>
              </a:rPr>
              <a:t>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Общее количество публикаций – около 100. Имеет публикации за рубежом и на иностранном языке. Опубликовано восемь книг (шесть – в центральных издательствах : БЕК, Юристъ, Городец, МЦФЭР, Волтерс  Клувер; г. Москва). Автор Курса гражданского процесса (М.: Волтерс Клувер, 2008. -  43,5 п.л.) и Практикума по гражданскому процессу (М.: МЦФЭР, 2006. - 26 п.л).</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c3e42"/>
                </a:solidFill>
                <a:latin typeface="Constantia"/>
              </a:rPr>
              <a:t>     </a:t>
            </a:r>
            <a:r>
              <a:rPr b="1" lang="ru-RU" sz="1400" spc="-1" strike="noStrike">
                <a:solidFill>
                  <a:srgbClr val="3c3e42"/>
                </a:solidFill>
                <a:latin typeface="Constantia"/>
              </a:rPr>
              <a:t>Место работы и должность: </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Сибирский федеральный университет, Юридический институт, зав. кафедрой гражданского процесса.</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Является руководителем двух магистерских программ: </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Гражданский процесс, арбитражный процесс»; </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Гражданское право, семейное право, международное</a:t>
            </a:r>
            <a:endParaRPr b="0" lang="en-US" sz="1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c3e42"/>
                </a:solidFill>
                <a:latin typeface="Constantia"/>
              </a:rPr>
              <a:t>частное право».</a:t>
            </a:r>
            <a:endParaRPr b="0" lang="en-US" sz="1400" spc="-1" strike="noStrike">
              <a:solidFill>
                <a:srgbClr val="000000"/>
              </a:solidFill>
              <a:latin typeface="Constantia"/>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364" name="Picture 2" descr="C:\Documents and Settings\Владыка Инна)\Рабочий стол\b.200.150.16777215.0.ff.sahnova_t.jpg"/>
          <p:cNvPicPr/>
          <p:nvPr/>
        </p:nvPicPr>
        <p:blipFill>
          <a:blip r:embed="rId2"/>
          <a:stretch/>
        </p:blipFill>
        <p:spPr>
          <a:xfrm>
            <a:off x="6172200" y="1600200"/>
            <a:ext cx="2435400" cy="2467080"/>
          </a:xfrm>
          <a:prstGeom prst="rect">
            <a:avLst/>
          </a:prstGeom>
          <a:ln w="0">
            <a:noFill/>
          </a:ln>
        </p:spPr>
      </p:pic>
      <p:grpSp>
        <p:nvGrpSpPr>
          <p:cNvPr id="365" name="Прямоугольник 5"/>
          <p:cNvGrpSpPr/>
          <p:nvPr/>
        </p:nvGrpSpPr>
        <p:grpSpPr>
          <a:xfrm>
            <a:off x="6029280" y="4230720"/>
            <a:ext cx="2797200" cy="1622160"/>
            <a:chOff x="6029280" y="4230720"/>
            <a:chExt cx="2797200" cy="1622160"/>
          </a:xfrm>
        </p:grpSpPr>
        <p:pic>
          <p:nvPicPr>
            <p:cNvPr id="366" name="Прямоугольник 5" descr=""/>
            <p:cNvPicPr/>
            <p:nvPr/>
          </p:nvPicPr>
          <p:blipFill>
            <a:blip r:embed="rId3"/>
            <a:stretch/>
          </p:blipFill>
          <p:spPr>
            <a:xfrm>
              <a:off x="6029280" y="4230720"/>
              <a:ext cx="2797200" cy="1541520"/>
            </a:xfrm>
            <a:prstGeom prst="rect">
              <a:avLst/>
            </a:prstGeom>
            <a:ln w="0">
              <a:noFill/>
            </a:ln>
          </p:spPr>
        </p:pic>
        <p:sp>
          <p:nvSpPr>
            <p:cNvPr id="367" name=""/>
            <p:cNvSpPr/>
            <p:nvPr/>
          </p:nvSpPr>
          <p:spPr>
            <a:xfrm>
              <a:off x="6095880" y="4267080"/>
              <a:ext cx="26672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Доктор юридических наук, профессо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Адрес: 660075, г. Красноярск,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ул. Маерчака, 6.  Каб.  3-09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тел: +7 (391) 221-88-8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Constantia"/>
                </a:rPr>
                <a:t>факс: +7 (391) 221-63-66</a:t>
              </a:r>
              <a:endParaRPr b="0" lang="en-US" sz="1400" spc="-1" strike="noStrike">
                <a:solidFill>
                  <a:srgbClr val="000000"/>
                </a:solidFill>
                <a:latin typeface="Arial"/>
              </a:endParaRPr>
            </a:p>
          </p:txBody>
        </p:sp>
      </p:grpSp>
      <p:sp>
        <p:nvSpPr>
          <p:cNvPr id="368"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Заголовок 1"/>
          <p:cNvGrpSpPr/>
          <p:nvPr/>
        </p:nvGrpSpPr>
        <p:grpSpPr>
          <a:xfrm>
            <a:off x="781200" y="139680"/>
            <a:ext cx="7588080" cy="2043000"/>
            <a:chOff x="781200" y="139680"/>
            <a:chExt cx="7588080" cy="2043000"/>
          </a:xfrm>
        </p:grpSpPr>
        <p:pic>
          <p:nvPicPr>
            <p:cNvPr id="370" name="Заголовок 1" descr=""/>
            <p:cNvPicPr/>
            <p:nvPr/>
          </p:nvPicPr>
          <p:blipFill>
            <a:blip r:embed="rId1"/>
            <a:stretch/>
          </p:blipFill>
          <p:spPr>
            <a:xfrm>
              <a:off x="781200" y="139680"/>
              <a:ext cx="7588080" cy="2043000"/>
            </a:xfrm>
            <a:prstGeom prst="rect">
              <a:avLst/>
            </a:prstGeom>
            <a:ln w="0">
              <a:noFill/>
            </a:ln>
          </p:spPr>
        </p:pic>
        <p:sp>
          <p:nvSpPr>
            <p:cNvPr id="371" name=""/>
            <p:cNvSpPr/>
            <p:nvPr/>
          </p:nvSpPr>
          <p:spPr>
            <a:xfrm>
              <a:off x="838080" y="228600"/>
              <a:ext cx="7467840" cy="1722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nstantia"/>
                </a:rPr>
                <a:t>О МАГИСТЕРСКОЙ ПРОГРАММЕ «ГРАЖДАНСКОЕ ПРАВО, СЕМЕЙНОЕ ПРАВО, МЕЖДУНАРОДНОЕ </a:t>
              </a:r>
              <a:br>
                <a:rPr sz="2700"/>
              </a:br>
              <a:r>
                <a:rPr b="0" lang="ru-RU" sz="2700" spc="-1" strike="noStrike">
                  <a:solidFill>
                    <a:srgbClr val="000000"/>
                  </a:solidFill>
                  <a:latin typeface="Constantia"/>
                </a:rPr>
                <a:t>ЧАСТНОЕ ПРАВО»</a:t>
              </a:r>
              <a:endParaRPr b="0" lang="en-US" sz="2700" spc="-1" strike="noStrike">
                <a:solidFill>
                  <a:srgbClr val="000000"/>
                </a:solidFill>
                <a:latin typeface="Arial"/>
              </a:endParaRPr>
            </a:p>
          </p:txBody>
        </p:sp>
      </p:grpSp>
      <p:sp>
        <p:nvSpPr>
          <p:cNvPr id="372" name=""/>
          <p:cNvSpPr txBox="1"/>
          <p:nvPr/>
        </p:nvSpPr>
        <p:spPr>
          <a:xfrm>
            <a:off x="456840" y="2209680"/>
            <a:ext cx="7467480" cy="4873680"/>
          </a:xfrm>
          <a:prstGeom prst="rect">
            <a:avLst/>
          </a:prstGeom>
          <a:noFill/>
          <a:ln w="0">
            <a:noFill/>
          </a:ln>
        </p:spPr>
        <p:txBody>
          <a:bodyPr anchor="t">
            <a:normAutofit fontScale="98000"/>
          </a:bodyPr>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Данная программа магистерской подготовки имеет целью подготовку высокопрофессиональных кадров, обладающих фундаментальными знаниями в области гражданского, семейного и международного частного права.  </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Слушатели этой программы получат не только знания общих проблем современного гражданского, семейного и международного частного права,  но и  приобретут профессиональные навыки  с ориентацией на деятельность  в государственных органах Российской Федерации, международных организациях, в предпринимательских и частных структурах.</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Особенностью магистерской программы является междисциплинарный характер обучения, предлагающий рассмотрение проблем гражданского, семейного и международного частного права в различных дисциплинарных аспектах. Двухлетний курс обучения (четыре семестра) включает в себя аудиторные учебные занятия, научно-исследовательскую и научно-педагогическую практику. </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В рамках реализации Болонского процесса, учебные планы магистерских программ по «Юриспруденции» Сибирского федерального университета предоставляют студентам возможность выбора индивидуальной образовательной траектории. Помимо обязательных для изучения курсов, магистрант  каждый семестр имеет возможность выбрать одну дисциплину специализации (из трех)  и два курса по выбору (из шести). Таким образом, слушатель магистерской программы имеет возможность углубленного освоения дисциплин по своему выбору в соответствии с индивидуальными интересами.</a:t>
            </a:r>
            <a:endParaRPr b="0" lang="en-US" sz="1500" spc="-1" strike="noStrike">
              <a:solidFill>
                <a:srgbClr val="000000"/>
              </a:solidFill>
              <a:latin typeface="Constantia"/>
            </a:endParaRPr>
          </a:p>
          <a:p>
            <a:pPr marL="267120" indent="-26712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373"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Заголовок 1"/>
          <p:cNvGrpSpPr/>
          <p:nvPr/>
        </p:nvGrpSpPr>
        <p:grpSpPr>
          <a:xfrm>
            <a:off x="378000" y="347760"/>
            <a:ext cx="7699320" cy="957240"/>
            <a:chOff x="378000" y="347760"/>
            <a:chExt cx="7699320" cy="957240"/>
          </a:xfrm>
        </p:grpSpPr>
        <p:pic>
          <p:nvPicPr>
            <p:cNvPr id="375" name="Заголовок 1" descr=""/>
            <p:cNvPicPr/>
            <p:nvPr/>
          </p:nvPicPr>
          <p:blipFill>
            <a:blip r:embed="rId1"/>
            <a:stretch/>
          </p:blipFill>
          <p:spPr>
            <a:xfrm>
              <a:off x="378000" y="347760"/>
              <a:ext cx="7699320" cy="957240"/>
            </a:xfrm>
            <a:prstGeom prst="rect">
              <a:avLst/>
            </a:prstGeom>
            <a:ln w="0">
              <a:noFill/>
            </a:ln>
          </p:spPr>
        </p:pic>
        <p:sp>
          <p:nvSpPr>
            <p:cNvPr id="376" name=""/>
            <p:cNvSpPr/>
            <p:nvPr/>
          </p:nvSpPr>
          <p:spPr>
            <a:xfrm>
              <a:off x="457200" y="380880"/>
              <a:ext cx="7543800" cy="654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ПЕРЕЧЕНЬ ИЗУЧАЕМЫХ ДИСЦИПЛИН</a:t>
              </a:r>
              <a:endParaRPr b="0" lang="en-US" sz="3000" spc="-1" strike="noStrike">
                <a:solidFill>
                  <a:srgbClr val="000000"/>
                </a:solidFill>
                <a:latin typeface="Arial"/>
              </a:endParaRPr>
            </a:p>
          </p:txBody>
        </p:sp>
      </p:grpSp>
      <p:sp>
        <p:nvSpPr>
          <p:cNvPr id="377" name=""/>
          <p:cNvSpPr txBox="1"/>
          <p:nvPr/>
        </p:nvSpPr>
        <p:spPr>
          <a:xfrm>
            <a:off x="489240" y="1602000"/>
            <a:ext cx="3593520" cy="594720"/>
          </a:xfrm>
          <a:prstGeom prst="rect">
            <a:avLst/>
          </a:prstGeom>
          <a:solidFill>
            <a:srgbClr val="fe8637"/>
          </a:solidFill>
          <a:ln w="0">
            <a:noFill/>
          </a:ln>
        </p:spPr>
        <p:txBody>
          <a:bodyPr anchor="ctr">
            <a:normAutofit fontScale="90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Федеральный компонент</a:t>
            </a:r>
            <a:endParaRPr b="0" lang="en-US" sz="2000" spc="-1" strike="noStrike">
              <a:solidFill>
                <a:srgbClr val="000000"/>
              </a:solidFill>
              <a:latin typeface="Constantia"/>
            </a:endParaRPr>
          </a:p>
        </p:txBody>
      </p:sp>
      <p:sp>
        <p:nvSpPr>
          <p:cNvPr id="378" name=""/>
          <p:cNvSpPr txBox="1"/>
          <p:nvPr/>
        </p:nvSpPr>
        <p:spPr>
          <a:xfrm>
            <a:off x="4375440" y="1602000"/>
            <a:ext cx="3593520" cy="594720"/>
          </a:xfrm>
          <a:prstGeom prst="rect">
            <a:avLst/>
          </a:prstGeom>
          <a:solidFill>
            <a:srgbClr val="fe8637"/>
          </a:solidFill>
          <a:ln w="0">
            <a:noFill/>
          </a:ln>
        </p:spPr>
        <p:txBody>
          <a:bodyPr anchor="ctr">
            <a:normAutofit fontScale="82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nstantia"/>
              </a:rPr>
              <a:t>Дисциплины по выбору магистранта</a:t>
            </a:r>
            <a:endParaRPr b="0" lang="en-US" sz="2000" spc="-1" strike="noStrike">
              <a:solidFill>
                <a:srgbClr val="000000"/>
              </a:solidFill>
              <a:latin typeface="Constantia"/>
            </a:endParaRPr>
          </a:p>
        </p:txBody>
      </p:sp>
      <p:sp>
        <p:nvSpPr>
          <p:cNvPr id="379" name="Text Box 9"/>
          <p:cNvSpPr/>
          <p:nvPr/>
        </p:nvSpPr>
        <p:spPr>
          <a:xfrm>
            <a:off x="457200" y="2362320"/>
            <a:ext cx="3657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0"/>
          <p:cNvSpPr/>
          <p:nvPr/>
        </p:nvSpPr>
        <p:spPr>
          <a:xfrm>
            <a:off x="457200" y="2362320"/>
            <a:ext cx="3657600" cy="17017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Современные проблемы юридической науки и юридической практи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стория и методология юридической науки и юридической практи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Компьютерные технологии в науке и юридической практике</a:t>
            </a:r>
            <a:endParaRPr b="0" lang="en-US" sz="1500" spc="-1" strike="noStrike">
              <a:solidFill>
                <a:srgbClr val="000000"/>
              </a:solidFill>
              <a:latin typeface="Arial"/>
            </a:endParaRPr>
          </a:p>
        </p:txBody>
      </p:sp>
      <p:sp>
        <p:nvSpPr>
          <p:cNvPr id="381" name="Text Box 11"/>
          <p:cNvSpPr/>
          <p:nvPr/>
        </p:nvSpPr>
        <p:spPr>
          <a:xfrm>
            <a:off x="4343400" y="2362320"/>
            <a:ext cx="3657600" cy="30913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блемы наследственного права</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Деликтные отношения с иностранным элементом</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Ограниченные вещные права на земельные участки</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авовое регулирование международных перевозок</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блемы защиты прав потребителей</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инцип свободы договора</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onstantia"/>
              </a:rPr>
              <a:t>Специальные дисциплины:</a:t>
            </a:r>
            <a:endParaRPr b="0" lang="en-US" sz="3000" spc="-1" strike="noStrike">
              <a:solidFill>
                <a:srgbClr val="575f6d"/>
              </a:solidFill>
              <a:latin typeface="Constantia"/>
            </a:endParaRPr>
          </a:p>
        </p:txBody>
      </p:sp>
      <p:sp>
        <p:nvSpPr>
          <p:cNvPr id="384"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Система объектов недвижимости и их правовой режим</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Теория гражданско-правовой сдел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жилищного права</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семейного права</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гражданско-правовой ответственност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облемы института несостоятельност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Юридические лица в международных отношениях</a:t>
            </a: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5"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4560" y="-30528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5f6d"/>
                </a:solidFill>
                <a:latin typeface="Constantia"/>
              </a:rPr>
              <a:t>Какие навыки получает выпускник программы?</a:t>
            </a:r>
            <a:endParaRPr b="0" lang="en-US" sz="2800" spc="-1" strike="noStrike">
              <a:solidFill>
                <a:srgbClr val="575f6d"/>
              </a:solidFill>
              <a:latin typeface="Constantia"/>
            </a:endParaRPr>
          </a:p>
        </p:txBody>
      </p:sp>
      <p:sp>
        <p:nvSpPr>
          <p:cNvPr id="387" name="PlaceHolder 2"/>
          <p:cNvSpPr>
            <a:spLocks noGrp="1"/>
          </p:cNvSpPr>
          <p:nvPr>
            <p:ph/>
          </p:nvPr>
        </p:nvSpPr>
        <p:spPr>
          <a:xfrm>
            <a:off x="456840" y="99072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авоприменительные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Составление юридических документов</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рганизационно-управленческая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Толкование нормативных актов</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тельские навыки</a:t>
            </a:r>
            <a:endParaRPr b="0" lang="en-US" sz="2400" spc="-1" strike="noStrike">
              <a:solidFill>
                <a:srgbClr val="000000"/>
              </a:solidFill>
              <a:latin typeface="Constantia"/>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риентация на реальные юридические проблемы</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88"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onstantia"/>
              </a:rPr>
              <a:t>Конкурс портфолио</a:t>
            </a:r>
            <a:endParaRPr b="0" lang="en-US" sz="3000" spc="-1" strike="noStrike">
              <a:solidFill>
                <a:srgbClr val="575f6d"/>
              </a:solidFill>
              <a:latin typeface="Constantia"/>
            </a:endParaRPr>
          </a:p>
        </p:txBody>
      </p:sp>
      <p:sp>
        <p:nvSpPr>
          <p:cNvPr id="390" name="PlaceHolder 2"/>
          <p:cNvSpPr>
            <a:spLocks noGrp="1"/>
          </p:cNvSpPr>
          <p:nvPr>
            <p:ph/>
          </p:nvPr>
        </p:nvSpPr>
        <p:spPr>
          <a:xfrm>
            <a:off x="456840" y="1600200"/>
            <a:ext cx="7467480" cy="4873680"/>
          </a:xfrm>
          <a:prstGeom prst="rect">
            <a:avLst/>
          </a:prstGeom>
          <a:noFill/>
          <a:ln w="0">
            <a:noFill/>
          </a:ln>
        </p:spPr>
        <p:txBody>
          <a:bodyPr anchor="t">
            <a:normAutofit fontScale="95000"/>
          </a:bodyPr>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ля участия в конкурсе документов (потрфолио) поступающий предоставляет следующие документы:</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иплом бакалавра, специалиста. Магистра</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ертификаты, подтверждающие уровень знания иностранного языка</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ипломы победителей, призеров, лауреатов студенческих конкурсов научных работ, исследовтельских пролектов и олимпиад различных уровней</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правки о получении именных, республиканских стипендий, стипендий Правительства РФ, президента РФ. Фондов и общественных организаций</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убликации в профессиональных журналах, сборниках студенческих работ</a:t>
            </a:r>
            <a:endParaRPr b="0" lang="en-US" sz="2000" spc="-1" strike="noStrike">
              <a:solidFill>
                <a:srgbClr val="000000"/>
              </a:solidFill>
              <a:latin typeface="Constantia"/>
            </a:endParaRPr>
          </a:p>
          <a:p>
            <a:pPr marL="259200" indent="-259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екомендации специалиста</a:t>
            </a:r>
            <a:endParaRPr b="0" lang="en-US" sz="2000" spc="-1" strike="noStrike">
              <a:solidFill>
                <a:srgbClr val="000000"/>
              </a:solidFill>
              <a:latin typeface="Constantia"/>
            </a:endParaRPr>
          </a:p>
        </p:txBody>
      </p:sp>
      <p:sp>
        <p:nvSpPr>
          <p:cNvPr id="391" name="Місце для нижнього колонтитула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ользователь</dc:creator>
  <dc:description/>
  <dc:language>en-US</dc:language>
  <cp:lastModifiedBy>LEGION</cp:lastModifiedBy>
  <dcterms:modified xsi:type="dcterms:W3CDTF">2015-01-28T08:18:01Z</dcterms:modified>
  <cp:revision>38</cp:revision>
  <dc:subject/>
  <dc:title>Сибирский федеральный университет Юридический институт  Магистерская программа  ГРАЖДАНСКОЕ ПРАВО, СЕМЕЙНОЕ ПРАВО, МЕЖДУНАРОДНОЕ ЧАСТНОЕ ПРАВО</dc:title>
</cp:coreProperties>
</file>