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9659-B077-4E3E-8FAC-CB02E070C9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D757-85AA-4C21-9AE6-CECDF4C63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00"/>
                </a:solidFill>
                <a:latin typeface="Comic Sans MS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 Элементы право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3 Вид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2F14-9009-44E8-869C-D80357798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968-7A96-4B33-B96E-2A4E2FB9EB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Элемен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объекты 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правоотношений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  с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убъекты правоотношен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содержание правоотношен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E9F7-3678-4DC6-ADFB-014191D1E2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Су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B19-8B47-46C4-8021-D59E5F8161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Виды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EF7E-0141-4782-BF2D-76294E85FA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00"/>
                </a:solidFill>
                <a:latin typeface="Comic Sans MS"/>
              </a:rPr>
              <a:t>О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1ABC-299F-422C-A649-88DBFD2E9D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Содержа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9289-2E42-40D2-A273-D80CA24D7B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217D-17AE-4C7B-AF65-3A57A696C1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95995-2FD6-4938-BBD8-E2F0AE11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4BE9-5B02-43E8-B725-805C50FD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9B90-FB5C-465F-B8D2-8251DE2C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6C97-E335-461E-99C3-FEA03F1B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0E7A-6A75-4590-9606-00D72F7B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EFB0-B5A0-458A-88F8-ECFEF546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CFBA-2697-45D5-9E6A-B50BBB83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14B8-0EB4-4062-AA10-0C958ABB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4979-0BB8-4A80-9665-466426F4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0C1E-BEC2-4C2E-ACB3-F4296E29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48AB-15D6-4338-96F0-00CCBA2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B6D6-9211-4E6B-B93D-4C490BFC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420B-D8A5-4240-8032-B404F24B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246C-667E-4DBE-81F3-DB13FEF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26CD-BAF4-4CC6-B070-7616EF30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101D-DC9A-47A1-986D-925EA005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9A2B-31B0-4045-8FD6-2AF278BB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0387-7899-48BC-9E05-B4ABF9F3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76A4-CB46-486E-9B35-E7EBB0FE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E902-BFC8-490A-926A-3C1E451C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4CE65-8FC9-4004-8CF1-4197DE2F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7DFF-DF42-4F1C-9ACE-3EDAC417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4238-7A4E-47BE-AF7E-EA27EE0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8AC2-CAF1-487E-A881-D61A6A35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1897-2F05-498E-ACE1-762F937098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A522-DACB-427A-8339-708A7C5303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 rot="21330600">
            <a:off x="1692360" y="1052640"/>
            <a:ext cx="532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Comic Sans MS"/>
              </a:rPr>
              <a:t>Правоотнош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Comic Sans MS"/>
              <a:ea typeface="Comic Sans MS"/>
            </a:endParaRPr>
          </a:p>
        </p:txBody>
      </p:sp>
      <p:pic>
        <p:nvPicPr>
          <p:cNvPr id="114" name="Picture 5" descr="Дед и бабка"/>
          <p:cNvPicPr/>
          <p:nvPr/>
        </p:nvPicPr>
        <p:blipFill>
          <a:blip r:embed="rId1"/>
          <a:stretch/>
        </p:blipFill>
        <p:spPr>
          <a:xfrm>
            <a:off x="539640" y="2924280"/>
            <a:ext cx="3216240" cy="26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Два деда_2"/>
          <p:cNvPicPr/>
          <p:nvPr/>
        </p:nvPicPr>
        <p:blipFill>
          <a:blip r:embed="rId2"/>
          <a:stretch/>
        </p:blipFill>
        <p:spPr>
          <a:xfrm>
            <a:off x="4716360" y="2852640"/>
            <a:ext cx="341964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887400">
            <a:off x="5219640" y="765000"/>
            <a:ext cx="298152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</a:t>
            </a:r>
            <a:endParaRPr b="0" i="1" lang="en-US" sz="2000" spc="1" strike="noStrike">
              <a:ln w="324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306864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§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1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рав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  2 Элементы прав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  3 Виды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1403280" y="981000"/>
            <a:ext cx="616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1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2060640"/>
            <a:ext cx="828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Два деда"/>
          <p:cNvPicPr/>
          <p:nvPr/>
        </p:nvPicPr>
        <p:blipFill>
          <a:blip r:embed="rId1"/>
          <a:stretch/>
        </p:blipFill>
        <p:spPr>
          <a:xfrm>
            <a:off x="755640" y="4365720"/>
            <a:ext cx="33847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0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24" name="Text Box 8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6666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3880" y="45720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Элементы правоотношений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228600" y="213372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e6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объекты 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правоотношений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  с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убъекты правоотнош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содержание правоотноше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0" y="2133720"/>
            <a:ext cx="609480" cy="3124080"/>
          </a:xfrm>
          <a:custGeom>
            <a:avLst/>
            <a:gdLst>
              <a:gd name="textAreaLeft" fmla="*/ 81360 w 609480"/>
              <a:gd name="textAreaRight" fmla="*/ 528120 w 609480"/>
              <a:gd name="textAreaTop" fmla="*/ 536400 h 3124080"/>
              <a:gd name="textAreaBottom" fmla="*/ 23295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18" stAng="-5400000" swAng="-5400000"/>
                <a:lnTo>
                  <a:pt x="0" y="12396"/>
                </a:lnTo>
                <a:arcTo wR="21600" hR="7418" stAng="10800000" swAng="-1887116"/>
                <a:lnTo>
                  <a:pt x="11025" y="20650"/>
                </a:lnTo>
                <a:lnTo>
                  <a:pt x="21600" y="17325"/>
                </a:lnTo>
                <a:lnTo>
                  <a:pt x="11025" y="12100"/>
                </a:lnTo>
                <a:lnTo>
                  <a:pt x="11025" y="13886"/>
                </a:lnTo>
                <a:arcTo wR="21600" hR="7418" stAng="8912884" swAng="1468680"/>
                <a:lnTo>
                  <a:pt x="1252" y="9907"/>
                </a:lnTo>
                <a:arcTo wR="21600" hR="7418" stAng="-10381564" swAng="4981564"/>
                <a:close/>
              </a:path>
              <a:path fill="darkenLess" w="21600" h="21600">
                <a:moveTo>
                  <a:pt x="21600" y="0"/>
                </a:moveTo>
                <a:arcTo wR="21600" hR="7418" stAng="-5400000" swAng="-5400000"/>
                <a:lnTo>
                  <a:pt x="0" y="7418"/>
                </a:lnTo>
                <a:arcTo wR="21600" hR="7418" stAng="10800000" swAng="-418436"/>
                <a:lnTo>
                  <a:pt x="1252" y="9907"/>
                </a:lnTo>
                <a:arcTo wR="21600" hR="7418" stAng="-10381564" swAng="4981564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381880" y="2133720"/>
            <a:ext cx="762120" cy="3124080"/>
          </a:xfrm>
          <a:custGeom>
            <a:avLst/>
            <a:gdLst>
              <a:gd name="textAreaLeft" fmla="*/ 101880 w 762120"/>
              <a:gd name="textAreaRight" fmla="*/ 660240 w 762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114800" y="3505320"/>
            <a:ext cx="914400" cy="990360"/>
          </a:xfrm>
          <a:prstGeom prst="downArrow">
            <a:avLst>
              <a:gd name="adj1" fmla="val 50000"/>
              <a:gd name="adj2" fmla="val 27077"/>
            </a:avLst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133720" y="45720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Правоотношения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mic Sans MS"/>
              <a:ea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61928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Comic Sans MS"/>
              </a:rPr>
              <a:t>Субъекты правоотношений</a:t>
            </a:r>
            <a:endParaRPr b="1" i="1" lang="en-US" sz="20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98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Весы"/>
          <p:cNvPicPr/>
          <p:nvPr/>
        </p:nvPicPr>
        <p:blipFill>
          <a:blip r:embed="rId1"/>
          <a:stretch/>
        </p:blipFill>
        <p:spPr>
          <a:xfrm>
            <a:off x="5796000" y="4292640"/>
            <a:ext cx="276372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340000" y="836640"/>
            <a:ext cx="41194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solidFill>
                    <a:srgbClr val="ff0000"/>
                  </a:solidFill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ffff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Виды субъектов</a:t>
            </a:r>
            <a:endParaRPr b="1" i="1" lang="en-US" sz="2000" spc="1" strike="noStrike">
              <a:ln w="0">
                <a:solidFill>
                  <a:srgbClr val="ff0000"/>
                </a:solidFill>
              </a:ln>
              <a:gradFill rotWithShape="0">
                <a:gsLst>
                  <a:gs pos="0">
                    <a:srgbClr val="006633"/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1773360"/>
            <a:ext cx="8064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8760" y="3351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4360" y="3933720"/>
            <a:ext cx="8748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476360" y="1125360"/>
            <a:ext cx="5915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>
                    <a:alpha val="60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Объекты правоотношений</a:t>
            </a:r>
            <a:endParaRPr b="1" i="1" lang="en-US" sz="20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>
                  <a:alpha val="60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220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Бабло"/>
          <p:cNvPicPr/>
          <p:nvPr/>
        </p:nvPicPr>
        <p:blipFill>
          <a:blip r:embed="rId1"/>
          <a:stretch/>
        </p:blipFill>
        <p:spPr>
          <a:xfrm>
            <a:off x="6891480" y="4005360"/>
            <a:ext cx="2252520" cy="285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619280" y="907920"/>
            <a:ext cx="58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Содержание правоотнош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124000" y="3573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84720" y="33559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124000" y="2924280"/>
            <a:ext cx="4897440" cy="18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067280" y="1484280"/>
            <a:ext cx="936360" cy="1295280"/>
          </a:xfrm>
          <a:prstGeom prst="upDownArrow">
            <a:avLst>
              <a:gd name="adj1" fmla="val 50000"/>
              <a:gd name="adj2" fmla="val 27538"/>
            </a:avLst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50920" y="486900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932360" y="5013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55" name="Text Box 13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34920" y="62064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9999ff"/>
                  </a:solidFill>
                  <a:miter/>
                </a:ln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1" lang="en-US" sz="2400" spc="1" strike="noStrike">
              <a:ln w="6480">
                <a:solidFill>
                  <a:srgbClr val="9999ff"/>
                </a:solidFill>
                <a:miter/>
              </a:ln>
              <a:solidFill>
                <a:srgbClr val="339966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2698920" y="1700280"/>
            <a:ext cx="3744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Правоотнош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17628600">
            <a:off x="2311200" y="3236400"/>
            <a:ext cx="1800360" cy="216000"/>
          </a:xfrm>
          <a:prstGeom prst="leftArrow">
            <a:avLst>
              <a:gd name="adj1" fmla="val 50000"/>
              <a:gd name="adj2" fmla="val 2083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rot="15300000">
            <a:off x="5074920" y="3212640"/>
            <a:ext cx="1657440" cy="216000"/>
          </a:xfrm>
          <a:prstGeom prst="leftArrow">
            <a:avLst>
              <a:gd name="adj1" fmla="val 50000"/>
              <a:gd name="adj2" fmla="val 19183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47636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астно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00720" y="429264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ублично-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7636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нос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148360" y="429264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бсолю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547640" y="4292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932360" y="429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92000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50:17Z</dcterms:created>
  <dc:creator>User</dc:creator>
  <dc:description/>
  <dc:language>en-US</dc:language>
  <cp:lastModifiedBy>LEGION</cp:lastModifiedBy>
  <dcterms:modified xsi:type="dcterms:W3CDTF">2015-01-28T08:19:50Z</dcterms:modified>
  <cp:revision>21</cp:revision>
  <dc:subject/>
  <dc:title>Слайд 1</dc:title>
</cp:coreProperties>
</file>