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41D4-F25E-440D-8E33-E66B6688D2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13ED-742D-4A2F-A805-A5A84423FF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00"/>
                </a:solidFill>
                <a:latin typeface="Comic Sans MS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 Элементы право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3 Вид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B2A9-B814-4212-AE37-030A95AACE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B78F-AF53-49FD-9819-1B3AF77308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Элемен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объекты 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правоотношений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  с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убъекты правоотношен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содержание правоотношен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CB8D-8F7D-4315-A7E5-56724DA4F8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Су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D0B9-7A13-4718-8E71-2A4F3A5D55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Виды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0A1C-6F2F-40EB-B729-D56E30A915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00"/>
                </a:solidFill>
                <a:latin typeface="Comic Sans MS"/>
              </a:rPr>
              <a:t>О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D17B-4781-46EC-9BA5-E1C734928C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Содержа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2C69-318F-4F04-A8FE-D3670AEDA1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B3B0-09C1-4E4F-9806-C5CCF326F7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E385-6909-499A-AE1B-3F60AAA4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14F6-D240-41EC-8BBF-B467CF16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2AD2-76BD-4A33-BAE9-FC213456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8B46-16AD-4064-934F-0625A998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8E15-8D16-4F8A-B983-3A18BD0B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3CFE-11BF-4C44-ADC5-3C9F2557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7B65-9D4B-4D0F-A5BF-743EFB24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3BD0-DBA4-4DA5-B87C-FB01FE45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4B0C-F820-4214-92C6-1F6494F8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206D-127C-4478-A6FE-72A9320A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3AED-3CE7-48D6-9AB0-07A683ED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ED9D0-D13C-44A7-9658-A12BE416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25C1-98C3-4363-A24D-F1FF7B1F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2286-2AC4-42AD-AF2C-23AD6BD4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0AD0-0517-4D9E-A51C-BB4F18D6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F2C8-8170-4964-962A-1AE09968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8ADB-10F7-49EF-B6C4-48F635FA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A56E-EE13-4A22-91E2-5A18F250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79809-13A0-4EFB-B137-471B3AEE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A7C9-ED9F-4BF6-B24E-9438C8B1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0F0A-4D23-48E6-8F6C-9760D9EF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C5E8-6CF9-4982-AC25-29C9D61C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BA96-FF38-42F2-8E78-CDBF1175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377C8-8401-4888-9C90-479298FC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44C1-2D7F-463B-B518-23EB0CC045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6AEB-F560-42FD-8701-9DE64B9652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 rot="21330600">
            <a:off x="1692360" y="1052640"/>
            <a:ext cx="53276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latin typeface="Comic Sans MS"/>
              </a:rPr>
              <a:t>Правоотношения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90000"/>
                </a:srgbClr>
              </a:solidFill>
              <a:latin typeface="Comic Sans MS"/>
              <a:ea typeface="Comic Sans MS"/>
            </a:endParaRPr>
          </a:p>
        </p:txBody>
      </p:sp>
      <p:pic>
        <p:nvPicPr>
          <p:cNvPr id="114" name="Picture 5" descr="Дед и бабка"/>
          <p:cNvPicPr/>
          <p:nvPr/>
        </p:nvPicPr>
        <p:blipFill>
          <a:blip r:embed="rId1"/>
          <a:stretch/>
        </p:blipFill>
        <p:spPr>
          <a:xfrm>
            <a:off x="539640" y="2924280"/>
            <a:ext cx="3216240" cy="266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Два деда_2"/>
          <p:cNvPicPr/>
          <p:nvPr/>
        </p:nvPicPr>
        <p:blipFill>
          <a:blip r:embed="rId2"/>
          <a:stretch/>
        </p:blipFill>
        <p:spPr>
          <a:xfrm>
            <a:off x="4716360" y="2852640"/>
            <a:ext cx="3419640" cy="2698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 rot="887400">
            <a:off x="5219640" y="765000"/>
            <a:ext cx="298152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2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лан</a:t>
            </a:r>
            <a:endParaRPr b="0" i="1" lang="en-US" sz="2000" spc="1" strike="noStrike">
              <a:ln w="324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306864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§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1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Право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  2 Элементы правоотнош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  3 Виды прав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1403280" y="981000"/>
            <a:ext cx="6161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1" lang="en-US" sz="2000" spc="1" strike="noStrike">
              <a:ln w="324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2060640"/>
            <a:ext cx="828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Два деда"/>
          <p:cNvPicPr/>
          <p:nvPr/>
        </p:nvPicPr>
        <p:blipFill>
          <a:blip r:embed="rId1"/>
          <a:stretch/>
        </p:blipFill>
        <p:spPr>
          <a:xfrm>
            <a:off x="755640" y="4365720"/>
            <a:ext cx="3384720" cy="21794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0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24" name="Text Box 8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666699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56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523880" y="457200"/>
            <a:ext cx="6477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Элементы правоотношений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-228600" y="2133720"/>
            <a:ext cx="9144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cce6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объекты 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правоотношений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  с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убъекты правоотноше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содержание правоотношени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0" y="2133720"/>
            <a:ext cx="609480" cy="3124080"/>
          </a:xfrm>
          <a:custGeom>
            <a:avLst/>
            <a:gdLst>
              <a:gd name="textAreaLeft" fmla="*/ 81360 w 609480"/>
              <a:gd name="textAreaRight" fmla="*/ 528120 w 609480"/>
              <a:gd name="textAreaTop" fmla="*/ 536400 h 3124080"/>
              <a:gd name="textAreaBottom" fmla="*/ 232956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18" stAng="-5400000" swAng="-5400000"/>
                <a:lnTo>
                  <a:pt x="0" y="12396"/>
                </a:lnTo>
                <a:arcTo wR="21600" hR="7418" stAng="10800000" swAng="-1887116"/>
                <a:lnTo>
                  <a:pt x="11025" y="20650"/>
                </a:lnTo>
                <a:lnTo>
                  <a:pt x="21600" y="17325"/>
                </a:lnTo>
                <a:lnTo>
                  <a:pt x="11025" y="12100"/>
                </a:lnTo>
                <a:lnTo>
                  <a:pt x="11025" y="13886"/>
                </a:lnTo>
                <a:arcTo wR="21600" hR="7418" stAng="8912884" swAng="1468680"/>
                <a:lnTo>
                  <a:pt x="1252" y="9907"/>
                </a:lnTo>
                <a:arcTo wR="21600" hR="7418" stAng="-10381564" swAng="4981564"/>
                <a:close/>
              </a:path>
              <a:path fill="darkenLess" w="21600" h="21600">
                <a:moveTo>
                  <a:pt x="21600" y="0"/>
                </a:moveTo>
                <a:arcTo wR="21600" hR="7418" stAng="-5400000" swAng="-5400000"/>
                <a:lnTo>
                  <a:pt x="0" y="7418"/>
                </a:lnTo>
                <a:arcTo wR="21600" hR="7418" stAng="10800000" swAng="-418436"/>
                <a:lnTo>
                  <a:pt x="1252" y="9907"/>
                </a:lnTo>
                <a:arcTo wR="21600" hR="7418" stAng="-10381564" swAng="4981564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381880" y="2133720"/>
            <a:ext cx="762120" cy="3124080"/>
          </a:xfrm>
          <a:custGeom>
            <a:avLst/>
            <a:gdLst>
              <a:gd name="textAreaLeft" fmla="*/ 101880 w 762120"/>
              <a:gd name="textAreaRight" fmla="*/ 660240 w 76212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114800" y="3505320"/>
            <a:ext cx="914400" cy="990360"/>
          </a:xfrm>
          <a:prstGeom prst="downArrow">
            <a:avLst>
              <a:gd name="adj1" fmla="val 50000"/>
              <a:gd name="adj2" fmla="val 27077"/>
            </a:avLst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133720" y="4572000"/>
            <a:ext cx="4876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mic Sans MS"/>
              </a:rPr>
              <a:t>Правоотношения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Comic Sans MS"/>
              <a:ea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61928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Comic Sans MS"/>
              </a:rPr>
              <a:t>Субъекты правоотношений</a:t>
            </a:r>
            <a:endParaRPr b="1" i="1" lang="en-US" sz="2000" spc="1" strike="noStrike">
              <a:ln w="3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8360" y="19890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Весы"/>
          <p:cNvPicPr/>
          <p:nvPr/>
        </p:nvPicPr>
        <p:blipFill>
          <a:blip r:embed="rId1"/>
          <a:stretch/>
        </p:blipFill>
        <p:spPr>
          <a:xfrm>
            <a:off x="5796000" y="4292640"/>
            <a:ext cx="2763720" cy="1843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340000" y="836640"/>
            <a:ext cx="4119480" cy="9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solidFill>
                    <a:srgbClr val="ff0000"/>
                  </a:solidFill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ffffff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Виды субъектов</a:t>
            </a:r>
            <a:endParaRPr b="1" i="1" lang="en-US" sz="2000" spc="1" strike="noStrike">
              <a:ln w="0">
                <a:solidFill>
                  <a:srgbClr val="ff0000"/>
                </a:solidFill>
              </a:ln>
              <a:gradFill rotWithShape="0">
                <a:gsLst>
                  <a:gs pos="0">
                    <a:srgbClr val="006633"/>
                  </a:gs>
                  <a:gs pos="100000">
                    <a:srgbClr val="ffffff">
                      <a:alpha val="50196"/>
                    </a:srgbClr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1773360"/>
            <a:ext cx="8064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8760" y="3351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84360" y="3933720"/>
            <a:ext cx="874872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476360" y="1125360"/>
            <a:ext cx="5915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00">
                    <a:alpha val="60000"/>
                  </a:srgbClr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Объекты правоотношений</a:t>
            </a:r>
            <a:endParaRPr b="1" i="1" lang="en-US" sz="2000" spc="1" strike="noStrike">
              <a:ln w="3240">
                <a:solidFill>
                  <a:srgbClr val="000000"/>
                </a:solidFill>
                <a:miter/>
              </a:ln>
              <a:solidFill>
                <a:srgbClr val="ffff00">
                  <a:alpha val="60000"/>
                </a:srgbClr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220500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Бабло"/>
          <p:cNvPicPr/>
          <p:nvPr/>
        </p:nvPicPr>
        <p:blipFill>
          <a:blip r:embed="rId1"/>
          <a:stretch/>
        </p:blipFill>
        <p:spPr>
          <a:xfrm>
            <a:off x="6891480" y="4005360"/>
            <a:ext cx="2252520" cy="28526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1619280" y="907920"/>
            <a:ext cx="580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Содержание правоотношени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124000" y="357336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284720" y="3355920"/>
            <a:ext cx="23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124000" y="2924280"/>
            <a:ext cx="4897440" cy="18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4067280" y="1484280"/>
            <a:ext cx="936360" cy="1295280"/>
          </a:xfrm>
          <a:prstGeom prst="upDownArrow">
            <a:avLst>
              <a:gd name="adj1" fmla="val 50000"/>
              <a:gd name="adj2" fmla="val 27538"/>
            </a:avLst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50920" y="486900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932360" y="501336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55" name="Text Box 13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42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6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934920" y="62064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9999ff"/>
                  </a:solidFill>
                  <a:miter/>
                </a:ln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1" lang="en-US" sz="2400" spc="1" strike="noStrike">
              <a:ln w="6480">
                <a:solidFill>
                  <a:srgbClr val="9999ff"/>
                </a:solidFill>
                <a:miter/>
              </a:ln>
              <a:solidFill>
                <a:srgbClr val="339966"/>
              </a:solidFill>
              <a:latin typeface="Comic Sans MS"/>
              <a:ea typeface="Comic Sans MS"/>
            </a:endParaRPr>
          </a:p>
        </p:txBody>
      </p:sp>
      <p:sp>
        <p:nvSpPr>
          <p:cNvPr id="159" name="WordArt 5"/>
          <p:cNvSpPr txBox="1"/>
          <p:nvPr/>
        </p:nvSpPr>
        <p:spPr>
          <a:xfrm>
            <a:off x="2698920" y="1700280"/>
            <a:ext cx="37447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Правоотношен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 rot="17628600">
            <a:off x="2311200" y="3236400"/>
            <a:ext cx="1800360" cy="216000"/>
          </a:xfrm>
          <a:prstGeom prst="leftArrow">
            <a:avLst>
              <a:gd name="adj1" fmla="val 50000"/>
              <a:gd name="adj2" fmla="val 2083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 rot="15300000">
            <a:off x="5074920" y="3212640"/>
            <a:ext cx="1657440" cy="216000"/>
          </a:xfrm>
          <a:prstGeom prst="leftArrow">
            <a:avLst>
              <a:gd name="adj1" fmla="val 50000"/>
              <a:gd name="adj2" fmla="val 19183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476360" y="4292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Частноправ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500720" y="429264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ублично-прав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76360" y="42926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тнос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148360" y="429264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бсолю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1547640" y="429264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932360" y="4292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7920000" y="6400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50:17Z</dcterms:created>
  <dc:creator>User</dc:creator>
  <dc:description/>
  <dc:language>en-US</dc:language>
  <cp:lastModifiedBy>LEGION</cp:lastModifiedBy>
  <dcterms:modified xsi:type="dcterms:W3CDTF">2015-01-28T08:19:50Z</dcterms:modified>
  <cp:revision>21</cp:revision>
  <dc:subject/>
  <dc:title>Слайд 1</dc:title>
</cp:coreProperties>
</file>