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3097B-AA08-4A1E-B1C8-B99E0F4447E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00"/>
                </a:solidFill>
                <a:latin typeface="Comic Sans MS"/>
              </a:rPr>
              <a:t>Право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C39AA-DB7D-468F-BB28-2EA246E973A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200" spc="-1" strike="noStrike">
                <a:solidFill>
                  <a:srgbClr val="00ff00"/>
                </a:solidFill>
                <a:latin typeface="Comic Sans MS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§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о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§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2 Элементы правоотноше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§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3 Виды право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E77D7-9B01-4412-B585-8BA16A664E3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ff"/>
                </a:solidFill>
                <a:latin typeface="Comic Sans MS"/>
              </a:rPr>
              <a:t>Понятие право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omic Sans MS"/>
              </a:rPr>
              <a:t>Правоотношения</a:t>
            </a: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особый вид общественных отношений, носящих волевой характер, возникающих по поводу благ и ценностей, предоставляемых  и защищаемых правовыми нормами, участники которых связаны взаимными юридическими и правами и обязанност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F1656-E543-4657-B7B7-7F86B98D75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0000"/>
                </a:solidFill>
                <a:latin typeface="Comic Sans MS"/>
              </a:rPr>
              <a:t>Элементы право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80"/>
                </a:solidFill>
                <a:latin typeface="Tahoma"/>
              </a:rPr>
              <a:t> </a:t>
            </a:r>
            <a:r>
              <a:rPr b="1" i="1" lang="ru-RU" sz="1200" spc="-1" strike="noStrike">
                <a:solidFill>
                  <a:srgbClr val="eeece1"/>
                </a:solidFill>
                <a:latin typeface="Tahoma"/>
              </a:rPr>
              <a:t>объекты </a:t>
            </a:r>
            <a:r>
              <a:rPr b="1" i="1" lang="en-US" sz="1200" spc="-1" strike="noStrike">
                <a:solidFill>
                  <a:srgbClr val="eeece1"/>
                </a:solidFill>
                <a:latin typeface="Tahoma"/>
              </a:rPr>
              <a:t>правоотношений</a:t>
            </a:r>
            <a:r>
              <a:rPr b="1" i="1" lang="ru-RU" sz="1200" spc="-1" strike="noStrike">
                <a:solidFill>
                  <a:srgbClr val="eeece1"/>
                </a:solidFill>
                <a:latin typeface="Tahoma"/>
              </a:rPr>
              <a:t>      с</a:t>
            </a:r>
            <a:r>
              <a:rPr b="1" i="1" lang="en-US" sz="1200" spc="-1" strike="noStrike">
                <a:solidFill>
                  <a:srgbClr val="eeece1"/>
                </a:solidFill>
                <a:latin typeface="Tahoma"/>
              </a:rPr>
              <a:t>убъекты правоотношений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eece1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eeece1"/>
                </a:solidFill>
                <a:latin typeface="Tahoma"/>
              </a:rPr>
              <a:t>содержание правоотношений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0000"/>
                </a:solidFill>
                <a:latin typeface="Comic Sans MS"/>
              </a:rPr>
              <a:t>Право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0B7EA-E9D6-4A86-B005-691951F4790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0000"/>
                </a:solidFill>
                <a:latin typeface="Comic Sans MS"/>
              </a:rPr>
              <a:t>Субъекты право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Субъектами правоотношений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 - являются лица участники правоотношений, обладающие определенными субъективными правами и юридическими обязанност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A8D5E-40D2-4169-BA6F-ABDA4FFA9B5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0000"/>
                </a:solidFill>
                <a:latin typeface="Comic Sans MS"/>
              </a:rPr>
              <a:t>Виды субъе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Comic Sans MS"/>
              </a:rPr>
              <a:t>Индивидуальные субъе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Comic Sans MS"/>
              </a:rPr>
              <a:t>Коллективные субъе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Comic Sans MS"/>
              </a:rPr>
              <a:t>Государство, государственные и муниципальные образ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omic Sans MS"/>
              </a:rPr>
              <a:t>Для частного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omic Sans MS"/>
              </a:rPr>
              <a:t>Физическое лицо - индивидуальные субъекты (граждане, иностранные граждане и пр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omic Sans MS"/>
              </a:rPr>
              <a:t>Юридические лица (организа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BC001-43CE-4454-8E84-6B48C64AB8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ffff00"/>
                </a:solidFill>
                <a:latin typeface="Comic Sans MS"/>
              </a:rPr>
              <a:t>Объекты право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Объекты правоотношений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 – это предметы окружающего мира, материальное и нематериальное благо, по поводу которого взаимодействуют люди и складываются правоотнош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FAA99-0482-4711-9229-B948CA27290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omic Sans MS"/>
              </a:rPr>
              <a:t>Содержание право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Субъективные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Субъективные юридические обязанности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Субъективное право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 – это принадлежащая субъекту мера возможного  поведения, регулируемая и охраняемая закон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Юридическая обязанность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 -  предписанная субъекту мера должного поведения, ответствен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9AFFE-2F63-48C7-AB77-F30F5A7DFC1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9966"/>
                </a:solidFill>
                <a:latin typeface="Comic Sans MS"/>
              </a:rPr>
              <a:t>Классификация право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Право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Comic Sans MS"/>
              </a:rPr>
              <a:t>Регулятив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Comic Sans MS"/>
              </a:rPr>
              <a:t>Охранитель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69AD9-FA76-4C5F-A6AF-62E22E0B94D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52F8C-72DB-4E4C-86EC-107F282F2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38D0C-2E89-48AA-A3B8-5720250E6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8B7AE-33D5-419B-BB31-82B9A2DC4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69440-F585-471D-B32B-69A5FC7C0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7D8A5-A923-4806-836C-84725B51F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59B87-53FB-47BA-B077-CF7FF1B85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A5FDD-47A9-4407-B436-B5883B058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33392-3F73-4DDE-B1F9-898E2E2F4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E1C2C-26E6-40D5-AA07-9C5C1C97F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55F99-E81D-43E5-9E47-B3D2951FB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6C9E9-C438-4341-8FC8-81265BAD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4C685-1112-46CC-A6A2-E2A805696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07E5A-7FF4-4BA6-9F54-49118913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961BB-7939-46CF-8148-B27FCDE1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C27B2-CCC1-45E3-B4FC-7A95A3AD5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A6D28-62F8-40C6-83E3-2826FA255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9EC55-F471-4E54-8903-8558AF61C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4BA34-BDFE-429D-8825-7E4BB22DD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04726-195C-4016-B1EE-A903AD6DD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5E4EC-411D-4579-89B1-7DBC5629D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2D805-116D-456E-A68B-E226A26B8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720B4-1187-4179-81AE-D12DD1DC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188AC-8489-4EE6-81ED-D5486DAF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CC8E2-B76B-4E02-8618-8E3F06C3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AC7E0-6DA3-4BA7-9DDC-4931749B413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5CF41-F4C5-43A1-9AED-FA6BC1F8795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9.xml"/><Relationship Id="rId7" Type="http://schemas.openxmlformats.org/officeDocument/2006/relationships/slide" Target="slide9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4"/>
          <p:cNvSpPr txBox="1"/>
          <p:nvPr/>
        </p:nvSpPr>
        <p:spPr>
          <a:xfrm rot="21330600">
            <a:off x="1692360" y="1052640"/>
            <a:ext cx="532764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>
                    <a:alpha val="90000"/>
                  </a:srgbClr>
                </a:solidFill>
                <a:latin typeface="Comic Sans MS"/>
              </a:rPr>
              <a:t>Правоотношения</a:t>
            </a:r>
            <a:endParaRPr b="0" lang="en-US" sz="20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>
                  <a:alpha val="90000"/>
                </a:srgbClr>
              </a:solidFill>
              <a:latin typeface="Comic Sans MS"/>
              <a:ea typeface="Comic Sans MS"/>
            </a:endParaRPr>
          </a:p>
        </p:txBody>
      </p:sp>
      <p:pic>
        <p:nvPicPr>
          <p:cNvPr id="114" name="Picture 5" descr="Дед и бабка"/>
          <p:cNvPicPr/>
          <p:nvPr/>
        </p:nvPicPr>
        <p:blipFill>
          <a:blip r:embed="rId1"/>
          <a:stretch/>
        </p:blipFill>
        <p:spPr>
          <a:xfrm>
            <a:off x="539640" y="2924280"/>
            <a:ext cx="3216240" cy="26683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Два деда_2"/>
          <p:cNvPicPr/>
          <p:nvPr/>
        </p:nvPicPr>
        <p:blipFill>
          <a:blip r:embed="rId2"/>
          <a:stretch/>
        </p:blipFill>
        <p:spPr>
          <a:xfrm>
            <a:off x="4716360" y="2852640"/>
            <a:ext cx="3419640" cy="269892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4"/>
          <p:cNvSpPr txBox="1"/>
          <p:nvPr/>
        </p:nvSpPr>
        <p:spPr>
          <a:xfrm rot="887400">
            <a:off x="5219640" y="765000"/>
            <a:ext cx="2981520" cy="104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621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План</a:t>
            </a:r>
            <a:endParaRPr b="0" i="1" lang="en-US" sz="2000" spc="1" strike="noStrike">
              <a:ln w="3240">
                <a:solidFill>
                  <a:srgbClr val="ff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468360" y="3068640"/>
            <a:ext cx="8351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§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 1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Правоотно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hlinkClick r:id="rId4" action="ppaction://hlinksldjump"/>
              </a:rPr>
              <a:t>§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5" action="ppaction://hlinksldjump"/>
              </a:rPr>
              <a:t>  2 Элементы правоотноше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hlinkClick r:id="rId6" action="ppaction://hlinksldjump"/>
              </a:rPr>
              <a:t>§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7" action="ppaction://hlinksldjump"/>
              </a:rPr>
              <a:t>  3 Виды правоотнош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5"/>
          <p:cNvSpPr txBox="1"/>
          <p:nvPr/>
        </p:nvSpPr>
        <p:spPr>
          <a:xfrm>
            <a:off x="1403280" y="981000"/>
            <a:ext cx="61610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3366ff"/>
                </a:solidFill>
                <a:latin typeface="Comic Sans MS"/>
              </a:rPr>
              <a:t>Понятие правоотношений</a:t>
            </a:r>
            <a:endParaRPr b="1" lang="en-US" sz="2000" spc="1" strike="noStrike">
              <a:ln w="3240">
                <a:solidFill>
                  <a:srgbClr val="ffffff"/>
                </a:solidFill>
                <a:miter/>
              </a:ln>
              <a:solidFill>
                <a:srgbClr val="3366ff"/>
              </a:solidFill>
              <a:latin typeface="Comic Sans MS"/>
              <a:ea typeface="Comic Sans MS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539640" y="2060640"/>
            <a:ext cx="82803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Правоотношения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собый вид общественных отношений, носящих волевой характер, возникающих по поводу благ и ценностей, предоставляемых  и защищаемых правовыми нормами, участники которых связаны взаимными юридическими и правами и обязанност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Два деда"/>
          <p:cNvPicPr/>
          <p:nvPr/>
        </p:nvPicPr>
        <p:blipFill>
          <a:blip r:embed="rId1"/>
          <a:stretch/>
        </p:blipFill>
        <p:spPr>
          <a:xfrm>
            <a:off x="755640" y="4365720"/>
            <a:ext cx="3384720" cy="217944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10"/>
          <p:cNvGrpSpPr/>
          <p:nvPr/>
        </p:nvGrpSpPr>
        <p:grpSpPr>
          <a:xfrm>
            <a:off x="7596360" y="6400800"/>
            <a:ext cx="1547640" cy="459720"/>
            <a:chOff x="7596360" y="6400800"/>
            <a:chExt cx="1547640" cy="459720"/>
          </a:xfrm>
        </p:grpSpPr>
        <p:sp>
          <p:nvSpPr>
            <p:cNvPr id="124" name="Text Box 8"/>
            <p:cNvSpPr/>
            <p:nvPr/>
          </p:nvSpPr>
          <p:spPr>
            <a:xfrm>
              <a:off x="8062920" y="640080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u="sng">
                  <a:solidFill>
                    <a:srgbClr val="666699"/>
                  </a:solidFill>
                  <a:uFillTx/>
                  <a:latin typeface="Times New Roman"/>
                  <a:ea typeface="Times New Roman"/>
                  <a:hlinkClick r:id="rId2" action="ppaction://hlinksldjump"/>
                </a:rPr>
                <a:t>Пл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9"/>
            <p:cNvSpPr/>
            <p:nvPr/>
          </p:nvSpPr>
          <p:spPr>
            <a:xfrm>
              <a:off x="7596360" y="6400800"/>
              <a:ext cx="53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§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856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2"/>
          <p:cNvSpPr txBox="1"/>
          <p:nvPr/>
        </p:nvSpPr>
        <p:spPr>
          <a:xfrm>
            <a:off x="1523880" y="457200"/>
            <a:ext cx="6477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ff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Элементы правоотношений</a:t>
            </a:r>
            <a:endParaRPr b="1" i="1" lang="en-US" sz="2000" spc="1" strike="noStrike">
              <a:ln w="12600">
                <a:solidFill>
                  <a:srgbClr val="ffff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-228600" y="2133720"/>
            <a:ext cx="91440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cce6"/>
                </a:solidFill>
                <a:latin typeface="Tahoma"/>
              </a:rPr>
              <a:t>   </a:t>
            </a:r>
            <a:r>
              <a:rPr b="1" i="1" lang="ru-RU" sz="2000" spc="-1" strike="noStrike">
                <a:solidFill>
                  <a:srgbClr val="00007d"/>
                </a:solidFill>
                <a:latin typeface="Tahoma"/>
              </a:rPr>
              <a:t>объекты </a:t>
            </a:r>
            <a:r>
              <a:rPr b="1" i="1" lang="en-US" sz="2000" spc="-1" strike="noStrike">
                <a:solidFill>
                  <a:srgbClr val="00007d"/>
                </a:solidFill>
                <a:latin typeface="Tahoma"/>
              </a:rPr>
              <a:t>правоотношений</a:t>
            </a:r>
            <a:r>
              <a:rPr b="1" i="1" lang="ru-RU" sz="2000" spc="-1" strike="noStrike">
                <a:solidFill>
                  <a:srgbClr val="00007d"/>
                </a:solidFill>
                <a:latin typeface="Tahoma"/>
              </a:rPr>
              <a:t>      с</a:t>
            </a:r>
            <a:r>
              <a:rPr b="1" i="1" lang="en-US" sz="2000" spc="-1" strike="noStrike">
                <a:solidFill>
                  <a:srgbClr val="00007d"/>
                </a:solidFill>
                <a:latin typeface="Tahoma"/>
              </a:rPr>
              <a:t>убъекты правоотношений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7d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7d"/>
                </a:solidFill>
                <a:latin typeface="Tahoma"/>
              </a:rPr>
              <a:t>содержание правоотношени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0" y="2133720"/>
            <a:ext cx="609480" cy="3124080"/>
          </a:xfrm>
          <a:custGeom>
            <a:avLst/>
            <a:gdLst>
              <a:gd name="textAreaLeft" fmla="*/ 81360 w 609480"/>
              <a:gd name="textAreaRight" fmla="*/ 528120 w 609480"/>
              <a:gd name="textAreaTop" fmla="*/ 536400 h 3124080"/>
              <a:gd name="textAreaBottom" fmla="*/ 2329560 h 31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418" stAng="-5400000" swAng="-5400000"/>
                <a:lnTo>
                  <a:pt x="0" y="12396"/>
                </a:lnTo>
                <a:arcTo wR="21600" hR="7418" stAng="10800000" swAng="-1887116"/>
                <a:lnTo>
                  <a:pt x="11025" y="20650"/>
                </a:lnTo>
                <a:lnTo>
                  <a:pt x="21600" y="17325"/>
                </a:lnTo>
                <a:lnTo>
                  <a:pt x="11025" y="12100"/>
                </a:lnTo>
                <a:lnTo>
                  <a:pt x="11025" y="13886"/>
                </a:lnTo>
                <a:arcTo wR="21600" hR="7418" stAng="8912884" swAng="1468680"/>
                <a:lnTo>
                  <a:pt x="1252" y="9907"/>
                </a:lnTo>
                <a:arcTo wR="21600" hR="7418" stAng="-10381564" swAng="4981564"/>
                <a:close/>
              </a:path>
              <a:path fill="darkenLess" w="21600" h="21600">
                <a:moveTo>
                  <a:pt x="21600" y="0"/>
                </a:moveTo>
                <a:arcTo wR="21600" hR="7418" stAng="-5400000" swAng="-5400000"/>
                <a:lnTo>
                  <a:pt x="0" y="7418"/>
                </a:lnTo>
                <a:arcTo wR="21600" hR="7418" stAng="10800000" swAng="-418436"/>
                <a:lnTo>
                  <a:pt x="1252" y="9907"/>
                </a:lnTo>
                <a:arcTo wR="21600" hR="7418" stAng="-10381564" swAng="4981564"/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8381880" y="2133720"/>
            <a:ext cx="762120" cy="3124080"/>
          </a:xfrm>
          <a:custGeom>
            <a:avLst/>
            <a:gdLst>
              <a:gd name="textAreaLeft" fmla="*/ 101880 w 762120"/>
              <a:gd name="textAreaRight" fmla="*/ 660240 w 762120"/>
              <a:gd name="textAreaTop" fmla="*/ 546480 h 3124080"/>
              <a:gd name="textAreaBottom" fmla="*/ 22651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6"/>
          <p:cNvSpPr/>
          <p:nvPr/>
        </p:nvSpPr>
        <p:spPr>
          <a:xfrm>
            <a:off x="4114800" y="3505320"/>
            <a:ext cx="914400" cy="990360"/>
          </a:xfrm>
          <a:prstGeom prst="downArrow">
            <a:avLst>
              <a:gd name="adj1" fmla="val 50000"/>
              <a:gd name="adj2" fmla="val 27077"/>
            </a:avLst>
          </a:pr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7"/>
          <p:cNvSpPr txBox="1"/>
          <p:nvPr/>
        </p:nvSpPr>
        <p:spPr>
          <a:xfrm>
            <a:off x="2133720" y="4572000"/>
            <a:ext cx="4876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ff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Comic Sans MS"/>
              </a:rPr>
              <a:t>Правоотношения</a:t>
            </a:r>
            <a:endParaRPr b="1" i="1" lang="en-US" sz="2000" spc="1" strike="noStrike">
              <a:ln w="12600">
                <a:solidFill>
                  <a:srgbClr val="ffff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Comic Sans MS"/>
              <a:ea typeface="Comic Sans MS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" dur="3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7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4"/>
          <p:cNvSpPr txBox="1"/>
          <p:nvPr/>
        </p:nvSpPr>
        <p:spPr>
          <a:xfrm>
            <a:off x="1619280" y="765000"/>
            <a:ext cx="59626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3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ffff"/>
                    </a:gs>
                    <a:gs pos="100000">
                      <a:srgbClr val="000000"/>
                    </a:gs>
                  </a:gsLst>
                  <a:lin ang="2700000"/>
                </a:gradFill>
                <a:latin typeface="Comic Sans MS"/>
              </a:rPr>
              <a:t>Субъекты правоотношений</a:t>
            </a:r>
            <a:endParaRPr b="1" i="1" lang="en-US" sz="2000" spc="1" strike="noStrike">
              <a:ln w="3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2700000"/>
              </a:gradFill>
              <a:latin typeface="Comic Sans MS"/>
              <a:ea typeface="Comic Sans MS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68360" y="1989000"/>
            <a:ext cx="82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Субъектами правоотношений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- являются лица участники правоотношений, обладающие определенными субъективными правами и юридическими обязанностя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Весы"/>
          <p:cNvPicPr/>
          <p:nvPr/>
        </p:nvPicPr>
        <p:blipFill>
          <a:blip r:embed="rId1"/>
          <a:stretch/>
        </p:blipFill>
        <p:spPr>
          <a:xfrm>
            <a:off x="5796000" y="4292640"/>
            <a:ext cx="2763720" cy="184320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4"/>
          <p:cNvSpPr txBox="1"/>
          <p:nvPr/>
        </p:nvSpPr>
        <p:spPr>
          <a:xfrm>
            <a:off x="2340000" y="836640"/>
            <a:ext cx="4119480" cy="96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solidFill>
                    <a:srgbClr val="ff0000"/>
                  </a:solidFill>
                </a:ln>
                <a:gradFill rotWithShape="0">
                  <a:gsLst>
                    <a:gs pos="0">
                      <a:srgbClr val="006633"/>
                    </a:gs>
                    <a:gs pos="100000">
                      <a:srgbClr val="ffffff">
                        <a:alpha val="50196"/>
                      </a:srgbClr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Comic Sans MS"/>
              </a:rPr>
              <a:t>Виды субъектов</a:t>
            </a:r>
            <a:endParaRPr b="1" i="1" lang="en-US" sz="2000" spc="1" strike="noStrike">
              <a:ln w="0">
                <a:solidFill>
                  <a:srgbClr val="ff0000"/>
                </a:solidFill>
              </a:ln>
              <a:gradFill rotWithShape="0">
                <a:gsLst>
                  <a:gs pos="0">
                    <a:srgbClr val="006633"/>
                  </a:gs>
                  <a:gs pos="100000">
                    <a:srgbClr val="ffffff">
                      <a:alpha val="50196"/>
                    </a:srgbClr>
                  </a:gs>
                </a:gsLst>
                <a:lin ang="54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684360" y="1773360"/>
            <a:ext cx="80643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99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9900"/>
                </a:solidFill>
                <a:latin typeface="Comic Sans MS"/>
              </a:rPr>
              <a:t>Индивидуальные субъе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99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9900"/>
                </a:solidFill>
                <a:latin typeface="Comic Sans MS"/>
              </a:rPr>
              <a:t>Коллективные субъе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99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9900"/>
                </a:solidFill>
                <a:latin typeface="Comic Sans MS"/>
              </a:rPr>
              <a:t>Государство, государственные и муниципальные образ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158760" y="335124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684360" y="3933720"/>
            <a:ext cx="8748720" cy="25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Для частного пра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Физическое лицо - индивидуальные субъекты (граждане, иностранные граждане и пр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Юридические лица (организа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1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4"/>
          <p:cNvSpPr txBox="1"/>
          <p:nvPr/>
        </p:nvSpPr>
        <p:spPr>
          <a:xfrm>
            <a:off x="1476360" y="1125360"/>
            <a:ext cx="59151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ffff00">
                    <a:alpha val="60000"/>
                  </a:srgbClr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Comic Sans MS"/>
              </a:rPr>
              <a:t>Объекты правоотношений</a:t>
            </a:r>
            <a:endParaRPr b="1" i="1" lang="en-US" sz="2000" spc="1" strike="noStrike">
              <a:ln w="3240">
                <a:solidFill>
                  <a:srgbClr val="000000"/>
                </a:solidFill>
                <a:miter/>
              </a:ln>
              <a:solidFill>
                <a:srgbClr val="ffff00">
                  <a:alpha val="60000"/>
                </a:srgbClr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755640" y="2205000"/>
            <a:ext cx="705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Объекты правоотношений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– это предметы окружающего мира, материальное и нематериальное благо, по поводу которого взаимодействуют люди и складываются правоотнош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7" descr="Бабло"/>
          <p:cNvPicPr/>
          <p:nvPr/>
        </p:nvPicPr>
        <p:blipFill>
          <a:blip r:embed="rId1"/>
          <a:stretch/>
        </p:blipFill>
        <p:spPr>
          <a:xfrm>
            <a:off x="6891480" y="4005360"/>
            <a:ext cx="2252520" cy="285264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WordArt 4"/>
          <p:cNvSpPr txBox="1"/>
          <p:nvPr/>
        </p:nvSpPr>
        <p:spPr>
          <a:xfrm>
            <a:off x="1619280" y="907920"/>
            <a:ext cx="5800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27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Comic Sans MS"/>
              </a:rPr>
              <a:t>Содержание правоотношений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27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2124000" y="3573360"/>
            <a:ext cx="23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Субъективные пр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4284720" y="3355920"/>
            <a:ext cx="230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Comic Sans MS"/>
              </a:rPr>
              <a:t>Субъективные юридические обязанности</a:t>
            </a: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7"/>
          <p:cNvSpPr/>
          <p:nvPr/>
        </p:nvSpPr>
        <p:spPr>
          <a:xfrm>
            <a:off x="2124000" y="2924280"/>
            <a:ext cx="4897440" cy="1873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9"/>
          <p:cNvSpPr/>
          <p:nvPr/>
        </p:nvSpPr>
        <p:spPr>
          <a:xfrm>
            <a:off x="4067280" y="1484280"/>
            <a:ext cx="936360" cy="1295280"/>
          </a:xfrm>
          <a:prstGeom prst="upDownArrow">
            <a:avLst>
              <a:gd name="adj1" fmla="val 50000"/>
              <a:gd name="adj2" fmla="val 27538"/>
            </a:avLst>
          </a:prstGeom>
          <a:gradFill rotWithShape="0">
            <a:gsLst>
              <a:gs pos="0">
                <a:srgbClr val="fc9fcb"/>
              </a:gs>
              <a:gs pos="100000">
                <a:srgbClr val="fc9fc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250920" y="4869000"/>
            <a:ext cx="4176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Субъективное право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– это принадлежащая субъекту мера возможного  поведения, регулируемая и охраняемая закон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4932360" y="5013360"/>
            <a:ext cx="3887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Юридическая обязанность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-  предписанная субъекту мера должного поведения, ответствен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12"/>
          <p:cNvGrpSpPr/>
          <p:nvPr/>
        </p:nvGrpSpPr>
        <p:grpSpPr>
          <a:xfrm>
            <a:off x="7596360" y="6400800"/>
            <a:ext cx="1547640" cy="459720"/>
            <a:chOff x="7596360" y="6400800"/>
            <a:chExt cx="1547640" cy="459720"/>
          </a:xfrm>
        </p:grpSpPr>
        <p:sp>
          <p:nvSpPr>
            <p:cNvPr id="155" name="Text Box 13"/>
            <p:cNvSpPr/>
            <p:nvPr/>
          </p:nvSpPr>
          <p:spPr>
            <a:xfrm>
              <a:off x="8062920" y="640080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л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4"/>
            <p:cNvSpPr/>
            <p:nvPr/>
          </p:nvSpPr>
          <p:spPr>
            <a:xfrm>
              <a:off x="7596360" y="6400800"/>
              <a:ext cx="53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§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4420"/>
                            </p:stCondLst>
                            <p:childTnLst>
                              <p:par>
                                <p:cTn id="1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7700"/>
                            </p:stCondLst>
                            <p:childTnLst>
                              <p:par>
                                <p:cTn id="165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8200"/>
                            </p:stCondLst>
                            <p:childTnLst>
                              <p:par>
                                <p:cTn id="172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7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8700"/>
                            </p:stCondLst>
                            <p:childTnLst>
                              <p:par>
                                <p:cTn id="17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4"/>
          <p:cNvSpPr txBox="1"/>
          <p:nvPr/>
        </p:nvSpPr>
        <p:spPr>
          <a:xfrm>
            <a:off x="934920" y="620640"/>
            <a:ext cx="72741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6480">
                  <a:solidFill>
                    <a:srgbClr val="9999ff"/>
                  </a:solidFill>
                  <a:miter/>
                </a:ln>
                <a:solidFill>
                  <a:srgbClr val="339966"/>
                </a:solidFill>
                <a:latin typeface="Comic Sans MS"/>
              </a:rPr>
              <a:t>Классификация правоотношений</a:t>
            </a:r>
            <a:endParaRPr b="1" lang="en-US" sz="2400" spc="1" strike="noStrike">
              <a:ln w="6480">
                <a:solidFill>
                  <a:srgbClr val="9999ff"/>
                </a:solidFill>
                <a:miter/>
              </a:ln>
              <a:solidFill>
                <a:srgbClr val="339966"/>
              </a:solidFill>
              <a:latin typeface="Comic Sans MS"/>
              <a:ea typeface="Comic Sans MS"/>
            </a:endParaRPr>
          </a:p>
        </p:txBody>
      </p:sp>
      <p:sp>
        <p:nvSpPr>
          <p:cNvPr id="159" name="WordArt 5"/>
          <p:cNvSpPr txBox="1"/>
          <p:nvPr/>
        </p:nvSpPr>
        <p:spPr>
          <a:xfrm>
            <a:off x="2698920" y="1700280"/>
            <a:ext cx="3744720" cy="10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ff"/>
                </a:solidFill>
                <a:latin typeface="Times New Roman"/>
              </a:rPr>
              <a:t>Правоотношения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ff"/>
              </a:solidFill>
              <a:latin typeface="Times New Roman"/>
              <a:ea typeface="Times New Roman"/>
            </a:endParaRPr>
          </a:p>
        </p:txBody>
      </p:sp>
      <p:sp>
        <p:nvSpPr>
          <p:cNvPr id="160" name="AutoShape 6"/>
          <p:cNvSpPr/>
          <p:nvPr/>
        </p:nvSpPr>
        <p:spPr>
          <a:xfrm rot="17628600">
            <a:off x="2311200" y="3236400"/>
            <a:ext cx="1800360" cy="216000"/>
          </a:xfrm>
          <a:prstGeom prst="leftArrow">
            <a:avLst>
              <a:gd name="adj1" fmla="val 50000"/>
              <a:gd name="adj2" fmla="val 208375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7"/>
          <p:cNvSpPr/>
          <p:nvPr/>
        </p:nvSpPr>
        <p:spPr>
          <a:xfrm rot="15300000">
            <a:off x="5074920" y="3212640"/>
            <a:ext cx="1657440" cy="216000"/>
          </a:xfrm>
          <a:prstGeom prst="leftArrow">
            <a:avLst>
              <a:gd name="adj1" fmla="val 50000"/>
              <a:gd name="adj2" fmla="val 191833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1476360" y="4292640"/>
            <a:ext cx="27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Частноправ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4500720" y="4292640"/>
            <a:ext cx="331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Публично-правов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1476360" y="429264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Относитель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5148360" y="4292640"/>
            <a:ext cx="215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Абсолют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1547640" y="4292640"/>
            <a:ext cx="23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Comic Sans MS"/>
              </a:rPr>
              <a:t>Регуляти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3"/>
          <p:cNvSpPr/>
          <p:nvPr/>
        </p:nvSpPr>
        <p:spPr>
          <a:xfrm>
            <a:off x="4932360" y="4292640"/>
            <a:ext cx="26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Comic Sans MS"/>
              </a:rPr>
              <a:t>Охранитель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6"/>
          <p:cNvSpPr/>
          <p:nvPr/>
        </p:nvSpPr>
        <p:spPr>
          <a:xfrm>
            <a:off x="7920000" y="64008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5T11:50:17Z</dcterms:created>
  <dc:creator>User</dc:creator>
  <dc:description/>
  <dc:language>en-US</dc:language>
  <cp:lastModifiedBy>LEGION</cp:lastModifiedBy>
  <dcterms:modified xsi:type="dcterms:W3CDTF">2015-01-28T08:19:50Z</dcterms:modified>
  <cp:revision>21</cp:revision>
  <dc:subject/>
  <dc:title>Слайд 1</dc:title>
</cp:coreProperties>
</file>