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169B-CB59-48ED-B62C-A0CD59B846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1FA8-063D-4151-B282-F2CF66B72F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4B37-BBC1-460D-8C65-63B6A62DFD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тилитаризм = максимизация общественного сча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ардина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межличностного сравнения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CD16-D416-44AA-ACEE-B35ED84651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225A-C1CB-40E1-B660-65612F684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эффективности по Паре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ения индивидов рассматриваются как заранее заданные и неиз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какие-либо пределы рыночных отношений: моральные нормы не имеют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4C34-E5A6-4D79-84BD-DA511CBF0B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Калдора – Хикса (потенциальное улучшение по Парет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состоя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сли те, кто выигрывает при переходе о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86CE-6CB2-4C0E-935B-1A99A0F446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максимизации богатства (Р. Познер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611A-0728-4A06-9303-6B28DC98AB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ритерий Рол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агосостояние общества оценивается по благосостоянию самого слабого его чле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благосостояние, как произведение полез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2A32-0479-4569-AAB9-804F143FC5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ффективность, как критерий оценки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терий утилитаризма и критерий Рол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32B1-742A-4DC7-998D-0E213F79D1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СЭ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to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Or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6C83-D447-4526-B506-0FE1D3651A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неумышленное причинение ущер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обходимость компенсации ущерба жертве несчастного случ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езыблемость обещаний и компенсация за нарушение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идея воздающего правосуд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51C8-6355-41F5-8B4E-79EB31CA41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ambridge (MA): Harvard University P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00A1-F573-400E-A233-B762A82EBB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то такое «справедливость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уальная справедлив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B18E-6DCE-426B-8DCB-B171BEC4D8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622C-E0A1-4941-9220-2F16BF1F52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спределительная справед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B1CA-7FD2-4635-83B1-EEDEC251D7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B971-C631-48A5-8F60-A37D4C600E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D72B-DD11-40DD-BE3C-7FF7CED9D6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распределения богат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 с помощью правов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8901-05BC-4D6D-9BB1-9917F38F63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индивидов подрываются стимулы к производи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функционирования налог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ACF0-EDA9-4A3D-9846-149B2F5004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раведливость и эффе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B88F-DBB7-4D7C-86CA-F0A75C623F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бовцев В.Л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 и экономическая тео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нфра-М. 2005. Гл. 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цова М.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ка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.: Издательский дом ГУ-ВШЭ. 2007. Гл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vell, Steven. 2004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oundations of Economic Analysis of Law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Cambridge (MA): Harvard University Press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. 28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. ‘Income Distributional Equity and the Law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4A5C-942E-4276-9BDA-59F635C72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анализ пра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 and Economics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конодательных и судебных решений экономическими мето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3740-D0E3-4C56-BDA2-22C4184450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e, Ronald H. 19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The Problem of Social Cost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Law and Econom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(1):1-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abresi, Guido. 1961. ‘Some Thoughts on Risk Distribution and the Law of Torts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Yale Law Jour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0(4):499-5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ker, Gary S. 1968. ‘Crime and Punishment: An Economic Approach’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ournal of Political Econom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6(2):169-2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C864-5604-4A1E-B7A1-B324266400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имеет дело с предельными величи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подход к праву уделяет основное внимание созданию стиму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an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B302-4A33-4269-8076-7B49A68B46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кономический подход к анализу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новные предпосыл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5CC9-74AF-47C8-A7D3-BB2115328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181-C840-445F-AEBF-AA678AC6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128-9067-413F-8C2C-3102596C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0A9-1E5C-4275-8AE0-072EFB44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31D-F32F-417E-8C49-CA951E0C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B498-1186-47EF-9C23-F0BB6AE7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CE80-E913-4D9B-B7FD-E8903D5F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D2DE-9F40-4D24-A147-0D4EE747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B8DB-A89C-4954-ADCB-12EA8093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2AF4-8982-4038-87F2-DA752B54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363C-89F0-4125-AF99-A48E2FFD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7BF3-FAC1-4B18-93E6-65F7C826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603-9786-46D9-940C-2702927B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704A-0581-4F17-A205-8DFB4C4A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0218-7DD0-444A-979E-8EE27FC6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78A0-9A53-4765-B59B-395AD06A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20AC-E16C-4767-86C2-9C53A7A5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AB28-58E7-4662-9816-4DA6D27F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A6734-6006-4379-B4FF-217CADCB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C5E30-AC86-4FAB-9242-1397BDCB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4DEF3-AB1F-4314-9B2E-074534EC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FF16F-40BF-4AF8-9C22-A424BD0D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0FE4F-9C7C-4784-B6C6-9806933E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4EB-0FA8-4BC1-9C2A-354F02AD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AF349-EC6F-4023-85F5-A56BB80A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D8967-48D5-4240-9C10-1F67A0C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28092-5125-44A3-B4DE-D6DAB5E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F7704-164A-4EA1-947F-4D8E2AF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E5D0C-AA19-4574-B255-D74A9BB6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32F32-91E2-4EB9-B134-2A008831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C15CD-ACCC-4652-89DF-B9AFB86C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EB133-0B67-48FE-8A72-8285CC43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0F39-A25A-450D-8EBB-6FEFAD56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C08AF-15AD-4B88-A9F1-453CC59D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3F7-799E-411C-90CC-7AB02E10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6768-B6FC-4909-A7AC-513467E5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CD86A-C607-4EA2-AEC0-8D245DBE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CDC8-4176-4BF3-BD43-EF3D24E1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676D7-E070-415B-A07E-1C7A345B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FEA9-95A4-49B6-BB9F-4D7EE4DA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F26A-06FA-42C3-86B4-2EF78D48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31C16-8CBB-4E9F-970B-A4F1C01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9DC62-0B1E-484A-90A4-306469A9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12C2-BB53-4BE1-BF7F-53706E3B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384-175D-4591-89AA-CE73BC68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2B6-ADAE-40B1-9673-E8956486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45F-8CC8-48A9-8A47-AFAE558C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769-0A7D-431A-9DD2-C5F00532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B78-71BD-4712-AEA6-CA4DF262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B236-9476-4466-8AA2-95808ED17871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56E1-0856-400B-9773-674F4EDE309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0D01-B651-4A5B-97EF-9CBCFC025B62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26C3-45DD-43F5-B10A-4912BDF56B3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26EB-DCBA-4B95-ABCF-1381B960EDF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D156-E721-4655-9B63-532AC764C01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DCD8-F2F1-44D7-948D-E4DF6D2AB0E6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B03E-2E33-486E-9EAA-47F741F8BE8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НОМИЧЕСКИЙ АНАЛИЗ ПРА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1143000" y="1643040"/>
            <a:ext cx="6500880" cy="64296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Экономический анализ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285840" y="3097080"/>
            <a:ext cx="4143240" cy="361800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озитивный подход: определяет степень соответствия действующих правовых норм требованиям экономической эффе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"/>
          <p:cNvSpPr/>
          <p:nvPr/>
        </p:nvSpPr>
        <p:spPr>
          <a:xfrm>
            <a:off x="4714920" y="3092400"/>
            <a:ext cx="4143240" cy="3622680"/>
          </a:xfrm>
          <a:prstGeom prst="rect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ормативный подход: предполагает внесение изменений в правовые нормы, основываясь на выводах экономической те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6"/>
          <p:cNvSpPr/>
          <p:nvPr/>
        </p:nvSpPr>
        <p:spPr>
          <a:xfrm>
            <a:off x="21430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низ 8"/>
          <p:cNvSpPr/>
          <p:nvPr/>
        </p:nvSpPr>
        <p:spPr>
          <a:xfrm>
            <a:off x="6500880" y="2286000"/>
            <a:ext cx="500040" cy="7858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тилитаризм = максимизация общественного счасть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благосостояния          чтобы выбрать наилучшую для общества альтернативу, нужно определить полезность его членов при различных альтернатив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кардинал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можность межличностного сравнения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60" name="Прямая со стрелкой 4"/>
          <p:cNvCxnSpPr/>
          <p:nvPr/>
        </p:nvCxnSpPr>
        <p:spPr>
          <a:xfrm>
            <a:off x="4785840" y="3857760"/>
            <a:ext cx="7866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14200" y="1571760"/>
            <a:ext cx="8715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Овал 5"/>
          <p:cNvSpPr/>
          <p:nvPr/>
        </p:nvSpPr>
        <p:spPr>
          <a:xfrm>
            <a:off x="214200" y="2571840"/>
            <a:ext cx="8643960" cy="4000320"/>
          </a:xfrm>
          <a:prstGeom prst="ellipse">
            <a:avLst/>
          </a:prstGeom>
          <a:solidFill>
            <a:srgbClr val="a04da3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ритерий эффективности по Парето: если закон или судебное решение приведет к улучшению положения хотя бы одного индивида, не ухудшая положения других, этот закон (судебное решение) – улучшение по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ритерий эффективности по Парет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ения индивидов рассматриваются как заранее заданные и неизменны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нцип эффективности по Парето не принимает во внимание справедливость распределения доход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уют какие-либо пределы рыночных отношений: моральные нормы не имеют знач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Калдора – Хикса (потенциальное улучшение по Парето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стояние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редпочтительнее состояния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если те, кто выигрывает при переходе от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к </a:t>
            </a: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могут полностью компенсировать убытки тех, кто проигрывает при этом переходе, и все равно остаться в выигрыше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максимизации богатства (Р. Познер)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Скругленный прямоугольник 3"/>
          <p:cNvSpPr/>
          <p:nvPr/>
        </p:nvSpPr>
        <p:spPr>
          <a:xfrm>
            <a:off x="285840" y="3786120"/>
            <a:ext cx="8643960" cy="271476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Если блага находятся в руках людей, готовых предложить за них максимальную цену, то общество достигнет цели максимизации совокупного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Благосостояние общества оценивается по благосостоянию самого слабого его член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окупное благосостояние, как произведение полез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е общественное устройство – такое, которое выбрали бы индивиды, если бы на них не оказывали влияния их эгоистические интере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Эффективность, как критерий оценки правовых норм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Критерий утилитаризма и критерий Ролза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14200" y="3071880"/>
          <a:ext cx="8715600" cy="362736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стояние об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ж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смераль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тилитариз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л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82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ь – понятие о должном, соответствующее определённым представлениям о сущности человека и его неотъемлемых правах.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СЭ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Я посвящаю свою жизнь войне за справедливость в этом жестоком мире. Только справедливость означает свободу, равенство, братство. 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Zet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раведливости нет. Но если принять это как аксиому и перестать её добиваться, то будет гораздо хуже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Oro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тветственность за неумышленное причинение ущерб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обходимость компенсации ущерба жертве несчастного случ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Договор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незыблемость обещаний и компенсация за нарушение обязатель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Уголовное прав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идея воздающего правосуд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Cambridge (MA): Harvard University Pres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Что такое «справедливость»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оцессуальная справедливост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: следование ранее установленным правилам, информация о которых предоставлена индивидам, а также возможность участия индивидов в выработке и установлении этих прави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Скругленный прямоугольник 3"/>
          <p:cNvSpPr/>
          <p:nvPr/>
        </p:nvSpPr>
        <p:spPr>
          <a:xfrm>
            <a:off x="214200" y="250020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43808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Пети есть 65 у.е., у Васи – 35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214200" y="3214800"/>
            <a:ext cx="8643960" cy="571320"/>
          </a:xfrm>
          <a:prstGeom prst="roundRect">
            <a:avLst>
              <a:gd name="adj" fmla="val 16667"/>
            </a:avLst>
          </a:prstGeom>
          <a:solidFill>
            <a:srgbClr val="83bcc1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стоит 3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5"/>
          <p:cNvSpPr/>
          <p:nvPr/>
        </p:nvSpPr>
        <p:spPr>
          <a:xfrm>
            <a:off x="214200" y="392904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add2d6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троительство дамбы принесет 40 у.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6"/>
          <p:cNvSpPr/>
          <p:nvPr/>
        </p:nvSpPr>
        <p:spPr>
          <a:xfrm>
            <a:off x="214200" y="4643280"/>
            <a:ext cx="8643960" cy="571680"/>
          </a:xfrm>
          <a:prstGeom prst="roundRect">
            <a:avLst>
              <a:gd name="adj" fmla="val 16667"/>
            </a:avLst>
          </a:prstGeom>
          <a:solidFill>
            <a:srgbClr val="d6e9ea">
              <a:alpha val="46000"/>
            </a:srgbClr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се издержки строительства несет Ва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7"/>
          <p:cNvSpPr/>
          <p:nvPr/>
        </p:nvSpPr>
        <p:spPr>
          <a:xfrm>
            <a:off x="214200" y="5572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3e3f68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eorgia"/>
              </a:rPr>
              <a:t>Нужно ли строить дамб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8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Распределительная справедлив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доход не может быть перераспределен без издержек, то между справедливостью и эффективностью может возникнуть конфлик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этого конфликта зависит от распределительных последствий эффективного решения и от того, какое распределение доходов считается справедливым в этом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чтительнее такое распределение дохода, которое приведет к максимизации общественного богатст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ельная полезность денег для бедных больше, чем для богатых, поэтому перераспределение может увеличить общественное благосостоя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пределение доходов влияет на распределение полезности, поэтому общественное благосостояние может зависеть непосредственно от того, насколько равномерно распределены доходы в обществ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Влияние распределения богатства на общественное благосостояние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спределение доходов может влиять на общественное благосостояние, так как индивидуальная полезность может зависеть от распределения доходов во всем обществе, отражая чувство альтруизма и симпатии данного индивида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1143000" y="1643040"/>
            <a:ext cx="6500880" cy="928800"/>
          </a:xfrm>
          <a:prstGeom prst="rect">
            <a:avLst/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Способы перераспределения богат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85840" y="3811680"/>
            <a:ext cx="4143240" cy="211752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Налоги и трансфер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4714920" y="3786120"/>
            <a:ext cx="4143240" cy="2143080"/>
          </a:xfrm>
          <a:prstGeom prst="rect">
            <a:avLst/>
          </a:prstGeom>
          <a:solidFill>
            <a:srgbClr val="c4652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eorgia"/>
              </a:rPr>
              <a:t>Перераспределение с помощью правового регул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6"/>
          <p:cNvSpPr/>
          <p:nvPr/>
        </p:nvSpPr>
        <p:spPr>
          <a:xfrm>
            <a:off x="21430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8"/>
          <p:cNvSpPr/>
          <p:nvPr/>
        </p:nvSpPr>
        <p:spPr>
          <a:xfrm>
            <a:off x="6500880" y="257184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62331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2848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логовая система призвана выравнивать доходы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жду членами общества, но оптимальное, с точки зрения максимизации общественного благосостояния распределение доходов невозможно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индивидов подрываются стимулы к производительной деятель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дминистративные издержки функционирования налоговой систем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162864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Справедливость и эффективность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овое регулирование, как система перераспределения, более эффективно, чем налоговая система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42960" indent="-5335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??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1357200" y="857160"/>
            <a:ext cx="6572520" cy="114300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ttp://www.nber.org/paper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1357200" y="3214800"/>
            <a:ext cx="2500560" cy="7858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h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4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5"/>
          <p:cNvSpPr/>
          <p:nvPr/>
        </p:nvSpPr>
        <p:spPr>
          <a:xfrm>
            <a:off x="1357200" y="4286160"/>
            <a:ext cx="571680" cy="1285920"/>
          </a:xfrm>
          <a:prstGeom prst="ellipse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2143080" y="3786120"/>
            <a:ext cx="5429160" cy="571680"/>
          </a:xfrm>
          <a:prstGeom prst="rect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9694-w9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амбовцев В.Л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Право и экономическая теория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нфра-М. 2005. Гл. 1,2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динцова М.И.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Экономика прав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 М.: Издательский дом ГУ-ВШЭ. 2007. Гл. 1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havell, Steven. 2004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Foundations of Economic Analysis of Law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 Cambridge (MA): Harvard University Press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h. 28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. ‘Income Distributional Equity and the Law’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Экономический анализ права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aw and Economics) –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анализ законодательных и судебных решений экономическими методам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ase, Ronald H. 1960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‘The Problem of Social Cost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Law and Economic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3(1):1-44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labresi, Guido. 1961. ‘Some Thoughts on Risk Distribution and the Law of Torts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Yale Law Journal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0(4):499-553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ker, Gary S. 1968. ‘Crime and Punishment: An Economic Approach’.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Journal of Political Econom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76(2):169-21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соответствии с экономическим подходом к праву, индивиды – рациональные экономические агенты, максимизирующие свою полез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имеет дело с предельными величинам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кономический подход к праву уделяет основное внимание созданию стимулов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x ant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504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. Экономический подход к анализу права.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сновные предпосыл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Овал 3"/>
          <p:cNvSpPr/>
          <p:nvPr/>
        </p:nvSpPr>
        <p:spPr>
          <a:xfrm>
            <a:off x="714240" y="2857680"/>
            <a:ext cx="7715520" cy="307152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авовые нормы = система неявных цен, которая создает для индивидов соответствующие стим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02:24Z</dcterms:created>
  <dc:creator>www.PHILka.RU</dc:creator>
  <dc:description/>
  <dc:language>en-US</dc:language>
  <cp:lastModifiedBy>LEGION</cp:lastModifiedBy>
  <dcterms:modified xsi:type="dcterms:W3CDTF">2015-01-28T08:21:50Z</dcterms:modified>
  <cp:revision>63</cp:revision>
  <dc:subject/>
  <dc:title>ЭКОНОМИЧЕСКИЙ АНАЛИЗ ПРАВА</dc:title>
</cp:coreProperties>
</file>