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AD32-2223-49B5-BD92-28516A2B1C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2D04-712D-4C3E-A41C-8212DC1FBE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й подход: определяет степень соответствия действующих правовых норм требованиям экономической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й подход: предполагает внесение изменений в правовые нормы, основываясь на выводах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DE5C-A2A6-42F0-B17D-D9AB67C951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тилитаризм = максимизация общественного сча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благосостояния          чтобы выбрать наилучшую для общества альтернативу, нужно определить полезность его членов при различных альтернати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кардинал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межличностного сравнения полез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67DF-5C80-4124-8858-2797614C2B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эффективности по Парето: если закон или судебное решение приведет к улучшению положения хотя бы одного индивида, не ухудшая положения других, этот закон (судебное решение) – улучшение по Паре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8BBF-487B-4AD7-BDCF-4E16D98533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эффективности по Паре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ения индивидов рассматриваются как заранее заданные и неизм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эффективности по Парето не принимает во внимание справедливость распределения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какие-либо пределы рыночных отношений: моральные нормы не имеют 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E11A-8142-4528-BE91-62204E48EE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Калдора – Хикса (потенциальное улучшение по Парето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ительнее состоя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если те, кто выигрывает при переходе о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полностью компенсировать убытки тех, кто проигрывает при этом переходе, и все равно остаться в выигр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E3DB-1FCE-4D27-92D8-3FBD728DFD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максимизации богатства (Р. Познер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71BC-D1AB-4A9E-A887-5472C1222B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Критерий Ролз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лагосостояние общества оценивается по благосостоянию самого слабого его член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благосостояние, как произведение полез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е общественное устройство – такое, которое выбрали бы индивиды, если бы на них не оказывали влияния их эгоистические интере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478D-531B-42D4-BB87-EF7A478073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утилитаризма и критерий Рол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737B-4201-44D2-94E0-648B7CC66D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ь – понятие о должном, соответствующее определённым представлениям о сущности человека и его неотъемлемых правах.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СЭ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посвящаю свою жизнь войне за справедливость в этом жестоком мире. Только справедливость означает свободу, равенство, братство.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eto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и нет. Но если принять это как аксиому и перестать её добиваться, то будет гораздо хуже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Or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33A1-8602-427F-AF53-8E07A69DDC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ветственность за неумышленное причинение ущерб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еобходимость компенсации ущерба жертве несчастного случ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говор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езыблемость обещаний и компенсация за нарушение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идея воздающего правосуд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E7CC-878A-4BD5-AF22-54697B78A8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бовцев В.Л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 и экономическая тео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нфра-М.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цова М.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ка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здательский дом ГУ-ВШЭ.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vell, Steven. 2004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ndations of Economic Analysis of La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Cambridge (MA): Harvard University Pr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6045-E29A-49BA-827E-10E85E1BF0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цессуальная справедлив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следование ранее установленным правилам, информация о которых предоставлена индивидам, а также возможность участия индивидов в выработке и установлении этих прав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34EE-83D7-4AD7-A930-B98D5F1AA5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пределительная справедл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3577-991E-43F3-8BBF-8B62DFCD31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Распределительная справедлив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 не может быть перераспределен без издержек, то между справедливостью и эффективностью может возникнуть конфл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этого конфликта зависит от распределительных последствий эффективного решения и от того, какое распределение доходов считается справедливым в этом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ительнее такое распределение дохода, которое приведет к максимизации общественного богат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D3E1-0AA3-4E45-A8D8-C686F0E087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ая полезность денег для бедных больше, чем для богатых, поэтому перераспределение может увеличить общественное благо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ов влияет на распределение полезности, поэтому общественное благосостояние может зависеть непосредственно от того, насколько равномерно распределены доходы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E60F-FC61-4267-8BFC-69DF4C062F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ов может влиять на общественное благосостояние, так как индивидуальная полезность может зависеть от распределения доходов во всем обществе, отражая чувство альтруизма и симпатии данного инди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18E1-B147-43E9-9592-C9064761BF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ерераспределения богат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ение с помощью правов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01CC-2595-4BF5-81E7-F9897A8FBD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логовая система призвана выравнивать доходы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жду членами общества, но оптимальное, с точки зрения максимизации общественного благосостояния распределение доходов невозмож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индивидов подрываются стимулы к производите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издержки функционирования налогов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2A54-34A3-4681-9D49-3D3411BFB0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, как система перераспределения, более эффективно, чем налоговая система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F300-AF92-4153-A387-599DC20144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бовцев В.Л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 и экономическая тео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нфра-М. 2005. Гл. 1,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цова М.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ка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здательский дом ГУ-ВШЭ. 2007. Гл.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vell, Steven. 2004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ndations of Economic Analysis of La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 Cambridge (MA): Harvard University Press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. 28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. ‘Income Distributional Equity and the Law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596F-269D-4FE7-BAC4-90A84DCB0B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and Economics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законодательных и судебных решений экономическими мет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63A5-4586-46F0-A06D-63B228ABC8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se, Ronald H. 196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‘The Problem of Social Cost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Journal of Law and Economic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(1):1-4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abresi, Guido. 1961. ‘Some Thoughts on Risk Distribution and the Law of Torts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Yale Law Jour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0(4):499-55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ker, Gary S. 1968. ‘Crime and Punishment: An Economic Approach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Journal of Political Econom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6(2):169-2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50FE-AB62-4282-BE32-C1567A4389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е предпо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экономическим подходом к праву, индивиды – рациональные экономические агенты, максимизирующие свою поле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подход к праву имеет дело с предельными величи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подход к праву уделяет основное внимание созданию стимуло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 ant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7763-D45C-4ADB-9CC3-B954B65C19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Основные предпосыл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нормы = система неявных цен, которая создает для индивидов соответствующие стим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0C89-7987-4B28-968F-5790CF9636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37A3-B4A6-4AA7-A2FA-DC0D25F9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58C3-E2CD-4F81-8E59-64D465DC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E885-5E0F-4E35-AFB3-F165AF65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715-B0F9-47A6-B8C2-6BE816EF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84B0-C197-4825-99AB-965BB792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7B05-3B79-4195-AFD3-149FCB48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C9A9-1BC5-4ACC-8671-0DED55EA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7E71-F506-46DC-8460-40123AD2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8AEB-E393-48D8-9675-028A90C9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DF3B-8328-47FA-A467-2D51A2D5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1B4D-63A0-4AEF-A7E8-F4E32629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7DF-B0C7-4B16-ADE1-E9504B88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FC11-A4F9-4E28-9CBD-056AC909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D584-58B7-4DD7-AEE3-79F50937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4D40-B7BB-4C6E-B428-4E9EAFB7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553E-FB8D-4181-BCF1-5F7EA7CC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DEBC-D495-4B25-9CB4-C28F2FD6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C17848-16CD-42F1-B1DB-1C836114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463CEE-C1CD-49D7-A8E8-CA7463BC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FC9EC-8ED3-4347-AF50-78AEBB0C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4667C-5CBD-417F-A4EF-D91E5F6A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BB4F3A-3B16-437F-BEBF-E9515554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C447-5C41-4D01-BCA0-0211EC04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B05E1-7A1B-45D0-AF8A-816C9416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66E5F9-3E93-4130-9FB2-80D56EAB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9AADB-E6FD-4950-AF80-5CB35C0B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07F96A-2339-4E7B-B032-0FB5F8CE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47314-04FC-473F-A042-B1D935F5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4C595-E368-4E3F-98B4-F33EE587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C425B5-BDE2-4866-A492-8DEEC151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FD854-CD66-4F5D-AB56-7AFCD434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13CA1-8EFD-41BF-9B2C-44A99980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859E2-1583-4399-90F9-77F65675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3C51-DFB5-49CE-B8CB-7A1BEE3C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F76B5-9264-4DBD-90F7-62155683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3FE64-0BE4-4779-AB6B-D9A42456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CAEF2-E522-4DD8-AC8F-C1C58F56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0B643-D98F-45E3-ABB9-78CC79F1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752C8-C3CE-46FE-9A69-72DC861A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8F5FA-5766-4988-8C9B-D4E0BFFB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74C33-7EE2-4181-813A-09B2B7BB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0DE64-5A53-4D4E-BFF1-26415FF8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871F2-B769-4E0E-9402-05A6FA4C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1456-EFF8-4A11-BC00-D5A1F1BD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5A99-42A9-4E23-85B7-E37BBE9C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4850-B3CC-40D0-B52C-E4E88825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68D-EAFB-4C46-A092-59268BEB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C475-E8F7-49A3-A106-ED7B3652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B907-40E3-4F01-9380-F0541E1D1DB4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B611-DB81-4D40-947E-109CEFEE2EA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004E-3684-4DF3-98B1-C6E6EBEC4DDF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83A9-4F1F-4ECA-8BA8-2CA5A2558F1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C252-D77B-417B-9E28-2C21BCCC0644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028B-5EE0-46CB-A0CC-D12929F49C7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2BC3-73C7-41BB-8174-FB811DD5758C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8FF3-619B-430A-A586-38BBCD5A86A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ЭКОНОМИЧЕСКИЙ АНАЛИЗ ПРАВ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3"/>
          <p:cNvSpPr/>
          <p:nvPr/>
        </p:nvSpPr>
        <p:spPr>
          <a:xfrm>
            <a:off x="1143000" y="1643040"/>
            <a:ext cx="6500880" cy="64296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Экономический анализ пра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285840" y="3097080"/>
            <a:ext cx="4143240" cy="3618000"/>
          </a:xfrm>
          <a:prstGeom prst="rect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Позитивный подход: определяет степень соответствия действующих правовых норм требованиям экономической эффектив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5"/>
          <p:cNvSpPr/>
          <p:nvPr/>
        </p:nvSpPr>
        <p:spPr>
          <a:xfrm>
            <a:off x="4714920" y="3092400"/>
            <a:ext cx="4143240" cy="3622680"/>
          </a:xfrm>
          <a:prstGeom prst="rect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ормативный подход: предполагает внесение изменений в правовые нормы, основываясь на выводах экономической тео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трелка вниз 6"/>
          <p:cNvSpPr/>
          <p:nvPr/>
        </p:nvSpPr>
        <p:spPr>
          <a:xfrm>
            <a:off x="2143080" y="2286000"/>
            <a:ext cx="500040" cy="7858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трелка вниз 8"/>
          <p:cNvSpPr/>
          <p:nvPr/>
        </p:nvSpPr>
        <p:spPr>
          <a:xfrm>
            <a:off x="6500880" y="2286000"/>
            <a:ext cx="500040" cy="7858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тилитаризм = максимизация общественного счасть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благосостояния          чтобы выбрать наилучшую для общества альтернативу, нужно определить полезность его членов при различных альтернатива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кардинализ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можность межличностного сравнения полезнос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60" name="Прямая со стрелкой 4"/>
          <p:cNvCxnSpPr/>
          <p:nvPr/>
        </p:nvCxnSpPr>
        <p:spPr>
          <a:xfrm>
            <a:off x="4785840" y="3857760"/>
            <a:ext cx="786600" cy="21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14200" y="1571760"/>
            <a:ext cx="8715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Овал 5"/>
          <p:cNvSpPr/>
          <p:nvPr/>
        </p:nvSpPr>
        <p:spPr>
          <a:xfrm>
            <a:off x="214200" y="2571840"/>
            <a:ext cx="8643960" cy="4000320"/>
          </a:xfrm>
          <a:prstGeom prst="ellipse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ритерий эффективности по Парето: если закон или судебное решение приведет к улучшению положения хотя бы одного индивида, не ухудшая положения других, этот закон (судебное решение) – улучшение по Пар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ритерий эффективности по Парет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почтения индивидов рассматриваются как заранее заданные и неизменны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эффективности по Парето не принимает во внимание справедливость распределения доход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уют какие-либо пределы рыночных отношений: моральные нормы не имеют знач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Калдора – Хикса (потенциальное улучшение по Парето)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остояние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А 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предпочтительнее состояния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, если те, кто выигрывает при переходе от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к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могут полностью компенсировать убытки тех, кто проигрывает при этом переходе, и все равно остаться в выигрыше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максимизации богатства (Р. Познер)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Скругленный прямоугольник 3"/>
          <p:cNvSpPr/>
          <p:nvPr/>
        </p:nvSpPr>
        <p:spPr>
          <a:xfrm>
            <a:off x="285840" y="3786120"/>
            <a:ext cx="8643960" cy="2714760"/>
          </a:xfrm>
          <a:prstGeom prst="roundRect">
            <a:avLst>
              <a:gd name="adj" fmla="val 16667"/>
            </a:avLst>
          </a:prstGeom>
          <a:solidFill>
            <a:srgbClr val="43808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Если блага находятся в руках людей, готовых предложить за них максимальную цену, то общество достигнет цели максимизации совокупного богат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Ролза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Благосостояние общества оценивается по благосостоянию самого слабого его члена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вокупное благосостояние, как произведение полезнос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е общественное устройство – такое, которое выбрали бы индивиды, если бы на них не оказывали влияния их эгоистические интере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утилитаризма и критерий Ролза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14200" y="3071880"/>
          <a:ext cx="8715600" cy="362736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5184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остояние об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а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ж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смераль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тилитариз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ол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4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82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сть – понятие о должном, соответствующее определённым представлениям о сущности человека и его неотъемлемых правах. 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СЭ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Я посвящаю свою жизнь войне за справедливость в этом жестоком мире. Только справедливость означает свободу, равенство, братство. 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Zetov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сти нет. Но если принять это как аксиому и перестать её добиваться, то будет гораздо хуже.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Oro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Ответственность за неумышленное причинение ущерб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необходимость компенсации ущерба жертве несчастного случа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Договорное прав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незыблемость обещаний и компенсация за нарушение обязательств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Уголовное прав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идея воздающего правосуди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Литера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амбовцев В.Л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аво и экономическая теория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нфра-М. 2005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динцова М.И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Экономика прав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здательский дом ГУ-ВШЭ. 2007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havell, Steven. 2004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Foundations of Economic Analysis of Law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 Cambridge (MA): Harvard University Pres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оцессуальная справедливость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следование ранее установленным правилам, информация о которых предоставлена индивидам, а также возможность участия индивидов в выработке и установлении этих прави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Распределительная справедлив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Скругленный прямоугольник 3"/>
          <p:cNvSpPr/>
          <p:nvPr/>
        </p:nvSpPr>
        <p:spPr>
          <a:xfrm>
            <a:off x="214200" y="250020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43808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У Пети есть 65 у.е., у Васи – 35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4"/>
          <p:cNvSpPr/>
          <p:nvPr/>
        </p:nvSpPr>
        <p:spPr>
          <a:xfrm>
            <a:off x="214200" y="3214800"/>
            <a:ext cx="8643960" cy="571320"/>
          </a:xfrm>
          <a:prstGeom prst="roundRect">
            <a:avLst>
              <a:gd name="adj" fmla="val 16667"/>
            </a:avLst>
          </a:prstGeom>
          <a:solidFill>
            <a:srgbClr val="83bcc1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троительство дамбы стоит 30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5"/>
          <p:cNvSpPr/>
          <p:nvPr/>
        </p:nvSpPr>
        <p:spPr>
          <a:xfrm>
            <a:off x="214200" y="392904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add2d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троительство дамбы принесет 40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6"/>
          <p:cNvSpPr/>
          <p:nvPr/>
        </p:nvSpPr>
        <p:spPr>
          <a:xfrm>
            <a:off x="214200" y="464328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d6e9ea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Все издержки строительства несет Ва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7"/>
          <p:cNvSpPr/>
          <p:nvPr/>
        </p:nvSpPr>
        <p:spPr>
          <a:xfrm>
            <a:off x="214200" y="5572080"/>
            <a:ext cx="8643960" cy="928800"/>
          </a:xfrm>
          <a:prstGeom prst="roundRect">
            <a:avLst>
              <a:gd name="adj" fmla="val 16667"/>
            </a:avLst>
          </a:prstGeom>
          <a:solidFill>
            <a:srgbClr val="3e3f68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Нужно ли строить дамб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8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Распределительная справедлив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доход не может быть перераспределен без издержек, то между справедливостью и эффективностью может возникнуть конфлик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никновение этого конфликта зависит от распределительных последствий эффективного решения и от того, какое распределение доходов считается справедливым в этом обществ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почтительнее такое распределение дохода, которое приведет к максимизации общественного богатств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ельная полезность денег для бедных больше, чем для богатых, поэтому перераспределение может увеличить общественное благосостоя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спределение доходов влияет на распределение полезности, поэтому общественное благосостояние может зависеть непосредственно от того, насколько равномерно распределены доходы в обществ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Распределение доходов может влиять на общественное благосостояние, так как индивидуальная полезность может зависеть от распределения доходов во всем обществе, отражая чувство альтруизма и симпатии данного индивида.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3"/>
          <p:cNvSpPr/>
          <p:nvPr/>
        </p:nvSpPr>
        <p:spPr>
          <a:xfrm>
            <a:off x="1143000" y="1643040"/>
            <a:ext cx="6500880" cy="928800"/>
          </a:xfrm>
          <a:prstGeom prst="rect">
            <a:avLst/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Способы перераспределения богат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285840" y="3811680"/>
            <a:ext cx="4143240" cy="2117520"/>
          </a:xfrm>
          <a:prstGeom prst="rect">
            <a:avLst/>
          </a:prstGeom>
          <a:solidFill>
            <a:srgbClr val="c4652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алоги и трансфер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4714920" y="3786120"/>
            <a:ext cx="4143240" cy="2143080"/>
          </a:xfrm>
          <a:prstGeom prst="rect">
            <a:avLst/>
          </a:prstGeom>
          <a:solidFill>
            <a:srgbClr val="c4652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Перераспределение с помощью правового регул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трелка вниз 6"/>
          <p:cNvSpPr/>
          <p:nvPr/>
        </p:nvSpPr>
        <p:spPr>
          <a:xfrm>
            <a:off x="2143080" y="2571840"/>
            <a:ext cx="500040" cy="12142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трелка вниз 8"/>
          <p:cNvSpPr/>
          <p:nvPr/>
        </p:nvSpPr>
        <p:spPr>
          <a:xfrm>
            <a:off x="6500880" y="2571840"/>
            <a:ext cx="500040" cy="12142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алоговая система призвана выравнивать доходы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ежду членами общества, но оптимальное, с точки зрения максимизации общественного благосостояния распределение доходов невозможно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У индивидов подрываются стимулы к производительной деятельности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Административные издержки функционирования налоговой системы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1628640"/>
            <a:ext cx="91440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овое регулирование, как система перераспределения, более эффективно, чем налоговая система??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??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8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7"/>
          <p:cNvSpPr/>
          <p:nvPr/>
        </p:nvSpPr>
        <p:spPr>
          <a:xfrm>
            <a:off x="1357200" y="857160"/>
            <a:ext cx="6572520" cy="114300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http://www.nber.org/paper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9"/>
          <p:cNvSpPr/>
          <p:nvPr/>
        </p:nvSpPr>
        <p:spPr>
          <a:xfrm>
            <a:off x="1357200" y="3214800"/>
            <a:ext cx="2500560" cy="7858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Shav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4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232" name="Овал 5"/>
          <p:cNvSpPr/>
          <p:nvPr/>
        </p:nvSpPr>
        <p:spPr>
          <a:xfrm>
            <a:off x="1357200" y="4286160"/>
            <a:ext cx="571680" cy="128592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2143080" y="3786120"/>
            <a:ext cx="5429160" cy="5716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w9694-w9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Литература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амбовцев В.Л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аво и экономическая теория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нфра-М. 2005. Гл. 1,2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динцова М.И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Экономика прав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здательский дом ГУ-ВШЭ. 2007. Гл. 1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havell, Steven. 2004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Foundations of Economic Analysis of Law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  Cambridge (MA): Harvard University Press.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h. 28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. ‘Income Distributional Equity and the Law’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Экономический анализ права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Law and Economics) –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анализ законодательных и судебных решений экономическими методам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ase, Ronald H. 1960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‘The Problem of Social Cost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Journal of Law and Economics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3(1):1-44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alabresi, Guido. 1961. ‘Some Thoughts on Risk Distribution and the Law of Torts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Yale Law Journal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70(4):499-553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ker, Gary S. 1968. ‘Crime and Punishment: An Economic Approach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Journal of Political Economy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76(2):169-217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сновные предпосыл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 соответствии с экономическим подходом к праву, индивиды – рациональные экономические агенты, максимизирующие свою полезност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кономический подход к праву имеет дело с предельными величинам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кономический подход к праву уделяет основное внимание созданию стимулов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x ante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сновные предпосыл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Овал 3"/>
          <p:cNvSpPr/>
          <p:nvPr/>
        </p:nvSpPr>
        <p:spPr>
          <a:xfrm>
            <a:off x="714240" y="2857680"/>
            <a:ext cx="7715520" cy="307152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равовые нормы = система неявных цен, которая создает для индивидов соответствующие стиму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7:02:24Z</dcterms:created>
  <dc:creator>www.PHILka.RU</dc:creator>
  <dc:description/>
  <dc:language>en-US</dc:language>
  <cp:lastModifiedBy>LEGION</cp:lastModifiedBy>
  <dcterms:modified xsi:type="dcterms:W3CDTF">2015-01-28T08:21:50Z</dcterms:modified>
  <cp:revision>63</cp:revision>
  <dc:subject/>
  <dc:title>ЭКОНОМИЧЕСКИЙ АНАЛИЗ ПРАВА</dc:title>
</cp:coreProperties>
</file>