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AB52-4E31-4315-8C27-52D54F3304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1200"/>
            </a:b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66C1-DAC3-4CF2-A257-44DB05C13C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3846-9CBD-442A-8B65-AD46D4ED27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000066"/>
                </a:solidFill>
                <a:latin typeface="Calibri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5506-0567-42BB-89B9-F8AD2E1CFB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аким может быть по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нейтр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не влечет юридических послед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значимы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может, как соответствовать правовым нормам, так и не соответствовать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EB84-50E2-4AA3-B78E-2CE1B2B2B0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ura lex, sed l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004C-DFDB-4FF1-80FA-14B6CB792D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E7AB-9CFB-4D9C-ADE3-51DD5529E9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9"/>
                </a:solidFill>
                <a:latin typeface="Calibri"/>
              </a:rPr>
              <a:t>ПРИЗНАКИ </a:t>
            </a:r>
            <a:r>
              <a:rPr b="1" lang="ru-RU" sz="1600" spc="-1" strike="noStrike">
                <a:solidFill>
                  <a:srgbClr val="ffff01"/>
                </a:solidFill>
                <a:latin typeface="Calibri"/>
              </a:rPr>
              <a:t>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F4C9-75CD-445D-82D9-21EBEB50A3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36AB-1236-49CE-B52B-218F30A073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1400" spc="-1" strike="noStrike">
                <a:solidFill>
                  <a:srgbClr val="ffffc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960D-77C6-4591-96FB-0BF31B266A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может быть совершено только деликтоспособным лиц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является основанием возникновения и наложения юридической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B339-EEE5-475A-A7DF-FD27BE4A81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мер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ведение,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 юрид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AD1C-A2FC-41D6-8E92-1827CDD67E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За совершение любого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вида преступлени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ли проступка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3844-B84F-4B81-9EC8-2A94396998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ГОТОВ 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ТЫ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ПЛ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ТАКОЙ ЦЕ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996C-49D9-4E29-9947-52FDE274BF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Смоленский М.Б. «Теория государства и права» Глава 14, темы 14.1-14.3 (стр.244-2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52F4-AA7D-41D5-916B-1A2E22F2FF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B9FA-CA9C-4D1F-8E7E-3B0CBB9ECF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оверка изученного теоретического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авомерное повед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, сущность,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 и признаки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Состав и виды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1FF5-F1E8-4F2E-81D2-8EFE8A473C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то такое правосубъек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ие юридические свойства она в себя включает?</a:t>
            </a:r>
            <a:r>
              <a:rPr b="1" lang="ru-RU" sz="1200" spc="-1" strike="noStrike">
                <a:solidFill>
                  <a:srgbClr val="623395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315D-8FF8-4332-816F-F54EB282AA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ем отличается время возникновения правоспособности у физических и юридических ли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E948-FCA7-4AF1-8D6B-A338E88FF8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факторы, влияющие на дееспособность физическ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0BF8-F314-46CB-8B8F-7853898E70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то и в каких случаях может ограничить дееспособность граждани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6F54-4A40-43F8-AB85-BB7A6E79B3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элементы прав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BC6A-938D-43D5-B4A7-D3D3C18B8D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талон от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E063-B134-40AF-9BE2-8841D7F047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86B-E7C7-4A28-A264-5E4F2ADA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681-F4AA-4401-B5BB-C6E4BB51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3CB-79FC-4AEE-9BB5-D1699C65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D8A-883F-4E1F-98A9-D3F549CD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9C1A-3E69-4DB8-A2A9-C6CD68AE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EF0F-99E0-4C26-AD35-771C7E25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3C59-93CD-4949-A828-EE84A9EE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E3B4-EA8B-48CC-95DC-6D0F3ABD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CE21-5FFB-487E-B190-7BFD7E26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99B1-5ED6-49F9-8549-85327F20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3886-20D3-4CA7-8B01-490C2A9C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92B-9867-4061-B3AD-D04EE63F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D21F-6E26-4E64-873C-2B7DCFAD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2148-5F36-4C8A-81B8-4333315B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74B4-6CFA-4178-AB44-8E09A289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1FB1-9948-433F-8A92-1A09D685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570E-8179-4341-B383-1989AC37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6E6-0775-42B2-83C1-694C296B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5F4-02F5-4966-9C56-5288E0C9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66A-6A9B-4454-A562-1F1CBB45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A31-7A0B-4DAC-B2CA-14A998FE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263-0ECB-4DE5-94ED-72ED8BF3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1E9-B47B-4051-A3A5-DB5B33E0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CA2-B400-4B10-8AEE-3F2BB469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53BD-E527-4F27-9DDF-B16A4AE5AE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4B3B-295B-4C55-A0EC-8A51B17A53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8800"/>
            </a:b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dfcb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7640" y="1700280"/>
          <a:ext cx="6048720" cy="4073400"/>
        </p:xfrm>
        <a:graphic>
          <a:graphicData uri="http://schemas.openxmlformats.org/drawingml/2006/table">
            <a:tbl>
              <a:tblPr/>
              <a:tblGrid>
                <a:gridCol w="3600720"/>
                <a:gridCol w="244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ичество правильных отв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 - 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- 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 -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2076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39640" y="476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Arial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47640" y="486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нейтраль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55640" y="191628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не влечет юридических послед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6836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значимы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70040" y="4221000"/>
            <a:ext cx="8373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может, как соответствовать правовым нормам, так и не соответствовать 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787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_s1029"/>
          <p:cNvSpPr/>
          <p:nvPr/>
        </p:nvSpPr>
        <p:spPr>
          <a:xfrm>
            <a:off x="3059280" y="1052640"/>
            <a:ext cx="3168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ме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_s1030"/>
          <p:cNvSpPr/>
          <p:nvPr/>
        </p:nvSpPr>
        <p:spPr>
          <a:xfrm>
            <a:off x="250920" y="54936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Акт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7"/>
          <p:cNvCxnSpPr/>
          <p:nvPr/>
        </p:nvCxnSpPr>
        <p:spPr>
          <a:xfrm flipV="1" rot="10800000">
            <a:off x="2626560" y="1699200"/>
            <a:ext cx="432720" cy="664200"/>
          </a:xfrm>
          <a:prstGeom prst="bentConnector3">
            <a:avLst>
              <a:gd name="adj1" fmla="val 50291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2" name="AutoShape 21"/>
          <p:cNvCxnSpPr>
            <a:endCxn id="140" idx="3"/>
          </p:cNvCxnSpPr>
          <p:nvPr/>
        </p:nvCxnSpPr>
        <p:spPr>
          <a:xfrm rot="10800000">
            <a:off x="2626560" y="959760"/>
            <a:ext cx="432720" cy="741960"/>
          </a:xfrm>
          <a:prstGeom prst="bentConnector3">
            <a:avLst>
              <a:gd name="adj1" fmla="val 49958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3" name="AutoShape 25"/>
          <p:cNvCxnSpPr>
            <a:stCxn id="139" idx="3"/>
          </p:cNvCxnSpPr>
          <p:nvPr/>
        </p:nvCxnSpPr>
        <p:spPr>
          <a:xfrm flipV="1">
            <a:off x="6227280" y="1031400"/>
            <a:ext cx="361080" cy="85032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4" name="AutoShape 27"/>
          <p:cNvCxnSpPr>
            <a:stCxn id="139" idx="3"/>
          </p:cNvCxnSpPr>
          <p:nvPr/>
        </p:nvCxnSpPr>
        <p:spPr>
          <a:xfrm>
            <a:off x="6227280" y="1881000"/>
            <a:ext cx="361080" cy="66420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sp>
        <p:nvSpPr>
          <p:cNvPr id="145" name="Line 28"/>
          <p:cNvSpPr/>
          <p:nvPr/>
        </p:nvSpPr>
        <p:spPr>
          <a:xfrm>
            <a:off x="4716360" y="2708280"/>
            <a:ext cx="0" cy="28908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>
            <a:off x="3203640" y="2997360"/>
            <a:ext cx="1512720" cy="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3203640" y="2997360"/>
            <a:ext cx="0" cy="792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3203640" y="6237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3203640" y="5013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3203640" y="3789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_s1030"/>
          <p:cNvSpPr/>
          <p:nvPr/>
        </p:nvSpPr>
        <p:spPr>
          <a:xfrm>
            <a:off x="3708360" y="3357720"/>
            <a:ext cx="2376360" cy="82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зн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_s1030"/>
          <p:cNvSpPr/>
          <p:nvPr/>
        </p:nvSpPr>
        <p:spPr>
          <a:xfrm>
            <a:off x="3708360" y="4581360"/>
            <a:ext cx="2808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Конформ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_s1030"/>
          <p:cNvSpPr/>
          <p:nvPr/>
        </p:nvSpPr>
        <p:spPr>
          <a:xfrm>
            <a:off x="3708360" y="5661000"/>
            <a:ext cx="4535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равомер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од стра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государственного прин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_s1030"/>
          <p:cNvSpPr/>
          <p:nvPr/>
        </p:nvSpPr>
        <p:spPr>
          <a:xfrm>
            <a:off x="250920" y="198900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Пасс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_s1030"/>
          <p:cNvSpPr/>
          <p:nvPr/>
        </p:nvSpPr>
        <p:spPr>
          <a:xfrm>
            <a:off x="6588000" y="54936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бход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(жел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_s1030"/>
          <p:cNvSpPr/>
          <p:nvPr/>
        </p:nvSpPr>
        <p:spPr>
          <a:xfrm>
            <a:off x="6588000" y="198900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ци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допуст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3203640" y="3789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3203640" y="5013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3" descr="3783311"/>
          <p:cNvPicPr/>
          <p:nvPr/>
        </p:nvPicPr>
        <p:blipFill>
          <a:blip r:embed="rId1"/>
          <a:srcRect l="23274" t="0" r="21471" b="0"/>
          <a:stretch/>
        </p:blipFill>
        <p:spPr>
          <a:xfrm>
            <a:off x="0" y="3147840"/>
            <a:ext cx="2041560" cy="37101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dff"/>
            </a:gs>
            <a:gs pos="100000">
              <a:srgbClr val="6e6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49636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Arial"/>
              </a:rPr>
              <a:t>Dura lex, sed lex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8360" y="3716280"/>
            <a:ext cx="843588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22"/>
          <p:cNvPicPr/>
          <p:nvPr/>
        </p:nvPicPr>
        <p:blipFill>
          <a:blip r:embed="rId1"/>
          <a:stretch/>
        </p:blipFill>
        <p:spPr>
          <a:xfrm>
            <a:off x="6473880" y="0"/>
            <a:ext cx="2670120" cy="4005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8360" y="134136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9"/>
                </a:solidFill>
                <a:latin typeface="Arial"/>
              </a:rPr>
              <a:t>ПРИЗНАКИ </a:t>
            </a:r>
            <a:r>
              <a:rPr b="1" lang="ru-RU" sz="4200" spc="-1" strike="noStrike">
                <a:solidFill>
                  <a:srgbClr val="ffff01"/>
                </a:solidFill>
                <a:latin typeface="Arial"/>
              </a:rPr>
              <a:t>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это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ожет быть совершено только деликтоспособным лиц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является основанием возникновения и наложения юридической ответстве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ъъъ"/>
          <p:cNvPicPr/>
          <p:nvPr/>
        </p:nvPicPr>
        <p:blipFill>
          <a:blip r:embed="rId1"/>
          <a:stretch/>
        </p:blipFill>
        <p:spPr>
          <a:xfrm>
            <a:off x="5703840" y="0"/>
            <a:ext cx="3440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0" y="2565360"/>
            <a:ext cx="432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мерно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едение,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800" y="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кабря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684360" y="4149720"/>
            <a:ext cx="446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нарушени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24000" y="5013360"/>
            <a:ext cx="475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юридическая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ственность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39640" y="1844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7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Раздел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79280" y="98100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_s1029"/>
          <p:cNvSpPr/>
          <p:nvPr/>
        </p:nvSpPr>
        <p:spPr>
          <a:xfrm>
            <a:off x="1692360" y="2997360"/>
            <a:ext cx="5688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ОСТАВ   ПРАВО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_s1030"/>
          <p:cNvSpPr/>
          <p:nvPr/>
        </p:nvSpPr>
        <p:spPr>
          <a:xfrm>
            <a:off x="179280" y="4005360"/>
            <a:ext cx="2305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_s1030"/>
          <p:cNvSpPr/>
          <p:nvPr/>
        </p:nvSpPr>
        <p:spPr>
          <a:xfrm>
            <a:off x="2771640" y="4005360"/>
            <a:ext cx="2376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_s1030"/>
          <p:cNvSpPr/>
          <p:nvPr/>
        </p:nvSpPr>
        <p:spPr>
          <a:xfrm>
            <a:off x="2987640" y="1700280"/>
            <a:ext cx="31687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_s1030"/>
          <p:cNvSpPr/>
          <p:nvPr/>
        </p:nvSpPr>
        <p:spPr>
          <a:xfrm>
            <a:off x="5435640" y="4005360"/>
            <a:ext cx="2881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10"/>
          <p:cNvCxnSpPr>
            <a:stCxn id="180" idx="0"/>
            <a:endCxn id="183" idx="2"/>
          </p:cNvCxnSpPr>
          <p:nvPr/>
        </p:nvCxnSpPr>
        <p:spPr>
          <a:xfrm flipH="1" flipV="1" rot="5400000">
            <a:off x="4338000" y="2763360"/>
            <a:ext cx="432720" cy="3564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Line 12"/>
          <p:cNvSpPr/>
          <p:nvPr/>
        </p:nvSpPr>
        <p:spPr>
          <a:xfrm>
            <a:off x="399564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258920" y="3860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25892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427640" y="386064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7308720" y="38606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_s1030"/>
          <p:cNvSpPr/>
          <p:nvPr/>
        </p:nvSpPr>
        <p:spPr>
          <a:xfrm>
            <a:off x="179280" y="5013360"/>
            <a:ext cx="2268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Умы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_s1030"/>
          <p:cNvSpPr/>
          <p:nvPr/>
        </p:nvSpPr>
        <p:spPr>
          <a:xfrm>
            <a:off x="2843280" y="5013360"/>
            <a:ext cx="2771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стор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_s1030"/>
          <p:cNvSpPr/>
          <p:nvPr/>
        </p:nvSpPr>
        <p:spPr>
          <a:xfrm>
            <a:off x="6372360" y="5013360"/>
            <a:ext cx="2592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831708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8604360" y="4365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1115640" y="486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694836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42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116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_s1030"/>
          <p:cNvSpPr/>
          <p:nvPr/>
        </p:nvSpPr>
        <p:spPr>
          <a:xfrm>
            <a:off x="250920" y="5661000"/>
            <a:ext cx="165708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_s1030"/>
          <p:cNvSpPr/>
          <p:nvPr/>
        </p:nvSpPr>
        <p:spPr>
          <a:xfrm>
            <a:off x="250920" y="6237360"/>
            <a:ext cx="165708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кос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2484360" y="5300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2627280" y="5300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H="1">
            <a:off x="1908000" y="602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>
            <a:off x="1908000" y="65246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>
            <a:off x="5653080" y="5229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579600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H="1">
            <a:off x="5076720" y="595008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 flipH="1">
            <a:off x="5076720" y="6453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_s1030"/>
          <p:cNvSpPr/>
          <p:nvPr/>
        </p:nvSpPr>
        <p:spPr>
          <a:xfrm>
            <a:off x="2916360" y="566100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легкомыс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s1030"/>
          <p:cNvSpPr/>
          <p:nvPr/>
        </p:nvSpPr>
        <p:spPr>
          <a:xfrm>
            <a:off x="2987640" y="6237360"/>
            <a:ext cx="20890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ебре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 flipH="1">
            <a:off x="6156360" y="522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615636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>
            <a:off x="6156360" y="5950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6156360" y="645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_s1030"/>
          <p:cNvSpPr/>
          <p:nvPr/>
        </p:nvSpPr>
        <p:spPr>
          <a:xfrm>
            <a:off x="6804000" y="5661000"/>
            <a:ext cx="20509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_s1030"/>
          <p:cNvSpPr/>
          <p:nvPr/>
        </p:nvSpPr>
        <p:spPr>
          <a:xfrm>
            <a:off x="6804000" y="6237360"/>
            <a:ext cx="201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М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2627280" y="602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579600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615636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_s1030"/>
          <p:cNvSpPr/>
          <p:nvPr/>
        </p:nvSpPr>
        <p:spPr>
          <a:xfrm>
            <a:off x="6516720" y="189000"/>
            <a:ext cx="2448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е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3"/>
          <p:cNvSpPr/>
          <p:nvPr/>
        </p:nvSpPr>
        <p:spPr>
          <a:xfrm flipH="1">
            <a:off x="5724000" y="333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4"/>
          <p:cNvSpPr/>
          <p:nvPr/>
        </p:nvSpPr>
        <p:spPr>
          <a:xfrm flipH="1">
            <a:off x="5724000" y="105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_s1030"/>
          <p:cNvSpPr/>
          <p:nvPr/>
        </p:nvSpPr>
        <p:spPr>
          <a:xfrm>
            <a:off x="3564000" y="189000"/>
            <a:ext cx="216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_s1030"/>
          <p:cNvSpPr/>
          <p:nvPr/>
        </p:nvSpPr>
        <p:spPr>
          <a:xfrm>
            <a:off x="3564000" y="90792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_s1030"/>
          <p:cNvSpPr/>
          <p:nvPr/>
        </p:nvSpPr>
        <p:spPr>
          <a:xfrm>
            <a:off x="6804000" y="907920"/>
            <a:ext cx="216072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Вредоно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_s1030"/>
          <p:cNvSpPr/>
          <p:nvPr/>
        </p:nvSpPr>
        <p:spPr>
          <a:xfrm>
            <a:off x="6804000" y="1628640"/>
            <a:ext cx="2160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Связь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яние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_s1030"/>
          <p:cNvSpPr/>
          <p:nvPr/>
        </p:nvSpPr>
        <p:spPr>
          <a:xfrm>
            <a:off x="7451640" y="2708280"/>
            <a:ext cx="1513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а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0"/>
          <p:cNvSpPr/>
          <p:nvPr/>
        </p:nvSpPr>
        <p:spPr>
          <a:xfrm flipV="1">
            <a:off x="6084720" y="33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6084720" y="404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3"/>
          <p:cNvSpPr/>
          <p:nvPr/>
        </p:nvSpPr>
        <p:spPr>
          <a:xfrm>
            <a:off x="6372360" y="119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5"/>
          <p:cNvSpPr/>
          <p:nvPr/>
        </p:nvSpPr>
        <p:spPr>
          <a:xfrm>
            <a:off x="6372360" y="1916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6"/>
          <p:cNvSpPr/>
          <p:nvPr/>
        </p:nvSpPr>
        <p:spPr>
          <a:xfrm>
            <a:off x="6372360" y="20606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6372360" y="2852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6156360" y="213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6372360" y="404280"/>
            <a:ext cx="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372360" y="40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_s1030"/>
          <p:cNvSpPr/>
          <p:nvPr/>
        </p:nvSpPr>
        <p:spPr>
          <a:xfrm>
            <a:off x="179280" y="189000"/>
            <a:ext cx="237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_s1030"/>
          <p:cNvSpPr/>
          <p:nvPr/>
        </p:nvSpPr>
        <p:spPr>
          <a:xfrm>
            <a:off x="179280" y="981000"/>
            <a:ext cx="2376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удие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_s1030"/>
          <p:cNvSpPr/>
          <p:nvPr/>
        </p:nvSpPr>
        <p:spPr>
          <a:xfrm>
            <a:off x="179280" y="1916280"/>
            <a:ext cx="2376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4"/>
          <p:cNvSpPr/>
          <p:nvPr/>
        </p:nvSpPr>
        <p:spPr>
          <a:xfrm flipH="1">
            <a:off x="277164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5"/>
          <p:cNvSpPr/>
          <p:nvPr/>
        </p:nvSpPr>
        <p:spPr>
          <a:xfrm>
            <a:off x="2771640" y="198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6"/>
          <p:cNvSpPr/>
          <p:nvPr/>
        </p:nvSpPr>
        <p:spPr>
          <a:xfrm flipH="1">
            <a:off x="2556000" y="2276640"/>
            <a:ext cx="21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7"/>
          <p:cNvSpPr/>
          <p:nvPr/>
        </p:nvSpPr>
        <p:spPr>
          <a:xfrm flipV="1">
            <a:off x="2771640" y="47628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8"/>
          <p:cNvSpPr/>
          <p:nvPr/>
        </p:nvSpPr>
        <p:spPr>
          <a:xfrm flipH="1">
            <a:off x="2555640" y="1268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0"/>
          <p:cNvSpPr/>
          <p:nvPr/>
        </p:nvSpPr>
        <p:spPr>
          <a:xfrm flipH="1">
            <a:off x="2555640" y="476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99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_s1029"/>
          <p:cNvSpPr/>
          <p:nvPr/>
        </p:nvSpPr>
        <p:spPr>
          <a:xfrm>
            <a:off x="1835280" y="333360"/>
            <a:ext cx="511308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НАРУ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_s1030"/>
          <p:cNvSpPr/>
          <p:nvPr/>
        </p:nvSpPr>
        <p:spPr>
          <a:xfrm>
            <a:off x="250920" y="2637000"/>
            <a:ext cx="316872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ЕСТ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_s1030"/>
          <p:cNvSpPr/>
          <p:nvPr/>
        </p:nvSpPr>
        <p:spPr>
          <a:xfrm>
            <a:off x="179280" y="4869000"/>
            <a:ext cx="3240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_s1030"/>
          <p:cNvSpPr/>
          <p:nvPr/>
        </p:nvSpPr>
        <p:spPr>
          <a:xfrm>
            <a:off x="3635280" y="4869000"/>
            <a:ext cx="3024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ИСЦИПЛИНА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_s1030"/>
          <p:cNvSpPr/>
          <p:nvPr/>
        </p:nvSpPr>
        <p:spPr>
          <a:xfrm>
            <a:off x="6948360" y="4869000"/>
            <a:ext cx="20163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ЕЛИ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_s1030"/>
          <p:cNvSpPr/>
          <p:nvPr/>
        </p:nvSpPr>
        <p:spPr>
          <a:xfrm>
            <a:off x="5508720" y="2637000"/>
            <a:ext cx="3311280" cy="14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4356000" y="1989000"/>
            <a:ext cx="0" cy="287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H="1">
            <a:off x="2268000" y="2276640"/>
            <a:ext cx="4248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>
            <a:off x="226836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651672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7164360" y="4076640"/>
            <a:ext cx="0" cy="289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 flipH="1">
            <a:off x="1763280" y="4365720"/>
            <a:ext cx="6193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176364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507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795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3" descr="3783311"/>
          <p:cNvPicPr/>
          <p:nvPr/>
        </p:nvPicPr>
        <p:blipFill>
          <a:blip r:embed="rId1"/>
          <a:srcRect l="20904" t="0" r="23855" b="0"/>
          <a:stretch/>
        </p:blipFill>
        <p:spPr>
          <a:xfrm>
            <a:off x="0" y="0"/>
            <a:ext cx="1252440" cy="227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4" descr="1ъъъ"/>
          <p:cNvPicPr/>
          <p:nvPr/>
        </p:nvPicPr>
        <p:blipFill>
          <a:blip r:embed="rId2"/>
          <a:stretch/>
        </p:blipFill>
        <p:spPr>
          <a:xfrm>
            <a:off x="7964640" y="0"/>
            <a:ext cx="1179360" cy="235260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 совершение любого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вида преступления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ли проступка правонаруш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2492280"/>
            <a:ext cx="914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привлекается </a:t>
            </a:r>
            <a:br>
              <a:rPr sz="6600"/>
            </a:b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к юридической ответственности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68360" y="5373720"/>
            <a:ext cx="84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66"/>
                </a:solidFill>
                <a:latin typeface="Arial"/>
              </a:rPr>
              <a:t>Dura lex, sed le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5084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179280" y="333360"/>
            <a:ext cx="896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ГОТОВ Л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00"/>
                </a:solidFill>
                <a:uFillTx/>
                <a:latin typeface="Arial"/>
              </a:rPr>
              <a:t>ТЫ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ПЛАТИ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ТАКОЙ ЦЕНОЙ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22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Смоленский М.Б. «Теория государства и права» Глава 14, темы 14.1-14.3 (стр.244-2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оверка изученного теоретического матери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авомерное повед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, сущность, в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 и признаки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остав и виды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то такое правосубъектно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юридические свойства она в себя включает?</a:t>
            </a:r>
            <a:r>
              <a:rPr b="1" lang="ru-RU" sz="4800" spc="-1" strike="noStrike">
                <a:solidFill>
                  <a:srgbClr val="623395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20080" y="4653000"/>
            <a:ext cx="2023920" cy="2205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ем отличается время возникновения правоспособности у физических и юридических лиц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факторы, влияющие на дееспособность физического ли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18280" y="4653000"/>
            <a:ext cx="2025720" cy="2205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то и в каких случаях может ограничить дееспособность граждани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6788160" y="4292640"/>
            <a:ext cx="2355840" cy="2565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элементы правоотнош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483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4762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Эталон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32000" y="907920"/>
          <a:ext cx="6240240" cy="5550120"/>
        </p:xfrm>
        <a:graphic>
          <a:graphicData uri="http://schemas.openxmlformats.org/drawingml/2006/table">
            <a:tbl>
              <a:tblPr/>
              <a:tblGrid>
                <a:gridCol w="1511280"/>
                <a:gridCol w="1681200"/>
                <a:gridCol w="1415880"/>
                <a:gridCol w="16318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,В,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04:53Z</dcterms:created>
  <dc:creator>Миллер</dc:creator>
  <dc:description/>
  <dc:language>en-US</dc:language>
  <cp:lastModifiedBy>LEGION</cp:lastModifiedBy>
  <dcterms:modified xsi:type="dcterms:W3CDTF">2015-01-28T08:23:21Z</dcterms:modified>
  <cp:revision>56</cp:revision>
  <dc:subject/>
  <dc:title>Теория государства и права</dc:title>
</cp:coreProperties>
</file>