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01B8-7393-4DB0-906B-3921E109F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. Экономика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 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71B4-5320-4D5B-A314-9CC92A300F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 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ordinar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которые дают владельцу право голо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рании акционеров и прав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лучение дивиден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рибыл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eferred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которые не дают права голоса на собрании акционеров, но гарантируют владельцу приоритет в получении дивидендов  — части прибыл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B463-96B6-4996-A685-78D0CFE528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ынок капитала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рыно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котором осуществляется купля и продажа ценных бумаг и других финансовых инструмент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0727-C8A4-4A5E-AA8C-32FDA2AC08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онд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тент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sue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фирмы и другие организации, нуждающие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инансировании и выпускающие ценные бумаги на продажу, и другие владельцы ценных бумаг, которые ранее их купили на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ор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vesto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покупате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ондовом рынке. Покупая ценные бумаги, они превращают свои сбережения в инвести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E023-FCE4-4862-BEC1-480A5FE862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ые участники фондового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рокер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ok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юридическое или физическое лицо, совершающее сделки с ценными бумагами от имени и за счет клиента или от своего имени и за счет кл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лер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al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юридическое лицо, являющееся коммерческой организацией, торгующее ценными бумагами от своего имени и за свой сч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правляющ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которая от своего имени за вознаграждение управляет принадлежащими третьим лицам ценными бума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лиринговая организ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lear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занимающаяся расчетами по сделкам с ценными бума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позитар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pository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оказывающая услуги по хранению сертификатов ценных бума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чету перехода прав на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E705-3AFB-4AEB-A930-20641D66B0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change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фирма — организатор торговли на рынке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менты фондовой бирж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 — торговля частными  акциями и государственными облиг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— торговля иностранной 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рынок — сделки  с исполнением в определенную дату в будущ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C1A3-77C7-47A3-BBE4-F6C3901575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ир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uot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цена ценной бумаги на бир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инг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isti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регистрация ценной бумаги на бирже и включение 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ировальный спис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стинг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lis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исключение ценной бумаги из котировального сп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9BBA-9025-436D-BA65-D2355654B2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вестиционные показ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ыночная капитализ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pitalizatio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CAP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рыночная стоимость компании, количество размещенных обыкновенных акций, умноженное на текущую рыночную цену одной 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ношение цены акции компании к годовой выручке на акцию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price per share/sales per share, P/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ношение цены акции к годовому объему чистой прибыл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arn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3D72-E457-4440-8813-75D3557ACA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ри Маркови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ри Маркови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A59B-C9EF-48AC-B77E-60113BF4B9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льям Шар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1934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мериканский экономи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статье “Цена акционерного капитала” (1964) опубликовал модель оценки капитальных активов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t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ing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M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 — прогнозирования цены акций на основе оценки риск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ожидаемого до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зал, что инвестор может снизить риск путем комбинации безрискового капитал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оптимального портфеля рискованных ценных бум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DF3F-FD5D-4CEC-80C9-DCFF8672FF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рма может финансировать свою деятельность пут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я инвестици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инвестирования прибы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я заемных средст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я гр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вестиции — увеличение капитала фирм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целью извлечения дох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нвестиции осуществляются за счет займа, фирма платит процент за право временного пользования капиталом б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D067-A474-481B-A605-4E32493A3F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финансирования фи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влечение инвестиц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ttrac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 фирмой или лицом средств в денеж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физической форме в данную фи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инвестирование прибыли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inves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fi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ложение в производство прибыли, оставшей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споряжении фирмы после уплаты нал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имствование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rrow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лучение средств в виде займа в банке или через продажу облиг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словиях платности, срочности и возвра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рант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rants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лучение взноса в денежной или физической форме, возврата которого не треб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2D06-981A-43D4-BC16-846B4C51EE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три основных вида ценных бумаг — документа, закрепляющего имущественные и неимущественные права владельц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 — удостоверение собстве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и — удостоверение долг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 — удостоверение права на покупку или продажу другой ценной бумаг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усмотренный в ней с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фиксирова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543A-1696-4F90-BDD9-A3A09879B5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 — механизм превращения свободных сбереже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вестиции путем продажи ценных бум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рынке действуют дилеры, брокеры и другие профессиональные участники, многие из которых торгуют через фондовую бирж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DC14-C8DC-41ED-ABED-F9D0BAB843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это накопленные физические ресурсы (здания, оборудование, машины) и финансовые сбережения, используемые для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финансирования производства экономически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 капитал — это вс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иносит его владельцу дох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FA42-E5FA-4578-A06A-7E55AB5D58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ид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зически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се, что создано трудом человека и используется для превращения ресурсов в экономические бла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овы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денежные средства, на которые фирма покупает физически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чески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люди, которых нанимает фирма, поскольку они своим трудом создают добавленную стоимость и приносят фирме дох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E828-0315-49D0-9E22-737CF866AC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величение капитала фирмы с целью извлечения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D339-0641-41D5-B155-1B4D3C8A01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ка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отношение годовой суммы процента к сумме денег, взятой в кредит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42D5-1BD7-4CF4-A907-2CDB671A3B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документ, который закрепляет имущественные и неимущественные права владель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ценной бумаги называется кур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7A39-B485-4EF6-9B22-FDF9BFCBDE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к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— амер., share — англ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соб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лиг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nd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пцион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права владельца ценной бумаги на покупку или продажу другой ценной бумаг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усмотренный в ней с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фиксирова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19AE-37D1-4830-A0DD-CAB7042FE0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108E3-FD89-41CB-AE16-55CFCE4D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9E30-94BB-401D-A382-E99EC3EB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4570-2BA3-474B-BB9F-FA71DBA7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1CB59-A2EF-43BD-A36A-4E606A5A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0694F-6EFE-4DB3-91EC-F9020F85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5E4EA-5460-40A2-9D6F-4E35FF62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9F261-65D6-4446-9A22-CA887D99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4868E-632A-43B9-8FAC-260380E8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EFD97-9141-44EC-86AF-AE351C20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8DA9F-C62F-454B-9A6C-AB19FDB1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C1390-E71E-4592-A732-B7C9AB94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12EC-C822-4741-9BDD-340459A8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0C347-ED29-4EF7-8E96-B7D7831C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C09F0-EBB3-4AB7-BD7D-61ED2353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89401-2157-4912-941D-9F806225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2D956-A958-4C90-A579-0B109500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B7B1E-D202-49ED-B193-8294F8A2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FEDE-01B3-4FB5-AA4B-75475E83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5EDF-5722-4EE2-970C-884FF0D4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9E2C-E711-4A77-850D-274826E8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7E5A-1E09-4214-BCDA-31043E44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35CD-0BC9-40E5-B898-1FBC585C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0595-AF7F-4B95-A34A-D2AB9D40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35B37-5179-406F-9D8C-751F922B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3. Экономика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DFA5-777D-4F3F-B465-5DAAC63486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3. Экономика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9B01-DD4B-4E26-9611-C1E1AB2374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3. Экономика фир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. Рынок капита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031003123957040"/>
          <p:cNvPicPr/>
          <p:nvPr/>
        </p:nvPicPr>
        <p:blipFill>
          <a:blip r:embed="rId1"/>
          <a:stretch/>
        </p:blipFill>
        <p:spPr>
          <a:xfrm>
            <a:off x="4876920" y="2286000"/>
            <a:ext cx="316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ак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ыкновенные (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ordinar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которые дают владельцу право голос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собрании акционеров 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олучение дивиденд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висимости от прибыли обще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вилегированные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referred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которые не дают права голоса на собрании акционеров, но гарантируют владельцу приоритет в получении дивидендов  — части прибыл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ндовый рын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рынок капитала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рынок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котором осуществляется купля и продажа ценных бумаг и других финансовых инструментов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5" descr="Money_Fist"/>
          <p:cNvPicPr/>
          <p:nvPr/>
        </p:nvPicPr>
        <p:blipFill>
          <a:blip r:embed="rId1"/>
          <a:stretch/>
        </p:blipFill>
        <p:spPr>
          <a:xfrm>
            <a:off x="5562720" y="1752480"/>
            <a:ext cx="3408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частники фондового рын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митент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ssuer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фирмы и другие организации, нуждающиес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финансировании и выпускающие ценные бумаги на продажу, и другие владельцы ценных бумаг, которые ранее их купили на рын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вестор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vestor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покупател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фондовом рынке. Покупая ценные бумаги, они превращают свои сбережения в инвестиц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фессиональные участники фондового рын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Брокер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rok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юридическое или физическое лицо, совершающее сделки с ценными бумагами от имени и за счет клиента или от своего имени и за счет клиен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илер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eal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юридическое лицо, являющееся коммерческой организацией, торгующее ценными бумагами от своего имени и за свой сч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Управляющ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anag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которая от своего имени за вознаграждение управляет принадлежащими третьим лицам ценными бума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Клиринговая организаци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lear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ous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занимающаяся расчетами по сделкам с ценными бума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позитар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epository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оказывающая услуги по хранению сертификатов ценных бумаг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учету перехода прав на ни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ндовая бирж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tock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xchang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фирма — организатор торговли на рынке ценных бума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егменты фондовой бирж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нд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й рынок — торговля частными  акциями и государственными облигаци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лют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й рынок — торговля иностранной  валют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очный рынок — сделки  с исполнением в определенную дату в будущ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отиров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quote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цена цен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бумаги на бирж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стинг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sting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регистрация ценной бумаги на бирже и включение 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котировальный список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листинг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elisting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исключение ценной бумаги из котировального спис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нвестиционные показа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ыночная капитализация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apitalization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CAP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рыночная стоимость компании, количество размещенных обыкновенных акций, умноженное на текущую рыночную цену одной ак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ношение цены акции компании к годовой выручке на акцию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price per share/sales per share, P/S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ношение цены акции к годовому объему чистой прибыли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a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arning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a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арри Маркович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876920" y="1219320"/>
            <a:ext cx="42670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 1927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 и математ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атье “Выбор портфеля” (1952) предложил математическую модель составления набора ценных бумаг в портфеле инвестора для максимизации прибы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из родоначальников теории финансов и финансового управления фирм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ложил способы сопоставления риск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ходности ценных бумаг, методы анализа финансового положения фир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about_pic1"/>
          <p:cNvPicPr/>
          <p:nvPr/>
        </p:nvPicPr>
        <p:blipFill>
          <a:blip r:embed="rId1"/>
          <a:stretch/>
        </p:blipFill>
        <p:spPr>
          <a:xfrm>
            <a:off x="609480" y="990720"/>
            <a:ext cx="3907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ильям Шарп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4" descr="William Sharpe"/>
          <p:cNvPicPr/>
          <p:nvPr/>
        </p:nvPicPr>
        <p:blipFill>
          <a:blip r:embed="rId1"/>
          <a:stretch/>
        </p:blipFill>
        <p:spPr>
          <a:xfrm>
            <a:off x="457200" y="1219320"/>
            <a:ext cx="3625920" cy="51242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4876920" y="1676520"/>
            <a:ext cx="38862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1934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атье “Цена акционерного капитала” (1964) опубликовал модель оценки капитальных активов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t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cing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— прогнозирования цены акций на основе оценки рис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жидаемого дох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л, что инвестор может снизить риск путем комбинации безрискового капит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птимального портфеля рискованных ценных бума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рма может финансировать свою деятельность путе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я инвестиций,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инвестирования прибыл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я заемных средст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ения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вестиции — увеличение капитала фирмы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целью извлечения доход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инвестиции осуществляются за счет займа, фирма платит процент за право временного пользования капиталом бан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чники финансирования фир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ивлечение инвестиц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ttract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ожение фирмой или лицом средств в денежно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ли физической форме в данную фирм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еинвестирование прибыл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invest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ofi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вложение в производство прибыли, оставшейс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распоряжении фирмы после уплаты налог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Заимствование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orrow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средств в виде займа в банке или через продажу облигаци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услов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платности, срочности и возврат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Грант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rant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взноса в денежной или физической форме, возврата которого не требу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уществует три основных вида ценных бумаг — документа, закрепляющего имущественные и неимущественные права владельц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кции — удостоверение собственност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лигации — удостоверение долг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цион — удостоверение права на покупку или продажу другой ценной бумаг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едусмотренный в ней срок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зафиксированной цен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3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ндовый рынок — механизм превращения свободных сбережени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нвестиции путем продажи ценных бума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этом рынке действуют дилеры, брокеры и другие профессиональные участники, многие из которых торгуют через фондовую биржу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пита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это накопленные физические ресурсы (здания, оборудование, машины) и финансовые сбережения, используемые для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финансирования производства экономических бла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широком смысле капитал — это вс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риносит его владельцу доход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ри вида капита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Физически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все, что создано трудом человека и используется для превращения ресурсов в экономические бла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Финансовы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денежные средства, на которые фирма покупает физический капит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Человечески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люди, которых нанимает фирма, поскольку они своим трудом создают добавленную стоимость и приносят фирме дох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vestmen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величение капитала фирмы с целью извлечения дох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j0399836"/>
          <p:cNvPicPr/>
          <p:nvPr/>
        </p:nvPicPr>
        <p:blipFill>
          <a:blip r:embed="rId1"/>
          <a:stretch/>
        </p:blipFill>
        <p:spPr>
          <a:xfrm>
            <a:off x="4876920" y="25146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авка процен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e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rat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отношение годовой суммы процента к сумме денег, взятой в кредит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borrowing_pic"/>
          <p:cNvPicPr/>
          <p:nvPr/>
        </p:nvPicPr>
        <p:blipFill>
          <a:blip r:embed="rId1"/>
          <a:stretch/>
        </p:blipFill>
        <p:spPr>
          <a:xfrm>
            <a:off x="4572000" y="3048120"/>
            <a:ext cx="3581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нная бума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ecurity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документ, который закрепляет имущественные и неимущественные права владельц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а ценной бумаги называется курс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ценных бума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кция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— амер., share — англ.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собствен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лигация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ond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долг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пцион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ption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права владельц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ной бумаг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покупку или продажу другой ценной бумаг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едусмотренный в ней срок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зафиксированной цен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ругие виды ценных бумаг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к — указание чекодателя банку выплатить чекодержателю указанную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чеке сумм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ксель — долговое обязательств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иваты — производные ценные бума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>akireyev</dc:creator>
  <dc:description/>
  <dc:language>en-US</dc:language>
  <cp:lastModifiedBy>LEGION</cp:lastModifiedBy>
  <dcterms:modified xsi:type="dcterms:W3CDTF">2014-11-10T09:24:04Z</dcterms:modified>
  <cp:revision>54</cp:revision>
  <dc:subject/>
  <dc:title>18. Фирма на рынке</dc:title>
</cp:coreProperties>
</file>