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C4FF-5EEC-4115-BD6E-A0CB4FFE7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ED3B-F986-476B-B6F9-1D6E18EC97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96B5-8375-4D92-A25E-08584958B8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4931-991F-49B3-81FB-61A1047293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ов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EC1C-6BD4-43B9-B025-E835E709E1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5CED-B742-4431-ABB8-CD1356ED0D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25DF-9A67-43FA-9021-723FF0DDDE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Спасибо всем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6277-776F-476F-8B58-0F5E010A99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7DF9-6F59-47AB-A4FE-FA0373C9B1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3871-B2F9-4CA0-8022-B85BFAC43D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11FC-1BA0-4032-A4BD-5C376C72CB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A8C3-1FF7-421B-ABB9-8AAC569260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17D0-4FCC-4FB3-B4D1-10DB25500A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условия, при которых возникают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i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»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5C7B-0941-4715-862D-B4AAECD64D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» 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F752-8D09-4B87-9BB6-59BE36F344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0FE-56C7-49A6-BD86-0C91A699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01E-9186-43D0-A392-257FF63D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2AB-5535-49E4-B027-466E286B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97A-C425-410A-9B34-81E1DB72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5801-5F6E-4E29-8F84-01A1E20D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D619-3E55-4B36-A401-7795AC11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B4C8-7641-4C4B-BEA1-176F0EC6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C3C0-5FCB-47DB-B0E3-F234E139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784B-B16D-411B-AC2C-85CE9869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B744-9283-493F-B620-0B4DDFEC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61CA-49FA-4BD6-9CA9-2B2804D3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3D7-1849-430A-877F-1BB026C7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77FE-DFFC-4341-8575-D33DEFC0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D9A8-EC52-4CD7-BA9A-6CB6BE0B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3A8B-AE8B-4EBC-80D5-AEE45D6F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0526-48FD-49D3-98D2-CBB35636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06F2-54B0-4867-9BA3-ACBE89BA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CA1-28D2-4AB9-8C9D-F4AF5D95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872-B6CB-4C00-A420-B29BA0B3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490-872D-4F48-9B1F-2980C03F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F83-5D6C-414E-B9E9-FFCA9BB2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750-EC53-48B5-9031-CD7B0404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BC6-F69E-4556-81CC-85670295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3EE-7728-4292-862B-0889BA0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8468-59C3-4E77-96C2-8E485579243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86FE-8E1D-417E-9A0C-52452D1998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../&#1059;&#1095;&#1080;&#1090;&#1077;&#1083;&#1103;/&#1050;&#1083;&#1080;&#1085;&#1086;&#1074;&#1072;/you_people/&#1054;&#1090;&#1082;&#1088;_&#1091;&#1088;&#1086;&#1082;/&#1055;&#1088;&#1080;&#1082;&#1072;&#1079;%20.doc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619280" y="62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059280" y="289080"/>
            <a:ext cx="3168360" cy="836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708360" y="32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трас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5280" y="285444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348000" y="2781360"/>
            <a:ext cx="2448000" cy="100800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443640" y="2708280"/>
            <a:ext cx="2448000" cy="936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665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12589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1240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37083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442764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148360" y="6165720"/>
            <a:ext cx="433440" cy="50328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6732720" y="6164280"/>
            <a:ext cx="43308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82422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75247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4643280" y="2205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372360" y="1917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 flipH="1">
            <a:off x="1547640" y="2058840"/>
            <a:ext cx="93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610920" y="5445000"/>
            <a:ext cx="215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 flipH="1">
            <a:off x="694800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 flipH="1">
            <a:off x="385092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47636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774072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643280" y="501336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3"/>
          <p:cNvSpPr/>
          <p:nvPr/>
        </p:nvSpPr>
        <p:spPr>
          <a:xfrm>
            <a:off x="2195640" y="537372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4"/>
          <p:cNvSpPr/>
          <p:nvPr/>
        </p:nvSpPr>
        <p:spPr>
          <a:xfrm>
            <a:off x="838836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521964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7"/>
          <p:cNvSpPr/>
          <p:nvPr/>
        </p:nvSpPr>
        <p:spPr>
          <a:xfrm>
            <a:off x="395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9"/>
          <p:cNvSpPr/>
          <p:nvPr/>
        </p:nvSpPr>
        <p:spPr>
          <a:xfrm>
            <a:off x="0" y="4083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пределенный вид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3"/>
          <p:cNvSpPr/>
          <p:nvPr/>
        </p:nvSpPr>
        <p:spPr>
          <a:xfrm>
            <a:off x="250920" y="3357720"/>
            <a:ext cx="183672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орон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835280" y="44280"/>
            <a:ext cx="5184720" cy="1125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5280" y="-1800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рудовое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216000" y="1846440"/>
            <a:ext cx="248436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уд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го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518160" y="1701720"/>
            <a:ext cx="2374920" cy="935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плата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421080" y="177336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ремя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отды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732720" y="2781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250920" y="981000"/>
            <a:ext cx="19447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1834920" y="1052640"/>
            <a:ext cx="936360" cy="792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5651640" y="1268280"/>
            <a:ext cx="288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2842920" y="1268280"/>
            <a:ext cx="6490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3203280" y="1266840"/>
            <a:ext cx="431640" cy="938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5724360" y="1197000"/>
            <a:ext cx="576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7093080" y="836640"/>
            <a:ext cx="15825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6588000" y="907920"/>
            <a:ext cx="107964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4572000" y="1197000"/>
            <a:ext cx="0" cy="576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252360" y="4508640"/>
            <a:ext cx="165564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324000" y="5734080"/>
            <a:ext cx="1655640" cy="57456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 Т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3203640" y="2997360"/>
            <a:ext cx="244800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олж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203640" y="3787920"/>
            <a:ext cx="2376360" cy="6490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пол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бочи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203640" y="4581360"/>
            <a:ext cx="2448000" cy="7192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ерывы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дыха и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3203640" y="544500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щий выходно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3203640" y="602136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6300720" y="5589720"/>
            <a:ext cx="259236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имальный раз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6373800" y="451008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а работы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373800" y="328464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и выпл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работной 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788000" y="765000"/>
            <a:ext cx="3816360" cy="547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79280" y="1989000"/>
            <a:ext cx="4176720" cy="324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714560" y="90792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50920" y="1989000"/>
            <a:ext cx="4321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6"/>
          <p:cNvSpPr txBox="1"/>
          <p:nvPr/>
        </p:nvSpPr>
        <p:spPr>
          <a:xfrm rot="19952400">
            <a:off x="0" y="2205000"/>
            <a:ext cx="8724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!!!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78279"/>
          <p:cNvPicPr/>
          <p:nvPr/>
        </p:nvPicPr>
        <p:blipFill>
          <a:blip r:embed="rId1"/>
          <a:stretch/>
        </p:blipFill>
        <p:spPr>
          <a:xfrm>
            <a:off x="-36360" y="-27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95640" y="692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1579680"/>
            <a:ext cx="914400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04_1"/>
          <p:cNvPicPr/>
          <p:nvPr/>
        </p:nvPicPr>
        <p:blipFill>
          <a:blip r:embed="rId2"/>
          <a:stretch/>
        </p:blipFill>
        <p:spPr>
          <a:xfrm>
            <a:off x="1979640" y="119160"/>
            <a:ext cx="5086440" cy="38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us_big"/>
          <p:cNvPicPr/>
          <p:nvPr/>
        </p:nvPicPr>
        <p:blipFill>
          <a:blip r:embed="rId3"/>
          <a:stretch/>
        </p:blipFill>
        <p:spPr>
          <a:xfrm>
            <a:off x="142920" y="2781360"/>
            <a:ext cx="5292720" cy="25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Mercedes_o345_Conecto_C_abb"/>
          <p:cNvPicPr/>
          <p:nvPr/>
        </p:nvPicPr>
        <p:blipFill>
          <a:blip r:embed="rId4"/>
          <a:stretch/>
        </p:blipFill>
        <p:spPr>
          <a:xfrm>
            <a:off x="4356000" y="3716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539640" y="5950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4388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К РФ п.1 Ст. 2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.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321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ГК РФ п. 2 Ст. 2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 РФ п. 1 Ст. 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00508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4500720" y="436572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468360" y="5445000"/>
            <a:ext cx="7775640" cy="1079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условия,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которых возникают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9280" y="3284640"/>
            <a:ext cx="92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50920" y="3213000"/>
            <a:ext cx="86421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ГК РФ п. 2,4 Ст. 33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8764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1320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51672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С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50920" y="522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68360" y="5373720"/>
            <a:ext cx="831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бщая мод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Если…, то…, а в противном случае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258920" y="1125360"/>
            <a:ext cx="6351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» (ГК РФ п. 2,4 Ст. 33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55:13Z</dcterms:created>
  <dc:creator>User</dc:creator>
  <dc:description/>
  <dc:language>en-US</dc:language>
  <cp:lastModifiedBy>LEGION</cp:lastModifiedBy>
  <dcterms:modified xsi:type="dcterms:W3CDTF">2015-01-28T08:25:49Z</dcterms:modified>
  <cp:revision>37</cp:revision>
  <dc:subject/>
  <dc:title>Норма права</dc:title>
</cp:coreProperties>
</file>