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0.jpeg" ContentType="image/jpeg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6CB-ED57-48AA-9E82-CA96012CAC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 какому принципу правовые понятия разделены цвето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онституцион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администрати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5BE5-D232-4AA7-93FA-8D58EC28550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есите отрасли права и правовые ин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473B-5B63-4008-913D-6DE78561A7E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Georgia"/>
              </a:rPr>
              <a:t>Система права характеризу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2066-8DEB-4A20-A60F-9F5126B9A41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отрасль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Определите институт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Georgia"/>
              </a:rPr>
              <a:t>Какой это элемент структуры пра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ECB9-7BFD-4621-8125-8FA61B6239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69E7-37B7-4696-A7C4-1D309875DAC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lang="ru-RU" sz="1800" spc="-1" strike="noStrike" u="sng">
                <a:solidFill>
                  <a:srgbClr val="1f497d"/>
                </a:solidFill>
                <a:uFillTx/>
                <a:latin typeface="Times New Roman"/>
              </a:rPr>
              <a:t>Норма прав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BF49-D0EA-4415-AE05-F2FE4BBED0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нормы дей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1D73-7158-4634-BDB4-1089946ED44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Вступают в силу через 10 д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 момента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(публикуются через 7 дней с момента принят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7AF3-E189-4E6C-8903-99B7F2E76A8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Действуют на террито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осударства(земля воды, нед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ольства, корабли в море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80"/>
                </a:solidFill>
                <a:uFillTx/>
                <a:latin typeface="Times New Roman"/>
              </a:rPr>
              <a:t>Общее прави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аспространяется на всех адресатов в рам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территориальной сферы действия а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BC82-EC55-4C8E-88DF-1CCFE9C339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 основной посыл, в каждой из предложенных правовых нор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определенные положительны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в норме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держащихся в норме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юридически не обязаны соверш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A420-712A-4AF8-BDD3-9A5D097B43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3D53-C02B-4697-B82D-C1A8667843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40F3-5D16-4233-84E8-D806D5B3D6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нормы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8691-E63F-4A6B-BBEA-D667C20F08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1400" spc="-1" strike="noStrike">
                <a:solidFill>
                  <a:srgbClr val="e20c2b"/>
                </a:solidFill>
                <a:latin typeface="Calibri"/>
              </a:rPr>
              <a:t>функци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4DF8-21E8-409C-B0D5-DF3459AC06F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(В.Соловьев, русский филосо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DA54-4263-40EE-BF3F-A964B9F83A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80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D1BB-1254-432C-97C1-E33CB6BF867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825"/>
              </a:spcBef>
              <a:buClr>
                <a:srgbClr val="80008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8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500A-4D0B-4F32-984B-492A695DE7D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. Норма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72A0-1AFB-4365-9211-B149DA58928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ува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на свободу со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вая система государ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(право – высшая справедлив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86B0-3EA6-4129-AD91-15951A7082A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CECB-4E1B-440C-8016-D5F2886261B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истема - цел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4392-7A6E-4E93-9C59-6AF40A2E8B4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тнесит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овите пропущенный терм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          </a:t>
            </a:r>
            <a:r>
              <a:rPr b="1" lang="ru-RU" sz="1600" spc="-1" strike="noStrike">
                <a:solidFill>
                  <a:srgbClr val="800080"/>
                </a:solidFill>
                <a:latin typeface="Times New Roman"/>
              </a:rPr>
              <a:t>?                                          Правоотнош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2C0F-2330-4291-A1B8-CCB52C70131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72A-90C8-4BD7-9515-CDAEF13C09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AAC-BDAD-4D02-8D66-5B194293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742-1AD0-4036-B3D5-C923C6F3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C7E-D160-4DC7-AAE0-BC82FA46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4A4-893A-472B-AF3A-E5BE538E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080C-1B72-4182-B8E1-EBFF0841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34D5-2CF5-40DD-93EC-1346E003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E52C-A75B-4BAE-B2E2-E937642E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5DD1-FAF6-40B5-9613-041242D9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7567-6901-4407-B17F-5F3C4AD7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F569-C91E-4B18-A86D-57E4DEC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A14F-0D1D-4DB3-811C-7EC10ED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7D1-7BD3-4DD8-ABC2-73BA3FC8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602-1945-4301-B1A3-A866EE4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8476-D9BB-4C7A-8D0B-50F0A8F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F5BE-11BC-4E83-83AD-19DA5028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F487-65A6-4BF6-852C-3190CDC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DDFF-8013-4E2F-A356-278B2BC0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7EF-AD32-4704-B3B3-97F9BC5B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0C2-3814-4621-8682-45ADBBE5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53F-D0D7-43A4-B760-7B40DCFB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18A-9636-4289-8226-AAFD350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FCB-6436-4541-AC1E-A8DB8960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F98-DCDD-41E9-827A-E878B8D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850D-3017-49F7-81BD-75475B9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CB68-BD89-4DC3-A11E-CB72E24E16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4d4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d4d4"/>
                </a:gs>
                <a:gs pos="100000">
                  <a:srgbClr val="cbcbc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D91-08F6-4511-8E5A-B00886B1C3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BARISTR6"/>
          <p:cNvPicPr/>
          <p:nvPr/>
        </p:nvPicPr>
        <p:blipFill>
          <a:blip r:embed="rId1"/>
          <a:stretch/>
        </p:blipFill>
        <p:spPr>
          <a:xfrm>
            <a:off x="1692360" y="255600"/>
            <a:ext cx="5789520" cy="6213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 какому принципу правовые понятия разделены цветом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раждан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гражданск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конституцион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наслед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аре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семей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административное пра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357120" y="4437000"/>
            <a:ext cx="844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a29e"/>
                </a:solidFill>
                <a:uFillTx/>
                <a:latin typeface="Georgia"/>
              </a:rPr>
              <a:t>Институт пра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обособленные групп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авовых норм, регулирующ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днородные общественны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тношения, но более мелкие, чем отрасл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ходят в соответствующие отрасли пра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a29e"/>
                </a:solidFill>
                <a:latin typeface="Arial"/>
              </a:rPr>
              <a:t>Соотнесите отрасли права и правовые институты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4480"/>
        </p:xfrm>
        <a:graphic>
          <a:graphicData uri="http://schemas.openxmlformats.org/drawingml/2006/table">
            <a:tbl>
              <a:tblPr/>
              <a:tblGrid>
                <a:gridCol w="4122720"/>
                <a:gridCol w="41068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Отрасль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5498f"/>
                          </a:solidFill>
                          <a:latin typeface="Times New Roman"/>
                          <a:ea typeface="Times New Roman"/>
                        </a:rPr>
                        <a:t>Институт пра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итуцион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й догов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жданск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ля-прода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жда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тивное пра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служ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дународное пра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атический стату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Line 79"/>
          <p:cNvSpPr/>
          <p:nvPr/>
        </p:nvSpPr>
        <p:spPr>
          <a:xfrm>
            <a:off x="3419640" y="2637000"/>
            <a:ext cx="2160360" cy="2160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0"/>
          <p:cNvSpPr/>
          <p:nvPr/>
        </p:nvSpPr>
        <p:spPr>
          <a:xfrm>
            <a:off x="2916360" y="3357720"/>
            <a:ext cx="367164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82"/>
          <p:cNvSpPr/>
          <p:nvPr/>
        </p:nvSpPr>
        <p:spPr>
          <a:xfrm flipV="1">
            <a:off x="2484360" y="2565360"/>
            <a:ext cx="4032360" cy="151128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83"/>
          <p:cNvSpPr/>
          <p:nvPr/>
        </p:nvSpPr>
        <p:spPr>
          <a:xfrm flipV="1">
            <a:off x="3564000" y="4076280"/>
            <a:ext cx="3456000" cy="79236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84"/>
          <p:cNvSpPr/>
          <p:nvPr/>
        </p:nvSpPr>
        <p:spPr>
          <a:xfrm>
            <a:off x="3276720" y="5589720"/>
            <a:ext cx="2303280" cy="0"/>
          </a:xfrm>
          <a:prstGeom prst="line">
            <a:avLst/>
          </a:prstGeom>
          <a:ln w="38160">
            <a:solidFill>
              <a:srgbClr val="00a29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27" name="Organization Chart 4"/>
          <p:cNvGrpSpPr/>
          <p:nvPr/>
        </p:nvGrpSpPr>
        <p:grpSpPr>
          <a:xfrm>
            <a:off x="395280" y="1268280"/>
            <a:ext cx="8229600" cy="2116080"/>
            <a:chOff x="395280" y="1268280"/>
            <a:chExt cx="8229600" cy="2116080"/>
          </a:xfrm>
        </p:grpSpPr>
        <p:cxnSp>
          <p:nvCxnSpPr>
            <p:cNvPr id="228" name="_s2052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5738040" y="88524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2053"/>
            <p:cNvCxnSpPr>
              <a:stCxn id="232" idx="0"/>
              <a:endCxn id="230" idx="2"/>
            </p:cNvCxnSpPr>
            <p:nvPr/>
          </p:nvCxnSpPr>
          <p:spPr>
            <a:xfrm flipV="1">
              <a:off x="4510080" y="2113920"/>
              <a:ext cx="1440" cy="42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2054"/>
            <p:cNvCxnSpPr>
              <a:stCxn id="234" idx="0"/>
              <a:endCxn id="230" idx="2"/>
            </p:cNvCxnSpPr>
            <p:nvPr/>
          </p:nvCxnSpPr>
          <p:spPr>
            <a:xfrm flipH="1" flipV="1" rot="5400000">
              <a:off x="2857320" y="885600"/>
              <a:ext cx="423720" cy="2880720"/>
            </a:xfrm>
            <a:prstGeom prst="bentConnector3">
              <a:avLst>
                <a:gd name="adj1" fmla="val 207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0" name="_s2055"/>
            <p:cNvSpPr/>
            <p:nvPr/>
          </p:nvSpPr>
          <p:spPr>
            <a:xfrm>
              <a:off x="3275280" y="126828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5498f"/>
                  </a:solidFill>
                  <a:latin typeface="Times New Roman"/>
                </a:rPr>
                <a:t>Система права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2056"/>
            <p:cNvSpPr/>
            <p:nvPr/>
          </p:nvSpPr>
          <p:spPr>
            <a:xfrm>
              <a:off x="39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Нормы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2057"/>
            <p:cNvSpPr/>
            <p:nvPr/>
          </p:nvSpPr>
          <p:spPr>
            <a:xfrm>
              <a:off x="327528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2058"/>
            <p:cNvSpPr/>
            <p:nvPr/>
          </p:nvSpPr>
          <p:spPr>
            <a:xfrm>
              <a:off x="6156000" y="2538000"/>
              <a:ext cx="2468880" cy="84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Text Box 14"/>
          <p:cNvSpPr/>
          <p:nvPr/>
        </p:nvSpPr>
        <p:spPr>
          <a:xfrm>
            <a:off x="347760" y="3716280"/>
            <a:ext cx="82533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5498f"/>
                </a:solidFill>
                <a:latin typeface="Georgia"/>
              </a:rPr>
              <a:t>Система права характеризуетс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заимозависимостью и связью правовых нор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егулирует отношения все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вокупностью юридических средст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остностью и согласова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отрасль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Определите институт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Georgia"/>
              </a:rPr>
              <a:t>Какой это элемент структуры права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и добросовестно, блюсти дисциплину труда, своевременно и точно исполнять распоряжения администрации…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КЗОТ РФ, ст. 135)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a29e"/>
                </a:solidFill>
                <a:latin typeface="Arial"/>
              </a:rPr>
              <a:t>Попробуйте дать определение нормы права, ответив на вопросы: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такое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ем установлена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регулирует норма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ова степень обязательности нормы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00a29e"/>
                </a:solidFill>
                <a:uFillTx/>
                <a:latin typeface="Times New Roman"/>
              </a:rPr>
              <a:t>Норма прав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признаваемое и обеспечиваемое государством, общеобязательное правило, из которого вытекают права и обязанности участников общественных отношений, чьи действия призвано регулировать данное правило в качестве образца, эталона, масштаба повед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равовые нормы действуют: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376560" y="1484280"/>
            <a:ext cx="2826360" cy="2360520"/>
            <a:chOff x="376560" y="1484280"/>
            <a:chExt cx="2826360" cy="2360520"/>
          </a:xfrm>
        </p:grpSpPr>
        <p:pic>
          <p:nvPicPr>
            <p:cNvPr id="246" name="Picture 6" descr="j0208950"/>
            <p:cNvPicPr/>
            <p:nvPr/>
          </p:nvPicPr>
          <p:blipFill>
            <a:blip r:embed="rId1"/>
            <a:stretch/>
          </p:blipFill>
          <p:spPr>
            <a:xfrm>
              <a:off x="1285200" y="1484280"/>
              <a:ext cx="1917720" cy="20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376560" y="338508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о времен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8" name="Group 8"/>
          <p:cNvGrpSpPr/>
          <p:nvPr/>
        </p:nvGrpSpPr>
        <p:grpSpPr>
          <a:xfrm>
            <a:off x="2621880" y="3789360"/>
            <a:ext cx="2759040" cy="2166120"/>
            <a:chOff x="2621880" y="3789360"/>
            <a:chExt cx="2759040" cy="2166120"/>
          </a:xfrm>
        </p:grpSpPr>
        <p:pic>
          <p:nvPicPr>
            <p:cNvPr id="249" name="Picture 9" descr="j0189205"/>
            <p:cNvPicPr/>
            <p:nvPr/>
          </p:nvPicPr>
          <p:blipFill>
            <a:blip r:embed="rId2"/>
            <a:stretch/>
          </p:blipFill>
          <p:spPr>
            <a:xfrm>
              <a:off x="3732840" y="3789360"/>
              <a:ext cx="1648080" cy="16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10"/>
            <p:cNvSpPr/>
            <p:nvPr/>
          </p:nvSpPr>
          <p:spPr>
            <a:xfrm>
              <a:off x="2621880" y="5495760"/>
              <a:ext cx="26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В пространств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51" name="Picture 14" descr="CBIZ175"/>
          <p:cNvPicPr/>
          <p:nvPr/>
        </p:nvPicPr>
        <p:blipFill>
          <a:blip r:embed="rId3"/>
          <a:stretch/>
        </p:blipFill>
        <p:spPr>
          <a:xfrm>
            <a:off x="6300720" y="1413000"/>
            <a:ext cx="2448000" cy="21034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16"/>
          <p:cNvSpPr/>
          <p:nvPr/>
        </p:nvSpPr>
        <p:spPr>
          <a:xfrm>
            <a:off x="6230520" y="35733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кругу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179280" y="836640"/>
            <a:ext cx="1548000" cy="1727280"/>
            <a:chOff x="179280" y="836640"/>
            <a:chExt cx="1548000" cy="1727280"/>
          </a:xfrm>
        </p:grpSpPr>
        <p:pic>
          <p:nvPicPr>
            <p:cNvPr id="255" name="Picture 4" descr="j0208950"/>
            <p:cNvPicPr/>
            <p:nvPr/>
          </p:nvPicPr>
          <p:blipFill>
            <a:blip r:embed="rId1"/>
            <a:stretch/>
          </p:blipFill>
          <p:spPr>
            <a:xfrm>
              <a:off x="669960" y="836640"/>
              <a:ext cx="1057320" cy="13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179280" y="2106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7" name="Group 6"/>
          <p:cNvGrpSpPr/>
          <p:nvPr/>
        </p:nvGrpSpPr>
        <p:grpSpPr>
          <a:xfrm>
            <a:off x="1763640" y="863640"/>
            <a:ext cx="7178760" cy="1557000"/>
            <a:chOff x="1763640" y="863640"/>
            <a:chExt cx="7178760" cy="1557000"/>
          </a:xfrm>
        </p:grpSpPr>
        <p:sp>
          <p:nvSpPr>
            <p:cNvPr id="258" name="Text Box 7"/>
            <p:cNvSpPr/>
            <p:nvPr/>
          </p:nvSpPr>
          <p:spPr>
            <a:xfrm>
              <a:off x="2450880" y="863640"/>
              <a:ext cx="6491520" cy="155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Вступают в силу через 10 дне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с момента публикаци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(публикуются через 7 дней с момента принятия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Line 8"/>
            <p:cNvSpPr/>
            <p:nvPr/>
          </p:nvSpPr>
          <p:spPr>
            <a:xfrm>
              <a:off x="1763640" y="16779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520" y="2565360"/>
            <a:ext cx="2745720" cy="2430360"/>
            <a:chOff x="2520" y="2565360"/>
            <a:chExt cx="2745720" cy="2430360"/>
          </a:xfrm>
        </p:grpSpPr>
        <p:grpSp>
          <p:nvGrpSpPr>
            <p:cNvPr id="261" name="Group 10"/>
            <p:cNvGrpSpPr/>
            <p:nvPr/>
          </p:nvGrpSpPr>
          <p:grpSpPr>
            <a:xfrm>
              <a:off x="2520" y="3017880"/>
              <a:ext cx="2745720" cy="1977840"/>
              <a:chOff x="2520" y="3017880"/>
              <a:chExt cx="2745720" cy="1977840"/>
            </a:xfrm>
          </p:grpSpPr>
          <p:pic>
            <p:nvPicPr>
              <p:cNvPr id="262" name="Picture 11" descr="j0219100"/>
              <p:cNvPicPr/>
              <p:nvPr/>
            </p:nvPicPr>
            <p:blipFill>
              <a:blip r:embed="rId3"/>
              <a:stretch/>
            </p:blipFill>
            <p:spPr>
              <a:xfrm>
                <a:off x="803160" y="3017880"/>
                <a:ext cx="114300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12"/>
              <p:cNvSpPr/>
              <p:nvPr/>
            </p:nvSpPr>
            <p:spPr>
              <a:xfrm>
                <a:off x="2520" y="417024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ожет указыватьс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нкретная дата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4" name="Line 13"/>
            <p:cNvSpPr/>
            <p:nvPr/>
          </p:nvSpPr>
          <p:spPr>
            <a:xfrm>
              <a:off x="1223640" y="256536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6123600" y="429264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момента получ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т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20"/>
          <p:cNvGrpSpPr/>
          <p:nvPr/>
        </p:nvGrpSpPr>
        <p:grpSpPr>
          <a:xfrm>
            <a:off x="1979640" y="2276640"/>
            <a:ext cx="6564240" cy="1718640"/>
            <a:chOff x="1979640" y="2276640"/>
            <a:chExt cx="6564240" cy="1718640"/>
          </a:xfrm>
        </p:grpSpPr>
        <p:pic>
          <p:nvPicPr>
            <p:cNvPr id="267" name="Picture 21" descr="j0336340"/>
            <p:cNvPicPr/>
            <p:nvPr/>
          </p:nvPicPr>
          <p:blipFill>
            <a:blip r:embed="rId4"/>
            <a:stretch/>
          </p:blipFill>
          <p:spPr>
            <a:xfrm>
              <a:off x="6961320" y="2860560"/>
              <a:ext cx="1582560" cy="113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Line 22"/>
            <p:cNvSpPr/>
            <p:nvPr/>
          </p:nvSpPr>
          <p:spPr>
            <a:xfrm>
              <a:off x="1979640" y="2276640"/>
              <a:ext cx="5040360" cy="718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о времени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270" name="Group 26"/>
          <p:cNvGrpSpPr/>
          <p:nvPr/>
        </p:nvGrpSpPr>
        <p:grpSpPr>
          <a:xfrm>
            <a:off x="2946240" y="3068640"/>
            <a:ext cx="3109680" cy="2224440"/>
            <a:chOff x="2946240" y="3068640"/>
            <a:chExt cx="3109680" cy="2224440"/>
          </a:xfrm>
        </p:grpSpPr>
        <p:pic>
          <p:nvPicPr>
            <p:cNvPr id="271" name="Picture 27" descr="j0239293"/>
            <p:cNvPicPr/>
            <p:nvPr/>
          </p:nvPicPr>
          <p:blipFill>
            <a:blip r:embed="rId5"/>
            <a:stretch/>
          </p:blipFill>
          <p:spPr>
            <a:xfrm>
              <a:off x="3811320" y="3068640"/>
              <a:ext cx="1408320" cy="11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28"/>
            <p:cNvSpPr/>
            <p:nvPr/>
          </p:nvSpPr>
          <p:spPr>
            <a:xfrm>
              <a:off x="2946240" y="4101840"/>
              <a:ext cx="310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кты правительства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 момента подпис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если не указано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3" name="Line 29"/>
          <p:cNvSpPr/>
          <p:nvPr/>
        </p:nvSpPr>
        <p:spPr>
          <a:xfrm>
            <a:off x="1619280" y="2563920"/>
            <a:ext cx="216072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-324000" y="836640"/>
            <a:ext cx="1909800" cy="1620720"/>
            <a:chOff x="-324000" y="836640"/>
            <a:chExt cx="1909800" cy="1620720"/>
          </a:xfrm>
        </p:grpSpPr>
        <p:pic>
          <p:nvPicPr>
            <p:cNvPr id="276" name="Picture 4" descr="j0189205"/>
            <p:cNvPicPr/>
            <p:nvPr/>
          </p:nvPicPr>
          <p:blipFill>
            <a:blip r:embed="rId1"/>
            <a:stretch/>
          </p:blipFill>
          <p:spPr>
            <a:xfrm>
              <a:off x="442800" y="836640"/>
              <a:ext cx="11430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-324000" y="2000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8" name="Group 6"/>
          <p:cNvGrpSpPr/>
          <p:nvPr/>
        </p:nvGrpSpPr>
        <p:grpSpPr>
          <a:xfrm>
            <a:off x="1763640" y="836640"/>
            <a:ext cx="7122240" cy="1260720"/>
            <a:chOff x="1763640" y="836640"/>
            <a:chExt cx="7122240" cy="1260720"/>
          </a:xfrm>
        </p:grpSpPr>
        <p:grpSp>
          <p:nvGrpSpPr>
            <p:cNvPr id="279" name="Group 7"/>
            <p:cNvGrpSpPr/>
            <p:nvPr/>
          </p:nvGrpSpPr>
          <p:grpSpPr>
            <a:xfrm>
              <a:off x="2690280" y="836640"/>
              <a:ext cx="6195600" cy="1260720"/>
              <a:chOff x="2690280" y="836640"/>
              <a:chExt cx="6195600" cy="1260720"/>
            </a:xfrm>
          </p:grpSpPr>
          <p:pic>
            <p:nvPicPr>
              <p:cNvPr id="280" name="Picture 8" descr="j0215232"/>
              <p:cNvPicPr/>
              <p:nvPr/>
            </p:nvPicPr>
            <p:blipFill>
              <a:blip r:embed="rId2"/>
              <a:stretch/>
            </p:blipFill>
            <p:spPr>
              <a:xfrm>
                <a:off x="2690280" y="997200"/>
                <a:ext cx="1312920" cy="11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Text Box 9"/>
              <p:cNvSpPr/>
              <p:nvPr/>
            </p:nvSpPr>
            <p:spPr>
              <a:xfrm>
                <a:off x="4044600" y="836640"/>
                <a:ext cx="4841280" cy="11912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7632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Действуют на территории 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государства(земля воды, недра,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800000"/>
                    </a:solidFill>
                    <a:latin typeface="Times New Roman"/>
                  </a:rPr>
                  <a:t>посольства, корабли в море и др.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2" name="Line 10"/>
            <p:cNvSpPr/>
            <p:nvPr/>
          </p:nvSpPr>
          <p:spPr>
            <a:xfrm>
              <a:off x="1763640" y="1447920"/>
              <a:ext cx="926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В пространстве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771640" y="2492280"/>
            <a:ext cx="34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 кругу ли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Group 21"/>
          <p:cNvGrpSpPr/>
          <p:nvPr/>
        </p:nvGrpSpPr>
        <p:grpSpPr>
          <a:xfrm>
            <a:off x="2195640" y="3500280"/>
            <a:ext cx="6696000" cy="1191240"/>
            <a:chOff x="2195640" y="3500280"/>
            <a:chExt cx="6696000" cy="1191240"/>
          </a:xfrm>
        </p:grpSpPr>
        <p:sp>
          <p:nvSpPr>
            <p:cNvPr id="286" name="Text Box 22"/>
            <p:cNvSpPr/>
            <p:nvPr/>
          </p:nvSpPr>
          <p:spPr>
            <a:xfrm>
              <a:off x="2813040" y="3500280"/>
              <a:ext cx="6078600" cy="119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5498f"/>
                  </a:solidFill>
                  <a:uFillTx/>
                  <a:latin typeface="Times New Roman"/>
                </a:rPr>
                <a:t>Общее правило: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Распространяется на всех адресатов в рамках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800000"/>
                  </a:solidFill>
                  <a:latin typeface="Times New Roman"/>
                </a:rPr>
                <a:t>территориальной сферы действия ак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2195640" y="4132080"/>
              <a:ext cx="505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88" name="Picture 24" descr="CBIZ175"/>
          <p:cNvPicPr/>
          <p:nvPr/>
        </p:nvPicPr>
        <p:blipFill>
          <a:blip r:embed="rId5"/>
          <a:stretch/>
        </p:blipFill>
        <p:spPr>
          <a:xfrm>
            <a:off x="179280" y="3284640"/>
            <a:ext cx="2124360" cy="182556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ов основной посыл, в каждой из предложенных правовых норм?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-162720" y="692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атье 24 ГК РФ закреплено, что «гражданин отвеча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своим обязательствам всем принадлежащим ему имуществом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исключением имущества на которое в соответствии с закон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может быть обращено взыскание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-156240" y="1773360"/>
            <a:ext cx="91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13 Конституции РФ сказано: «запрещается создание и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щественных объединений, цели или действия которых направле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насильственное изменение основ конституционного строя и наруше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остности РФ, подрыв безопасности государства, создание вооруженных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ирований, разжигание социальной, расовой, национальной и религиоз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зни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-164160" y="3500280"/>
            <a:ext cx="895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32 СК РФ записано: «Супруги по своему желанию выбирают пр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ключении брака фамилию одного из них в качестве общей фамилии, либо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ждый из супругов сохраняет свою добрачную фамилию, либо, если иное н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усмотрено законами субъектов Российской Федерации, присоединяе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 своей фамилии фамилию другого супруга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-71640" y="4941720"/>
            <a:ext cx="911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ст.28 ФЗ «О трудовых пенсиях в РФ» сказано: «трудовая пенсия по ста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начается ранее достижения возраста, установленного статьей 7 настояще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едерального закона, следующим граждана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женщинам, родившим пять и более детей и воспитавшим их до достиж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и возраста 8 лет, по достижении возраста 50 лет, если они имеют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аховой стаж не менее 15 лет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59360" y="907920"/>
            <a:ext cx="66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бязывающие – обязывают субъекта права соверши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определенные положительные действ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459720" y="2205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Запрещающие – предписывают воздержание от содерж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в норме действ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72480" y="3860640"/>
            <a:ext cx="733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Управомочивающие – дозволяют или разрешают соверш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содержащихся в норме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48800" y="5229360"/>
            <a:ext cx="647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оощрительные – направлены на стимулирован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правомерной деятельности, такой, которую субъект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юридически не обязаны соверш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В чем смысл данной правовой норм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составные части вы могли бы выделить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Какие взаимоотношения она регулирует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Между кем и кем возникают данные правоотношен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a29e"/>
                </a:solidFill>
                <a:latin typeface="Arial"/>
              </a:rPr>
              <a:t>Что следует за неисполнением условий, закрепленных в правовой норм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ботники обязаны работать честно добросовестно, блюсти дисциплину труда, своевременно и точно исполнять распоряжения администрации…» (КЗОТ РФ, ст.1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 нарушения трудовой дисциплины администрация предприятия, учреждения, организации применяет следующие дисциплинарные взыска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меч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гий выгово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ольнение… (КЗОТ РФ, ст. 135)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10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1000"/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Структура нормы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ники и администр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Гипотеза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 – круг лиц, которым адресована норма, а также обстоятельства, при которых она реали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язанность работать честно и добросовест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Диспози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само правило поведения, в котором устанавливаются права и обязанности лиц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за невыполнение или нарушение трудовой дисцип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e20c2b"/>
                </a:solidFill>
                <a:latin typeface="Times New Roman"/>
              </a:rPr>
              <a:t>Санкция </a:t>
            </a:r>
            <a:r>
              <a:rPr b="1" lang="ru-RU" sz="2400" spc="-1" strike="noStrike">
                <a:solidFill>
                  <a:srgbClr val="65498f"/>
                </a:solidFill>
                <a:latin typeface="Times New Roman"/>
              </a:rPr>
              <a:t>– меры государственного принуждения, которые применяются к правонарушителя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1924200" y="5950080"/>
            <a:ext cx="566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20c2b"/>
                </a:solidFill>
                <a:latin typeface="Georgia"/>
              </a:rPr>
              <a:t>«Если… то… иначе».</a:t>
            </a:r>
            <a:r>
              <a:rPr b="1" lang="ru-RU" sz="1800" spc="-1" strike="noStrike">
                <a:solidFill>
                  <a:srgbClr val="e20c2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9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1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1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1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Попробуйте, опираясь на полученные знания и собственный социальный опыт, ответить на вопрос: Каковы </a:t>
            </a:r>
            <a:r>
              <a:rPr b="0" lang="ru-RU" sz="3200" spc="-1" strike="noStrike">
                <a:solidFill>
                  <a:srgbClr val="e20c2b"/>
                </a:solidFill>
                <a:latin typeface="Arial"/>
              </a:rPr>
              <a:t>функции права</a:t>
            </a:r>
            <a:r>
              <a:rPr b="0" lang="ru-RU" sz="2800" spc="-1" strike="noStrike">
                <a:solidFill>
                  <a:srgbClr val="00a29e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вляется регулятором общественных отношен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о воздействует на общество и государство путем установления общеобязательных правил повед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крепляет сложившиеся в обществе экономические, общественные, и другие отношения, а также существующий государственный и общественный стр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«Задача права вовсе не в том, чтобы лежащий возле мир обратился в Царствие Божие, а только в том, чтобы он до времени не превратился в ад»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a29e"/>
                </a:solidFill>
                <a:latin typeface="Arial"/>
              </a:rPr>
              <a:t>(В.Соловьев, русский философ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20c2b"/>
                </a:solidFill>
                <a:latin typeface="Georgia"/>
              </a:rPr>
              <a:t>Как оценить позицию философ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пессимистична, потому что Соловьев не верил в силу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оптимистична, потому что он верил в профилактическую мощь пра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на сдержанно-конструктивна, потому что философ возлагал на право только ту функцию, которая для него реаль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Философия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ик стр. 71 «Это интересно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сс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Понятие «право» в русском языке: в чем причины его многозначност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учебник стр. 72 «Темы для рефератов и обсуждений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5498f"/>
                </a:solidFill>
                <a:uFillTx/>
                <a:latin typeface="Times New Roman"/>
              </a:rPr>
              <a:t>на выбор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Picture 4" descr="BARISTR5"/>
          <p:cNvPicPr/>
          <p:nvPr/>
        </p:nvPicPr>
        <p:blipFill>
          <a:blip r:embed="rId1"/>
          <a:stretch/>
        </p:blipFill>
        <p:spPr>
          <a:xfrm>
            <a:off x="6230880" y="765000"/>
            <a:ext cx="2719440" cy="547236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4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Разделите перечисленные ниже признаки норм поведения на две группы. </a:t>
            </a:r>
            <a:br>
              <a:rPr sz="2800"/>
            </a:b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пределите название каждой из групп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уществует и действует как свод неписанных правил в виде поучений и притч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формулирует свои требования в абстрактной, абстрактно-всеобщей форме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нормы формируются в письменном виде, как законы, указы, судебные решения, договоры и др.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нормы предлагают идеал человеческого поведения, нравственную цель, к которой должен стремиться каждый человек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их исполнение обеспечивается совестью и давлением общественного мнения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930960" indent="-501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5498f"/>
                </a:solidFill>
                <a:latin typeface="Georgia"/>
              </a:rPr>
              <a:t>их исполнение обеспечивается принудительными мерами со стороны государств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. Норма права.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«Известное замечание Канта о том, что юристы всё ещё ищут определение права, остаётся справедливым и в наши дни. Юридическая мысль, судя по всему, обречена на бесконечный поиск определения права, побуждая к этому практической необходимостью построить правопорядок на фундаменте как можно более надёжных, чётких и полных знаний о его сущности, предмете правового регулирования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В. Мальце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Понятие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84360" y="177336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79960" y="1409760"/>
            <a:ext cx="828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возможность в обыденном, не юридическом смысле слов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уважение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599760" y="2349360"/>
            <a:ext cx="77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беспеченная законом возможность что-либо дел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ть и т.п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на свободу совести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01920" y="3645000"/>
            <a:ext cx="78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универсальный регулятор общественных отношений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вокупность обязательных к исполнению правил (норм)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ановленных государство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вая система государств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52080" y="5300640"/>
            <a:ext cx="84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аво – одна из важных духовных ценностей, в основе которой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ежит справедливость как его изначальная, идеальная сущ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5498f"/>
                </a:solidFill>
                <a:latin typeface="Times New Roman"/>
              </a:rPr>
              <a:t>(право – высшая справедливост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a29e"/>
                </a:solidFill>
                <a:latin typeface="Arial"/>
              </a:rPr>
              <a:t>Признаки права</a:t>
            </a: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рмативный характ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аличие определенных норм, правил поведения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язательность исполнения норм права всеми участниками обществен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тверждение и гарантированность норм права государством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00000"/>
              </a:lnSpc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кратность примен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a29e"/>
                </a:solidFill>
                <a:latin typeface="Arial"/>
              </a:rPr>
              <a:t>Система права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истема - целое,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65498f"/>
                </a:solidFill>
                <a:latin typeface="Times New Roman"/>
              </a:rPr>
              <a:t>состоящее из взаимосвязанных, взаимодействующих част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Соотнесите. </a:t>
            </a:r>
            <a:br>
              <a:rPr sz="3600"/>
            </a:br>
            <a:r>
              <a:rPr b="1" lang="ru-RU" sz="3600" spc="-1" strike="noStrike">
                <a:solidFill>
                  <a:srgbClr val="00a29e"/>
                </a:solidFill>
                <a:latin typeface="Arial"/>
              </a:rPr>
              <a:t>Назовите пропущенный термин.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65498f"/>
                </a:solidFill>
                <a:latin typeface="Times New Roman"/>
              </a:rPr>
              <a:t>?                                          Правоотнош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жданское право                             Тайное хищение личного имуществ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головное право                                 Устройство на работу гражданина Р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право                                   Заключение брак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ейное право                                   Превышение скорости движения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министративное право                  Приобретение автомобил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268360" y="2708280"/>
            <a:ext cx="1656000" cy="288144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1979640" y="2707920"/>
            <a:ext cx="2016000" cy="865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1835280" y="3573360"/>
            <a:ext cx="2160360" cy="7192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7"/>
          <p:cNvSpPr/>
          <p:nvPr/>
        </p:nvSpPr>
        <p:spPr>
          <a:xfrm flipV="1">
            <a:off x="1908000" y="4292280"/>
            <a:ext cx="2016360" cy="64908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916360" y="4941720"/>
            <a:ext cx="1079280" cy="648000"/>
          </a:xfrm>
          <a:prstGeom prst="line">
            <a:avLst/>
          </a:prstGeom>
          <a:ln w="57240">
            <a:solidFill>
              <a:srgbClr val="65498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81080" y="143352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5498f"/>
                </a:solidFill>
                <a:latin typeface="Times New Roman"/>
              </a:rPr>
              <a:t>Отрасль 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a29e"/>
                </a:solidFill>
                <a:latin typeface="Georgia"/>
              </a:rPr>
              <a:t>Отрасль права – основной элемент системы права. Совокупность норм права, регулирующих особую область отношений.</a:t>
            </a:r>
            <a:endParaRPr b="0" lang="en-US" sz="2800" spc="-1" strike="noStrike">
              <a:solidFill>
                <a:srgbClr val="00a29e"/>
              </a:solidFill>
              <a:latin typeface="Arial"/>
            </a:endParaRPr>
          </a:p>
        </p:txBody>
      </p:sp>
      <p:grpSp>
        <p:nvGrpSpPr>
          <p:cNvPr id="193" name="Diagram 4"/>
          <p:cNvGrpSpPr/>
          <p:nvPr/>
        </p:nvGrpSpPr>
        <p:grpSpPr>
          <a:xfrm>
            <a:off x="683640" y="1700280"/>
            <a:ext cx="7776000" cy="4897440"/>
            <a:chOff x="683640" y="1700280"/>
            <a:chExt cx="7776000" cy="4897440"/>
          </a:xfrm>
        </p:grpSpPr>
        <p:sp>
          <p:nvSpPr>
            <p:cNvPr id="194" name="_s1028"/>
            <p:cNvSpPr/>
            <p:nvPr/>
          </p:nvSpPr>
          <p:spPr>
            <a:xfrm flipV="1">
              <a:off x="4500720" y="2637000"/>
              <a:ext cx="720" cy="1244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1029"/>
            <p:cNvSpPr/>
            <p:nvPr/>
          </p:nvSpPr>
          <p:spPr>
            <a:xfrm>
              <a:off x="3276000" y="1700280"/>
              <a:ext cx="2521080" cy="106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Конституцион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1030"/>
            <p:cNvSpPr/>
            <p:nvPr/>
          </p:nvSpPr>
          <p:spPr>
            <a:xfrm flipV="1">
              <a:off x="4933800" y="3069000"/>
              <a:ext cx="861840" cy="805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1031"/>
            <p:cNvSpPr/>
            <p:nvPr/>
          </p:nvSpPr>
          <p:spPr>
            <a:xfrm>
              <a:off x="5436000" y="2421000"/>
              <a:ext cx="2647440" cy="950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Административ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1032"/>
            <p:cNvSpPr/>
            <p:nvPr/>
          </p:nvSpPr>
          <p:spPr>
            <a:xfrm flipV="1">
              <a:off x="5160600" y="4076640"/>
              <a:ext cx="995040" cy="14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1033"/>
            <p:cNvSpPr/>
            <p:nvPr/>
          </p:nvSpPr>
          <p:spPr>
            <a:xfrm>
              <a:off x="6084360" y="3500280"/>
              <a:ext cx="2375280" cy="978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Гражданск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1034"/>
            <p:cNvSpPr/>
            <p:nvPr/>
          </p:nvSpPr>
          <p:spPr>
            <a:xfrm>
              <a:off x="5293080" y="4581720"/>
              <a:ext cx="914040" cy="50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1035"/>
            <p:cNvSpPr/>
            <p:nvPr/>
          </p:nvSpPr>
          <p:spPr>
            <a:xfrm>
              <a:off x="5995800" y="4668840"/>
              <a:ext cx="2320920" cy="991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Финансов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1036"/>
            <p:cNvSpPr/>
            <p:nvPr/>
          </p:nvSpPr>
          <p:spPr>
            <a:xfrm>
              <a:off x="4737240" y="4877280"/>
              <a:ext cx="555480" cy="99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1037"/>
            <p:cNvSpPr/>
            <p:nvPr/>
          </p:nvSpPr>
          <p:spPr>
            <a:xfrm>
              <a:off x="4625640" y="5634360"/>
              <a:ext cx="2322360" cy="963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други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38"/>
            <p:cNvSpPr/>
            <p:nvPr/>
          </p:nvSpPr>
          <p:spPr>
            <a:xfrm flipH="1">
              <a:off x="3938400" y="4876560"/>
              <a:ext cx="346320" cy="821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9"/>
            <p:cNvSpPr/>
            <p:nvPr/>
          </p:nvSpPr>
          <p:spPr>
            <a:xfrm>
              <a:off x="2268360" y="5583600"/>
              <a:ext cx="2241720" cy="941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Международное 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40"/>
            <p:cNvSpPr/>
            <p:nvPr/>
          </p:nvSpPr>
          <p:spPr>
            <a:xfrm flipH="1">
              <a:off x="3116520" y="4618440"/>
              <a:ext cx="821880" cy="42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41"/>
            <p:cNvSpPr/>
            <p:nvPr/>
          </p:nvSpPr>
          <p:spPr>
            <a:xfrm>
              <a:off x="900000" y="4748040"/>
              <a:ext cx="2304360" cy="912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Трудовое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42"/>
            <p:cNvSpPr/>
            <p:nvPr/>
          </p:nvSpPr>
          <p:spPr>
            <a:xfrm flipH="1" flipV="1">
              <a:off x="2924280" y="4077360"/>
              <a:ext cx="935640" cy="14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43"/>
            <p:cNvSpPr/>
            <p:nvPr/>
          </p:nvSpPr>
          <p:spPr>
            <a:xfrm>
              <a:off x="683640" y="3500280"/>
              <a:ext cx="2251800" cy="1049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Семей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44"/>
            <p:cNvSpPr/>
            <p:nvPr/>
          </p:nvSpPr>
          <p:spPr>
            <a:xfrm flipH="1" flipV="1">
              <a:off x="3252600" y="3068280"/>
              <a:ext cx="833760" cy="80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45"/>
            <p:cNvSpPr/>
            <p:nvPr/>
          </p:nvSpPr>
          <p:spPr>
            <a:xfrm>
              <a:off x="1042920" y="2349360"/>
              <a:ext cx="236520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Уголовное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eorgia"/>
                </a:rPr>
                <a:t>право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46"/>
            <p:cNvSpPr/>
            <p:nvPr/>
          </p:nvSpPr>
          <p:spPr>
            <a:xfrm>
              <a:off x="3708360" y="3789000"/>
              <a:ext cx="1714320" cy="1175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Отрас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5498f"/>
                  </a:solidFill>
                  <a:latin typeface="Georgia"/>
                </a:rPr>
                <a:t>права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20:44Z</dcterms:created>
  <dc:creator>Ольга</dc:creator>
  <dc:description/>
  <dc:language>en-US</dc:language>
  <cp:lastModifiedBy>LEGION</cp:lastModifiedBy>
  <dcterms:modified xsi:type="dcterms:W3CDTF">2015-01-28T08:27:15Z</dcterms:modified>
  <cp:revision>8</cp:revision>
  <dc:subject/>
  <dc:title>Разделите перечисленные ниже признаки норм поведения на две группы</dc:title>
</cp:coreProperties>
</file>