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16E9-F301-47DA-B1A3-AA621498F5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какому принципу правовые понятия разделены цвет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онституцио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70E-CB14-4DF4-987F-E11C269F83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отрасли права и правовые ин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2A60-3F19-4019-B176-EC4598C2B2C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Georgia"/>
              </a:rPr>
              <a:t>Система права характеризу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9E2C-C3C9-4B8C-A4CF-C60A6560DB8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отрасль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институт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Какой это элемент структур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525-6EC7-4F49-94BB-6F1DD5A037E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97D8-F4AC-4BDE-A320-6D35466BD68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Норма прав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B8F-8FDE-410F-B855-F57C40CBD0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дей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77B-71FD-4960-BD60-DE85E7BABF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Вступают в силу через 10 д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 момента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(публикуются через 7 дней с момента принят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AB95-B81B-44B9-8609-BC36B04064C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Действуют на терри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осударства(земля воды, нед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ольства, корабли в море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аспространяется на всех адресатов в рам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территориальной сферы действия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F2DA-F541-4510-A210-5599A7580C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основной посыл, в каждой из предложенных правовых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пределенные положительн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в норме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держащихся в норме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юридически не обязаны соверш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1DE-EE44-4301-A24B-E798285F232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1AD7-47B8-4AA8-AD07-065F07DB827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D449-B4E1-400B-BB3E-783732699ED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норм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0C0D-C75C-4193-937A-60E1E303F3D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1400" spc="-1" strike="noStrike">
                <a:solidFill>
                  <a:srgbClr val="e20c2b"/>
                </a:solidFill>
                <a:latin typeface="Calibri"/>
              </a:rPr>
              <a:t>функци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0EDC-CA5A-4E23-B0E4-A4A7EF9D9C1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(В.Соловьев, русский филосо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0750-8712-4C7F-96E1-72A65D21C3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FF06-FBFB-4642-A60F-4CF512364D1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F022-EA94-4474-B29F-3EF869CD2ED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Норма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2938-7B5F-46C9-834C-2F6A364F3D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свободу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вая система государ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– высшая справедлив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7220-C9B8-49FF-A52D-3FD85A0809C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1F9B-648F-4C27-8106-57BB3564ADC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истема - цел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DBCD-98A8-42F0-B62D-656D4525891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тнеси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те пропущенный тер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?                                          Правоотно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7521-348C-4C6A-8371-F5680B6AED9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84B-64ED-4919-8EE1-0A087DE2AAD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B80-95F5-4350-A802-39A88E0E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007-5028-4841-830E-A3BBFFD3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A37-4AB2-4B44-90F4-16A1DBB3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CBE-4DCC-4F38-8CD6-856F4E2B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1F86-88C1-4D01-81CE-9405680B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7AA9-7EE2-43F8-AB6B-EEA4B22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D466-B385-4D7A-9C54-26436B1B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A865-5F8A-479A-A707-E849AC1B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D255-82F8-4CDA-984D-12E857E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AB20-DEC3-49CC-8C9C-B8888E5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5BD7-6243-45D9-95E1-B227738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5EB-FF61-4718-94BC-1A0FB976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653E-55C8-4C79-B0F3-D413925B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1D26-1D2E-4E8C-B116-8B8A5648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12E-367D-4D0B-9673-318799E5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6451-C8C5-4B15-9770-62AE7DF4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602B-9A51-4230-A3CA-776AEFB6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FEB-ABB9-4F50-A514-9B0997E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787-A4F1-4CE5-A7F3-3958549E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A0A-DAFA-467A-9965-69A08F16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749-EF68-47D8-9413-1C35AD36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EC4-DA56-436A-A410-CE747E5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093-84CF-408E-94EC-13663616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394-B70D-410D-908D-F97BE774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3703-B935-4E04-8FF4-D882DFF68E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0F13-DD94-4BC1-94A2-1AA162F5EB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ARISTR6"/>
          <p:cNvPicPr/>
          <p:nvPr/>
        </p:nvPicPr>
        <p:blipFill>
          <a:blip r:embed="rId1"/>
          <a:stretch/>
        </p:blipFill>
        <p:spPr>
          <a:xfrm>
            <a:off x="1692360" y="255600"/>
            <a:ext cx="5789520" cy="6213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 какому принципу правовые понятия разделены цветом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конституцион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семей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административ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57120" y="4437000"/>
            <a:ext cx="844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a29e"/>
                </a:solidFill>
                <a:uFillTx/>
                <a:latin typeface="Georgia"/>
              </a:rPr>
              <a:t>Институт пра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обособленны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овых норм, регулирующ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ородные обществе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ношения, но более мелкие, чем отрасл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ходят в соответствующие отрасли пр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оотнесите отрасли права и правовые институт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4122720"/>
                <a:gridCol w="4106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Отрасль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Институт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я-прод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ое пра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атический 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79"/>
          <p:cNvSpPr/>
          <p:nvPr/>
        </p:nvSpPr>
        <p:spPr>
          <a:xfrm>
            <a:off x="3419640" y="2637000"/>
            <a:ext cx="2160360" cy="2160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2916360" y="3357720"/>
            <a:ext cx="367164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82"/>
          <p:cNvSpPr/>
          <p:nvPr/>
        </p:nvSpPr>
        <p:spPr>
          <a:xfrm flipV="1">
            <a:off x="2484360" y="2565360"/>
            <a:ext cx="4032360" cy="151128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83"/>
          <p:cNvSpPr/>
          <p:nvPr/>
        </p:nvSpPr>
        <p:spPr>
          <a:xfrm flipV="1">
            <a:off x="3564000" y="4076280"/>
            <a:ext cx="3456000" cy="792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84"/>
          <p:cNvSpPr/>
          <p:nvPr/>
        </p:nvSpPr>
        <p:spPr>
          <a:xfrm>
            <a:off x="3276720" y="5589720"/>
            <a:ext cx="230328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27" name="Organization Chart 4"/>
          <p:cNvGrpSpPr/>
          <p:nvPr/>
        </p:nvGrpSpPr>
        <p:grpSpPr>
          <a:xfrm>
            <a:off x="395280" y="1268280"/>
            <a:ext cx="8229600" cy="2116080"/>
            <a:chOff x="395280" y="1268280"/>
            <a:chExt cx="8229600" cy="2116080"/>
          </a:xfrm>
        </p:grpSpPr>
        <p:cxnSp>
          <p:nvCxnSpPr>
            <p:cNvPr id="228" name="_s2052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738040" y="88524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3"/>
            <p:cNvCxnSpPr>
              <a:stCxn id="232" idx="0"/>
              <a:endCxn id="230" idx="2"/>
            </p:cNvCxnSpPr>
            <p:nvPr/>
          </p:nvCxnSpPr>
          <p:spPr>
            <a:xfrm flipV="1">
              <a:off x="4510080" y="2113920"/>
              <a:ext cx="144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4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857320" y="88560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0" name="_s2055"/>
            <p:cNvSpPr/>
            <p:nvPr/>
          </p:nvSpPr>
          <p:spPr>
            <a:xfrm>
              <a:off x="3275280" y="126828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5498f"/>
                  </a:solidFill>
                  <a:latin typeface="Times New Roman"/>
                </a:rPr>
                <a:t>Система прав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39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ормы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7"/>
            <p:cNvSpPr/>
            <p:nvPr/>
          </p:nvSpPr>
          <p:spPr>
            <a:xfrm>
              <a:off x="327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8"/>
            <p:cNvSpPr/>
            <p:nvPr/>
          </p:nvSpPr>
          <p:spPr>
            <a:xfrm>
              <a:off x="615600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Text Box 14"/>
          <p:cNvSpPr/>
          <p:nvPr/>
        </p:nvSpPr>
        <p:spPr>
          <a:xfrm>
            <a:off x="347760" y="3716280"/>
            <a:ext cx="8253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498f"/>
                </a:solidFill>
                <a:latin typeface="Georgia"/>
              </a:rPr>
              <a:t>Система права характериз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отрасль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институт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Какой это элемент структуры прав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29e"/>
                </a:solidFill>
                <a:latin typeface="Arial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00a29e"/>
                </a:solidFill>
                <a:uFillTx/>
                <a:latin typeface="Times New Roman"/>
              </a:rPr>
              <a:t>Норма пра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авовые нормы действуют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376560" y="1484280"/>
            <a:ext cx="2826360" cy="2360520"/>
            <a:chOff x="376560" y="1484280"/>
            <a:chExt cx="2826360" cy="2360520"/>
          </a:xfrm>
        </p:grpSpPr>
        <p:pic>
          <p:nvPicPr>
            <p:cNvPr id="246" name="Picture 6" descr="j0208950"/>
            <p:cNvPicPr/>
            <p:nvPr/>
          </p:nvPicPr>
          <p:blipFill>
            <a:blip r:embed="rId1"/>
            <a:stretch/>
          </p:blipFill>
          <p:spPr>
            <a:xfrm>
              <a:off x="1285200" y="1484280"/>
              <a:ext cx="191772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376560" y="338508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621880" y="3789360"/>
            <a:ext cx="2759040" cy="2166120"/>
            <a:chOff x="2621880" y="3789360"/>
            <a:chExt cx="2759040" cy="2166120"/>
          </a:xfrm>
        </p:grpSpPr>
        <p:pic>
          <p:nvPicPr>
            <p:cNvPr id="249" name="Picture 9" descr="j0189205"/>
            <p:cNvPicPr/>
            <p:nvPr/>
          </p:nvPicPr>
          <p:blipFill>
            <a:blip r:embed="rId2"/>
            <a:stretch/>
          </p:blipFill>
          <p:spPr>
            <a:xfrm>
              <a:off x="3732840" y="3789360"/>
              <a:ext cx="1648080" cy="16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0"/>
            <p:cNvSpPr/>
            <p:nvPr/>
          </p:nvSpPr>
          <p:spPr>
            <a:xfrm>
              <a:off x="2621880" y="54957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1" name="Picture 14" descr="CBIZ175"/>
          <p:cNvPicPr/>
          <p:nvPr/>
        </p:nvPicPr>
        <p:blipFill>
          <a:blip r:embed="rId3"/>
          <a:stretch/>
        </p:blipFill>
        <p:spPr>
          <a:xfrm>
            <a:off x="6300720" y="1413000"/>
            <a:ext cx="244800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6230520" y="3573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кругу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179280" y="836640"/>
            <a:ext cx="1548000" cy="1727280"/>
            <a:chOff x="179280" y="836640"/>
            <a:chExt cx="1548000" cy="1727280"/>
          </a:xfrm>
        </p:grpSpPr>
        <p:pic>
          <p:nvPicPr>
            <p:cNvPr id="255" name="Picture 4" descr="j0208950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79280" y="2106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6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58" name="Text Box 7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520" y="2565360"/>
            <a:ext cx="2745720" cy="2430360"/>
            <a:chOff x="2520" y="2565360"/>
            <a:chExt cx="2745720" cy="2430360"/>
          </a:xfrm>
        </p:grpSpPr>
        <p:grpSp>
          <p:nvGrpSpPr>
            <p:cNvPr id="261" name="Group 10"/>
            <p:cNvGrpSpPr/>
            <p:nvPr/>
          </p:nvGrpSpPr>
          <p:grpSpPr>
            <a:xfrm>
              <a:off x="2520" y="3017880"/>
              <a:ext cx="2745720" cy="1977840"/>
              <a:chOff x="2520" y="3017880"/>
              <a:chExt cx="2745720" cy="1977840"/>
            </a:xfrm>
          </p:grpSpPr>
          <p:pic>
            <p:nvPicPr>
              <p:cNvPr id="262" name="Picture 11" descr="j0219100"/>
              <p:cNvPicPr/>
              <p:nvPr/>
            </p:nvPicPr>
            <p:blipFill>
              <a:blip r:embed="rId3"/>
              <a:stretch/>
            </p:blipFill>
            <p:spPr>
              <a:xfrm>
                <a:off x="803160" y="3017880"/>
                <a:ext cx="114300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2"/>
              <p:cNvSpPr/>
              <p:nvPr/>
            </p:nvSpPr>
            <p:spPr>
              <a:xfrm>
                <a:off x="2520" y="417024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4" name="Line 13"/>
            <p:cNvSpPr/>
            <p:nvPr/>
          </p:nvSpPr>
          <p:spPr>
            <a:xfrm>
              <a:off x="1223640" y="25653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6123600" y="429264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омента пол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979640" y="2276640"/>
            <a:ext cx="6564240" cy="1718640"/>
            <a:chOff x="1979640" y="2276640"/>
            <a:chExt cx="6564240" cy="1718640"/>
          </a:xfrm>
        </p:grpSpPr>
        <p:pic>
          <p:nvPicPr>
            <p:cNvPr id="267" name="Picture 21" descr="j0336340"/>
            <p:cNvPicPr/>
            <p:nvPr/>
          </p:nvPicPr>
          <p:blipFill>
            <a:blip r:embed="rId4"/>
            <a:stretch/>
          </p:blipFill>
          <p:spPr>
            <a:xfrm>
              <a:off x="6961320" y="2860560"/>
              <a:ext cx="1582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2"/>
            <p:cNvSpPr/>
            <p:nvPr/>
          </p:nvSpPr>
          <p:spPr>
            <a:xfrm>
              <a:off x="1979640" y="2276640"/>
              <a:ext cx="5040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о време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2946240" y="3068640"/>
            <a:ext cx="3109680" cy="2224440"/>
            <a:chOff x="2946240" y="3068640"/>
            <a:chExt cx="3109680" cy="2224440"/>
          </a:xfrm>
        </p:grpSpPr>
        <p:pic>
          <p:nvPicPr>
            <p:cNvPr id="271" name="Picture 27" descr="j0239293"/>
            <p:cNvPicPr/>
            <p:nvPr/>
          </p:nvPicPr>
          <p:blipFill>
            <a:blip r:embed="rId5"/>
            <a:stretch/>
          </p:blipFill>
          <p:spPr>
            <a:xfrm>
              <a:off x="3811320" y="3068640"/>
              <a:ext cx="1408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28"/>
            <p:cNvSpPr/>
            <p:nvPr/>
          </p:nvSpPr>
          <p:spPr>
            <a:xfrm>
              <a:off x="2946240" y="4101840"/>
              <a:ext cx="31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кты правительств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момента подпис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если не указано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Line 29"/>
          <p:cNvSpPr/>
          <p:nvPr/>
        </p:nvSpPr>
        <p:spPr>
          <a:xfrm>
            <a:off x="1619280" y="2563920"/>
            <a:ext cx="2160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-324000" y="836640"/>
            <a:ext cx="1909800" cy="1620720"/>
            <a:chOff x="-324000" y="836640"/>
            <a:chExt cx="1909800" cy="1620720"/>
          </a:xfrm>
        </p:grpSpPr>
        <p:pic>
          <p:nvPicPr>
            <p:cNvPr id="276" name="Picture 4" descr="j0189205"/>
            <p:cNvPicPr/>
            <p:nvPr/>
          </p:nvPicPr>
          <p:blipFill>
            <a:blip r:embed="rId1"/>
            <a:stretch/>
          </p:blipFill>
          <p:spPr>
            <a:xfrm>
              <a:off x="442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-324000" y="200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1763640" y="836640"/>
            <a:ext cx="7122240" cy="1260720"/>
            <a:chOff x="1763640" y="836640"/>
            <a:chExt cx="7122240" cy="1260720"/>
          </a:xfrm>
        </p:grpSpPr>
        <p:grpSp>
          <p:nvGrpSpPr>
            <p:cNvPr id="279" name="Group 7"/>
            <p:cNvGrpSpPr/>
            <p:nvPr/>
          </p:nvGrpSpPr>
          <p:grpSpPr>
            <a:xfrm>
              <a:off x="2690280" y="836640"/>
              <a:ext cx="6195600" cy="1260720"/>
              <a:chOff x="2690280" y="836640"/>
              <a:chExt cx="6195600" cy="1260720"/>
            </a:xfrm>
          </p:grpSpPr>
          <p:pic>
            <p:nvPicPr>
              <p:cNvPr id="280" name="Picture 8" descr="j0215232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997200"/>
                <a:ext cx="131292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9"/>
              <p:cNvSpPr/>
              <p:nvPr/>
            </p:nvSpPr>
            <p:spPr>
              <a:xfrm>
                <a:off x="4044600" y="836640"/>
                <a:ext cx="484128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государства(земля воды, недр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посольства, корабли в море и др.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Line 10"/>
            <p:cNvSpPr/>
            <p:nvPr/>
          </p:nvSpPr>
          <p:spPr>
            <a:xfrm>
              <a:off x="1763640" y="144792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 пространств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771640" y="24922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 кругу ли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195640" y="3500280"/>
            <a:ext cx="6696000" cy="1191240"/>
            <a:chOff x="2195640" y="3500280"/>
            <a:chExt cx="6696000" cy="1191240"/>
          </a:xfrm>
        </p:grpSpPr>
        <p:sp>
          <p:nvSpPr>
            <p:cNvPr id="286" name="Text Box 22"/>
            <p:cNvSpPr/>
            <p:nvPr/>
          </p:nvSpPr>
          <p:spPr>
            <a:xfrm>
              <a:off x="2813040" y="3500280"/>
              <a:ext cx="60786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2195640" y="413208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8" name="Picture 24" descr="CBIZ175"/>
          <p:cNvPicPr/>
          <p:nvPr/>
        </p:nvPicPr>
        <p:blipFill>
          <a:blip r:embed="rId5"/>
          <a:stretch/>
        </p:blipFill>
        <p:spPr>
          <a:xfrm>
            <a:off x="179280" y="3284640"/>
            <a:ext cx="2124360" cy="182556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ов основной посыл, в каждой из предложенных правовых норм?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162720" y="692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156240" y="1773360"/>
            <a:ext cx="91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164160" y="3500280"/>
            <a:ext cx="895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-71640" y="4941720"/>
            <a:ext cx="911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9360" y="907920"/>
            <a:ext cx="66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пределенные положительные 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59720" y="220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в норме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72480" y="3860640"/>
            <a:ext cx="73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содержащихся в норме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48800" y="5229360"/>
            <a:ext cx="647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юридически не обязаны соверш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труктура нормы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924200" y="59500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0c2b"/>
                </a:solidFill>
                <a:latin typeface="Georgia"/>
              </a:rPr>
              <a:t>«Если… то… иначе».</a:t>
            </a:r>
            <a:r>
              <a:rPr b="1" lang="ru-RU" sz="1800" spc="-1" strike="noStrike">
                <a:solidFill>
                  <a:srgbClr val="e20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3200" spc="-1" strike="noStrike">
                <a:solidFill>
                  <a:srgbClr val="e20c2b"/>
                </a:solidFill>
                <a:latin typeface="Arial"/>
              </a:rPr>
              <a:t>функции права</a:t>
            </a: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(В.Соловьев, русский филосо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Философия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5498f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4" descr="BARISTR5"/>
          <p:cNvPicPr/>
          <p:nvPr/>
        </p:nvPicPr>
        <p:blipFill>
          <a:blip r:embed="rId1"/>
          <a:stretch/>
        </p:blipFill>
        <p:spPr>
          <a:xfrm>
            <a:off x="6230880" y="765000"/>
            <a:ext cx="2719440" cy="547236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. Норма пра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9960" y="1409760"/>
            <a:ext cx="82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уважени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99760" y="234936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свободу сове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1920" y="3645000"/>
            <a:ext cx="78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вая система государств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2080" y="5300640"/>
            <a:ext cx="84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– высшая справедливост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изнаки права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истема - целое,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Соотнесите. </a:t>
            </a:r>
            <a:br>
              <a:rPr sz="3600"/>
            </a:b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Назовите пропущенный термин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?                                          Правоотно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68360" y="2708280"/>
            <a:ext cx="1656000" cy="288144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979640" y="2707920"/>
            <a:ext cx="2016000" cy="865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835280" y="3573360"/>
            <a:ext cx="2160360" cy="7192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1908000" y="4292280"/>
            <a:ext cx="2016360" cy="649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916360" y="4941720"/>
            <a:ext cx="1079280" cy="64800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81080" y="1433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498f"/>
                </a:solidFill>
                <a:latin typeface="Times New Roman"/>
              </a:rPr>
              <a:t>Отрасль 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93" name="Diagram 4"/>
          <p:cNvGrpSpPr/>
          <p:nvPr/>
        </p:nvGrpSpPr>
        <p:grpSpPr>
          <a:xfrm>
            <a:off x="683640" y="1700280"/>
            <a:ext cx="7776000" cy="4897440"/>
            <a:chOff x="683640" y="1700280"/>
            <a:chExt cx="7776000" cy="4897440"/>
          </a:xfrm>
        </p:grpSpPr>
        <p:sp>
          <p:nvSpPr>
            <p:cNvPr id="194" name="_s1028"/>
            <p:cNvSpPr/>
            <p:nvPr/>
          </p:nvSpPr>
          <p:spPr>
            <a:xfrm flipV="1">
              <a:off x="4500720" y="2637000"/>
              <a:ext cx="720" cy="12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276000" y="1700280"/>
              <a:ext cx="2521080" cy="106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Конституцион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33800" y="3069000"/>
              <a:ext cx="86184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436000" y="2421000"/>
              <a:ext cx="2647440" cy="9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Административ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 flipV="1">
              <a:off x="5160600" y="4076640"/>
              <a:ext cx="9950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6084360" y="3500280"/>
              <a:ext cx="2375280" cy="97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Гражданск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5293080" y="4581720"/>
              <a:ext cx="9140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5995800" y="4668840"/>
              <a:ext cx="2320920" cy="9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Финансов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>
              <a:off x="4737240" y="4877280"/>
              <a:ext cx="555480" cy="9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4625640" y="5634360"/>
              <a:ext cx="2322360" cy="963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>
              <a:off x="3938400" y="4876560"/>
              <a:ext cx="346320" cy="82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268360" y="5583600"/>
              <a:ext cx="2241720" cy="941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Международ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 flipH="1">
              <a:off x="3116520" y="4618440"/>
              <a:ext cx="821880" cy="42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900000" y="4748040"/>
              <a:ext cx="2304360" cy="91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Трудово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42"/>
            <p:cNvSpPr/>
            <p:nvPr/>
          </p:nvSpPr>
          <p:spPr>
            <a:xfrm flipH="1" flipV="1">
              <a:off x="2924280" y="4077360"/>
              <a:ext cx="935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43"/>
            <p:cNvSpPr/>
            <p:nvPr/>
          </p:nvSpPr>
          <p:spPr>
            <a:xfrm>
              <a:off x="683640" y="3500280"/>
              <a:ext cx="2251800" cy="104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Семей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44"/>
            <p:cNvSpPr/>
            <p:nvPr/>
          </p:nvSpPr>
          <p:spPr>
            <a:xfrm flipH="1" flipV="1">
              <a:off x="3252600" y="3068280"/>
              <a:ext cx="83376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45"/>
            <p:cNvSpPr/>
            <p:nvPr/>
          </p:nvSpPr>
          <p:spPr>
            <a:xfrm>
              <a:off x="1042920" y="2349360"/>
              <a:ext cx="236520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Уголов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46"/>
            <p:cNvSpPr/>
            <p:nvPr/>
          </p:nvSpPr>
          <p:spPr>
            <a:xfrm>
              <a:off x="3708360" y="3789000"/>
              <a:ext cx="1714320" cy="117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Отрас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пра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0:44Z</dcterms:created>
  <dc:creator>Ольга</dc:creator>
  <dc:description/>
  <dc:language>en-US</dc:language>
  <cp:lastModifiedBy>LEGION</cp:lastModifiedBy>
  <dcterms:modified xsi:type="dcterms:W3CDTF">2015-01-28T08:27:15Z</dcterms:modified>
  <cp:revision>8</cp:revision>
  <dc:subject/>
  <dc:title>Разделите перечисленные ниже признаки норм поведения на две группы</dc:title>
</cp:coreProperties>
</file>