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notesMasterIdLst>
    <p:notesMasterId r:id="rId40"/>
  </p:notesMasterIdLst>
  <p:sldIdLst>
    <p:sldId id="256" r:id="rId41"/>
    <p:sldId id="257" r:id="rId42"/>
    <p:sldId id="258" r:id="rId43"/>
    <p:sldId id="259" r:id="rId44"/>
    <p:sldId id="260" r:id="rId45"/>
    <p:sldId id="261" r:id="rId46"/>
    <p:sldId id="262" r:id="rId47"/>
    <p:sldId id="263" r:id="rId48"/>
    <p:sldId id="264" r:id="rId49"/>
    <p:sldId id="265" r:id="rId50"/>
    <p:sldId id="266" r:id="rId51"/>
    <p:sldId id="267" r:id="rId52"/>
    <p:sldId id="268" r:id="rId53"/>
    <p:sldId id="269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notesMaster" Target="notesMasters/notesMaster1.xml"/><Relationship Id="rId41" Type="http://schemas.openxmlformats.org/officeDocument/2006/relationships/slide" Target="slides/slide1.xml"/><Relationship Id="rId42" Type="http://schemas.openxmlformats.org/officeDocument/2006/relationships/slide" Target="slides/slide2.xml"/><Relationship Id="rId43" Type="http://schemas.openxmlformats.org/officeDocument/2006/relationships/slide" Target="slides/slide3.xml"/><Relationship Id="rId44" Type="http://schemas.openxmlformats.org/officeDocument/2006/relationships/slide" Target="slides/slide4.xml"/><Relationship Id="rId45" Type="http://schemas.openxmlformats.org/officeDocument/2006/relationships/slide" Target="slides/slide5.xml"/><Relationship Id="rId46" Type="http://schemas.openxmlformats.org/officeDocument/2006/relationships/slide" Target="slides/slide6.xml"/><Relationship Id="rId47" Type="http://schemas.openxmlformats.org/officeDocument/2006/relationships/slide" Target="slides/slide7.xml"/><Relationship Id="rId48" Type="http://schemas.openxmlformats.org/officeDocument/2006/relationships/slide" Target="slides/slide8.xml"/><Relationship Id="rId49" Type="http://schemas.openxmlformats.org/officeDocument/2006/relationships/slide" Target="slides/slide9.xml"/><Relationship Id="rId50" Type="http://schemas.openxmlformats.org/officeDocument/2006/relationships/slide" Target="slides/slide10.xml"/><Relationship Id="rId51" Type="http://schemas.openxmlformats.org/officeDocument/2006/relationships/slide" Target="slides/slide11.xml"/><Relationship Id="rId52" Type="http://schemas.openxmlformats.org/officeDocument/2006/relationships/slide" Target="slides/slide12.xml"/><Relationship Id="rId53" Type="http://schemas.openxmlformats.org/officeDocument/2006/relationships/slide" Target="slides/slide13.xml"/><Relationship Id="rId54" Type="http://schemas.openxmlformats.org/officeDocument/2006/relationships/slide" Target="slides/slide14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dt" idx="1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 type="ftr" idx="1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PlaceHolder 6"/>
          <p:cNvSpPr>
            <a:spLocks noGrp="1"/>
          </p:cNvSpPr>
          <p:nvPr>
            <p:ph type="sldNum" idx="1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480C-FCA7-4135-8744-557465E7D7C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 Math"/>
              </a:rPr>
              <a:t>Кафедра «Теория и история государства и права»</a:t>
            </a:r>
            <a:br>
              <a:rPr sz="1200"/>
            </a:br>
            <a:br>
              <a:rPr sz="1200"/>
            </a:br>
            <a:r>
              <a:rPr b="1" lang="ru-RU" sz="1400" spc="-1" strike="noStrike">
                <a:solidFill>
                  <a:srgbClr val="984807"/>
                </a:solidFill>
                <a:latin typeface="Cambria Math"/>
              </a:rPr>
              <a:t>Дисциплина по выбору: </a:t>
            </a:r>
            <a:br>
              <a:rPr sz="1400"/>
            </a:br>
            <a:r>
              <a:rPr b="1" lang="ru-RU" sz="1200" spc="-1" strike="noStrike">
                <a:solidFill>
                  <a:srgbClr val="ff0000"/>
                </a:solidFill>
                <a:latin typeface="Cambria Math"/>
              </a:rPr>
              <a:t>ОСНОВЫ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дготовил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.и.н., доцент Терениченко А.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07AA-0A1E-4D74-AA73-86B4EA4E31D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дминистративное правонарушение 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административная ответственност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дминистративное правонарушение: понятие и признаки. Основания административной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рядок наложения административных взыск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ы, уполномоченные рассматривать дела об административных правонаруш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3BA2-4D6E-4D9A-ADE9-72D4A2CE05C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ступления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уголовная ответственност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вное право: задачи, система и принци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вный закон. Понятие, признаки и виды преступ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обенности уголовной ответственности. Состав преступления: понятие. зна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казание и его цели. Система и виды наказаний. Назначение на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2C75-7843-4CA5-A413-F479F6E1CA2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овые основы государственного 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муниципального управл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тельство Российской Федерации о регулировании государственного и муниципального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сударственная служба Российской Федерации: система, основные принципы функционирования. Государственная гражданская и правоохранительная служб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ые основы деятельности муниципалитетов и их место в системе органов власти. Виды и структура органов местного само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ды контроля за деятельностью местных органов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6E53-FE85-4911-A919-95BB75EEB65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Теория и история государства и пра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рес: 4 Вешняковский проезд, д. 4, каб. 410, 412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ефон: 8(495)371-64-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 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igp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@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a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8D2A-02F1-420B-9B84-D46D5FF12F9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сциплина «ОСНОВЫ ПРАВ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ет у студентов теоретические знания об основных категориях государства и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ует представления об основных отраслях права, об основах правового регулирования в сфере государственного и муниципального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ширяет профессиональный и общекультурный кругозор, способствует серьёзному самостоятельному мыш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AF6F-FF55-42F7-AA7C-75AA7B9716E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держание дисциплины 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Основы пра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ые понятия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ые правовые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ы конституционного строя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ое регулирование гражданских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ое регулирование семей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ое регулирование трудов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дминистративное правонарушение и 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ступления и уголо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ые основы государственного и муниципаль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BCC1-F5E0-4CDC-880C-4506643C394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понятия государст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государства. Признаки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государства в жизни общества. Функции государства (внешние и внутренние), их соотнош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и происхождения государ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государства. Политический режим и его ви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D025-A996-4723-8AEF-FD5D40DF44A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правовые категори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и его роль в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нятие права. Теория происхождения права. Взаимосвязь права и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 в системе социальных норм. Понятие и виды социальных норм, регулирующих поведение людей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ые отношения: понятие, признаки, структура и состав. Классификация прав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7AB6-FADF-4F3B-A50E-EDD221D5585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ы конституционного строя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и система принципов конституционного строя. Суверенитет Российской Федерации, и его гарантии. Россия в содружестве Независимых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титуция: понятие, сущность, функции. Развитие конституционного законодательства в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родовластие и формы его осущест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итическая система общества: понятие и структура. Место и роль государства в политической системе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1A88-CBF6-4052-850A-BA5F5157E6B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ажданских правоотношен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жданские правоотношения и основания их возникнов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изические и юридические лица как субъекты гражданских правоотношений; публично-правовые образования как субъекты гражданского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екты гражданских прав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собственности и иные вещные права и их защи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и виды сделок. Гражданско-правовой догов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F4C4-2B70-4C5F-B6E5-397A7A3B0AA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мейных правоотношен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ые институты семейного права. Брак: понятие, условия и порядок заклю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ичные неимущественные и имущественные права супругов. Брачный догов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иментные обязательства родителей 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64CC-BB9A-4E65-90CC-20F3D50ACF7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удовых отношен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удовые отношения и их стороны. Основания возникновения трудовых отношений. Рабочее время и время отдых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удовой договор: понятие ,признаки, стороны, порядок заключения. Изменение и прекращение трудового договора. Ответственность стор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циплина труда и ответственность за её 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и коллективные трудовые сп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87EF-6200-4ECB-9599-77E4ADC6B36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4F10-7DD2-477A-A41C-4378AF57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8559-1B2B-428E-96A2-7A8F7C7B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85991-0D45-4A27-9F67-A5AA134C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CAB13-AFBE-4F30-8392-13B642E0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484B3-AC89-47E4-9445-85347ACA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50A43-189D-400A-A9B6-12859503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168C7-8166-455C-8E3A-83E383C1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EBAE9-72A0-468F-8ECD-34555165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A48EB-5AF9-4CA6-BD75-D6FA8B0C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0792B-70B0-4687-BA95-7C0AE1A8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DD9B7-FBDC-4EC0-9470-D10400AC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FCA92-DD79-4F46-B6C9-BB211E7B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B0D1-798A-4429-B5D9-4A628824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57D4A-1C80-4C9B-9D29-4E957D31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7AB57-108C-44AB-A74E-89796ED9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6051B-E7F4-452C-8FB9-6BD7E9BE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E846C-6491-4607-9B11-4BF62ABD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9D510-ED50-48F3-BA79-97A0E809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D9106-8B83-47AD-832F-E6824395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FAA1D-B438-4413-B55A-15A7B2E4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7E034-0BFD-49EC-BEE2-629D3572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43CC9-42AD-4707-8E3D-833F5640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DE394-7F24-4A88-8673-948805B9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8FFB-0A36-46CB-A67B-2149071A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7D061-BC90-48E9-92F9-B5741A35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470C3-6240-41AC-9D21-2650E3B4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61667-B485-499C-8A63-3E4CC28B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CFC48-C792-462E-A624-0A5D88A8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76339-18C9-4FAB-8E13-0395D304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1E3B4-4681-44B4-BB7B-5FACD893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A270D-CD83-4E14-9E79-8F2AA13D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F7A60-EF68-4E61-B720-51D9E919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5309C-1342-4255-9B51-6E79FF99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30553-6C2E-4D0B-842A-FEC3FADC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B81E-6B0F-4A66-91CF-49055259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059F4-AA9D-4FA0-984E-E8BA9AAE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658A6-00BD-4259-9C46-8441E34A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189F6-093E-4B32-BE93-20289C14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F7DAA-2422-4E6E-9EA8-66048FC3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A338B-2A7F-4DD7-9BAA-196B18AE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D7688-EDCB-4EB2-B8C5-9954E30E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2945F-EF84-4D23-A3B2-57B478D0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F739D-B460-48A5-9300-D5A10DCB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D5284-66EC-4DEE-8813-F30A726C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C6749-C67B-4D2E-ACEB-B292DDBA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6D99-72E8-4FB2-8752-67E7B50F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83DB6-1DC8-4989-B4B6-A82C16FD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26A4E-3D93-4977-B0DF-2ABD115A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1E4DA-5870-42D2-A95D-BAF28379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25901A-DC44-4E9E-A205-E737BC5B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84419-47EE-4F92-A40E-4E50DC81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E2D920-B52F-4EFA-8B2B-175ED68A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80FEDA-2942-4A4D-9136-0DE82B46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0AE22E-3BD3-4212-ACB9-336DA6DD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DAB76E-553B-4658-A966-DEA6F223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64CD6-6415-4D09-8CDA-0C1289DA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55A6-6F99-45AD-A39B-85DA011F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E0013-F6EB-4763-BF58-B6568966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38FF0C-FB54-407A-BBBD-A4F36D65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4C6B75-0F69-4F8B-8033-17A0FEA3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707FF6-C242-4285-9445-C2C44EA7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62EB6-D44B-4340-97B4-BDB3CA04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274C2-5362-440B-87A2-9185378C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7CB2AD-BC60-42FC-8B66-BF9D3395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0F9362-D477-4471-89F2-453EA41E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57674A-DE6C-4590-B296-1165D789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BEEB4A-3B3C-4238-AAA3-4679B6B0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91C4-411C-48E4-8C55-AF3AC287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B87006-D5B7-46AC-9A17-A4EE2AAF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EB9D8D-7F6D-43A5-A5FB-A80D5EFB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E4DDA8-386E-4D98-9756-0085A0DA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E094D0-3AA2-429D-9A6A-D9A91F7B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298DF8-77DA-4D25-9459-9715130A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01E9AF-6A6F-4072-85B4-37D9C741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FA613D-0379-4A90-A071-4E3EAF4A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7083A9-1E78-49EC-9B3F-C118B47C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3B1325-5DC4-47E3-BE8C-FDA34802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C984B6-0A29-47CC-BA3E-4BB040C4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AF64-45B9-4DDF-90BA-126F7FD7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AD6AB3-312B-4097-B5FB-7C8F7E8F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55CCBD-C7A0-4B45-BE8C-09B26F1F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881AAB-9097-41EE-B40E-7A1A7F02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EE20AC-894F-41F8-92EF-957CC244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FD9B3F-9EAD-48E9-91B8-62C81D91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ECD29B-4B68-4C90-8E26-A0199BE6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6E35F4-B8F5-48CC-B01D-D19FDED5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0D7908-2500-4609-91D3-8E0A0C0A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CC6F68-445D-4891-BC4F-55BB51C3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DC43CF-2ECB-474E-8E99-B2373376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6FE3-A167-4897-AD05-84C65DF1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F7EA8F-EA1E-40BF-9AC8-982F8F08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8D5480-2E17-416C-B106-A49148D1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2C309B-15D8-4670-89EB-97DDD34A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0E16CF-5BA6-473F-A393-C3BE6A5F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8CAE93-D6C6-424A-8139-55471E19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51F59A-242B-4005-A3DD-AE77C99A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5FA5A2-35F5-4FC8-802E-788F1C63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003803-42A8-40F0-8DFE-73BF41E8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234B4F-97C0-4B68-B04E-FF5C8AB5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2ABC93-BF9A-4435-A4C3-71AB3F5B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D438-C80B-45EA-AAF2-55C5143E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BB9E0F-7463-4A2A-B326-0BDCCA40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9038E5-E94F-4525-9CCD-95D55D13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0A4615-6B26-4E7B-B33A-0CC79633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22C44D-487F-4640-B779-172653DB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F4B52B-5143-4CD0-9C32-7F274B2A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022116-57E8-40A0-B64E-F4B24C48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A20125-1E9B-45AC-A5CB-4E634B88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7CD55F-E4E9-443C-B2C8-8740E222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A89936-CB7A-48EA-8801-45B8771D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83708C-03AE-4699-9FB3-9C2D96F2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A7A0-962D-4696-B7BB-CC2327EA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E0A2-3207-4061-89C3-640ED64F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4ACFAA-4A0C-42E6-A8DB-A97168DD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08D873-5B32-4092-A03C-B46E1CB8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6EA68B-E38B-46B8-ACDB-750DC0E7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C03D8A-FB2C-4E9B-94DF-883CA13C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E59229-B000-4621-87C5-1A92049A8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DA1036-229D-452C-8561-7C5518FF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54AA47-6A54-4BDF-8BDF-9F74A63D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7A8107-05D4-4E1E-9EA1-55EA53B4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978430-05BD-40FB-9BC9-941C040B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CAAFE6-F869-4D79-8AD5-9B56D687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5B90-80E2-4473-A175-072123F7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D262E9-6445-475C-B4CB-A8792D97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664B72-F0F4-4615-90D1-FF46A62B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CE95CE-3E02-4C32-AA63-2D744D15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73187B-ABFE-4846-9773-A4F07D05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B8A3B8-4B49-45F3-80CC-AD47208D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CC0725-F2B3-42CD-8D57-02061146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848C3B-77A4-47FF-AB80-6A41EECE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0876AF-46CE-40B6-8AE9-E91524EC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B8A93D-11C9-4D37-928D-496C848A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003858-64F9-4A45-8C5D-AB8ADD12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99C2-FA1A-4E75-AEAC-C6F6B49F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6067AC-6E4A-460B-8FF1-18192D83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4536A4-3DEB-4E33-8FCA-D4C09FED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277406-6E1B-4184-825F-325A94F3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D74C8C-2F0C-4772-ACB0-1507DC43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6E7359-3AAA-4E5D-906F-F0413660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079B79-41AA-4EF3-ABB8-B6C9C563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3A116D-E616-4865-9798-F229F680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637D36-1BB4-4834-B6FD-74612378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26DB6A-0C20-44C2-AB2D-5B1B06D7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B90C3D-EA0C-49B9-A890-F13F967FE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B599-3CCB-451B-8E33-4505EF4B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822D50-7186-4797-8CFF-225AE899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5EFBBB-96C2-45E1-B12D-CE1FD6B5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9C0F33-D4E2-4C3B-A8D1-B0DE949C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4F231D-674B-4F63-ACD5-CC0083DF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82F459-5F5C-400D-89EF-C85268F4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68F69A-9AA5-4BC8-B85B-C3847E9A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20E6B1-F244-4347-9952-ACA6DF65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263DF0-61F2-4493-B363-59AC24F7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852F31-D5D5-43CE-9676-575B65BF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BEE83B-D7D5-47D3-A4E1-A887E8DC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B578-0BC3-4E3A-8E58-708D2EB5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EF78EE-2437-46AF-9735-DE8DDCB2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8B6964-216A-4197-8B59-EA2DD81C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1E1C67-4AB9-4FCE-B88F-F2EACD12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484866-E103-45D0-B1F0-8F1D3D3A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8DC3B4-D275-4D97-A00D-E3658FB1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7307CB-CC6E-4A53-AB98-23DA7BBB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712659-74DE-4689-ABFD-1016C93F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1387A0-B3C8-4B65-9298-D343D01D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D27751-F1A7-4140-BB91-67418218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E8DDA9-BC35-412A-83D1-5E024A1D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5FE32-4F5A-40DC-BB2B-F2D1C992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C3A83A-86AA-4D95-B887-5AB7CB50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6B7753-3FE2-4522-AC6B-BA2CA022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34FA32-9EF5-40F3-94A8-CA89DFB3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D7E1A2-7F3C-46FC-AF40-A293404D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60DF8F-BF7B-4ABF-B29E-A0D60967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1C1DB4-A430-4A0E-B934-F1465A1C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F0BB0C-8C36-46B4-AEB8-791ACD7E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6F0CCD-07F2-4F99-A9B3-937C4E6E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FF4F36-5A32-4F44-990F-108926C9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B290A7-CBB4-4780-8732-DE85149E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FD43F-D49F-4C89-B572-7C003B17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A810F3-1D51-40F6-9CF5-0BDD997E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A37B31-10B9-4537-956E-473BE175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7F60BE-78B8-44C7-92C2-C1A64683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6D4098-C37C-4452-A6B5-A1A0CDAB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D74B6B-0361-485D-94F2-294BBF77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DDA7BA-1553-4EA3-9858-84903546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9FCD37-549C-44B9-BEEF-5861DEDB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3FD81D-7724-40FE-A686-E689A3AB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F17668-4F97-4BB7-9889-0A1109DF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662807-BACB-4A86-BFF0-F8AE1ABE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C0709-D503-4999-9965-DA24BD69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F5E8DB-0BE2-4351-87CE-EA8BA24F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631263-B4E9-405A-91A9-99A1111F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A87AFA-B9CA-48AB-9CB3-58297B01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E52EFB-2653-4EF4-8B4E-813D5024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17F7BC-5216-4396-BAC5-2AE6A2BA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7140A5-E97C-436E-98CE-845A93FA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532829-C5C6-4AB3-B9A0-72699BE5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78F19C-3924-42CA-B5E5-13B4EA26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1AD1F5-186B-41C5-A487-AC9CB24A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25A585-F86C-47C7-811D-04E37C0A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4911B-319B-47F2-81BB-FFF7DF0D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91229E-A87C-4472-B516-DE9129E5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EEDE4A-F6FA-4DF6-AD7A-CF050BE1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5E8876-3E23-4006-978F-846B4667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6F3BB7-BA25-4776-90AE-521574F2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7B7DAE-D005-4BFB-B3B1-AFDA8249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0F749A-C8CE-432E-91B2-B1DBABC5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ACE198-29F4-4777-AC84-BB9A09F3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42BAA9-4F4C-4369-85AC-28027B79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1741DD-E932-4AEF-9A54-FC6BAD8D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FDD63D-2228-4B00-AD62-5DED3F04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768C0-A419-4DE2-9582-F350DA2F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D67B0E-0754-4632-8053-24A27BBE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790007-E593-4C02-8410-20E423DA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9E3AF9-CBC4-4F32-9CCD-82B48CDD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AAF645-5E22-4142-9D54-44E0439B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85583F-B57E-44E3-B2B9-419AFE55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BFE039-3478-4D35-B3E3-CB6C016B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CF106A-C3E2-4407-B6E6-D184DDC1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94A755-EF95-40EF-B891-1EC37FED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57D56B-91B1-4650-90A1-E0365598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BA6C1D-3C14-43A9-8606-899F8E72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E46A-7732-42F2-83D1-D4B25B9F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7EFF1-59DD-49F6-B1C9-4CE7251A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3D3266-30DE-405F-B002-E5A5F69B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5B1371-2C59-436D-AF0F-6709E125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9F8289-230A-4776-85DB-EBDD21DF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DB91D2-3274-456F-8DA4-F9ADD120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AFE0BE-6920-4EFE-9999-A8AEF56E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3D8406-90DC-4F09-A294-B13343EF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3F7F89-812D-4EA8-8910-58132CB1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7E5905-4EC6-4CDF-9DF7-DA684AEC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D62E59-83A6-40B7-957D-9C231FC8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A9258C-7621-46D4-83A9-9BAE1C4A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ACDA6-8553-43B0-B84E-AC5D3B87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CD2198-1A89-44E1-AFF3-3E1AB521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3D790D-A04C-4802-AC86-14DCAE21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9D6DC6-E5A2-403A-82CD-43AB7445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90647B-3960-4BDC-BA89-4ADC6F43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6A3A76-F664-4565-B8D9-37D59634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C19EA2-A32E-4155-9AF6-E5E5851D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5AADEB-0DF3-4A5D-9EBF-8512F3A9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79953A-21EE-4F25-904A-036705EF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8D2A83-DF3B-404D-BA48-7F373BC8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C674BE-2807-4575-802B-08DDF9D1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D0CAE-21A8-4C5F-904B-A757CDD1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BD01A9-F624-4752-BDEC-965FF1E7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F51D90-E6D3-4360-ABFB-1CF0C383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DEFFD4-5C10-4C11-ACD6-4137ADF4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206E4E-5556-43C5-A52C-684FDE70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FE647C-84B0-4F15-98EC-7FCACD18E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78573B-8126-43C7-AD22-C80BFEF9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B2A369-2400-4377-A67F-025FF002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218D93-EAB4-4C1A-9F7A-E1559B9B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FA59A2-1B8B-4E8C-96E4-FDBC6B69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4D1082-5E80-462C-B2DF-AF5547C3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41B82-291E-47EC-ACF1-B112B65B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29CB7C-3138-4BDB-93CF-9D3BB422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444EDD-3C3A-4988-A827-0E014FE4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DB667A-F63C-4E37-9BD0-99BDCD07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A89E92-771F-4FD1-B739-E40C875D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AF6738-8571-400D-92D2-4BDCE94F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408C40-1895-4AC6-9B18-C6346FF9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6993F5-04C3-4DD9-ADF9-B554B7BF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461DC1-48AA-49E2-850B-30AAD219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81A713-6487-413B-ADA9-D005CC70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4684AA-613A-4CFE-B5DC-53762B73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B1242-88E6-43DC-B2B9-880C4DC1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C0D5D1-AA6A-42DC-8071-9177AA55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56B5D9-0F1C-41DE-B1A2-C9F83178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ACBE6F-16D0-43B6-B196-CFF34574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F05BE9C-1E75-4816-8237-5E51D7BF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8E5EAE-3D43-4E13-8F74-2790AB58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8A8E70-30CC-4659-9F2F-9B253EB6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0D18FD-3D2E-494E-8AE5-01D30075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50C69B4-3835-4B3A-AAA8-744E33938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84C97C-6F29-4093-8447-30E433DC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4846C0-D24C-41D7-8C47-A62DE58D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BB97E-3A4B-469D-91D3-22B516C1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CB2ECB-7E70-42BF-9454-9C7398E2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7EE4B4-BE15-4FEC-9447-C84A121A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6E0A91-6242-4B0D-8FEA-A1E8AA63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964B09-4BC6-4DFF-9AD8-6547D947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385C31A-924B-482D-8B17-E2DA7F17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D3FB152-F9DA-4E78-98BE-E3516358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58764F-F271-4F63-92F1-0035A5B7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E29148-F175-47CD-AE67-9A1A6149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5F804B-6848-43CE-974D-1E9DDF19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B41B4D9-53B1-441B-9BEC-3BEDBFFF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08B3E-9680-4F4B-B6DA-0EDFD9E5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4ABCD1-ED1B-4FD1-9007-9D94B67E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15488A-2AA1-44B2-BC83-3162A493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C8F567E-8FCE-4032-BB48-9D9C05CD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CA563F-D498-4161-9989-20778C10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E0968BF-E6BB-4AEA-80F8-AEF2C0A7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BF919C-0F45-4D9A-9916-B556B1A8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325A906-12EC-400E-AD51-E27D317F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32E984-9347-42D3-91D3-5BBB9EDF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300375-183B-4AAD-8B75-963DA22C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99D100-7B72-43A4-911C-036F774A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87EE5-42D7-4E75-8275-76366D29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4CF103-D046-4A79-BAAC-0DAA4BE5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723379-6A59-4597-9F26-0BE1DACA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4D6A6E6-0F5A-4DE3-B1C4-FE0F7EB7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FF8ADF4-B399-4E8F-92BF-B9E007CC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46A09A9-9FC0-4FD5-97A1-545CA9BB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A68B6F-8C27-4B58-930D-1DADC3B7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D63EBCA-8A82-42A8-A4A5-99A9FF14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1C736A3-25E0-466E-9909-231F725C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646570A-2A1D-4419-8AD5-39F56153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C262B03-C1AF-48A8-B20B-BEB64784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FC7AB-E3CC-49E1-AF24-CB03BBF3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06F0431-3DDE-4618-9276-EF0E3582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488BCA8-2BEB-4997-A370-B74376FA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13BD6BB-EED9-4521-AF86-AB733D10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C113C79-AD63-41C0-A5C5-68F5CC65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FC31294-990D-44F0-AF39-53731693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AD7DE52-9B8F-45BD-AFE0-11E12D5B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C30102B-987B-4043-91A3-B1BF8807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59F802D-26CD-475D-8E9F-C625C4D1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CB9C611-CDD5-4553-A022-6E6E081F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6C09532-A433-4546-B41A-8DFFA28F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E089D-2EC2-43BC-BCA0-E616BA6D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2215543-9120-4698-BFBD-22CB9956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DAE08EA-431C-4009-9350-C7394875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401D3EB-43DE-4689-B4E9-75801D6C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43E6869-A160-4C8F-A998-9A820F54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EF9D738-3D50-464D-9362-BE6A2201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B563935-3563-4769-BA6D-A6C42D89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DF466BC-49EC-4BD4-817E-ED0D5222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56FF9E8-F7AA-438D-BBE6-7C03374E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30CE5CF-C9CB-4DE0-AD7A-C468B07B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8020B7D-F7D8-4788-B546-4461302B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3EDD-D026-4B5F-9703-DDC0F846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5C6DD-C628-407B-B3E9-FBD32A6B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C567E82-0AA9-4997-ACD1-089EA286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710804C-BA78-4020-948F-75782638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9A971D1-9CDE-4CF9-9F16-F1282E04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F08EAE7-F7C1-4A30-BA8E-BA2F6003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336528F-90C7-48B6-87A4-BA4854E9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45EA6FB-90B4-4D4D-A698-C0420BF8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1EB114C-0604-48B8-8F12-EC3F5602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A60E1B8-32B1-4506-85A5-63CDBCDE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7AF557D-6385-42AB-B861-E753F128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1FB76E-6BC9-405F-B64D-4BA21DF8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D57B7-87D1-41FA-B3E2-128760D4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1BB0FD4-2157-44C7-901F-217E4450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0D6E18D-0455-46B2-9F2D-86EDC73A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8D31DCA-1EA0-41D2-940B-F9CC1AA7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5294B9D-C9AA-488E-8F11-58060A40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8391A00-951F-41FB-82F0-6C91B343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7AEB508-5396-4F9F-A892-21D728F2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5667885-B8B3-49BE-8C82-AF629681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5BDD183-1EEC-426F-A712-F1717C0D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86EEA95-EAC8-45D5-A38C-DC8643D4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0F0E701-00AC-4771-A088-CB9B12D4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EA4BD-503D-4C18-8F44-CAB24842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43A30DD-B73B-41F7-AD70-5EAB01A7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70C2B06-4E47-4F83-8CC9-9E5C97A8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86B21FF-0131-4A68-8AE9-6224009B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7B29A34-B10A-4F4C-9997-DCE4208A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B024FFD-0FE5-4F28-94EB-28D0A6DE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388BC3E-71C4-4E17-912F-663F7861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25C07F7-47A5-4000-AEB5-06ABBA8B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246A681-78D7-4AE7-940B-92784DFB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6CF0E83-8498-4C37-87BE-49B75688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ACC5E7A-403C-42D7-A06B-96458D79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F4F1F-5167-467A-BD2C-8B03D1D0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313A4CD-09F0-4FA7-9C0F-42F84DD7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788C79E-FD23-4D75-9CA6-2DB23CA9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8084F8D-A3C3-4148-848A-DA10B485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92EF162-19E7-4FEF-BBE4-AEED248B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9305AD9-E836-4BA1-BCD6-301EEB16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7B04DED-725B-4A0A-9781-55118916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EAFFF04-BE7D-4498-80E7-C2283083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DEDAAE8-3EEA-49DF-88B0-5F78428B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809E4B8-3907-4F05-A065-60849192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A7C2ECE-B7FB-4D07-8804-EE9C1950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BEEBC-C364-4A2D-B2B1-230F066E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7786417-9AAC-43DE-B1BB-7E634070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6797D98-D7C4-4296-8E73-DBA35A42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801D85E-8BBC-4361-BE54-F20DC9EE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F1E19B2-017C-4D00-8453-081272A2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12DC4E3-CA07-46A9-A8CC-17A730E1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BD52730-5937-41AC-B155-2C3C60AA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D07BF80-B69D-43CE-86E5-BC2C0664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F47A2F4-15B6-4746-B29E-6E9870D2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17DA60E-CF5B-4FBD-95C8-EB0BF328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A655B01-7491-4F10-94A4-623B91EE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6609B-D157-4859-AA97-36895E02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53B563C-3DC1-4B88-B32C-FD0392AA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A12094D-346D-4ACF-AB69-9BF3FA7D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279D3AD-0AC5-46F8-83B2-C4A92087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27B320B-D506-459F-8A73-952DB544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8F5C854-38E5-46E1-9545-1D38399F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3F4708C-CBEB-4513-89AD-B20432FE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F5C69F1-2A68-449F-848B-86B9576C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54A95-8F77-4478-B8C0-A988FCBC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597B3-0673-49BF-B6EC-4FA2F30A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4A440-8655-4B8C-BBF3-722A8E63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B306D-FD65-4BE8-8822-17FEF7F2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BCB7-B9EF-48E8-BC56-7897B84B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05060-4008-4365-AE36-462D6EBB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3FFDC-AA7C-4E6C-9C99-2EB19DF7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37823-5177-494F-A262-F4EBC82F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FBFA8-D57D-40F6-865E-B453A125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980FC-B2D9-4352-9704-2110A363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5FDC7-017F-4CD0-A311-EE8869A7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301C2-A65B-4A15-9490-E2CA881C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A0F57-24F2-48E8-8791-64CBD1A0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A3CFF-ACB2-4F9C-B0B8-82B1E746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EE424-5C32-4889-A7DF-EB339A1C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AE79-0A8D-4CD7-B17C-0C6CE85C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F5ADA-5DCD-47AB-B015-805A2E72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A1B86-49B8-4470-B1EC-2687DCBD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9CADB-646F-4180-8CFA-71201BB2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2A932-6BA1-4D7A-8BC0-F6E66906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6738B-F77F-4CFA-8285-A5040941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9F4F8-7277-46FD-A173-BF130D7D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9FABB-B1DC-40A9-8D60-2937A022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4C58E-86D9-4896-A48C-829909BF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16F33-C7F8-441E-9798-8FA6950A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FF5AD-CDBD-4FE8-8898-E6420011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3933-3CE7-456B-BD08-A5E6932F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2F815-633D-4905-893B-C99B854E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94F16-0663-4934-8229-D861A1C5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FA1A7-DF61-489D-90C2-067ECA11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E5801-C52E-4398-A595-A9E81B25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28D52-5718-487D-9F7F-E7A738F8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052E6-71AD-492F-8E56-A098A7C2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D5660-BF68-45B0-9E5F-CE824B4C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D5147-DBB9-4F1E-929A-1A753C6E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00F2A-7DF6-4069-B061-7993C969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78962-2ED0-4856-90C5-BAFFBA1F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CBA2-5EAB-4D2F-8DD9-C32EB4C5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F2BFE-7CB6-418F-93BA-1E11E1E5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F2E1D-1EEA-4092-BB20-85EC9C08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C75C6-7C0A-4FE7-A528-C51C2CF9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12182-5E31-4A6E-B1E0-B56F1CC2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886F2-C4AB-497D-A2ED-4DBB4A47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3A5F8-46FD-4BD4-A2C1-B469E252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24473-202F-4956-9F7C-0C2FC546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13144-91F5-46CB-A13B-D09F9DBE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CBB80-57F2-469A-9A25-BFB4E136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B35DA-3B92-4310-886D-98FFFE10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AF29-8425-4E98-9A56-273FB474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5EEA6-5387-4A15-A102-585DB95C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604C1-4F6E-47B5-97DD-FCDFC2D0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C3194-F04A-45B0-A875-9D513666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53339-C7CE-48AB-9951-CEA9BA17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BBB63-7198-4D2E-B6F5-E120448B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73E97-4028-407E-8F37-ECB942F7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CD084-7CB0-4245-87CE-C5D0196F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382C7-9E30-49E0-8C58-B60EABBA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45DEC-B0A4-47A2-B9A9-32A44823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E6CC9-B42B-4CE7-8AF8-E32578CF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BBA2-ACD0-4D6B-983B-98B2405A398E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E897-BA27-4DD6-A557-255FC24418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6C1E-438D-41A3-B48F-F26E2B36E79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7652-DFC2-469A-8797-1CF0266E34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DD94-E13F-4FB5-B62C-66E5FC50102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C8B9-4710-44FF-B7C8-9FCCAB8AD7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96A6-C0B7-43E3-8564-E4DB4CA3518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39CB-A0C6-4D34-AB83-F32BEB8C69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06FF-3513-4B88-8ACC-5034EBA3381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0164-AC8C-421D-A3BA-63A6A807D3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BDCB-50C7-48BB-B406-ACC676CCDF7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8594-6C2B-4612-8B3E-16B19814D8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14EE-7752-4203-AE2D-14211ACB522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73C9-20FB-468B-821B-44262DAF56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12F8-ECEF-4A84-B0DD-692BF8C3EA8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C0A0-EBEC-4F6A-AD90-7696B9B76F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6BF1-EE3B-4CB6-AFE6-6C215B49F2F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4C06-10E4-46C5-8918-0B033C5AFF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A20D-03A6-4C10-92C9-9EB60431093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70A9-C4CB-4557-AD24-6A800D77B1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0B46-4A37-49C9-A3DB-7F03B833476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ED25-6FEE-400C-986C-A28D8A9AEE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994A-4F74-49AD-BF05-D6C2B13AF62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B29D-8A05-4865-95CF-442444A139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9400-D118-47B2-9282-01E0DBC5FE7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7863-8124-454E-A566-3B25FC753E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5B7C-ED22-4D8F-9153-1E59F4AEEBC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14CF-248E-4263-AADF-0BCAD0CB3B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4E89-540A-41E3-9338-08BEC51E246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2DDC-9D48-4607-BD21-9ED8DB7389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6D05-619D-4976-BF3F-74BFDB5EBE5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71D2-EEBB-4052-B2ED-B2EB1D87D3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1A47-B449-4E57-9D50-B7A17E134A6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2D56-C3B8-4CB2-8F3E-1C4BE72862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C16E-0108-436D-BD62-3D8595880D7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B456-EE6E-4E4B-AD6D-0B9F63A0B7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E5CA-468D-4E9B-9B1F-AD365639873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B574-4618-4456-89BA-E12557D661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FA7A-873A-43E7-9C10-2A4B89C3A02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3AC6-0D60-4043-AB85-0E12E7D2CA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731F-E599-4BC2-96D6-8369CCD790AB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EFCF-C21A-4112-A4BD-CE574744A68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 type="dt" idx="8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9AE2-5E5F-407A-B68B-246AB887098F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AE85-A376-485E-841F-3B830B182F8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93F5-68DB-4D7A-82DE-EE166073D4F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835E-89CE-4BF3-904A-9BCB5F4BB7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 type="dt" idx="8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C0CC-AB2B-4602-8255-FA61A32D4857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FD42-9DEC-4DDD-91F4-C06C79E8CF7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 type="dt" idx="9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AE8B-C13F-48FB-9DCF-36D3938E04C2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BD57-67A7-4269-B5E3-EF96C7E88DA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9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4C5B-1F50-440F-B0B7-A1DBBFFA6CDE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FEC6-AF2D-41C9-A072-1D1F592D312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 type="dt" idx="9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F33B-2AD3-40EC-B01D-6B7B5FA9C764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5640-34F2-4674-BB52-C6A03AE9C75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 type="dt" idx="10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837F-EF34-45C1-9C4E-74AABDECD834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B416-2656-4559-8C77-F0FD81CA727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 type="dt" idx="10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A00F-7182-46A5-B48D-35C79912C57E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BBF9-BB75-4586-9449-E7BBCECD43A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 type="dt" idx="10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6ED0-987B-4855-8679-D5EC7E86732D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03DC-62EF-4C75-AEC0-3D4D8D07E27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 type="dt" idx="10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B839-06AE-4ECD-AB29-04B9B0131E31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39F0-ECAD-4DCC-B3CE-8C8CCDC071B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 type="dt" idx="11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4519-FE20-4F15-9BC5-42749B1AD660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3F76-5369-40EC-9851-86894B26258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B829-10AC-4EE0-91BA-7F4F3546A8C2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54A6-DC74-4AC8-AA64-56E2C4B54EA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0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DF33-93EB-4457-BC6C-18A32952D18B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81E6-C43A-4507-B08E-9E4EB46492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F364-722A-4B9B-9DFA-4841E9BB653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D2A1-D740-469F-820E-F78BEC14EB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86E7-EE3B-40EE-B8B4-3CEE209596E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1369-79EF-494D-B4D2-45F0E8DCF0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A8CA-1582-4C12-9454-12822ED4A5C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966F-56E2-4369-BC68-EF90A6741B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012F-9D8C-487C-BAA3-C981A741882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967B-5D27-47E5-819D-8EDD810CCC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2340000" y="115920"/>
            <a:ext cx="5616720" cy="41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 Math"/>
              </a:rPr>
              <a:t>Кафедра «Теория и история государства и права»</a:t>
            </a: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984807"/>
                </a:solidFill>
                <a:latin typeface="Cambria Math"/>
              </a:rPr>
              <a:t>Дисциплина по выбору: </a:t>
            </a:r>
            <a:br>
              <a:rPr sz="3200"/>
            </a:br>
            <a:r>
              <a:rPr b="1" lang="ru-RU" sz="4400" spc="-1" strike="noStrike">
                <a:solidFill>
                  <a:srgbClr val="ff0000"/>
                </a:solidFill>
                <a:latin typeface="Cambria Math"/>
              </a:rPr>
              <a:t>ОСНОВЫ ПРА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2195280" y="4508280"/>
            <a:ext cx="586404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дготовил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.и.н., доцент Терениченко А.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0" name="Рисунок 6" descr="finans_akademy.gif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7956720" y="115920"/>
            <a:ext cx="1000080" cy="1133280"/>
          </a:xfrm>
          <a:prstGeom prst="rect">
            <a:avLst/>
          </a:prstGeom>
          <a:ln w="0">
            <a:noFill/>
          </a:ln>
        </p:spPr>
      </p:pic>
      <p:pic>
        <p:nvPicPr>
          <p:cNvPr id="1661" name="Рисунок 9" descr="femida.JPG"/>
          <p:cNvPicPr/>
          <p:nvPr/>
        </p:nvPicPr>
        <p:blipFill>
          <a:blip r:embed="rId3"/>
          <a:stretch/>
        </p:blipFill>
        <p:spPr>
          <a:xfrm>
            <a:off x="249120" y="0"/>
            <a:ext cx="2017800" cy="4297320"/>
          </a:xfrm>
          <a:prstGeom prst="rect">
            <a:avLst/>
          </a:prstGeom>
          <a:ln w="0">
            <a:noFill/>
          </a:ln>
        </p:spPr>
      </p:pic>
      <p:sp>
        <p:nvSpPr>
          <p:cNvPr id="166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Административное правонарушение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и административная ответственность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дминистративное правонарушение: понятие и признаки. Основания административной ответствен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рядок наложения административных взыска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рганы, уполномоченные рассматривать дела об административных правонарушен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еступления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и уголовная ответственность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1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овное право: задачи, система и принцип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овный закон. Понятие, признаки и виды преступл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обенности уголовной ответственности. Состав преступления: понятие. знач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казание и его цели. Система и виды наказаний. Назначение наказ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вые основы государственного </a:t>
            </a:r>
            <a:br>
              <a:rPr sz="3200"/>
            </a:br>
            <a:r>
              <a:rPr b="1" lang="ru-RU" sz="32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и муниципального управления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одательство Российской Федерации о регулировании государственного и муниципального управ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Государственная служба Российской Федерации: система, основные принципы функционирования. Государственная гражданская и правоохранительная служб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ые основы деятельности муниципалитетов и их место в системе органов власти. Виды и структура органов местного самоуправ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иды контроля за деятельностью местных органов вла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ОНТАКТ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 «Теория и история государства и права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: 4 Вешняковский проезд, д. 4, каб. 410, 412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ефон: 8(495)371-64-0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gp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@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9" name="Рисунок 6" descr="finans_akademy.gif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7956720" y="115920"/>
            <a:ext cx="1000080" cy="1133280"/>
          </a:xfrm>
          <a:prstGeom prst="rect">
            <a:avLst/>
          </a:prstGeom>
          <a:ln w="0">
            <a:noFill/>
          </a:ln>
        </p:spPr>
      </p:pic>
      <p:pic>
        <p:nvPicPr>
          <p:cNvPr id="1700" name="Рисунок 9" descr="femida.JPG"/>
          <p:cNvPicPr/>
          <p:nvPr/>
        </p:nvPicPr>
        <p:blipFill>
          <a:blip r:embed="rId3"/>
          <a:stretch/>
        </p:blipFill>
        <p:spPr>
          <a:xfrm>
            <a:off x="249120" y="0"/>
            <a:ext cx="2017800" cy="4297320"/>
          </a:xfrm>
          <a:prstGeom prst="rect">
            <a:avLst/>
          </a:prstGeom>
          <a:ln w="0">
            <a:noFill/>
          </a:ln>
        </p:spPr>
      </p:pic>
      <p:sp>
        <p:nvSpPr>
          <p:cNvPr id="1701" name="Text Box 2"/>
          <p:cNvSpPr/>
          <p:nvPr/>
        </p:nvSpPr>
        <p:spPr>
          <a:xfrm>
            <a:off x="900000" y="1844640"/>
            <a:ext cx="73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504d"/>
                </a:solidFill>
                <a:latin typeface="Verdana"/>
              </a:rPr>
              <a:t>СПАСИБО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504d"/>
                </a:solidFill>
                <a:latin typeface="Verdana"/>
              </a:rPr>
              <a:t>ЗА ВНИМАНИЕ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Дисциплина «ОСНОВЫ ПРАВА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ует у студентов теоретические знания об основных категориях государства и пра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формирует представления об основных отраслях права, об основах правового регулирования в сфере государственного и муниципального управл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сширяет профессиональный и общекультурный кругозор, способствует серьёзному самостоятельному мышлен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Содержание дисциплины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«Основы права»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7" name="Содержимое 5"/>
          <p:cNvSpPr/>
          <p:nvPr/>
        </p:nvSpPr>
        <p:spPr>
          <a:xfrm>
            <a:off x="457200" y="928800"/>
            <a:ext cx="82296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новные понятия государ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новные правовые категор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новы конституционного строя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ое регулирование гражданских право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ое регулирование семейных 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ое регулирование трудовых 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дминистративное правонарушение и административная ответств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еступления и уголовная ответств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ые основы государственного и муниципального управ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Основные понятия государства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45720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ятие государства. Признаки государ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ль государства в жизни общества. Функции государства (внешние и внутренние), их соотнош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ории происхождения государ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ы государства. Политический режим и его ви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Основные правовые категории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и его роль в жизни общ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нятие права. Теория происхождения права. Взаимосвязь права и государ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 в системе социальных норм. Понятие и виды социальных норм, регулирующих поведение людей в общест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ые отношения: понятие, признаки, структура и состав. Классификация право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Основы конституционного строя Российской Федерации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ятие и система принципов конституционного строя. Суверенитет Российской Федерации, и его гарантии. Россия в содружестве Независимых Государст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нституция: понятие, сущность, функции. Развитие конституционного законодательства в Росс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ародовластие и формы его осуществ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литическая система общества: понятие и структура. Место и роль государства в политической системе Ро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гражданских правоотношений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9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ражданские правоотношения и основания их возникнов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Физические и юридические лица как субъекты гражданских правоотношений; публично-правовые образования как субъекты гражданского пра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бъекты гражданских право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собственности и иные вещные права и их защит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ятие и виды сделок. Гражданско-правовой догово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семейных правоотношений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2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сновные институты семейного права. Брак: понятие, условия и порядок заключ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Личные неимущественные и имущественные права супругов. Брачный догово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лиментные обязательства родителей и де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трудовых отношений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рудовые отношения и их стороны. Основания возникновения трудовых отношений. Рабочее время и время отдых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рудовой договор: понятие ,признаки, стороны, порядок заключения. Изменение и прекращение трудового договора. Ответственность сторо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исциплина труда и ответственность за её наруш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ивидуальные и коллективные трудовые спо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20:32:54Z</dcterms:created>
  <dc:creator>ТЗ</dc:creator>
  <dc:description/>
  <dc:language>en-US</dc:language>
  <cp:lastModifiedBy>LEGION</cp:lastModifiedBy>
  <dcterms:modified xsi:type="dcterms:W3CDTF">2015-01-28T08:27:46Z</dcterms:modified>
  <cp:revision>317</cp:revision>
  <dc:subject/>
  <dc:title>Кафедра «Теория и история государства и права» Дисциплина по выбору: ОСНОВЫ ПРА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