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9C0A-2831-4E71-946B-2A3D46D5F3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D707-C8E5-4A73-9C65-B8905E0C18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5EC8-16D3-4362-A6F8-BCA6DBB54B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64FF-85DE-48FC-9C43-C65B71310F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9198-E255-4E10-9983-5F9533FEF4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83A3-8ADD-4A45-BFBD-BB9A82D103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8CC1-E199-4117-AD21-42DE689959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2CB-5F35-43E9-89AC-0FC602729C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B783-7DA3-4994-8095-63E1DDA592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CCE8-CAA2-42A7-9AFB-3918908C16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CF87-E8FE-4634-A2AC-F8A0CF721D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CE51-920E-4587-947C-8D16D88C1D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527C-F9E7-4AF3-BF30-B5E777C4DF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1F78-801F-4FB9-A3D7-DCC1F5BF28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007-E2A3-4ED7-A3A0-8E0368EB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F0D-57EA-4574-900C-E12505C5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4C91A-7DD7-4346-BDC6-12557C89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CE27E-BAC4-42BA-B53C-66D7FE25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67FA6-588F-46EB-B16D-E0BB9675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9FEF8-0B63-4E89-A09F-E05EBA3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1B703-62AB-4E3B-ABE3-0AE35446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27479-3AB6-43C6-ABCB-C729818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B4FB4-1C4D-40B6-9A2B-9E4F0177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C03E5-B85F-4525-B647-7A1CCDDB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69403-0E86-46CB-BD44-8D052F37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2A2D7-CABE-4EA2-878B-F2616E1D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EA7-522B-4B13-BC63-89F5F246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9C1BC-6B98-47E0-90C5-7E31C221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27702-2CD6-4E08-83E7-04FE2870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1F3D3-462A-4A11-B3CA-0239CF3E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92A5F-4DA8-4857-904C-A5FAB45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50727-FB3A-44D7-9EDF-1DD24C99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2912E-4D72-4BC0-A5F8-D9A44C36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567CC-E0E0-4ACD-8188-C8B0C7FA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E72F8-6EF2-4110-ADA1-67765F0F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B8C4A-2110-4EEC-8563-DA0F2027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5A28E-2090-44B3-9F82-873B4281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4A2-6EB9-405D-AA83-3A5C6B40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AFC8B-3809-48E8-A32E-9C3E8362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39D93-235A-431D-9FC5-C28A08D1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D71DD-1911-4A54-885C-24911006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0244D-F4A4-40B0-BC44-291A1AAC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48C84-36D5-4E15-9DE8-F94B30A8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4C956-CFAC-4631-BA1B-A7A9F6C6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A0C6B-E8BA-4F66-ADC6-E0823320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77B00-2828-4810-B917-81279C3F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41077-CFD2-4401-9456-6632F28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87272-D7FC-454E-9C1F-63ABB5B2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5B2A-53D3-463D-A343-13649987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997E3-5F0D-4573-9616-0611F2A5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D2A92-15DD-4844-8F1F-B6D99C45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AA49F-5664-45D5-9A5F-BDAFD837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54F31-8828-41BB-B3C4-145CF19C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A82E3-6B2C-4474-99BD-A849DD16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7E94D-5C9B-4E06-A762-DD10F880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C4682-D809-432F-8F40-7CA63CC0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2FA62-6AD7-4E73-8BF2-1E69E1DB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F7C02-7EF7-4E0E-90B8-13D88AE8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071AD-1826-4892-ADC9-CEEE26A7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03F6-08A1-407F-B7B1-B2ECC18F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81DCF-1427-4899-930A-9991A7C8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9A9C9-694F-4893-A32F-911F9881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FD524-234A-46B6-8940-31E00803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CD106-B5B7-4E3B-A921-9CCD14CD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F19C2-59F9-4659-ACDE-216E1A7A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71CC1-36DD-40A4-B35A-86F93942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29160-C7C7-47D5-9266-1CFEDEAC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DB0B7-231C-493D-8B44-4DAE9940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05FBF-0E61-4A8B-8CBD-FB873B10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23D4D-4068-471E-B130-B7E123C5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2607-3E46-410B-B296-8174E2C2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A71C4-50AD-4327-99A7-60402E9C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DA27D-EE06-40B7-8B49-59C460E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8CFCF-9060-4DB4-863F-B5A231D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361C8-D656-4BA9-AC49-B1FD340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14A6F-6788-4D2D-BE2F-F03921DE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BB4B3-4899-4950-B9CE-1DFDDABC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2CE48-0CF3-41FA-BA76-4206F37A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25098-1104-4B9F-957B-B962EBA0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6B7D3-7376-4D9C-9E72-1555A3D8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DD4EC-09CC-4E1C-A8AD-420FD403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E4D2-EBFA-4FF4-ACA2-EA251DA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BD6AA-2647-4ACC-8BB0-39CDD62A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F8E88-D818-4C18-874E-36E35B18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A3C5F-9CDD-45A6-B1BE-08410670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60D5D-C067-48A7-A862-7C66064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49647-66D9-4920-8A37-984AD468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CD8E1-9A45-4F11-9EE5-85D1CF7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7A114-FC36-4585-ADAA-85846A0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D6928-E09F-44AC-963F-FFC15B8C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148E8-D807-4848-A5CE-C75D2845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92EC2-8A37-4B01-AA12-F96D098E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DFA4-D6A3-4570-B265-89F5201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8F29D-2F53-45E0-8B05-6FB5FD00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0CD50-C7A5-4F48-8308-C8B76057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01AFE-F499-4DF3-A387-5426DD18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5A677-FAD2-4089-8ABB-DC89AACA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07ABD-F84C-4D57-9794-16A5B1CD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1F943-24D4-43F5-8A2E-45F1872F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D7178-3667-4655-8B7D-1D8E05B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CB012-7E22-4555-B180-B50912B1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14800-B3A0-44CF-8931-58285C5A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4ADAB-95F8-4C4F-9359-0A39F2C6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EB45-BDB6-4242-9AA5-436D024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15235-C28D-4675-9DD4-710D5180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E0673-0D93-47F1-BC63-8631D9D7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7CE07-7C18-46F9-B655-D6ACE19B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F0F49-EDEA-408F-9E7C-3C6CE28D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BC727-7164-4EAE-83D3-A337524E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50591-A839-4ABA-8B60-2CC05FA1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74258-73FB-4853-975D-7AF6F545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91F19-1ED5-4124-959E-20D8475E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D229E-F5FD-4311-9D72-30EC506E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5C515-69C1-4D1A-9248-AF809AEB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DFAB-A4C7-44F8-B34C-01BA46EC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6663B-58B3-4B3D-91E2-E2E03F57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00EAC-DFDA-4217-8C10-A8A8F8CA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283FB-6A75-4604-BF0A-CE50DFB4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A2491-D2DA-4D0D-A6E9-781130FB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B607F-299D-4A25-A7FC-F407478F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10CAB-B1B8-4172-B9DF-F2B9AA72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D7260-DF76-40BF-AECD-9A0453F6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4722EF-60EE-4FE5-90A0-BE563CAF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82D7F-894A-4D62-A42C-A47C8D29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E0BD4-DA2F-4EE9-844C-FFC26B2B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603-3CB7-4033-9137-AAE9D47C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2A46-D4E2-49F5-A537-91EA7803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C38CE-8831-4996-AB11-0D2AA7FD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1882E-1373-4DBC-9F5C-8C6508D4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44021-5EA8-4695-BED2-7F16E1D7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669D7-CA5A-4FA0-AE22-5C249708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48A09-729C-4088-9537-9481E369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82405-A9A0-4543-B896-144BA5F4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2D8FF4-338F-48C4-917C-E79CD5D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722AE5-4964-4A83-985F-770C7ECB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465DFF-689C-4E8D-9930-5875BD5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5ECA17-F97D-4B91-A8E6-985B4163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8B80-9A75-4079-AECD-AB49B24D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6AECC-C9CC-4418-8DF0-AE2C5AC6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1CA61-EB86-4979-8C01-219B2FA4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BEE523-6851-41A9-A87E-13E7FBAB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A876B-C6EA-4B35-A42A-85F5344F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93240-C517-478F-B2BA-9A427707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CD8F4-BFBC-440A-82C8-DFDE8A03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663AD-758C-4CB2-8A6F-C44FF3C3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08936-8C77-4E46-88DB-DEB5DB09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A0EE5-D382-4E2A-A34B-F63D51E4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F8274E-F313-4014-8596-736A56EF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A47A-D7CE-4C4E-8B6C-A02F3A66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2546D-9D1B-4A01-93A0-265E9D51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80749E-939C-4CB7-93E0-C3852F99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1F159-BB22-495A-8562-9FBB52EF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AD2C7F-CC8F-4C4E-B3DD-67C1121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ABB3A-41E0-4E1E-A64F-2F63F598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D769A-F4ED-4CAE-BBBF-7F32A7E1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09F913-CF90-42E2-9FB9-4A3EE0AA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BA369E-B16E-42D8-97D8-6FB69DCE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8B9F61-7D8A-4776-B67A-79AD8803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296C8-5B48-4D46-A0C2-FC4AC00D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9955-86FD-4408-94A5-FB55A8CF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54728C-4D63-4CD9-966D-C2E1E9C9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EDAAB-D78E-465A-ADA9-D2E1FFE3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E4909-38F1-4979-97B6-61E963AC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84E51F-14DB-43AF-9CB2-E78256A5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EF01D-6A25-416E-A980-F26678DA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E9471-C3DF-40AB-9365-38DE1588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5E94B-91A7-4F8A-B7A6-6EEDFDCE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C5E97F-A8BD-4FE9-B44C-65582CA1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800B4-3EB7-41BD-9637-4B4A2D0E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8E3C66-9AF1-4FB8-88BB-978CC5DB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1624-DE1A-45C4-9599-1FD6016E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3EAEB-FEDD-4425-9BFE-A880EDE7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F2F04E-148F-4F32-8660-016CAE7C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C7F204-C2BE-442C-9653-4157BCF0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F0806E-44E6-4AAE-A7D1-D61B5B29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601210-CA23-42B9-A08E-5B330A10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C88782-66F1-4D99-B172-8C88CD02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89E794-C669-406F-8833-9705459B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0CB70-0F9C-409C-AC97-B66F6044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CE548-328F-44CD-83B6-3CCE5B2A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7F7EA-4981-4516-AE29-44107490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ECFE-4009-418A-92D5-91083992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EF855-6989-4D94-B4E3-120C4DA7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C0F45-B04D-4F8E-9720-2EE85068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DE591-CBD6-43E1-82DC-0F361DA5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591C1F-2B3F-4E95-AA2F-9276A409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B39C1F-CDD8-47A6-AC7D-B6CCEAD8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43F82A-0EC1-4F16-BD9D-2E0A0D3B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C6B18D-252B-4ACB-9210-8ECA63F9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FCC3C0-19DF-46F7-ABD2-B2591D0A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D57CB3-1D64-4939-9600-7316953E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BA6B63-039F-4767-97E6-15DC8B7E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5875-F1EC-46ED-ABD0-AF782B17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8CA527-12DA-415C-8869-2CA1576E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14D4BA-EDC1-489D-B967-2401B913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D912EE-C36C-43A3-83D4-09688355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F77BA7-0BED-46ED-A3DE-7C822002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19C1FC-AA89-4E96-98AD-9D0C75B8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D9D122-6242-452E-883E-AE74582D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969607-B1AC-4CCE-82D0-F649EE10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156886-CD56-45FA-98BE-041ECAD9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3AD4CC-89C4-478E-9436-1E3DEB0E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8166A2-1AEA-4291-B804-F7F02DD8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A914-1002-4FDC-8D5E-EC25E33C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E70AB-3C24-4EE6-B7E4-F4EE6A9B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DD4DAE-6140-4F7A-B991-48A5DA0D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29C899-AAC7-43B0-A285-0C14674E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0211BD-D592-449A-942D-B021B018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C54A0-1C3A-4E43-A496-45B7B17E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20BCAC-8E7E-424F-B28A-5135551C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0E27D0-8DD6-46E9-9ED7-942D3B3C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3BEDB2-4BCB-4F48-9519-02D6E426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A0C5E1-A30F-49E6-A536-3CED59DC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111B1A-EA12-4AE8-AE22-11FA034B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0DC7-9A0A-4625-A6DF-E3EE3C4D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585499-61D2-44D7-B69B-B028513F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35C589-F5DB-4554-B74F-65C82A92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A647A0-E853-4560-8782-43D7A544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428B15-22ED-4D05-B338-FC2F41B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F6A761-6C8C-4A6C-B59F-1C0FA59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192BE7-8214-4BB9-8DF3-651E2CE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FB367F-AE4F-4518-B6E8-F8C9C76D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D475F9-E113-4E09-894F-63F4DF72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2E416A-DEC5-4830-96B1-FDA2D4F6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F7DECB-B7D1-4DDC-9537-4113463E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03A7E-3E5A-4EC4-A733-AD541917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C5308B-489A-4889-AFCE-31C44C4E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0ABE0A-48E0-4211-892D-A7255039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73022A-7F37-4309-89E6-E941AF9E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8B499E-3C90-4FFA-A1B2-B2F9D490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5018B0-2E29-4CB0-BA55-7C78077A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10E7F9-390D-4F51-B583-95F3A190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B39784-70AA-4F7D-A7FD-533DEA0A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1478A3-80E0-4525-9A68-31E82020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6C6C20-001C-45BC-9336-E2308DE5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509007-66DA-456E-9184-5A922CC9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6AF-3B82-4E8F-BC44-257906B3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9FFE-784C-4981-80EE-32739F9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987E2D-A826-4DB7-8F6C-F3B5A2AA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DF4D48-496A-4FC3-909E-9DBB4B55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242EED-CAE3-4D3D-B6A6-68569BC3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F3FBD6-D339-481E-B7F5-5230FEDF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995D66-719B-4C2B-B0D2-6396115A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963E8C-A21B-4CD5-BFA1-8E2F1EBC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B880CB-3E04-4010-86D9-22188F2E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2A9A60-B444-44DF-A46C-7F9CDFB8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BD19E0-D1A2-4ED4-82A9-AE2DC512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4FCE61-262E-4AAC-A51C-DCC2F309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07A6-48BA-4211-A241-B20833A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63CDC2-0F28-4483-9844-24964CB1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CA6468-F156-48EE-9A5A-1DC99802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2C3EB9-032A-48C6-B796-58880FFF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4A1D43-85BF-425E-A7AF-AFFB972C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8F8C20-266B-4260-9C3C-8B5C05B4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B4F139-8DAE-4AB8-8ED8-C2981A4E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2041B8-7E5C-40A4-861D-A699E5C5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033BAC-42A0-4CA2-B2BD-C90752DC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94F396-0DE3-42C6-955A-21A9E7FA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43CCB8-5131-4F98-8A78-9D91738D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2C62-393B-4935-9982-2B74FAC6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64DC03-98B1-4F48-BFAC-C91CB1E6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C0CF25-FE32-4A07-8FF6-D8F44755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2667A8-B59B-40AE-AD3A-EAD3245A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B2D33F-C9A2-4F0F-909B-E46C2F74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8F0310-210F-497F-B881-298E906B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5CAC74-79F5-4BC1-B09B-A8823B92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A26081-5A5E-48C5-9BD3-7A95708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506BFF-D8B3-4932-B76D-8B656004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5BC3A1-CDAA-4E23-AA8B-05210573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F77768-F9DB-4152-AE9A-D3B8431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03D1-2B88-476B-8173-64D7944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39B01A-487A-4837-929E-F2D35935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39ECA4-B75C-4716-8B2C-ACD34A07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AE0704-7ECA-4860-8D0F-BF2B0209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69F30A-CCC5-445B-AFE9-9848444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0D65F0-EBA5-4ED1-A32D-5DD86C8E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83671F-86BA-49C6-84DF-B0FC9654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571A74-49FB-44DE-A951-93289276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59E200-12F0-474A-A369-7499FB13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65A4B7-6067-4A87-A7B9-8973ABF8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A80910-6A07-4E8C-A0EA-0E2BF57B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80679-C6C8-4801-B3E8-7A55B7CA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F28C4E-F7C0-453B-92ED-5EAF6933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0C2E53-5EA8-459A-A8AC-02F77904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453DD9-4E05-49CD-9FE3-A0BBC6E5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68AD28-CC57-4296-A5C1-740F96E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26095E-2722-40B1-BF78-E5DE24C4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7FB6E5-9216-48B3-B9AC-F3E4E48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22EFC2-8F5B-491F-9C45-59F0A17A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C79F58-4A0F-44C8-9561-04BAA7B5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897046-0F11-4112-9843-19AE66E3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CBE108-B52D-4BA1-9476-50D345A9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12173-AA46-44C9-B26D-9C5D5A3A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464F02-51D7-4933-96A8-CCDB19B8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CAA737-DAC0-46C0-BC50-2742A102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9D3313-DC7F-4282-AF41-9EED8B98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4153BA-8B7F-4CF7-98FF-8A85FC34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37522B-90C7-4C31-8E25-1148E6A5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92CE31-0EE9-4BED-81AA-7B8C2B6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016D17-2E2B-4DFA-8CC2-437C20B9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122624-8469-49EF-8F9A-E71DB2F3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6C07F9-870D-41E0-B062-02833818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6E1983-3E14-4468-A236-2021EF03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5D72-09BF-40FB-8408-28146001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A6AD05-1B11-44FD-96C2-44A587D6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D7E641-CFEB-4F41-B794-F3D54DFA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3E0F75-6D01-4BF6-8AB9-664145E0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1B0D66-7825-42EB-9448-CDABFB2E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79EFF9-77CB-4772-BB38-6F716578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A4C2AE-20AD-4583-995C-82576CE6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F2D504-31C1-4C4E-9E87-48707E59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323960-D547-4F8B-A061-B04BCB60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E15F9A-4902-4760-ADE9-03DEDF14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B394E6-E056-49D9-9A15-5C12A6AC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18030-F0C6-49B1-84AC-9AFF00C3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E19642-F98B-4F16-BF9F-1EFB34CD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5700B9-FAE5-4B03-9CDF-FF8CA8C6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1F23F6-94BE-4A0F-A101-2393585F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A208B3-7DF5-4158-BCD2-8CA3CF33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2FF99D-AA12-4A3D-A6DF-3A7EF869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5FE6F0-95E6-46AE-9461-D7B46D27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A31C89-912F-4E89-A680-41CFA5B5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2F03F7-E90B-40DA-B472-CE67DCB9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3D12B3-10F3-4E39-99EE-4F23956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8C448B-D2C6-4E26-8AF8-DE150ED6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9715-040D-4EC7-9F10-43EAA3AE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F5F97F-97FF-4675-BC00-212FFBA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6BB0EB-FC9D-47B3-8943-DC7F206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A7539F-CE8C-4F2E-97A0-8F699FFB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6D5006-D67D-4DB3-9DF9-24FF7F76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E5E7E3-07D8-40FD-8C0D-6F8C8989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7A4CB6-0893-46D7-B234-55C1FF80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48F9E0-E874-4CD3-AC5F-3983E1EE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4F6FFE-4797-42F1-84C7-D6856EC5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A9042E-51ED-40EF-A606-F724C130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AB098F-E92B-422A-A10C-34DF931F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78307-8C2B-43D8-B0DC-88DA0F2F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C58AB1-DBE3-49EB-8AB3-A76D7E03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1F1148-B38D-408D-A4D2-C2648A21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4A43A4-4F6A-40CE-96FF-C2F31D47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017D2C-829B-4DD5-8A73-681E61B9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A354ED-A40D-4C5B-A71C-7C9E1C64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15E120-4C36-488D-85E6-29366BFC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8456FD-0ECC-47FD-A095-C74D255A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AA1AA6-A157-4F08-9D30-D8A4E080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18C15A-F666-4AD0-887C-AF48AB37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14295F-5B50-4441-B564-B47C175D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3B2-6B30-427C-A57F-411B5FB7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72BC-3E42-424D-9AF2-A9FFE17C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36944E-2E00-42DF-B9EC-49A8EECD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D4D05A-A1EB-47C6-80FB-172C6170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70FF7A-F57F-4059-9B24-F611FCF8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88EE7C-E834-4C9F-BA37-60F146C5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8591C1-0E75-42D2-924C-B9EA5D1C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523174-B961-45FE-809E-2E7739C9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3AD2FB-289D-40A3-B509-8E6CDCE4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70145D-8254-4A15-B8FB-49E4425A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ACE6F7-500D-489E-9C09-246020C2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F86015-CFAA-4A83-B752-2917F5AB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5385-A632-4520-A3BB-341DDB45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907F41-1C96-420A-9C4C-410B88A3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E41039-17E3-44E1-B75C-52A3A83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0133C4-E2F5-4988-B411-E2A15635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A11570-5FE4-4D12-B59B-5B0CD057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DFF60A-FD20-46EA-8F44-6581D85F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F3500D-4715-46B7-A54B-06EFCE75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5E3FF1-B28D-48FE-86B9-64CA9D12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961D4F-2177-4AA3-9C5F-555BED6F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62A988-B064-43C8-B7A6-74EC43F3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ABEF49-6DC4-4EDC-BB78-1445A853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D4383-C348-4736-90C0-B3FAD3BC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8DFB1A-47FB-4348-B83E-1A5C538F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6184BA-5062-49DF-9A07-14E15D98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74055E-55A2-434E-B506-01331C9C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12C0BE-8E12-4765-8364-A37A6EE2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0A90FE-92A7-4860-9867-0B4EF199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43EEA8-56C2-4198-8EFC-82B4B746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A5C6F3-9EE2-45B6-8039-631A9E93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26EAAD-F87F-4EBA-B7CA-44F9169A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2A13DD-82C5-44AC-889F-91CB476F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8AC9AC-D001-4D1B-A264-A8044F0F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E260-EA86-4316-AD7E-FFE5B6D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D6477F-E791-4EC3-9703-CA3D9D02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3A8CAF-333E-4D4E-8165-B6D882E4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F89964-E262-42A7-B376-4A6258D4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889870-92F1-4DAD-A270-B2F643CB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5ECCD2-B536-4F66-B5DE-91C4F80D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51CAC89-0605-49C9-99B7-1ED500A5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5C4B136-8927-4994-8424-D9F3BB6D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BC3B7B-AE0C-43F6-A428-48580638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1C7AF3-8FE2-43F3-9753-A8813E32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294F36-BC6A-4964-AD8C-CB5B29A2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B2792-EEEB-4EDC-9460-C974E8B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0EF56A-2405-4E21-94F8-691D84F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1B1EEE-4D1D-4C62-A6F0-28F3A824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AC5CA9-F8A0-4A33-B76F-B3529683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C817B9-256A-40AF-A99E-C991235C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30F03D-A365-49A9-B54C-56F4F3B6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C2D78F-EA78-4E48-9D45-8E539F3B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BF07D1-BCAA-4178-8BE1-9394775A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FE770B-1556-4D83-B21F-66D00FC0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F0000C-CC22-4684-9B99-8D9566D1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1106D8-8B0C-437E-B270-0249CF89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044A7-6057-4197-B628-E6F0933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2A5B2A-01D6-4AEA-BE7C-841D8DB7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C104A0-A913-458E-BD13-D7FC952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6D5ED9-DDCD-485A-8E51-617C7493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5852617-9628-4807-8EDD-FF9B459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9C85C7-D25F-4B21-A3E4-A2615052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FE38B8-28B9-49BB-9767-1B0E6D5C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21F971-CC67-4F11-A68C-4CE6B75F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37C27-5B51-4553-AA33-8AEDECA9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C25C-DD31-433D-9EB3-164B077A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FA98-E2A6-434E-B997-0BFCED61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1DA66-F7E7-49BE-B881-F81AD442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8A1-D7AC-46A3-A90B-5D92F7F6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874EF-A663-4A0B-A818-63A9FA1F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C9E25-3FBA-440B-8B1D-CBAC6AFE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09A4A-613F-43A7-B88B-9D1036B9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5373B-A692-4728-834E-E1200F15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85471-2BC3-4A20-86B6-F0B7EF7D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8A83-43FA-4331-89D1-BA22D97E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23FA0-15A7-4E02-A460-40657BC4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E4AF2-9D0F-4C7A-A630-DB0371DF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B2161-43C6-4F75-8EE8-66118286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37063-0448-4188-9393-7582C1E0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0ED-C432-4CC3-8648-79690926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5CE5-742C-4091-BCB5-ECBDA323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12954-22AB-4348-978A-76F454D8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E9C66-C091-49BB-AC92-501DCE8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E92E-3793-4B13-AED7-788A09F4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8563E-4A0F-46D8-9E71-550F776B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FBD0B-F1A7-409D-AF2D-E4F07AEA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1F467-ADE0-4505-A5A2-5232B6E7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DEF5A-0EE5-4646-8F28-88041BDA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F9096-2B92-4F26-BCF5-F893C8D9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80EB-80D1-449D-AE6E-3FC4D3CF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829-AE69-405B-8EA3-2A671F3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BE131-3170-4626-865B-CB1E2545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DE033-3E89-40F9-864E-C61A97CD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AC894-7E56-4647-8C99-FD498D16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4FAC-F43A-4D45-BC72-A501DF37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A2B2F-F470-4350-90C9-71480882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49EC3-68B1-4B75-99CE-FABE0CEE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80F42-5C21-4032-9F1A-37DE7608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04BD2-A3DF-44D4-B0BA-CD9A4566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48CF6-531A-4A03-8B44-C0F89D60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1DA7C-DFA4-4CED-B4D1-67A31B59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2E7-B935-4C1E-B33A-11911C7A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82A4C-BD05-48A2-AF04-0C5F1677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D38E7-D32D-4423-B2EC-EDDCF6D8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98473-D6E4-4DAF-8E4E-D8D2C68D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35758-1FCF-43FB-82CB-E2B8EDF5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4D192-337C-4FD9-89C5-A3BB8D31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122EA-2B1B-41BF-80BB-3732B390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87B4B-673F-45C5-BF34-C7D905B8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0892B-E275-41FD-BA37-18595713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EB13E-9CC2-4C8A-A12B-97792113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54039-2601-46EE-B358-79F0057A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241-14F1-4F33-8D28-636FA60E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E8A1F-D3FB-448C-8B55-678CDE73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83130-2D10-499B-9C8A-8575A1BE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40EF5-9E84-44DC-9DE3-BEA18C52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08EFE-3C92-463D-A53A-3D7CF084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675AD-7188-49A3-BB4C-283E9E6F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F2689-DE9E-4E47-A5FF-C6C79910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B40CE-E5D9-4DFA-B9FB-BB8B7C5E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6C6A2-4FC8-405B-98D2-19CFEA35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2DFF5-0A41-4EE6-8EEA-C10C7518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34DBF-53E3-437F-AB65-80627C04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C533-8F1E-418F-9C07-9EAD50B8A3A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E99A-54A4-47B0-9ABD-9D574D6A63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53C3-A087-4E13-83B0-5CB566FA6D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126A-9EA3-4791-8F57-8AEC232740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2EEE-0A5F-41F6-9407-263E9C9E76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E42F-FB63-406D-A7DB-AAF7CF078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B993-81FE-4C4C-8B38-7BD47AAC55C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773E-122B-42C9-8722-CE4EB8E8E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5472-B30A-4400-BD3F-D8F1F88F97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14B7-4811-4EBA-B977-665983AB4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DFB0-3F65-4EEF-9D09-65882F9AC14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2032-6EA3-4FF8-876B-7787902429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E327-D760-4108-84FB-2DB6D96D85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10E7-4C4E-4610-BBD1-A494B13379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0FC7-2507-43F1-BA9C-7009566A36C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C424-BFA9-4F62-A781-25E1C23C64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3D2D-A8B2-45C2-87C8-497D012B53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0611-F7BE-4ACB-A11C-23A30CFD6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5274-8A6E-416D-AC04-C12B0AC3FBF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64F8-65C8-4B15-B1A1-8CFBBEEC7E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21DB-E0B8-4BC4-99B5-E2A6149E683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3D03-CE35-49E2-8A73-539830307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5F7A-BA3F-4B6A-8DE6-E89558F7EB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AF3C-C273-4C89-9124-FCAC99478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FDFF-C8D1-453D-A07A-CAB4E20352F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2E8D-1F94-4C4A-AC50-A5E49244B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30CF-59F3-4926-8C62-F37F8602EA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4338-2D91-4141-B2F1-D4DCF62D1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32ED-C098-4DC9-B896-D5CF40FAE3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373F-1A53-486B-89A6-D14067B27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37AA-6475-4834-9D97-9CC6904FE0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B6A2-7D22-4BBD-9789-D0D3FA32B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4DA9-1763-4D78-A5DB-C5D4AEA6AF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2D67-6438-4312-AF0E-2363D5BEC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9D6E-E4CA-47FA-AFCC-7A64FA0D6E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C467-B034-46EC-832D-7053EB4E1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0422-05D4-4CB7-952D-0D62BC9F4F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C22C-9FEE-45B1-85D1-C25103F0A9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F96F-5352-4E5A-895B-B27FB60F0D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1FC5-2488-4CA3-B6B8-E2B110B42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BE31-4E50-40E7-8940-C08C3B1F82D0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657C-74E6-47EC-927F-D8259A8B36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8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E266-FE8F-4AF5-B559-D8C6D0584B11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1B10-3C6F-4189-B274-83DBF01BF5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3482-27CB-4DB2-B478-B4BDD5F065F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A54F-6D9D-4BA5-97F8-AC410978E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8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676A-C193-4577-B411-484E187BDEC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2434-9E23-4FA0-8D04-4A0654BEFC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 type="dt" idx="9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B96C-9A5D-4071-893C-223DF76F5884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D0BE-B8B1-45BB-BB38-18593C77F9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6A79-653E-46EE-BBD7-10E99C549C1B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40C9-6B42-4239-AEBE-6A1971D43E9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9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5125-132D-4D37-81B0-871086C38B4F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CD77-19AA-4935-8ED0-CBCD738040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10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1E35-CFD0-470E-B56D-47C49B440EC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3E35-15E8-4C1C-9EDD-2C08C4CD8D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703A-0EB0-4154-ABF5-0DC274D4E4A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AFBF-CFF8-4CCE-BBC1-A22208F6C45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9FF4-0EC0-49D2-AFCB-A32CECDD556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BEBA-5529-453C-A30C-D33EE551E44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0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7F4D-A581-467C-A1F5-7B42D07BCA04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24E7-BCEF-4288-979D-8192C623A5C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11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256E-8DFC-4FAE-9E52-52488E9BA920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1A8F-0D06-404B-AD64-7E2160DE4A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23C0-EAC2-4231-9714-4A88EDB4746D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1F7F-5108-4C10-9E0D-A3D514287B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9EFE-821C-41FC-AEC4-217DEF0FDD7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6C2A-54B9-4F51-BAF9-2C3803CA1C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6AB4-092E-4DB5-8FBE-39247B0385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B18F-4F3B-4E4D-9850-91E3C8D00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5127-1540-4212-8711-F2A9A4D1A1D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63E2-EDB8-4FA6-89AE-D33816467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F52D-3FCA-4441-AC9E-FB649FE4142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38F4-4326-4981-AF16-95606DDEA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8463-7286-4757-8C0D-450012309A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1AD-FBD3-496A-A9C3-210E183DE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340000" y="115920"/>
            <a:ext cx="5616720" cy="41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2195280" y="4508280"/>
            <a:ext cx="58640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0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661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3200"/>
            </a:b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ТАК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700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701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СПАСИБ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08:27:46Z</dcterms:modified>
  <cp:revision>317</cp:revision>
  <dc:subject/>
  <dc:title>Кафедра «Теория и история государства и права» Дисциплина по выбору: ОСНОВЫ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