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92CD-091A-44E2-BF5E-E8586E0EB4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2855-FD77-406A-82DC-547D89AD9C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1F69-E46D-48A5-8F3E-7D6C572EDE4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58CA-88F9-4E7B-9F69-D7D3EE24F7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2634-7BED-43B6-8F4A-C322160783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E741-E67D-444E-A721-5B35CEEBFE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E9AE-30D6-40C1-92CE-D4A46E1F66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50D6-BAA5-4D32-99B1-A85C94E049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0E68-1F16-4E75-9F5A-37CB546740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6DDA-2508-4542-8FFB-10D7E68282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F778-4D74-4E9F-996B-65BD6D9198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4E48-2955-45DC-AE90-5D88105132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93F9-A0F3-4D76-8824-CD29DCFE39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A540-271D-4701-AB6B-278E81E7C7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150-3DF9-4E2E-966A-40A1C859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293-B647-425F-9891-C4380236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842FC-27B5-4B4C-8D78-E49CC67C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F952F-4D1F-48A0-A6E5-A72332F0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E3576-A0C5-418F-A6B9-BB3CF255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CA9F4-45AD-4DDB-A188-AFA4A28F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35551-D92D-4BEF-8C1D-14A3FEBE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BE7A1-7E29-4262-B046-CC2C189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01E43-AE5E-4742-AAE5-A0CB7F44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A8D87-C967-4932-B410-0B9EB742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8586B-4525-45AF-AA66-0F98FA8C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D0F30-19C0-4844-BC3F-9C2F6DDA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3F1-50AB-4542-BAF8-F60F5026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8619D-8605-44CD-A1E5-6F47D1BC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8A7DA-F31A-41ED-ACA6-2A3E6694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387B0-8334-4D00-9678-2C2A41E1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ED334-C99F-495B-B9DF-B5712176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6113F-D0F5-4E28-B13A-26A60D90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680AE-4862-4E63-80D6-510222D5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94303-7A94-46AF-B805-7227EA1B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B7BD9-9802-4196-B822-ADB6EF3C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56358-473C-4B17-BC82-BC444ED7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AFCCD-BA57-4F12-B216-79347591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922-E604-4C6A-8895-89B78128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82892-5B5D-4AE7-A8DE-C2FB3D99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00132-B348-4CED-83C2-197AD358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0C0E9-F49A-43EC-8C23-5E2E8B23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2AED0-DB74-4A8B-96CF-0B919AF5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D9398-3CC9-43DE-A81D-63766386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F3541-6750-48C3-B559-6675BE29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25D44-2AC9-4404-BE61-7DACC98E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A9642-43F8-4B95-9B25-BD7BA84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741AD-4F37-4744-B767-6D15888C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812FE-35E8-4A4B-8C78-1070085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DB4F-9861-44FC-BED6-16E1B8B9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EAC80-CA01-499D-9538-29C17D24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55384-A242-49A1-938F-1D948B0A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C26BE-D323-458C-B903-2396630D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76E60-A500-4F5A-B0FD-DA749C88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F1727-D698-4104-A5C2-E7FF2369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3FFCF-7F7D-4FF7-A848-8B3CE762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3F006-F782-4725-9478-D25470C8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27EFD-6594-4572-9535-C78104B7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A5DE7-77F2-4E16-B133-BCA3C316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8AB04-10BD-4F7D-ACBA-9AB3F97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6A13-AB2C-4B6C-97AB-08E92796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E3E54-1F45-4ECB-8C1B-1A8840BA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386DC-B5A3-4AD1-B98E-9C641009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431FF-611D-47D2-A1E1-E05745E1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DB46B-877C-451F-A571-1FE9EA8B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AA5D1-DBC8-42EF-B4E3-EC8AC341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1CA8A-0567-4D48-AAF2-F2CD6E38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73909-507C-4930-9EB8-5A7B127B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8F8F2-F4B3-44F7-B82D-27A70433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B7475-5F87-4CE2-90E6-E1917B77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20011-B6BD-4966-8B6C-544F2E31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CF75-FD2A-4F3B-B0C2-7DBB4742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CA88C-4179-453C-B975-E4F723D5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F2B88-ACC8-45DE-896C-A384DCAC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85114-6278-4987-A3E7-6A7BCAFE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4AEAE-1FCD-4118-9396-87696F82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C485D-1906-41C4-8EA6-CEF2C595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4C8B9-0C7D-41DE-A85E-EF793784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1C4D5-DD57-4205-8A77-0B4B0BD6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3B29A-6490-4E08-9EF2-3088A43A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BCDDC-36C2-478D-A5F5-9EABEA25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AB607-0AE7-492D-B98F-B4E3F94A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E03C-494A-467D-A4F1-D07AF5E2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00F43-C89A-4450-B2EF-86DE34C1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11461-5C6F-455B-8EB0-4B313A94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7F5C9-C850-48C1-8812-337C0B01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96C1C-B24E-47B0-9D32-6C507594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89868-ACC2-4CF5-9C01-AB830098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3D4F6-6964-4B98-94C7-662C1DCF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42EB2-0123-49E2-AF22-1B46DC0C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0AEA9-9122-4290-8D8A-92597C18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3A525-09EE-41F7-91D7-AB5411E5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5AEEA-AC18-4F9B-B546-BB39AF16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6DC2-0AAD-417C-B4E4-71827921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7F14A-2971-4776-BCF8-E6D915DF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6B64C-2A13-4C7A-B673-4CF79AD5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D3270-D195-4F6B-AB5C-7E5F7198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A76EE-DC3C-4523-BA00-F96B6988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51FDA-8283-4DF9-8B83-2F937C33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F36CE-ED53-4515-9900-A04AE73C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92C22-5FF9-4342-864C-EFB97A44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1C15A2-8FAC-4299-BF7C-4AD861D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07B03-7860-4D7D-8C17-1FDA82A9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2CA1F-595C-418F-B0C1-D9FEF5D2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3C91-7E06-4D9E-ACC0-051F8345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2CB42-55A0-4836-B544-3FA7FF49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E5CC8A-4FEB-449C-9BA7-83B3248E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FA403C-9648-4F90-ACB8-50524EBA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59884-A08E-45F6-92D1-E7D9B20C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B7442-7BD6-422F-BCAE-6E83CD49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AA776-9DBA-4F79-914C-7E1C5AE6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7D7F6-AE83-4B3E-9E6E-2A81B23C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96769-7FA4-4806-82A0-8FE95D6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1574B-B110-44AB-B359-2D83979C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E7CA5-27B4-479E-8E65-DE13A8C8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C8F3-1567-4E8A-8979-BBB594FB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CC71CE-E4F8-402C-B3AB-95688616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4A41B-8565-44A4-B83C-3DE82490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FF243-5DDC-48B8-9C5F-D1196916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F509E-967D-4B77-A978-27FE817E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1C3FE-C1D9-4AF1-A492-B39D33FA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E76E5-D307-4A17-A4B7-8193B106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69BC1-7081-4CC7-AC28-5E935682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3A312-196A-49AD-95BD-0AC549B9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8E958C-F578-4FC1-A4A0-17A2DA94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FEC56-1BED-4CF0-A669-E2B7D76E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9C7-7C59-4CB8-B48C-6F06866C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E761-DAA1-43FD-825A-6D9F6F2E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A8971-6901-4F4C-A298-FC18AA46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E1A4E-3955-4764-9A89-435983AC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5EA5A-B21D-460D-8A2E-95A396C0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4C909-2D49-4FF9-A96F-9F797F99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23C26-45DB-4F24-A907-220A879C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A7035D-EC00-4A20-A149-F500441D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2873F-D02C-4445-B121-CEB37629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77BBC8-B8B3-4606-88AA-3B959CD0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FD2443-2F10-4949-86AF-A1BAE566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8A079C-3588-4CD6-8E4F-78004F3F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0C89-0EC6-494F-BF07-7741A3FD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46A22-2EAC-4413-BDCF-F80CB362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045A7-0EB6-4345-9347-144DDB57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3B33C-D17A-4B83-9F6A-29BDA9D8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211C66-B85C-4DB5-BDE8-5C19FB60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D6078-47A0-4376-A1E1-68045108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6C8F1-94B6-4A0B-807E-059850D4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DA2980-36EB-4C29-A8D6-77CD5A7E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66EF8-D4E4-43D7-9792-B4153DEC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353C7-CDA5-4686-BA9A-FCE1C277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7EA06-62BC-4A72-A62C-7FA3A8B7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064F-3F20-44DF-98A8-6643C3FE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298A2-619D-4986-8B1C-AAB5A3F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37A9BF-1037-4645-9E59-2F1C1CBE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FB7A3-6B5D-48C4-87DD-D54A8885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3430AB-2CA3-4DE5-9988-89A4BA4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9788A7-BB3B-4D1A-B703-D2D13346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894A2D-89F2-4F9A-9785-A112B7C4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4932AA-88EB-4A02-B07F-9737A4F5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60F3DC-75D9-4E50-9361-18430356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2DE64-D359-4A1E-9229-EC71A7CA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DFD83-0FF2-44FE-847A-CEE41258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99EF-8EE6-4D12-9BCD-37028CBF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E9D71D-D7E6-4C6A-A7F3-96471995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DCF679-0BC5-4BF6-953C-CEC124B9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6E2FA-FBCF-4434-BF07-8DF00689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38BA5F-D0EB-40E5-B042-36CF725A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A7988-C39A-45CC-B900-87BB1933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C63747-8DD2-40F8-B09E-3EDEDD74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3F1246-F395-4183-A2A9-AF1DE175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F7C305-A4D4-4DE1-943A-A8FB8FA9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F5B60-EF41-459F-886B-83C0AB5B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24EC7-745E-43EE-BDD2-91F1CA66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4969-B38A-4591-B210-0C28B9F1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66B1CF-E57D-4702-8097-B53E2C86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249C47-5B28-407A-BF83-9D895530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046770-2BB5-418C-899C-769B18EE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6AB300-1AD8-49B9-86B6-FF7691F8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7F928C-9C30-483E-A556-484782CE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48D4FB-59BE-441A-82E3-FA89B833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5415A7-D43E-4EEF-9D44-636CD51E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B4C6D-2A0F-4601-A621-82C5BAE4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382630-04E8-4F2E-9585-B45DA6C4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BD40C0-4ED8-48E5-B2E8-8AD6C0EA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97668-978B-47DA-B815-72B1E31A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C92847-CCAF-44C7-89A7-502F8185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EA067C-CEE5-4ED6-963E-E95B5A13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01E60-97CC-42C9-B414-33AAA557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C6BA91-1EFA-4495-8535-7C1A3228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144388-57C3-43D6-80BE-855A12A8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996DE9-276B-4617-85CB-5EE35D74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1B9A06-1011-4AB4-97E6-7357AFE4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6F5E2E-7FB7-4B7D-B9C0-816D8246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A09A95-4AFD-40F2-BBE8-B0CEB490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2F3FD5-5266-4E57-9ADF-09F9C5D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797B-91BD-4FCA-A584-7C962EDA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0D91BB-8FEC-4AA7-AA21-60D239A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5D41CF-4497-42A7-9890-BFBCDB1F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45BAB6-2CE4-43D0-8272-C569BCDD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5E10B8-81E2-4DFA-97D4-8EC5846F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793582-191B-46A4-BF28-5F7E110D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E8E932-E152-40BC-947E-AD4570B2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7E4743-6ACA-4D8E-BE46-C13D6988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59E125-597C-4A5D-A948-3B4C9E73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F6F038-8AF6-4450-B1BF-91A6CDB8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CA0A64-D440-4133-BC01-1B305894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BD34-E052-48DE-8BE5-AC43B496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D7352D-2ACE-47F9-92D3-8C4B12A4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62FB49-BC42-434D-8E70-DF471B7E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AEB1FA-2198-489E-8EC3-92AF378E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4373D3-C9AE-48C4-8E99-30F5558B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C2C8DE-835F-42E8-9004-5B8A8063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FC9B63-A85F-4AB5-8176-E1D89C01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486967-2072-4934-8AF5-04073D5D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DE42AD-B2D7-445F-83DF-19A40EC2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FD44A4-D81E-4ADD-94D3-96ED4F77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9ED32D-676B-4605-9D62-4F95F0B1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449C-180A-439F-9111-66101906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002B05-5EF7-4F70-8E17-7F6C0399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776755-0DCC-45ED-BFF0-9692DBC8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A93336-8BE6-4AD3-B1F9-D90E8DB6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610EF3-6068-4203-B32D-3B640A3D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0F487F-ED42-49C6-9E7C-3782236D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6AD563-4A89-45FF-8BE6-22E72EB2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5288E6-F3DA-455A-AF70-75B739D5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A24601-7F83-41BF-B26D-23A42866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83EDE2-A07B-4D22-B9D7-973E1D08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2508B6-907D-4B3F-9866-EDDEF3E9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3BD7-6221-4C1D-8778-682F69FD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1742BB-0B1E-4E58-96F6-30C16C8F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11B180-A7B2-4041-8C4A-F3416261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6F4ECC-17E2-4A6C-9CA5-9F2F4E69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27BFFE-6A1F-43E1-9BBA-8B860C24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FCF08F-1173-4ADE-B0D4-41575132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6DA7E2-6CB8-438F-A322-C6FD30D3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E876ED-8946-49A7-B08E-CB21C3D7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7639B1-7CAD-4015-B8D2-4CC7080C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C2CA0F-F733-491B-B8CB-48E07ED8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3C122D-5426-4870-B3CD-AF26EEF5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E7C-F52C-4420-81B2-C16F1008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C957D-4EA5-458C-8B6B-3A3871E7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BB66AA-733E-4CFE-91C9-96F38CFB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18D611-1332-4772-A489-D807304C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E97EBE-7C03-493F-BC3A-0F54CE54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FB159E-4ADD-4093-A94B-443A7E72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00D2E2-DAF2-45AE-BE0A-CDC74A50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395544-6E90-4E0D-AAFD-F7577BCF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B1507F-6946-4767-8DAA-326BC21E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A83584-1576-4094-9047-3813FBD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B60A9D-8955-47B6-AEC0-045CD88B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7E05B7-097A-4E4B-B7F7-313BDB4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79B4A-214E-4501-9A12-FCD8FA79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894CFA-26B9-4B89-814B-8F22C5C2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CB65AA-F967-451C-870B-C6B0DFF7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65B495-0C37-41CE-A9DD-A8D154E8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28A264-FBE0-4F01-8C2E-012DB415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171878-8883-4FA1-8602-256B5384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6E81DC-3581-410D-B039-601CE1CB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96BC6D-CCC1-4BFB-B1EF-D9459E8C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10EC25-C77B-42B0-8425-EF7DA3AC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E7E04D-6807-4745-BA0F-E0DB4433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6DF72E-8D27-445B-B40B-EF4FD71E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940D-D992-4EE7-84C1-F961DA0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6C6C0D-FAB6-4214-A457-BCBE431F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930DF5-FED9-40F4-B132-8FFA749C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65EFA3-E94C-4DCB-B32E-CD6F4671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1C8BA9-95BC-442A-9280-9AAAF047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704DB9-D2BC-4612-B6BA-78B1D43C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494B09-3426-42E4-A13D-994C6D56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4EC7A2-396D-42DB-AFC8-8C84E44B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192A20-F1AF-4603-9BD3-F02BB252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185FD5-CC3D-40E5-9BF3-29EC3FED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D43CC4-FA22-4203-A77B-04DC6240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BF59-0054-4B31-AD17-4119EF5C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E4E106-6281-4A03-9137-5BBE933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7A73A9-88E8-4B38-92B1-3714126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78AFD9-2EA0-4FD9-86B4-6C4F0D0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B08867-0632-4F3E-9BD0-39C6A881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782728-E0D2-40DA-9F52-C919EF7D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FE5F79-92C6-4864-8A04-56E09AD9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726A6D-772E-4149-8F97-FE565E7D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56627D-506A-4A91-B890-88E7E943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1BC113-10CF-4DDB-9152-C080CA9A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633EBD-FCA1-4E0B-B5CA-B1187BAE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DD01-E158-4B06-BD3A-F0BD6453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01C97A-E64C-43F1-A88A-DC553726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1253F3-9928-4042-8262-F2D54E79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DE4893-28C5-4283-AA96-7D961C63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13D85D-490D-46A6-B1A8-2F395C5E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4BA9FD-7610-4802-99DC-1E5C67A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F43331-67CE-43AB-98B6-A9AA6BAC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D81D58-7215-4DE1-97A7-50940A6F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6944F0-8307-4175-A91E-584C7AFD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046143-313A-4348-B362-56FFE443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9F1811-5FAA-471B-9661-B901DA4A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30C9-FED0-47D8-A3FE-687DD303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18A3F7-D8F3-4EC3-9757-D240FC9A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D5DDEC-44F7-4568-BC95-9281FEE8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CA5F98-7F48-4647-AFB8-6E9DDAF7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A6FAC3-ADE7-48CF-B9B2-60A53E54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629B93-42E5-4ADF-9C3F-FABE6861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6B2529-2D89-471B-B82A-45E87EA2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5D7781-9A60-4741-9313-BF72FE1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92F709-6B76-4D96-A6D9-E749B5F0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372118-708E-46E2-BD2B-78985EF8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8D052E-2A7B-4851-8E90-053BB3A3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7063-DF71-43C8-92E6-643C3D6B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BB3420-4E05-44FE-96A0-9FAD3A43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17A74C-A6C7-44FD-95FB-EF74832E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B62B7E-AFBA-4EE0-9B09-67452191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D5EE63-1124-4815-AC62-4A827447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DFF69B-C556-4DEF-A8DE-52D6F4D4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857F82-6BD6-4BDB-94C1-994AC7B6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6BB04E-861F-4D4E-9823-3B33BF8A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CE339B-A35B-409B-AD88-4ABCF839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622484-6987-43FC-910A-7DEA239A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302658-3EE8-4A30-855C-F0B0FCE9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5E7B8-85A5-4B19-B6DF-2ECDBBEE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E8760F-A3E4-4600-A73F-DEC916BF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01C56D-8BE6-41B7-9796-BFDB3FF4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872A42-6A88-49B1-AC7B-8FF57F23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8DD9CB-5E5E-453C-BB56-6B5DB1FF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DE6343-687D-4431-9D8C-92600471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25A5EF-4ECC-444E-906E-15146287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6D0D3C-6FD9-4C3E-9A0B-B1D68493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A0B3E4-6681-4B4D-AF95-5B46F503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E021AF-69B0-49E3-A9F8-DE8CE7AF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A1B67D-BC3F-4597-97B7-39A606DA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3242-3B62-4801-A605-3972669F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075F88-A2F5-493A-9232-373991A1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8C10EC-1BD2-486E-8A2F-75935988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E71D98-F1D4-48A8-B1D7-39DC69BC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AA8F66-A093-4D3F-8175-CDAA62C2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0FCB1A-FF79-42AA-B85A-F5371182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44B5B7-AC3E-4C9A-93E6-5A791A72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252AEE-25C4-4717-A373-3E1DBAB6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12FD5F-C4CF-4734-B61E-68D8E75F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9CF5BA-EDC6-4DCE-A97C-E2915C62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D34AB2-91B8-4FAB-9825-816A31FF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9384-D854-4077-9CB7-2CEC460A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F83AC2-B4EC-4F23-8B57-8A6EBE0C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47CAD6-12D5-4B06-879A-648C218D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F4F0A7-8923-4612-8808-B2E26F75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D6F6FE-EFA9-4DA0-9EB0-4C28DA0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102BA7-A25D-4990-9228-1D477385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8018A0-8565-4C0A-A1B5-C99C0D10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DB5E2C-E95B-49C4-BBB3-3E69329C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300F16-CE13-47C2-B4AC-734DE750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891824-199C-4419-B8F9-6218F139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6C022D-4C58-4C21-B5FC-B8C75FFC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A89-5FF1-4239-A513-C33F02D9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BAE7B-1A57-4C30-8BDD-ED6EBC60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34626C-F441-41C2-B787-75EC9B52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2D32E1-CEEB-4D56-A2FF-B7CC9177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300735-1410-43BF-9423-A20854A3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B751BA-9EBE-45DB-9A8A-2D2C2CB3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59296B-1D71-4407-9E67-4D712472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843791-1C55-4D6A-B7A6-8E5B338E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E09979-F130-4C13-8CA6-A75DC58B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8D0257-109B-4BD7-8E68-F3DCA326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1BD173-F1BB-4421-AFD8-0373F2AE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0057A0-1DE5-4508-943A-3496F92D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4989-162B-4578-A63A-280D7079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D04226-A8C1-4370-9803-A72231AE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430C83-7539-4F25-977C-550EAD4D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4191CA-40A8-45ED-B14A-702CD174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0B30D3-4780-4094-977B-A6880912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CF9BF8-F101-48D8-BE54-6F1F430A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829BA4-3058-4675-8A9B-6245B81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8BDCF3-7EA0-44F1-BACD-E2667B7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57476D-30FC-45B4-B345-A9D5DF6F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1BF8E2-C8C7-4AA7-A9A9-DFAED4D1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153748-F4AB-4F8C-B1C2-0C4FE8D5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E5DF-4042-4C7C-99ED-356F2E08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8A4A58-B702-474E-B5F5-2E0FBBE9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1B306A-6510-4F18-9116-96F642AD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C1CD0D-6B3E-445A-8096-224F1C77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0D8391-4568-46BB-9E61-E15991D6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9B2DA0-C868-47A4-8BED-19EE80DD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288834-EF60-45CA-8DB4-AD6A372E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C948B3-7BAE-4644-BC1F-B027AA2C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7576CE-F51F-4E95-AA19-97E3C790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7209E1-0133-4BDB-9A29-F48775DD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9BA97F-8B69-4739-B206-6F61ACA8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859F-2E4B-4965-B206-21972A3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C58C44-BBC1-4560-AE1A-77F4C54D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1AFDF2-AA24-47AF-BEE6-96A51311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10D8254-FD0D-4E86-B9D6-4FE6A0D0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510596-89FF-4C7A-9E6E-9DE7ABC0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231DEF-0B57-4AAE-9CBC-7972B1B0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678981-5F20-4B88-879A-821BD11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2C3B50-6184-45B3-BF1C-78BEB570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2E4C40-8E8C-43F2-9565-41440152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19CB68-00BB-4C4E-BF6B-43A35AEE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D93E22-F6D2-4E88-A4AC-98350B80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9F107-9B39-44A3-871C-F4FFD7B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7D614CD-43B3-4BC7-BD07-8D43C7A4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28027E-CCA4-4EB6-B041-8ACC5E23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B7597E-EC00-4B70-A643-E85D894A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F77786-B4A9-4F97-8533-18771BF4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1D6436-AE47-41FC-9425-592876F9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697AD2-44C5-402B-AC7B-EC8C6CE7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D3BA7E5-E38A-41C1-B69B-234C051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7882AC-3242-4F62-A7D3-C1111B57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77D9F4-6FFC-4FDC-B7F4-F3E4B10F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BDEC2A-5FD1-4512-BE5A-FDDBD1A7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5AEA7-94B1-4FB3-B4D5-1034CB9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C26B4F-E194-412F-BA53-47F2D3A0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A3A8607-453E-4763-B015-7526D8D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D6E3E4-7851-4951-BD92-4ED36C94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FC01BF-FCDC-4D13-BEE6-7E09FCD4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E85AB5-9ADA-44E3-8A80-9E9655F2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3DAF51-8740-4228-B9AA-1C58F867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6078B9-D388-403C-961B-2CA84118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7B6BD-7134-4D9C-8FCB-9F152E2F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FC163-4049-4A37-BB73-B726A21A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0670-47E5-4E4C-A4D1-A869EF99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4CC80-FA02-4C67-9D8E-94D673F0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DA7-CDC3-4AD5-80E6-591CFBED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96116-31C8-447C-88ED-C68AE2CB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189B9-B7FC-4AAF-AF6C-C622E3DE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73AD1-8C06-425C-B815-A226FFFD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12EC7-D468-4AA0-AEC0-7067F3B1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1963B-6B2B-4327-A54C-FAB5F168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B50D4-912D-4EF0-A685-DEB7D38B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6EBA6-D312-4616-9029-945726A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57D88-7743-4424-A580-7903D03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EF208-6F56-476F-840F-8AF704EE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D875-B16F-4C90-A722-61A50F07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D71-918B-4D78-BC78-AA3103D4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2402C-9F53-461A-9F85-74438FA3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E7803-B4F9-4B5D-ADD6-311250FF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896F3-1072-408B-BE28-303A0C45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1911D-1000-4A39-A1F7-2DDB8D5B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F66B-6791-403F-8711-F903054F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D0A0C-1BA0-4311-9716-3CE60C05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E52D6-D168-4567-8D52-9BEDB46F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8246B-46EF-4920-B72D-596A6EEE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912D2-E15D-419B-A1B0-0186DBBB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67A1-A580-4979-BD17-6B2F574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CCF-C4AF-4F18-8838-EAFB0145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E5F93-FEBF-4FB2-AC78-3050406F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0FACC-E638-44A4-9248-4A25E985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73634-0CDA-4184-9142-FA6C1370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9F8EA-3E5B-4043-B375-D67C5ED8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06FB1-BE75-44D2-90A9-CD810786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0F519-3BF2-4063-BB17-6FD40711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F4439-A6A4-4FEA-8980-B931E974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ABB48-AAD4-4EC6-8734-8719076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5457-10ED-4474-9992-E4E73505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5FECB-9932-41B2-84DA-00C74F70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ABE-2541-4691-AB29-A9B0DD9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9FF05-6773-486F-B4CD-9FC2BA10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5DBA-B23A-4E74-B990-5683FC1A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83EDF-0FF8-44EF-9193-A47ED69F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6B630-8372-47E7-BE9C-5F2416BE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F9FB6-8C02-4A11-9D93-69C5DEC0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A6333-6CB9-4C42-9271-8A85ADB6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60457-CAEF-4E19-8BA6-4A1D7E4C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F4651-E7D8-40B6-B520-E81B9C41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F1E57-162C-4167-80C4-611A9616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913FA-4D4D-4301-84FF-DBA82D01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81B-11A6-44E8-8F9E-B9FF0C27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6AC80-9991-48AE-9444-19497C48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4B340-0F99-4DE7-BAB7-B42BB91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453FF-859E-4A59-9E98-133429C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C3ACD-6254-420A-917F-95C2CC23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D0D7F-077C-4DD3-8A4A-E263397B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44044-CA31-4495-8510-27FE4F73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7EBE-9060-4B6B-BB4B-4F56E5A6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979F0-F441-4D15-A21A-DAB9351E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EC67D-5191-42EF-9202-631F34DB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9B2D3-7C27-4CD3-8433-77E0E286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EC94-6A8A-45C9-9A94-280691D50733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FDAC-8934-4D33-AF29-B73D7774BE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1109-157A-488A-96B8-77B0E316A1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ADC2-59CB-46A7-B1B0-7794F3DAF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37B3-A076-4AF3-B0EE-C237A8EDD4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FE70-AA3A-4664-A456-C5BC38773F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13A7-051B-494A-83EF-704BE19486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2AD5-E5FC-4A52-96F3-9E9868FA54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383F-4CBE-41C3-973E-25EA3D0368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44F0-3BAD-4725-8AF4-9E6D97F335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7659-9E5A-416D-947E-DB3F261A47D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5F5F-295D-4CCB-94EC-36F7A2DC8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1AA9-E868-43B0-8D16-AE8A8A0A4EA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4991-21CE-45B8-AE3A-B0DDE88914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54F7-EC45-4C79-968E-9DABD3E7C2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1424-EFCE-4F2B-A539-142A3DB3D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7014-28F8-467C-AB6D-80147A5F95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E2FD-AA8C-4347-9AAB-7C53405F0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ECBC-9171-4DE9-9C49-F6A3B3B9A8E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394A-53D1-4EF7-B36D-E56C8164F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5238-9781-4688-8733-EB9039E1B52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8CCB-C767-4FD9-898B-EB4E8D71DC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3F13-1F1B-4559-8BD2-B40489EFEA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2BFC-7D1B-4D2D-AED5-88A92BF9E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7056-B3D2-4A7E-BB42-5BD544D08E8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3668-71B2-498B-824D-54B3ED8FC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6FE5-AB41-4410-917A-65B9885F7FE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BE2A-CC09-463A-8A5B-F303160C91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92DA-CF4E-4C7F-A4E7-0C2A5569B6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A914-9256-4C95-805E-930C5FBA9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5CBA-BDD8-460B-A433-8F489B2CFD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69CB-2CB7-4A52-B121-C621873D79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9785-AB98-49DD-B6AB-866AC5866B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570D-5D9E-4A25-940F-44BABD2F7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BBA5-8242-4206-8F21-2936ADC2825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9772-55AE-4260-A0E5-05A592776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366D-150F-4CDA-A00D-47E851A5F2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5553-D7B6-4FE7-89D9-F49DA17731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4878-94DE-430A-A555-683639C38B6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0768-8D14-4BDA-88E6-8DB5B0BC8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6DF4-A757-4C37-8E1A-629941F4B348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02D9-26EC-4442-B3D7-47DBEF03631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8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1406-E6F0-4431-A28A-9040D2535B73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43A5-4614-4DA4-BD91-F02E0D135C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12D9-052D-4A7E-A838-4C56F8407C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C144-97CE-4C4E-9495-1A5F51065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8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57B0-5D57-485C-9842-64639342FC92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C76E-DF60-4C6C-878F-5BB8DA6C8F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 type="dt" idx="9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6240-0726-488D-9614-3A8FAB23E790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56E5-C1E9-4E12-9FCB-74D2638329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B523-41AB-436A-92F6-4ADE245D46DD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A1EA-EB52-458A-92BD-D6ED4D86AA8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9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1576-8E9C-47CB-9D8A-D3410195121F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BE73-6B15-460D-92A1-63EDEF754B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10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2A7B-F671-4D0A-947B-3BA63F08150B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0E7F-206E-40A0-B86E-9A0FB7850B4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DBE8-D19A-47BB-A230-19E82CE606D9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2086-81C4-4830-8BEC-08E308DD8B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0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C120-C2A5-4B61-825C-2F0E2F4EA6E0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5E99-CFB5-4F2E-B078-C2926017E2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 type="dt" idx="10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5DA3-1BA5-4362-A999-94F106EC1EC4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B146-2729-48D7-8567-2347AB3DE30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11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E93D-F39C-4089-8D69-C8F23E13282B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1EAF-9C5A-4460-92CC-5F9407DF77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A568-EE0F-4A20-9183-6F4F8CF0224C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C87A-3A99-4B72-B5C3-94EA7E8B1DA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FAF9-FDD2-4453-A4F6-B0684901B6A5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A8FC-F75C-4F4C-A91E-3B37DCFE5B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2DE6-D7B3-41CD-9A8A-AE630E2137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EFC4-C8AC-4A16-9C06-5487D0C8A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3380-16B5-4C30-9753-AF09D58E267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E083-FA9E-4E18-9C98-456FB417A1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C8C2-26CA-49B1-A341-65E12B7956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8B8D-C4E5-4C6D-9219-EC210AA614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C158-0079-4DF3-BA1B-F0B57B5C4A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E93-BAA1-4FF1-9246-728E758A0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340000" y="115920"/>
            <a:ext cx="5616720" cy="41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2195280" y="4508280"/>
            <a:ext cx="586404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0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661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3200"/>
            </a:b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ТАК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700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701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СПАСИБ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7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08:27:46Z</dcterms:modified>
  <cp:revision>317</cp:revision>
  <dc:subject/>
  <dc:title>Кафедра «Теория и история государства и права» Дисциплина по выбору: ОСНОВЫ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