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AB3A-7948-46B6-825E-D80584A405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F5E0-7F6C-4246-95F9-8618B21B2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качества проектов правовых актов. 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, формы и виды экспертиз в правотворческом процессе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и-коррупционная экспертиза муниципальных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аемым задач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EBAD-9039-446A-ABD7-5562AD8DFF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(по догов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(инициатив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38D0-0A1F-4767-8391-CF7A450D3A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щественная экспертиза проекта/реш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3566-E417-405D-94FA-2E83571A9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CE93-F6ED-4A0D-A99F-46B5C725B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(правовая)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AE34-F17E-4678-BE65-83EDEB2EF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172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7C71-BC14-4D9E-9C4A-3811CA919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овации закона об антикоррупционной экспертизе (АК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с институтами гражданского общества при провед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ая трактовка «коррупциогенных факто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рассмотрения представлен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нициатив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E664-F4BF-4C36-89CA-5587F1027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0EC9-3D33-42B0-851D-756C4C9EF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принятие муниципального нормативно правового 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3,ч.1,п.3. ФЗ№17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B5E6-97F4-419C-88E7-7929D68C4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1ED2-D48C-4E96-BB4E-E48D24D63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определя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органов местного самоуправления и легитимность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7F22-469F-4BD8-A6D5-1B13CFBD8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оррупциогенные факторы (ст.1, ч.2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7AAF-EAA2-47AA-BEA3-7DD5ECC56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229D-5930-4D35-ADA6-A38E53743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корпуционная экспертиза проводится в отношен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BBC7-9120-4F96-B544-42F447EBED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прави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я экспертизы на коррупциогенность (АК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075B-08F0-4C68-9FAD-30663F9BBF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АК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зультатам АКЭ составляется экспертное заключение, в котором отражают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4C1B-3F64-47A0-8C72-DC742C9DAB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е факторы (из 172 Ф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BCEE-F15E-441A-AB4D-26052CB3A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3B3A-4480-41FE-B5D5-5C7237F4D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3B0B-526A-4E9E-96C9-E5894D1AE9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43A3-9D6A-4D73-A3CA-D6515653BA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0844-67FF-4BDD-952B-FEEF501DB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D093-405C-467E-80CE-35288B9D7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630D-9447-44D3-B2C3-347AF3F85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78AC-0E22-49A2-89E3-AF06F7AAC1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 и регламентирование организации правотворче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система принятия решений о разработке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изация  процедуры проектирования нормативных правов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1424-82A8-4EA4-AD7C-26BCD3F46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: организация правотворческ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а принятия решений о разработке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ИРОВАНИЕ ПРАВОТВОРЧЕСКОЙ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право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удит действующей системы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зменений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048C-22CC-41E5-9A40-AEF953AE8F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проектирования нормативных правовых ак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ая предварительная разработка КОНЦЕПЦИИ нормативного правового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6A0A-8D17-433D-8B55-C7635EFF0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ественное участие в правотворческом процес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 на самых ранних стад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организ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поощр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DC9D-4576-4BE5-9547-326952A0E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онтроля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Calibri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A4C4-8EA8-4771-8DD4-CFF9105882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B1C0-32BF-4579-9A95-D0E38C583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FBD-32C4-4063-B763-174C7023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193-C99B-41E8-A60A-ABE894B8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C8A-3F41-48EA-8736-B68A749B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0B3-A98E-4413-973F-6CF46AD8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4323-F76F-4F28-800B-AE40BE8B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28D7-DE74-43DA-B83E-2D4DB0DB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84E0-A7BF-4FC1-9D4B-2825BACA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9E9E-65AE-4F53-8C40-2F909955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B789-B10F-47F6-927D-7F5E4616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A819-9D06-4766-B925-294ABF93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C547-9BFA-46A7-BCC1-B5F468EF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ADB-DC45-41AB-A53E-9A077D65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699E-189B-4C38-AE88-C01A3BF6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430C-0522-45C2-98B7-514A3E13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A7F2-C735-49AD-A60E-2CC6CDE9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FC78-73F5-412D-A47C-32AA1A9B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F042-0204-4D27-B9FE-A9FB43B7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233-54BD-4FC8-8BE2-DAE7705A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F1C-FBCA-4300-A903-DBF608AE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47C-B3EE-4904-82E0-BE61360A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4E8-995D-4ADD-81EC-380B50E6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016-5EF5-48CC-B4CB-3DA38092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387-8979-480D-BF0D-C6C2F776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B4F-2A6D-4ED5-884D-997A3995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41A5-FB0A-4C36-ACC8-14DB5D3C783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B7FE-E266-4E8D-9B3A-AA29DF2374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4AD4-DE0B-4B26-8CB4-A98371525C3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14FA-0A9F-4DB1-9874-D5D997014F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77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Повышение качества проектов правовых актов. </a:t>
            </a: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оль, формы и виды экспертиз в правотворческом процессе.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07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-коррупционная экспертиза муниципальных правовых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решаемым задача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905120"/>
            <a:ext cx="84168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способу организации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(по договор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ая (инициатив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Общественная экспертиза проекта/решения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(правовая)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ЗАКОН №17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новации закона об антикоррупционной экспертизе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7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трудничество с институтами гражданского общества при проведен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ирокая трактовка «коррупциогенных факторо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рассмотрения представлен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инициатив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КУРАТУ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Ы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И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ИТУТЫ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еобходимо принятие муниципального нормативно правового акт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.3,ч.1,п.3. ФЗ№1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067280" y="3716280"/>
            <a:ext cx="1512720" cy="1585800"/>
          </a:xfrm>
          <a:custGeom>
            <a:avLst/>
            <a:gdLst>
              <a:gd name="textAreaLeft" fmla="*/ 0 w 1512720"/>
              <a:gd name="textAreaRight" fmla="*/ 546120 w 1512720"/>
              <a:gd name="textAreaTop" fmla="*/ 41040 h 1585800"/>
              <a:gd name="textAreaBottom" fmla="*/ 154476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932360" y="4149720"/>
            <a:ext cx="4030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рмо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определяет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способность органов местного самоуправления и легитимность и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ст.1, ч.2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нтикорпуционная экспертиза проводится в отношении: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прави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роведения экспертизы на коррупциогенность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ключение АКЭ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езультатам АКЭ составляется экспертное заключение, в котором отражаю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из 172 ФЗ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5597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норм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840"/>
            <a:ext cx="870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0040" y="1904760"/>
            <a:ext cx="8345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4200" y="1714680"/>
            <a:ext cx="8631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регламентирование организации правотворческого проце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об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а система принятия решений о разработке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ализация  процедуры проектирования нормативных правовых ак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: организация правотворческого процесс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принятия решений о разработке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 ПРАВО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2636640"/>
            <a:ext cx="8007840" cy="21124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 право примен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Аудит действующей системы правовых а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нозирование развития социальных отнош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изменений законодатель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проектирования нормативных правовых ак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ая предварительная разработка КОНЦЕПЦИИ нормативного правового 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бщественное участие в правотворческом процессе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 на самых ранних стад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быть организов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поощ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истема контроля качеств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760" y="1413000"/>
            <a:ext cx="848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6:41:01Z</dcterms:created>
  <dc:creator>Хозяин</dc:creator>
  <dc:description/>
  <dc:language>en-US</dc:language>
  <cp:lastModifiedBy>LEGION</cp:lastModifiedBy>
  <dcterms:modified xsi:type="dcterms:W3CDTF">2015-01-28T10:10:14Z</dcterms:modified>
  <cp:revision>16</cp:revision>
  <dc:subject/>
  <dc:title>Повышение качества проектов правовых актов.  Роль, формы и виды экспертиз в правотворческом процессе. </dc:title>
</cp:coreProperties>
</file>