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A3B8-E554-49EB-8CEA-9EF534E0CF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BED4-96AA-41E5-BA12-BD5D7072BC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качества проектов правовых актов. </a:t>
            </a:r>
            <a:br>
              <a:rPr sz="2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, формы и виды экспертиз в правотворческом процессе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ти-коррупционная экспертиза муниципальных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шаемым задач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с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Calibri"/>
              </a:rPr>
              <a:t>Юридическая/правов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Calibri"/>
              </a:rPr>
              <a:t>Антикоррупцион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гвист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иминолог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нансов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нде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8985-6210-4F48-873D-77124953F6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-  проводится  уполномоченными государственными органами и организац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ая (по догово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ая (инициатив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0A23-4358-496D-B1F9-3F374AD870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щественная экспертиза проекта/реше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лючается в  оценк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я  докумен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нтерес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се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и (при реализации всех положений документа) достичь поставленных ц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стичности, т.е. возможности в существующих условиях реализовать предложенное реш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ич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се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ых правил и процедур, обеспечивающих реализацию предлагаемого решения в практической жиз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ия принципа равенства и доступности участия для всех заинтересованных лиц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и понимания и использования  документа людьми, не имеющими специальной подгото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9697-6EA9-4703-B052-9A2844C02D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ая оцен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ы а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ц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мета 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етенции органа, принявшего а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щихся в нем нор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ядка принятия, обнародования(опубликова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е  акта законодательств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е требованиям юридической тех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22D3-ED21-40C3-9686-912D9677B4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(правовая)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: рекомендации по проведению юридической экспертизы нормативных правовых актов субъектов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иложение к Приказу Министерства юстиции Российской Федерации от 29 октября 2003 г. №27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4DC6-9892-4A32-B1F1-A34279FD4D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ррупционная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172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Б АНТИКОРРУПЦИОННОЙ ЭКСПЕРТИЗЕ НОРМАТИВНЫХ ПРАВОВЫХ АКТОВ И ПРОЕКТОВ НОРМАТИВНЫХ ПРАВОВЫХ АК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A255-4134-4802-BE12-A85E3835CA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овации закона об антикоррупционной экспертизе (АК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пр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ество с институтами гражданского общества при проведе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ая трактовка «коррупциогенных фактор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рассмотрения представленных заклю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нициативных заклю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EFBE-12A2-4640-BF1A-3B61F263DD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проводится  АКЭ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Ы (ИХ ДОЛЖНОСТНЫЕ Л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(ИХ ДОЛЖНОСТНЫЕ Л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ГРАЖДАНСК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DD36-7DAC-43DE-A946-D2D90310C3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ходимо принятие муниципального нормативно правового 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орядке проведения антикоррупционной экспертизы правовых актов и проектов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.3,ч.1,п.3. ФЗ№17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5603-B24C-4158-9031-67C8639802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проводится  АКЭ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куратура проводит АКЭ в следующих област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, свобод и обязанностей человека и граждан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ниципальной собственно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ниципальной служб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юджетного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логов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сн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дног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емельн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адостроительног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родоохранного социальных гарантий лицам, замещающим (замещавшим) муниципальные должности, должности муниципальной служб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6AE0-5A9C-47B1-9EA0-33F2DAB033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ых актов определя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системы местного самоуправления (в том числе свободу от коррупциогенных фактор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 органов местного самоуправления и легитимность их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спользования ресурса права для решения вопросов местного значения, в том числе через расширение использования собственных ресурс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822A-348D-4ABB-96B5-FCCD097DC1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оррупциогенные факторы (ст.1, ч.2)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упциогенными факторами являются положения нормативных правовых актов (проектов нормативных правовых актов), устанавливаю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авоприменителя необоснованно широкие пределы усмотр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возможность необоснованного применения исключений из общих прави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также положения, содержа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пределенны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выполним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(или) обременительные требования к гражданам и организациям и тем самым создающие условия для проявления корруп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ABDD-AE9C-4904-B875-CF33F5E828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ррупционная эксперти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проведения экспертизы проектов нормативных правовых актов и иных документов в целях выявления в них положений, способствующих созданию условий для проявлен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тверждены новые правила и методика проведения анти коррупционной экспертизы  Постановлением Правительства Российской Федерации от 26 февраля 2010 г. № 9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1D3D-90E2-4BA2-BF16-53BA521307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икорпуционная экспертиза проводится в отношени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оектов федеральных законов, проектов указов Президента Российской Федерации и проектов постановлений Правительства Российской Федерации, разрабатываемых федеральными органами исполнительной власти, иными государственными органами и организациями, - при проведении их правовой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оектов концепций и технических заданий на разработку проектов федеральных законов, проектов официальных отзывов и заключений на проекты федеральных законов - при проведении их правовой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ормативных правовых актов федеральных органов исполнительной власти, иных государственных органов и организаций, затрагивающих права, свободы и обязанности человека и гражданина, устанавливающих правовой статус организаций или имеющих межведомственный характер, а также уставов муниципальных образований и муниципальных правовых актов о внесении изменений в уставы муниципальных образований - при их государственной регист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нормативных правовых актов субъектов Российской Федерации - при мониторинге их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9ADC-3EA2-4C0B-AD0F-06EC246775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прави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я экспертизы на коррупциогенность (АК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Э должна бы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овер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яем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проводить экспертизу каждой нормы проекта документа на коррупциогенность и излагать ее результаты единообразно с учетом состава и последовательности коррупционных факт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78B9-D5AB-46ED-B4D3-384D574F08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АК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зультатам АКЭ составляется экспертное заключение, в котором отражают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явленные положения проекта документа, способствующие созданию условий для проявления коррупции, с указанием структурных единиц проекта документа (разделы, главы, статьи, части, пункты, подпункты, абзацы) и соответствующих коррупционны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E5BA-5D9B-4F2E-AC88-A44F1A4AEE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упциогенные факторы (из 172 Ф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ми факторами являются положения нормативных правовых актов (проектов нормативных правовых актов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щие для правоприменителя необоснованно широкие пределы усмотрения или возможность необоснованного применения исключений из общих прави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я, содержащие неопределенные, трудновыполнимые и (или) обременительные требования к гражданам и организациям и тем самым создающие условия для проявления корру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1E03-6221-4B67-B7DE-4B05D50986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ми нормами признаются положения проектов документов, содержащие коррупционные 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7E35-7895-494C-ABAE-C91D849D9B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широта дискреционных полномочий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или неопределенность сроков, условий или оснований принятия реш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дублирующих полномочий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определение компетенции по формуле "вправ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выборочное изменение объема пра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ь необоснованного установления исключений из общего порядка для граждан и организаций по усмотрению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20F4-8CB3-44E9-B7D2-3690590C6D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) чрезмерная свобода подзаконного нормотворчеств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бланкетных и отсылочных норм, приводящее к принятию подзаконных актов, вторгающихся в компетенцию органа государственной власти или органа местного самоуправления, принявшего первоначальный нормативный правовой ак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принятие нормативного правового акта за пределами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рушение компетенции органов государственной власти или органов местного самоуправления (их должностных лиц) при принятии нормативных правовых ак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заполнение законодательных пробелов при помощи подзаконных актов в отсутствие законодательной делегации соответствующих полномоч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ление общеобязательных правил поведения в подзаконном акте в условиях отсутствия зак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BCD1-C2EF-46E3-ADF1-327438BAE4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) отсутствие или неполнота административных процеду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) отказ от конкурсных (аукционных) процедур - закрепление административного порядка предоставления права (благ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E38C-4AF3-4694-B198-15D31BFA56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ых а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ис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организации правотворческого процесса (этапы, распределение полномочий, процеду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состава участников правотворческого процесса (различные группы интересов, синтез профессиональных знани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наличия системы контроля каче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бования к разработке проект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у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право при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CD76-74DA-4382-9369-583D101000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наличие завышенных требований к лицу, предъявляемых для реализации принадлежащего ему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становление неопределенных, трудновыполнимых и обременительных требований к гражданам и организаци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злоупотребление правом заявителя органами государственной власти или органами местного самоуправления (их должностными лицам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сутствие четкой регламентации прав граждан и организац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юридико-лингвистическая неопредел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отребление неустоявшихся, двусмысленных терминов и категорий оценочного характе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29CE-3106-41B9-B652-43DB8487B4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ого акта обеспечивает общую эффективность деятельности, в том числе и предотвращение коррупци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E209-4AD2-4AD1-B976-491A5D3AA2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ние и регламентирование организации правотворческого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бен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система принятия решений о разработке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ализация  процедуры проектирования нормативных правовых а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127E-BDD2-41BE-989F-63341185E1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: организация правотворческ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стема принятия решений о разработке а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ЛАНИРОВАНИЕ ПРАВОТВОРЧЕСКОЙ ДЕЯ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 право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удит действующей системы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развития соци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зменений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отребностей, интересов жителей, существующих проблем в общественных отно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A3FD-F13F-4388-AD1C-D6E2F9DBE5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ы проектирования нормативных правовых ак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ая предварительная разработка КОНЦЕПЦИИ нормативного правового 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общественное участие в проектировании и обсуждении /экспертизах КОНЦЕПЦИИ а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4446-C053-417F-B681-3F136D54AE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щественное участие в правотворческом процесс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 на самых ранних стад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быть организ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поощря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4304-1289-4FC4-B930-99B9BE6153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онтроля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ебования к разработке проект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Calibri"/>
              </a:rPr>
              <a:t>Экспертиз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суж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ниторинг правоприме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4533-C217-463D-98C6-24825E54DD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иза – это совокупность мотивированных заключений по предмету и вопросам экспертиз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ловия проведения экспертиз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 (группа экспертов или экспертная организация) не принимали ранее участия в подготовке данного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профессиональной экспертизы: обладают специальными знаниями в данн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зависимость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изы можно классифицировать по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аемым задач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у орган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82A6-0F77-42DA-82D6-A49F4AE36F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186-65FC-4004-A551-62D9F681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9DF-F53A-4C25-B7B6-AA82EF20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5BE-E0BC-4B09-A798-9B6A6278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A7C-2741-4CCA-B02C-AE847E2D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ADC5-352D-4A99-94E7-DD6A547C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0C60-67F0-42A5-9F68-BD63580D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2B37-FF2C-44C6-95E1-D5A92BEB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710A-6047-4A98-BF7B-9B117F63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9FE5-709E-453B-90ED-B1325FF3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EBC6-A627-464D-97B9-73C1267C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9546-878C-4780-87FB-DE4ED248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3A1-CE9E-4F75-B4FE-DED9171F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8118-C3D1-4D91-93A0-B9BAE71C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0B58-193B-4B63-818A-A307C52E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8DE8-C942-43F4-A459-86F4DE58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2CF9-433E-4FDA-9F12-6406719D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7F1D-5224-4014-BA73-5B5824B1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B82-D548-44C4-BF8E-0EB38167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68C-AD57-4919-9442-7B949609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FB1-0496-4CF5-BB38-B32FB1B3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E4C-9D3A-4F57-8541-1D422878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C4DF-E7E9-400C-AB8F-AC024EF4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228-CE56-4022-AED1-3FF6D6B6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86A-F14D-4616-840D-E4557E0B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4E63-B0E6-40A3-86AD-ACB7B87EA47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5E1E-B325-4CCF-9504-79C298EAA8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6356-F884-4B5F-85E9-BFAA6DC634D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86AC-9F8E-48DE-9B34-7878E76FE4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7712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Повышение качества проектов правовых актов. </a:t>
            </a:r>
            <a:br>
              <a:rPr sz="4800"/>
            </a:b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оль, формы и виды экспертиз в правотворческом процессе.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907640" y="386028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-коррупционная экспертиза муниципальных правовых а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 решаемым задачам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760" y="1905120"/>
            <a:ext cx="84168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Arial"/>
              </a:rPr>
              <a:t>Юридическая/прав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Arial"/>
              </a:rPr>
              <a:t>Антикоррупц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гвис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мин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де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 способу организации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ая -  проводится  уполномоченными государственными органами и организац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ая (по договор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ст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висимая (инициатив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Общественная экспертиза проекта/решения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ючается в  оцен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я  докумен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терес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(при реализации всех положений документа) достичь поставленных ц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стичности, т.е. возможности в существующих условиях реализовать предложенное реш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се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ых правил и процедур, обеспечивающих реализацию предлагаемого решения в практической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я принципа равенства и доступности участия для всех заинтересованных л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понимания и использования  документа людьми, не имеющими специальной под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Юридическая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вая оце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а 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етенции органа, принявшего а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ихся в нем н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ка принятия, обнародования(опублико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 акта законодатель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требованиям юридической 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Юридическая (правовая)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: рекомендации по проведению юридической экспертизы нормативных правовых актов субъектов Российской Феде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ложение к Приказу Министерства юстиции Российской Федерации от 29 октября 2003 г. №2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тикоррупционная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ЫЙ ЗАКОН №17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Б АНТИКОРРУПЦИОННОЙ ЭКСПЕРТИЗЕ НОРМАТИВНЫХ ПРАВОВЫХ АКТОВ И ПРОЕКТОВ НОРМАТИВНЫХ ПРАВОВЫХ АК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сновные новации закона об антикоррупционной экспертизе (АКЭ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3772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язательность прове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трудничество с институтами гражданского общества при проведени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ирокая трактовка «коррупциогенных факторов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язательность рассмотрения представленных заключ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ость инициативных заключ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ем проводится  АКЭ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КУРАТУ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Ы (ИХ ДОЛЖНОСТНЫЕ ЛИ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ИЗАЦИИ (ИХ ДОЛЖНОСТНЫЕ ЛИ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СТИТУТЫ ГРАЖДАНСК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Необходимо принятие муниципального нормативно правового акт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порядке проведения антикоррупционной экспертизы правовых актов и проектов правовы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т.3,ч.1,п.3. ФЗ№1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ем проводится  АКЭ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7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куратура проводит АКЭ в следующих област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, свобод и обязанностей человека и граждан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й собствен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й служб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юджетного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ов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н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мель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достроитель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оохранного социальных гарантий лицам, замещающим (замещавшим) муниципальные должности, должности муниципальной служ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4067280" y="3716280"/>
            <a:ext cx="1512720" cy="1585800"/>
          </a:xfrm>
          <a:custGeom>
            <a:avLst/>
            <a:gdLst>
              <a:gd name="textAreaLeft" fmla="*/ 0 w 1512720"/>
              <a:gd name="textAreaRight" fmla="*/ 546120 w 1512720"/>
              <a:gd name="textAreaTop" fmla="*/ 41040 h 1585800"/>
              <a:gd name="textAreaBottom" fmla="*/ 1544760 h 15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932360" y="4149720"/>
            <a:ext cx="40305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ормо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чество нормативных актов определяет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ь системы местного самоуправления (в том числе свободу от коррупциогенных фактор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способность органов местного самоуправления и легитимность и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использования ресурса права для решения вопросов местного значения, в том числе через расширение использования собственных ресурсов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Коррупциогенные факторы (ст.1, ч.2)</a:t>
            </a:r>
            <a:endParaRPr b="1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упциогенными факторами являются положения нормативных правовых актов (проектов нормативных правовых актов), устанавлив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авоприменителя необоснованно широкие пределы усмот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возможность необоснованного применения исключений из общих прав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положения, содержа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пределенн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выполним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(или) обременительные требования к гражданам и организациям и тем самым создающие условия для проявления корруп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тикоррупционная экспертиза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проведения экспертизы проектов нормативных правовых актов и иных документов в целях выявления в них положений, способствующих созданию условий для проявления корруп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верждены новые правила и методика проведения анти коррупционной экспертизы  Постановлением Правительства Российской Федерации от 26 февраля 2010 г. № 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Антикорпуционная экспертиза проводится в отношении: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оектов федеральных законов, проектов указов Президента Российской Федерации и проектов постановлений Правительства Российской Федерации, разрабатываемых федеральными органами исполнительной власти, иными государственными органами и организациями, - при проведении их правов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оектов концепций и технических заданий на разработку проектов федеральных законов, проектов официальных отзывов и заключений на проекты федеральных законов - при проведении их правов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нормативных правовых актов федеральных органов исполнительной власти, иных государственных органов и организаций, затрагивающих права, свободы и обязанности человека и гражданина, устанавливающих правовой статус организаций или имеющих межведомственный характер, а также уставов муниципальных образований и муниципальных правовых актов о внесении изменений в уставы муниципальных образований - при их государственной регист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нормативных правовых актов субъектов Российской Федерации - при мониторинге их приме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сновные правил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роведения экспертизы на коррупциогенность (АКЭ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Э должна бы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вер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проводить экспертизу каждой нормы проекта документа на коррупциогенность и излагать ее результаты единообразно с учетом состава и последовательности коррупционн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Заключение АКЭ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результатам АКЭ составляется экспертное заключение, в котором отражаю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явленные положения проекта документа, способствующие созданию условий для проявления коррупции, с указанием структурных единиц проекта документа (разделы, главы, статьи, части, пункты, подпункты, абзацы) и соответствующих коррупционных фак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Коррупциогенные факторы (из 172 ФЗ)</a:t>
            </a:r>
            <a:endParaRPr b="1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55972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упциогенными факторами являются положения нормативных правовых актов (проектов нормативных правовых акт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ющие для правоприменителя необоснованно широкие пределы усмотрения или возможность необоснованного применения исключений из общих прави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я, содержащие неопределенные, трудновыполнимые и (или) обременительные требования к гражданам и организациям и тем самым создающие условия для проявления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норм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рупциогенными нормами признаются положения проектов документов, содержащие коррупционные фак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2920" y="14288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широта дискреционных полномоч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или неопределенность сроков, условий или оснований принятия ре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ублирующих полномочий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пределение компетенции по формуле "впра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ыборочное изменение объема пр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необоснованного установления исключений из общего порядка для граждан и организаций по усмотрению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840"/>
            <a:ext cx="8702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) чрезмерная свобода подзаконного нормотворчеств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бланкетных и отсылочных норм, приводящее к принятию подзаконных актов, вторгающихся в компетенцию органа государственной власти или органа местного самоуправления, принявшего первоначальный нормативный правовой ак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принятие нормативного правового акта за пределами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компетенции органов государственной власти или органов местного самоуправления (их должностных лиц) при принятии нормативных правовых а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заполнение законодательных пробелов при помощи подзаконных актов в отсутствие законодательной делегации соответствующих полном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ие общеобязательных правил поведения в подзаконном акте в условиях отсутствия зак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00040" y="1904760"/>
            <a:ext cx="8345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отсутствие или неполнота административных процед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) отказ от конкурсных (аукционных) процедур - закрепление административного порядка предоставления права (благ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чество нормативных актов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организации правотворческого процесса (этапы, распределение полномочий, процеду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состава участников правотворческого процесса (различные группы интересов, синтез профессиональных зн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аличия системы контроля кач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я к разработке прое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и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иторинг право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14200" y="1714680"/>
            <a:ext cx="8631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наличие завышенных требований к лицу, предъявляемых для реализации принадлежащего ему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становление неопределенных, трудновыполнимых и обременительных требований к гражданам и организац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лоупотребление правом заявителя органами государственной власти или органами местного самоуправления (их должностными лицам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утствие четкой регламентации прав граждан и организ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юридико-лингвистическая неопреде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ение неустоявшихся, двусмысленных терминов и категорий оценочного 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Качество нормативного акта обеспечивает общую эффективность деятельности, в том числе и предотвращение коррупции!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ирование и регламентирование организации правотворческого процес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обен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а система принятия решений о разработке а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ализация  процедуры проектирования нормативных правовых ак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: организация правотворческого процесса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принятия решений о разработке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ИРОВАНИЕ ПРАВОТВОР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2636640"/>
            <a:ext cx="8007840" cy="211248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ониторинг  право примен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Аудит действующей системы правовых акт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гнозирование развития социальных отнош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ониторинг изменений законодатель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зучение потребностей, интересов жителей, существующих проблем в общественных отношения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дуры проектирования нормативных правовых ак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ая предварительная разработка КОНЦЕПЦИИ нормативного правового 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рокое общественное участие в проектировании и обсуждении /экспертизах КОНЦЕПЦИИ а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бщественное участие в правотворческом процессе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 на самых ранних стад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о быть организов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о поощря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истема контроля качеств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ования к разработке проект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Arial"/>
              </a:rPr>
              <a:t>Эксперти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су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ниторинг правоприме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6760" y="1413000"/>
            <a:ext cx="8488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иза – это совокупность мотивированных заключений по предмету и вопросам эксперти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 проведения эксперти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 (группа экспертов или экспертная организация) не принимали ранее участия в подготовке данног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рофессиональной экспертизы: обладают специальными знаниями в данн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зависимост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изы можно классифицировать п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аем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у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06:41:01Z</dcterms:created>
  <dc:creator>Хозяин</dc:creator>
  <dc:description/>
  <dc:language>en-US</dc:language>
  <cp:lastModifiedBy>LEGION</cp:lastModifiedBy>
  <dcterms:modified xsi:type="dcterms:W3CDTF">2015-01-28T10:10:14Z</dcterms:modified>
  <cp:revision>16</cp:revision>
  <dc:subject/>
  <dc:title>Повышение качества проектов правовых актов.  Роль, формы и виды экспертиз в правотворческом процессе. </dc:title>
</cp:coreProperties>
</file>