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6.gif" ContentType="image/gi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C1C7-D1E9-4B9B-94BF-3C07CA3F0E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9A78-F987-4BFB-B93E-4850EA19032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оявилис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 Месопотам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979A-DE16-410C-8264-4687312AD8D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м 387 г. до н.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ы 12 табл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авливали жесткие наказания для провинивш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вергали людей штраф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ставлял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зн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3C70-E8C8-415C-BD47-0F5B602AE2E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аво служит челове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момента рождения гражданин нашей страны имеет права –это называ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оспособ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ействовать в соответствии со своими правами называется-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681B-12C6-4A51-9008-8D919CD68B8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аступает постепенно (стр 64-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221F-EAED-44A1-B75B-251EDE82712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940F-45D2-4880-AB8F-069B3FEDCFF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де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 65  3-й абзац, Интересн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3D1B-48FB-4473-B381-91494886539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права наступает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неблагоприятные последствия наступающие за наруше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оступки называют 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еступ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5806-5152-4962-BA12-D1605C83D28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67 исторический ф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фразу: «Во все времена преступников наказывали по закону, потому что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, как право защищает людей от несправедливости и з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детям нужн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E3E3-36CD-43A9-B727-3A905A75D83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07E-3BD2-492A-A45D-B7B1632F91B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можно защититься от несправедлив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список действий, которые могут  вам повре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ть двери малознаком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вещи без присмотра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B1E1-9AA6-44BA-83A8-44964E438A5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ли суж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должно помогать  человеку в трудно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лучился конфликт, нужно сразу идти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являются защитниками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является последним и обжалованью не под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1B2C-1A4D-4735-B896-19484ECD027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и 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E98-FAF3-4C1C-B1DE-95ADD291719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9DA3-1343-4D3D-8ED8-4F189E89570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о выражается в разных источниках, например в закон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акон? (стр 62 2-й абза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ажный юридический документ, созданный особым путем, обязательный для испол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88CC-4F0E-45CF-836D-F3E366BCF5F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ы законов пишут юри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акие юрис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ий факт (стр. 63 втор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D5E8-AA62-467C-BDAC-557507496B20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ю закона в силу предшествует сложная процед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0685-FD74-4541-AB14-7E0D9F22CA3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сферы жизни человека регулируют раз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D5F9-59E7-4463-AAA9-518A4D53FEB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2B1-D87A-4401-B408-FD7B55AF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BCE-8A6B-4F8E-8B06-35E11BA4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216D0-E841-46FF-B59E-7802172F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6FF67-7223-4E13-826F-C4540500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E7CE8-BBE4-46D6-ACF6-414F622E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D45BD-0820-4E8D-9388-8E27556C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10EC6-F3E3-40E7-9CC7-30780F6D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14AB5-9E78-485D-87CF-62D67E48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CF976-9F39-4181-86D6-15C1B5B7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59855-4629-491C-BAEE-5607A003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4E835-FB97-49E5-B23F-2337A0DC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E674E-A848-4553-973F-4B75AA5C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7D8-724E-405D-9898-2093B2FD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AD85C-007A-4C4C-B5CE-EC8AB987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DFCCF-BEC8-43C3-8CC2-F1139C1C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96DA3-3226-4E9E-9F32-FBAED7FD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1E422-247C-405A-966E-A52F03A8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2E80E-1788-497D-B97A-2C0E366E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B3AA8-A099-49B3-B74B-B3707DDE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4F6B0-CC71-4666-B240-3D93F010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E6122-2460-4593-9D56-5194368D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554C8-DBF1-4A22-AE50-22E4B7CA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BEC8F-1A2B-46B1-9605-A8759907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221-3671-4FEA-A617-FC4C2A8C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2C538-7D7F-414D-87CA-AF1610B8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99093-4453-48CC-87C4-6418BB89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D30B8-AB2F-40D8-B21D-A38CB619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48C2E-5D43-4788-B7CE-194E7B6F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98226-CD02-46B7-B9F7-A5669B9C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BF654-CA9E-484E-B88C-1F04181D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1C142-8B54-4F4D-9072-CBF9C6D5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EB7C6-BC4C-4CDA-BCDC-57B97CC4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A49A6-4E6E-4349-ADAC-CB498F4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C9FAB-E515-4D5D-A28C-8843A4A4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80B1-4CCC-4B84-B356-9D0C048D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5B8AE-D75C-480D-8B90-1488CBAB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1E85E-91DE-420F-A9FF-9B06A5F9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073E5-ADE6-4216-8E59-46901279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66AC4-FA89-44DC-AFDF-8BE63FAE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1A285-11A6-4CDC-8F90-926F28A2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AB1F6-2CCC-4822-93EC-C7B939EB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8A121-4E8F-4175-92FC-779C6A94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BD180-3BE7-432B-9DFA-B4B74B46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55272-A414-4961-B834-6E56D5F2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19D2D-90FA-46BE-99AF-76B36D4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BE7A-E455-4535-A565-AAC7109B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252EF-9653-4ADA-89FC-D21983D1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9751E-09CB-4F96-8E05-4B7782F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895DF-0693-4CF7-8377-595BB41F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93FC3-5B50-4AB4-B10D-A3CBE2B4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5E9B2-08FB-43CE-9DD0-95E43035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CD870-3AE1-47D9-A010-504461B7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2248C-89CC-4B04-AB6B-A5B9EEF5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A1A33-6829-4C87-9F06-383CC91B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A5301-CEE3-4649-A820-6AD456C7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03DA6-3C28-438B-AE32-02DC24A8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EBC7-19D4-4E79-A530-D1A36EE8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88B7C-795E-44A6-AD36-BA6C496B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69471-D0C2-444C-A98C-3AE729A4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F94A1-50AC-4C87-A842-35E8E6FA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09E2E-04E4-49E3-AA01-71533F24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011E9-E83A-4E64-B650-7DC57ED4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9B10F-C83C-430F-A86F-2EB4BE0C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36073-3784-42E3-8FF8-56DA1210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DFAFC-7873-4BC9-A1B8-142C6E2F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9D82A-DF86-4785-9118-4EFCABE4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D3F69-2576-4119-98D5-C8555F44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F8DD-A5CF-4E83-A673-0E52AA45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3FAE6-7A3E-4B64-B31B-08EB15AA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E60C5-952C-45CF-BBE8-BADB0FB6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3E4AE-8747-49AB-9236-0F776E97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31974-176C-42AC-9A88-70E5F32C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8B0B3-1379-4E64-AE50-12AB3557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8A93C-D570-451E-8E54-A74B624E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A9E5B-57EA-4606-96FE-C4951132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B85BE-19D7-4782-AFBE-191293EC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383DD-9187-4B09-AFBD-2E5193F5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B3A94E-CBC0-4CED-9791-020F7ED8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0112-4D81-463A-BC33-4C661DC4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2FBCF-E928-47AA-9B05-126B8318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43EE9-D5ED-4E54-8E0E-315C124E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1582F-98F8-4306-8F40-D0E3FE5C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55CFF-4DF8-4CAC-A530-564A580C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04496-44C3-4235-92E6-618508F0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A761F-0BA3-46C7-B4C3-AF4FE832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96026-C3EE-4352-934C-EE95ED84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76436-ECEE-43E0-9F1B-77E9F254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15421-10AB-4BE1-8AEB-93EFD6BB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67CC4-427C-4B6F-99C1-EFC4A4D7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F520-92E8-4379-AEB6-6104DBE5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932756-3DE6-40D5-BD7D-4118D383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4249-70C7-4C67-8F23-C66F39CE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349-5257-4A74-B1FA-49CA3E17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55AA-5695-47E6-A761-860316B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2996-EAAA-41B6-A7B9-233C20C8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18C0-AEFF-43CA-AFF3-7FCE8C1B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68EC-9F60-4AA7-BCB2-926101C9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CD1A-A6EB-4654-B045-0A3D4115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AF19-9375-4EE5-8D20-CACDFE6F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1A57-8C2E-462F-8CF1-27FC9933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A1BD-A18D-4745-8B9A-9BCB7346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CF08-AC04-4FB0-81BF-E35A4703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8BDC-8058-425D-84DD-0B829D6F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5EC-96D4-438F-8861-3C191F61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7734-1563-4112-A1B8-7B84B431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089B-42B3-45F3-A625-A22FBC0D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D8FA7-C74F-45D5-8D98-40E0E0DE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370A-1E2B-4A09-91BD-F12536E6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8E40-9B52-43C4-9BCD-4D2CC298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515FE-7DCE-44A7-A8D8-17E18B96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8550-4B1C-4EEF-A831-196B9B51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C897-99EF-4EF7-80A1-3A727AFB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3518-F1E0-478A-B584-DC4F00CC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674AC-3065-4D01-BF82-0837CAB0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00A-163A-488D-9B52-A73CD2A7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EC08-5137-4AA7-BFDB-BEAB233F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C358F-4076-4DE1-AC38-D378AB6B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4F6D0-02DE-4D14-BD91-F41DC33A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56A1-CEA2-41B3-A058-F1A167BF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0680-286F-44D3-968C-EF4302B9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1818-777B-4411-A779-078458AE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74C28-DDBD-4664-A66A-B64680E2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F047-A3E4-4E54-9C2D-1D286A7C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9A808-A1C0-45DB-AADF-50F85C64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B75C3-4A69-48AB-92F9-C68D6987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B19-E7C3-47D0-A4FF-CAD66712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C2AB2-D367-49A8-8EF5-8E39D986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ADF37-E8B4-412E-B4CC-140C93C2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7DA90-BE9D-498E-AFC2-ED64CCC9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F5C5-E8C9-4CA3-A7FF-BD240254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31DBE-5C41-42D7-BC28-BBCB8915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6DC22-0413-4DA0-9E8D-BF9D2C8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3CDFD-B662-40E5-BFE2-6335802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83B4D-5744-4A79-82DB-FB01BDED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FD42A-EB2C-4203-A168-3629238D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AB49B-B8B6-4DD6-B636-2645C6C9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8A8-DD72-4B65-ACED-6D8A5704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B60E0-18AF-49D5-B4AC-B84CB9DE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18B3-E91B-48C0-A86F-31EF99F7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839C8-09D0-4245-9E58-7540F478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A1FEE-BFC1-4970-9AF5-5F58DFEE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A7DA5-24B0-470E-9694-CF1C87FF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312C3-4D9F-40AA-A458-C05597A3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9455C-6F7F-457F-9981-F951AF33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6F626-94D4-47E0-B0DC-96F02E28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37FE3-15ED-461C-B415-D5F9C69E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DF575-F504-45EC-8F58-8BF153CD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C66-8C5B-4ACA-826E-245B9906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06BD8-AB26-4785-BEBC-43B276DA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00E3-579E-4DE6-B364-FD6B1AB7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33F46-257C-4438-84EB-24FA622D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B8040-FB18-496B-9FBC-9C35FFC6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1174B-C729-431F-9106-B25A12A3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8140-F2EF-4C3A-BDFC-08A2FC4B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49142-5DCF-43E0-AD67-07B27663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6516-E5F2-4EFA-9C07-057718FC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E53C9-BBE5-4018-AC2E-E46B1599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AB6AE-A633-45DD-8B34-B646FF29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2D2-990A-4245-A9A5-E567E351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F17D4-1590-43A7-A0AD-A856AA19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877FC-59AA-4C5E-8633-D29E5D3F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7CDB9-FBDD-44FF-AD95-BA67EE13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66D07-60A6-4BED-BA5D-9651D792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72878-9082-4BBB-B678-AF71D23A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BD3AB-9CE7-46DE-BDD9-56698A5A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53CB7-3DB8-4B6A-9E76-7047DBE2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DB4EA-C879-4C9B-BC86-0CCF2A9F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239CF-C615-4B56-B213-83AFC902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D6B2D-361C-48A3-A086-6485BA56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4DE-6F35-4D61-AE8F-F198AD01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D994F-685D-4FF3-B10E-D96BBC57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DF2E2-3572-45E4-A187-94D395F9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AB894-6D20-47B8-81C8-11D6B525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40E4B-58A1-4E4C-985A-28E47A6B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20099-3D6D-42F3-99F2-BCD41103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80E11-9B34-47A5-8153-DC91E2A7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D6B7C-8D57-48E1-A074-48FF87AC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AEF4E-F4C9-4E5A-BE94-7E4B06D0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4D784-4A90-4F32-91D4-C6CA9849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87661-959E-443E-9122-607CDD3F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C80F-05D0-46D1-AA24-3ABFFA49F88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1813-851F-4701-8BBF-540CAC942F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61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4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68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A5FA-66BD-400A-A1D3-434D8C30BDC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0573-918C-4678-9D54-79DB9BF565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1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1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F6C5-8589-4317-BBCD-353D1B75519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52C1-BEEF-45AE-8741-8C83853B37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6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6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7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D3F0-278F-41CF-9734-E794670E001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5874-43ED-4C16-9E20-DAA784535B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1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1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1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1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2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56E1-BF46-4F96-855B-ECF134ADBF6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084F-E60D-4970-B109-AF81EE6497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6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6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6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6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869B-E7C1-4F3B-ADF3-ED632F2BC3A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99B7-1586-4F96-9499-F73493BD29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71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1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71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2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F5A7-D9CB-4ECD-93A1-06A1BB919540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4BA5-D5CB-4796-89F5-4A19DB551C9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129C-9523-4F1E-8449-658DADEED16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7112-B59A-4B18-BC84-8C3F421FE6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0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0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9077-27AD-4943-A666-E6FD9E36FC7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94A8-9B6A-4C38-82E8-137ACADC10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5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5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505A-86EB-4A76-93E8-1299253AE6D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DB68-1490-4384-8353-75B53AC641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0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0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026F-AFD8-4779-B70C-1D3C02330C4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B014-8DB9-404A-944B-35D6151FB9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57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60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4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190C-B114-450E-97A6-A1CFAC4933C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FA28-DC91-40D6-96C9-8CD45E015D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08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10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11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2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3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4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6027-FA64-4D25-AF7D-8951A182575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B39C-D430-4FD3-A83B-5E979C4C31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59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61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62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3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4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5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6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743F-FDDC-489C-A96F-D33968E729E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43D4-EAE5-418C-B148-E608FAC170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10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2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13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4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5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6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17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62AF-62FD-40C0-A81F-12DA698553C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F874-C6F5-4CD5-BF16-4AB49FE21D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749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ль права в жизни общества и челове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371600" y="521928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гда появились законы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авитель Месопотамии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VIII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36" name="Picture 7" descr="j0297161"/>
          <p:cNvPicPr/>
          <p:nvPr/>
        </p:nvPicPr>
        <p:blipFill>
          <a:blip r:embed="rId1"/>
          <a:stretch/>
        </p:blipFill>
        <p:spPr>
          <a:xfrm>
            <a:off x="4067280" y="5013360"/>
            <a:ext cx="1657080" cy="1655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3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им 387 г. до н.э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коны 12 таблиц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станавливали жесткие наказания для провинившихся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одвергали людей штрафа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Заставляли загладить причиненный вре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азни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0" name="Group 8"/>
          <p:cNvGrpSpPr/>
          <p:nvPr/>
        </p:nvGrpSpPr>
        <p:grpSpPr>
          <a:xfrm>
            <a:off x="6934320" y="189000"/>
            <a:ext cx="2209680" cy="2406600"/>
            <a:chOff x="6934320" y="189000"/>
            <a:chExt cx="2209680" cy="2406600"/>
          </a:xfrm>
        </p:grpSpPr>
        <p:pic>
          <p:nvPicPr>
            <p:cNvPr id="841" name="Object 9" descr=""/>
            <p:cNvPicPr/>
            <p:nvPr/>
          </p:nvPicPr>
          <p:blipFill>
            <a:blip r:embed="rId1"/>
            <a:stretch/>
          </p:blipFill>
          <p:spPr>
            <a:xfrm>
              <a:off x="6934320" y="189000"/>
              <a:ext cx="2209680" cy="1527120"/>
            </a:xfrm>
            <a:prstGeom prst="rect">
              <a:avLst/>
            </a:prstGeom>
            <a:ln w="38160">
              <a:solidFill>
                <a:srgbClr val="0000cc"/>
              </a:solidFill>
              <a:miter/>
            </a:ln>
          </p:spPr>
        </p:pic>
        <p:sp>
          <p:nvSpPr>
            <p:cNvPr id="842" name="Text Box 10"/>
            <p:cNvSpPr/>
            <p:nvPr/>
          </p:nvSpPr>
          <p:spPr>
            <a:xfrm>
              <a:off x="7355880" y="1770120"/>
              <a:ext cx="130860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ревний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им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годня право служит человек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момента рождения гражданин нашей страны имеет права –это называется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авоспособность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зможность действовать в соответствии со своими правами называется-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ееспособность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6" name="Group 5"/>
          <p:cNvGrpSpPr/>
          <p:nvPr/>
        </p:nvGrpSpPr>
        <p:grpSpPr>
          <a:xfrm>
            <a:off x="5726880" y="2421000"/>
            <a:ext cx="2373840" cy="2513160"/>
            <a:chOff x="5726880" y="2421000"/>
            <a:chExt cx="2373840" cy="2513160"/>
          </a:xfrm>
        </p:grpSpPr>
        <p:pic>
          <p:nvPicPr>
            <p:cNvPr id="847" name="Picture 6" descr="j0078835"/>
            <p:cNvPicPr/>
            <p:nvPr/>
          </p:nvPicPr>
          <p:blipFill>
            <a:blip r:embed="rId1"/>
            <a:stretch/>
          </p:blipFill>
          <p:spPr>
            <a:xfrm>
              <a:off x="6090840" y="2421000"/>
              <a:ext cx="2009880" cy="20876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48" name="Text Box 7"/>
            <p:cNvSpPr/>
            <p:nvPr/>
          </p:nvSpPr>
          <p:spPr>
            <a:xfrm>
              <a:off x="5726880" y="447444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 рожден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 наступает постепенно (стр 64-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66204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684360" y="1557360"/>
          <a:ext cx="7772400" cy="49928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мелкие бытовые сделк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ыть автором произведени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одрабатывать, самостоятельно распоряжаться доход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носить вклады в банки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сделки от своего име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тановится взрослым человеком – полная дееспособност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детей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р 65  3-й абзац, Интересны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ак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8" name="Picture 5" descr="j0295182"/>
          <p:cNvPicPr/>
          <p:nvPr/>
        </p:nvPicPr>
        <p:blipFill>
          <a:blip r:embed="rId1"/>
          <a:stretch/>
        </p:blipFill>
        <p:spPr>
          <a:xfrm>
            <a:off x="611280" y="1628640"/>
            <a:ext cx="1800000" cy="111780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8"/>
          <p:cNvSpPr/>
          <p:nvPr/>
        </p:nvSpPr>
        <p:spPr>
          <a:xfrm>
            <a:off x="2771640" y="1628640"/>
            <a:ext cx="5616720" cy="1081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0" name="Picture 10" descr="j0344285"/>
          <p:cNvPicPr/>
          <p:nvPr/>
        </p:nvPicPr>
        <p:blipFill>
          <a:blip r:embed="rId2"/>
          <a:stretch/>
        </p:blipFill>
        <p:spPr>
          <a:xfrm>
            <a:off x="611280" y="5584680"/>
            <a:ext cx="1655640" cy="1273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861" name="Picture 14" descr="j0286972"/>
          <p:cNvPicPr/>
          <p:nvPr/>
        </p:nvPicPr>
        <p:blipFill>
          <a:blip r:embed="rId3"/>
          <a:stretch/>
        </p:blipFill>
        <p:spPr>
          <a:xfrm>
            <a:off x="684360" y="2852640"/>
            <a:ext cx="1655640" cy="1152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62" name="Rectangle 17"/>
          <p:cNvSpPr/>
          <p:nvPr/>
        </p:nvSpPr>
        <p:spPr>
          <a:xfrm>
            <a:off x="2700360" y="2852640"/>
            <a:ext cx="5688000" cy="792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5 последни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2700360" y="5850000"/>
            <a:ext cx="5616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6 3-й абзац, Исторический фак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4" name="Picture 24" descr="j0292082"/>
          <p:cNvPicPr/>
          <p:nvPr/>
        </p:nvPicPr>
        <p:blipFill>
          <a:blip r:embed="rId4"/>
          <a:stretch/>
        </p:blipFill>
        <p:spPr>
          <a:xfrm>
            <a:off x="684360" y="4221000"/>
            <a:ext cx="1584000" cy="1152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65" name="Rectangle 25"/>
          <p:cNvSpPr/>
          <p:nvPr/>
        </p:nvSpPr>
        <p:spPr>
          <a:xfrm>
            <a:off x="2700360" y="4365720"/>
            <a:ext cx="5688000" cy="863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 66 2-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За нарушение права наступает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ответствен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894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тветственность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это неблагоприятные последствия наступающие за нарушение прав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пасные поступки называют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еступлениям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Уголовная 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69" name="Group 14"/>
          <p:cNvGrpSpPr/>
          <p:nvPr/>
        </p:nvGrpSpPr>
        <p:grpSpPr>
          <a:xfrm>
            <a:off x="324000" y="5013360"/>
            <a:ext cx="8064360" cy="1584360"/>
            <a:chOff x="324000" y="5013360"/>
            <a:chExt cx="8064360" cy="1584360"/>
          </a:xfrm>
        </p:grpSpPr>
        <p:sp>
          <p:nvSpPr>
            <p:cNvPr id="870" name="Line 9"/>
            <p:cNvSpPr/>
            <p:nvPr/>
          </p:nvSpPr>
          <p:spPr>
            <a:xfrm flipH="1">
              <a:off x="2411280" y="5013360"/>
              <a:ext cx="115272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4427640" y="5013360"/>
              <a:ext cx="108108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324000" y="5445000"/>
              <a:ext cx="2952720" cy="1152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6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Rectangle 12"/>
            <p:cNvSpPr/>
            <p:nvPr/>
          </p:nvSpPr>
          <p:spPr>
            <a:xfrm>
              <a:off x="4500720" y="5373720"/>
              <a:ext cx="388764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 тяжкие (убийство,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могательство, теракт 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4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74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тр. 67 исторический фак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должите фразу: «Во все времена преступников наказывали по закону, потому что…..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ясните, как право защищает людей от несправедливости и з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вы считаете детям нужны прав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пасибо за внима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верка домашнего зад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2. Как можно защититься от несправедливости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должите список действий, которые могут  вам повредит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ткрывать двери малознакомы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ставлять вещи без присмотра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ерны ли суждения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аво должно помогать  человеку в трудно ситуац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сли случился конфликт, нужно сразу идти в суд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ители являются защитниками прав дет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шение суда является последним и обжалованью не подлежи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 и зако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способность и дееспособ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ы пра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20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аво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5" name="Group 18"/>
          <p:cNvGrpSpPr/>
          <p:nvPr/>
        </p:nvGrpSpPr>
        <p:grpSpPr>
          <a:xfrm>
            <a:off x="1191960" y="2924280"/>
            <a:ext cx="7136280" cy="2712960"/>
            <a:chOff x="1191960" y="2924280"/>
            <a:chExt cx="7136280" cy="2712960"/>
          </a:xfrm>
        </p:grpSpPr>
        <p:grpSp>
          <p:nvGrpSpPr>
            <p:cNvPr id="786" name="Group 5"/>
            <p:cNvGrpSpPr/>
            <p:nvPr/>
          </p:nvGrpSpPr>
          <p:grpSpPr>
            <a:xfrm>
              <a:off x="4122720" y="3213000"/>
              <a:ext cx="1730520" cy="2039040"/>
              <a:chOff x="4122720" y="3213000"/>
              <a:chExt cx="1730520" cy="2039040"/>
            </a:xfrm>
          </p:grpSpPr>
          <p:pic>
            <p:nvPicPr>
              <p:cNvPr id="787" name="Picture 6" descr="j0215541"/>
              <p:cNvPicPr/>
              <p:nvPr/>
            </p:nvPicPr>
            <p:blipFill>
              <a:blip r:embed="rId1"/>
              <a:stretch/>
            </p:blipFill>
            <p:spPr>
              <a:xfrm>
                <a:off x="4303800" y="3213000"/>
                <a:ext cx="1368360" cy="134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788" name="Text Box 7"/>
              <p:cNvSpPr/>
              <p:nvPr/>
            </p:nvSpPr>
            <p:spPr>
              <a:xfrm>
                <a:off x="4122720" y="4792320"/>
                <a:ext cx="173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государст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8"/>
            <p:cNvGrpSpPr/>
            <p:nvPr/>
          </p:nvGrpSpPr>
          <p:grpSpPr>
            <a:xfrm>
              <a:off x="1191960" y="3068640"/>
              <a:ext cx="2873160" cy="2503080"/>
              <a:chOff x="1191960" y="3068640"/>
              <a:chExt cx="2873160" cy="2503080"/>
            </a:xfrm>
          </p:grpSpPr>
          <p:sp>
            <p:nvSpPr>
              <p:cNvPr id="790" name="Text Box 9"/>
              <p:cNvSpPr/>
              <p:nvPr/>
            </p:nvSpPr>
            <p:spPr>
              <a:xfrm>
                <a:off x="1191960" y="4746240"/>
                <a:ext cx="2004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оддерживает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ра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791" name="Group 10"/>
              <p:cNvGrpSpPr/>
              <p:nvPr/>
            </p:nvGrpSpPr>
            <p:grpSpPr>
              <a:xfrm>
                <a:off x="1662120" y="3068640"/>
                <a:ext cx="2403000" cy="1733040"/>
                <a:chOff x="1662120" y="3068640"/>
                <a:chExt cx="2403000" cy="1733040"/>
              </a:xfrm>
            </p:grpSpPr>
            <p:pic>
              <p:nvPicPr>
                <p:cNvPr id="792" name="Picture 11" descr="j0344099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2120" y="3068640"/>
                  <a:ext cx="1066680" cy="173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Line 12"/>
                <p:cNvSpPr/>
                <p:nvPr/>
              </p:nvSpPr>
              <p:spPr>
                <a:xfrm flipH="1">
                  <a:off x="2912760" y="3912840"/>
                  <a:ext cx="1152360" cy="0"/>
                </a:xfrm>
                <a:prstGeom prst="line">
                  <a:avLst/>
                </a:prstGeom>
                <a:ln w="76320">
                  <a:solidFill>
                    <a:srgbClr val="ff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4" name="Group 13"/>
            <p:cNvGrpSpPr/>
            <p:nvPr/>
          </p:nvGrpSpPr>
          <p:grpSpPr>
            <a:xfrm>
              <a:off x="5865840" y="2924280"/>
              <a:ext cx="2462400" cy="2712960"/>
              <a:chOff x="5865840" y="2924280"/>
              <a:chExt cx="2462400" cy="2712960"/>
            </a:xfrm>
          </p:grpSpPr>
          <p:grpSp>
            <p:nvGrpSpPr>
              <p:cNvPr id="795" name="Group 14"/>
              <p:cNvGrpSpPr/>
              <p:nvPr/>
            </p:nvGrpSpPr>
            <p:grpSpPr>
              <a:xfrm>
                <a:off x="6878160" y="2924280"/>
                <a:ext cx="1450080" cy="2712960"/>
                <a:chOff x="6878160" y="2924280"/>
                <a:chExt cx="1450080" cy="2712960"/>
              </a:xfrm>
            </p:grpSpPr>
            <p:pic>
              <p:nvPicPr>
                <p:cNvPr id="796" name="Picture 15" descr="j034352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82000" y="2924280"/>
                  <a:ext cx="885600" cy="1801440"/>
                </a:xfrm>
                <a:prstGeom prst="rect">
                  <a:avLst/>
                </a:prstGeom>
                <a:ln w="76320">
                  <a:solidFill>
                    <a:srgbClr val="ffcc00"/>
                  </a:solidFill>
                  <a:miter/>
                </a:ln>
              </p:spPr>
            </p:pic>
            <p:sp>
              <p:nvSpPr>
                <p:cNvPr id="797" name="Text Box 16"/>
                <p:cNvSpPr/>
                <p:nvPr/>
              </p:nvSpPr>
              <p:spPr>
                <a:xfrm>
                  <a:off x="6878160" y="4811760"/>
                  <a:ext cx="14500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Защищает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право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Line 17"/>
              <p:cNvSpPr/>
              <p:nvPr/>
            </p:nvSpPr>
            <p:spPr>
              <a:xfrm>
                <a:off x="5865840" y="3932280"/>
                <a:ext cx="115236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аво выражается в разных источниках, например в законах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такое закон? (стр 62 2-й абзац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важный юридический документ, созданный особым путем, обязательный для исполне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02" name="Group 7"/>
          <p:cNvGrpSpPr/>
          <p:nvPr/>
        </p:nvGrpSpPr>
        <p:grpSpPr>
          <a:xfrm>
            <a:off x="6227640" y="3933720"/>
            <a:ext cx="2663640" cy="2567520"/>
            <a:chOff x="6227640" y="3933720"/>
            <a:chExt cx="2663640" cy="2567520"/>
          </a:xfrm>
        </p:grpSpPr>
        <p:pic>
          <p:nvPicPr>
            <p:cNvPr id="803" name="Picture 8" descr="j0215689"/>
            <p:cNvPicPr/>
            <p:nvPr/>
          </p:nvPicPr>
          <p:blipFill>
            <a:blip r:embed="rId1"/>
            <a:stretch/>
          </p:blipFill>
          <p:spPr>
            <a:xfrm>
              <a:off x="6227640" y="3933720"/>
              <a:ext cx="2663640" cy="20822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04" name="Text Box 9"/>
            <p:cNvSpPr/>
            <p:nvPr/>
          </p:nvSpPr>
          <p:spPr>
            <a:xfrm>
              <a:off x="6543720" y="60415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законы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ексты законов пишут юрист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то такие юристы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сторический факт (стр. 63 второ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08" name="Picture 7" descr="j0231077"/>
          <p:cNvPicPr/>
          <p:nvPr/>
        </p:nvPicPr>
        <p:blipFill>
          <a:blip r:embed="rId1"/>
          <a:stretch/>
        </p:blipFill>
        <p:spPr>
          <a:xfrm>
            <a:off x="2627280" y="3933720"/>
            <a:ext cx="3489480" cy="2232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0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ступлению закона в силу предшествует сложная процедура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1835280" y="2276640"/>
            <a:ext cx="4968720" cy="7207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ссматривается в парламен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2" name="Line 6"/>
          <p:cNvSpPr/>
          <p:nvPr/>
        </p:nvSpPr>
        <p:spPr>
          <a:xfrm>
            <a:off x="4356000" y="3068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1763640" y="3500280"/>
            <a:ext cx="5113440" cy="86544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тверждается Президент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4" name="Line 9"/>
          <p:cNvSpPr/>
          <p:nvPr/>
        </p:nvSpPr>
        <p:spPr>
          <a:xfrm>
            <a:off x="4356000" y="436572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1763640" y="4724280"/>
            <a:ext cx="5256360" cy="7923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убликуется в С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Line 11"/>
          <p:cNvSpPr/>
          <p:nvPr/>
        </p:nvSpPr>
        <p:spPr>
          <a:xfrm flipH="1" flipV="1">
            <a:off x="4355640" y="4723920"/>
            <a:ext cx="7164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755640" y="6021360"/>
            <a:ext cx="8064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итать стр. 62 3-й абза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18" name="Picture 14" descr="j0237460"/>
          <p:cNvPicPr/>
          <p:nvPr/>
        </p:nvPicPr>
        <p:blipFill>
          <a:blip r:embed="rId1"/>
          <a:stretch/>
        </p:blipFill>
        <p:spPr>
          <a:xfrm>
            <a:off x="7164360" y="2349360"/>
            <a:ext cx="1731960" cy="2016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1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азные сферы жизни человека регулируют разные закон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396000" y="1628640"/>
            <a:ext cx="1706400" cy="1224000"/>
            <a:chOff x="396000" y="1628640"/>
            <a:chExt cx="1706400" cy="1224000"/>
          </a:xfrm>
        </p:grpSpPr>
        <p:pic>
          <p:nvPicPr>
            <p:cNvPr id="822" name="Picture 10" descr="ed00039_"/>
            <p:cNvPicPr/>
            <p:nvPr/>
          </p:nvPicPr>
          <p:blipFill>
            <a:blip r:embed="rId1"/>
            <a:stretch/>
          </p:blipFill>
          <p:spPr>
            <a:xfrm>
              <a:off x="463320" y="1628640"/>
              <a:ext cx="1584000" cy="1224000"/>
            </a:xfrm>
            <a:prstGeom prst="rect">
              <a:avLst/>
            </a:prstGeom>
            <a:ln w="76320">
              <a:solidFill>
                <a:srgbClr val="ff3300"/>
              </a:solidFill>
              <a:miter/>
            </a:ln>
          </p:spPr>
        </p:pic>
        <p:sp>
          <p:nvSpPr>
            <p:cNvPr id="823" name="Text Box 11"/>
            <p:cNvSpPr/>
            <p:nvPr/>
          </p:nvSpPr>
          <p:spPr>
            <a:xfrm>
              <a:off x="396000" y="1897920"/>
              <a:ext cx="170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ституция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Ф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24" name="Rectangle 13"/>
          <p:cNvSpPr/>
          <p:nvPr/>
        </p:nvSpPr>
        <p:spPr>
          <a:xfrm>
            <a:off x="2268360" y="1773360"/>
            <a:ext cx="5545440" cy="93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сновной закон стра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5" name="Picture 15" descr="j0233260"/>
          <p:cNvPicPr/>
          <p:nvPr/>
        </p:nvPicPr>
        <p:blipFill>
          <a:blip r:embed="rId2"/>
          <a:stretch/>
        </p:blipFill>
        <p:spPr>
          <a:xfrm>
            <a:off x="611280" y="3068640"/>
            <a:ext cx="1212840" cy="117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26" name="Rectangle 17"/>
          <p:cNvSpPr/>
          <p:nvPr/>
        </p:nvSpPr>
        <p:spPr>
          <a:xfrm>
            <a:off x="2268360" y="3284640"/>
            <a:ext cx="5832720" cy="792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емейны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7" name="Picture 19" descr="j0150102"/>
          <p:cNvPicPr/>
          <p:nvPr/>
        </p:nvPicPr>
        <p:blipFill>
          <a:blip r:embed="rId3"/>
          <a:stretch/>
        </p:blipFill>
        <p:spPr>
          <a:xfrm>
            <a:off x="395280" y="4437000"/>
            <a:ext cx="1657440" cy="124164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828" name="Rectangle 21"/>
          <p:cNvSpPr/>
          <p:nvPr/>
        </p:nvSpPr>
        <p:spPr>
          <a:xfrm>
            <a:off x="2484360" y="4437000"/>
            <a:ext cx="5472360" cy="1079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Трудово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829" name="Group 23"/>
          <p:cNvGrpSpPr/>
          <p:nvPr/>
        </p:nvGrpSpPr>
        <p:grpSpPr>
          <a:xfrm>
            <a:off x="613440" y="5734080"/>
            <a:ext cx="1166760" cy="1415520"/>
            <a:chOff x="613440" y="5734080"/>
            <a:chExt cx="1166760" cy="1415520"/>
          </a:xfrm>
        </p:grpSpPr>
        <p:pic>
          <p:nvPicPr>
            <p:cNvPr id="830" name="Picture 24" descr="bd06876_"/>
            <p:cNvPicPr/>
            <p:nvPr/>
          </p:nvPicPr>
          <p:blipFill>
            <a:blip r:embed="rId4"/>
            <a:stretch/>
          </p:blipFill>
          <p:spPr>
            <a:xfrm>
              <a:off x="687240" y="5734080"/>
              <a:ext cx="1067040" cy="955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831" name="Text Box 25"/>
            <p:cNvSpPr/>
            <p:nvPr/>
          </p:nvSpPr>
          <p:spPr>
            <a:xfrm>
              <a:off x="613440" y="668988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Школ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2" name="Rectangle 27"/>
          <p:cNvSpPr/>
          <p:nvPr/>
        </p:nvSpPr>
        <p:spPr>
          <a:xfrm>
            <a:off x="2556000" y="5661000"/>
            <a:ext cx="5400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3" name="Місце для нижнього колонтитула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1:09:45Z</dcterms:created>
  <dc:creator>USER</dc:creator>
  <dc:description/>
  <dc:language>en-US</dc:language>
  <cp:lastModifiedBy>LEGION</cp:lastModifiedBy>
  <dcterms:modified xsi:type="dcterms:W3CDTF">2015-01-28T10:10:45Z</dcterms:modified>
  <cp:revision>9</cp:revision>
  <dc:subject/>
  <dc:title>Слайд 1</dc:title>
</cp:coreProperties>
</file>