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1AA6-A3CF-46CC-A792-2123F9EC46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Учебная дисциплина 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“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АВОВЕДЕНИЕ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7. Значение законности и правопорядка в совреме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. 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 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 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6EF3-0503-421D-A583-5893538F4C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D04B-228A-49EB-A492-350F45D5DE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ПОРЯД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реализованная законность,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х на основе норм права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ставляет собой цель правового регул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торого принимаются законы и иные норм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акты, осуществляется 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7450-C430-41AE-B3E9-4CB9B78805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орядок всегд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торич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законности. Поэтому укрепл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ее принципов в полном объеме неизбе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крепля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чем слабее реализуются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и, тем слабее правопорядок и силь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, тем ниже защищенность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, уровень их лич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1592-EB73-4752-B2D2-4FA8BAF9BA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FB53-1B20-4AF2-AFD0-549529CA84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Эконом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значают, что производство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 и доходы граждан, государ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и управление и частное предприниматель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 материально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установленных законами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граж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67BA-E694-4F2F-9828-6BFB30F1CD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олит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гарантии означают, что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свою политику в различных сферах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нтересах большинства граждан, реал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ах волю народа, обеспечивает со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 всеми должностными лицами в государ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443F-7E23-488D-BB26-12DF92BB4E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циальны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законы принимаются в интересах тех или ины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социальных групп и приводятся в действие людьми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изации закона не может не быть заинтересов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ов. К сожалению, далеко не всегда законы испол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, в том числе по вине должностных л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в обществе должны дей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сударственные средства обеспечения исполнен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а также способствующие отмене законов (и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актов или их отдельных полож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х дл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C98D-3B70-41A9-81EF-9951A41B8E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деологические гарант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ческие гарантии подразумевают целенаправ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ктивное повышение правовых знаний у насе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бщей грамотности, уровня образования и культу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ение причин принятия тех или иных правовых а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мнения граждан при разработке и совершенств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разъяснение в общедоступных формах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рядка применения правовых а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EADC-9C19-4B09-ADB2-33ABB5795D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ются от других гаран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авовые нормы не только закрепляют сложивш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еделенное время экономические, полит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 некоторые духовные основы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изменяют их посредством установления законами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я хозяйственной деятельности, порядка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х решений, бюджетного финансирования разли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й деятель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юридические гарантии включают собственные 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аконности и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BB1E-B48A-4D53-9D9F-767CC7D586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РЫ УКРЕПЛЕНИЯ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A167-DB14-4FCF-BB1D-133E9A1738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4C4C-C04A-4EC7-B641-6420C86836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овершенствование законодательств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ходя из интересов всего обществ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ая мера. Она предполагает своевременн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 из потребностей общественной практ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овление законов, устранение в них проб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реч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F169-3D3A-49C7-9B97-F35353FC73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становление законами понятных,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быстро реализуемых правил обжал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й, действий и бездейств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ов и должностных ли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обращ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ризнания любых актов или их отд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й не соответствующими актам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юридической силы, в том числе сам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6FE0-75E9-4FCA-AAAF-0B8007DE5A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редотвращение правонарушений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правонарушениями — важная государ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. Однако не менее важна и даже первична 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изации правонарушений по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едупреждения, устранения причин и услов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щих их совершению. В идеале след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предотвращению любых,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ых правонарушений, особенно ср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15CD-5BD8-4B4E-BCBA-E5D5D2DFBA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Привлечение правонаруш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 юридической ответственности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многих случаях данная мера не требует значи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й государства. Вред же, который на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казанными правонарушителями, многокра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ит затраты по привлечению их к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6F50-3A09-4215-B5DC-6990BDC73D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4D80-9B17-44A7-8CFC-43EAB4880E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МЕРНОГО ПО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оступки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не противоречат правовым норм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оответствует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 нарушает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государство должно быть заинтерес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ерном поведении свои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яческ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D865-5C6A-4090-9B79-9187E7C5BC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равомерного п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2027-1324-4337-AE35-F6B9885322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с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грани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5C25-9A07-406F-A628-E3F969CAA7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Б Л А Г О Д А Р 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E107-1FF0-4B07-9276-751DC0C2F8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нятие закон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Зако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уклонное соблюдение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 субъектами (участниками)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 (гражданами, организац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ми органами, должностными лица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47B6-0587-4963-8093-50E50C26CE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79DE-649B-4BD7-A7CD-11DF07B542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Верховенство зако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ый принцип зако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значает, что закон облад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ш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й по отношению к любым другим а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A1E4-3E8E-4555-9DE4-F16CEEBD2C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сеобщ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данным принципом любой закон дол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образно реализовываться на всей терри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 при осуществлении люб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отношении любого лица: бедного или бога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щего на начальственной должности, подчин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езработного, атеиста или верующег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 исключает особенностей действия законов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ы в них сам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C8FF-53D1-467E-8727-15BC1D1EEE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щественная польз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значает, что должны приниматься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 законы, которые продиктованы потребностям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, а не корыстными и иными субъ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ми отдельных государственных дея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в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е в искусственном создании зако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том, чтобы открывать объективные законы в са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и соответственно их формулировать, не навязы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ой необходимости свои произволь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F541-6DDF-496D-ADB5-E6442A0853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допустимость противопост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ности и целесообраз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анного принципа обусловлено о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м изменения отдельных положений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ятия новых законов от изменения и по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общественных отношений либо, напроти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беганием» закона вперед сложившихся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AD05-6EF7-42E9-B37F-C72EE84D88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отвратимость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нарушение закон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дновременно является и принц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й ответственности, что лишь подчер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равовое значение. Неотвратимость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закона позволяет воплощать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нной практике и поддерживать ее, без ч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останется отвлеченной теоретико-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0BF9-DBA6-420A-B9D5-F673936F1D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F4F-B371-4C8B-A427-9A117DCA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6D2-D2EA-4C09-9372-BC199107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FAC-6779-4E1C-B3D5-D279FEAB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310-856A-4E4E-A43A-81813D22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F75-17D5-4403-AE80-93949283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8B0-57F5-4C0A-AE1D-C33CFE76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B3E-001E-400D-B4AA-C200DED7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E69-0890-4144-B659-C8206D6E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95C-161A-4739-AE5A-A22B2DAC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5AB-1241-40F3-82F1-F25E96D2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16E-9474-4642-AE69-43951B0E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157-CE08-46E5-859D-CA694024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4F5C-A0FA-43D4-ADB3-A0AEEC0CC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8728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ая дисципли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ОВЕД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141300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7. Значение законности и правопорядка в совреме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. Правов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564000" y="26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042920" y="3429000"/>
            <a:ext cx="6913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конность, правопорядок и общественный поряд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арантии законности и правопоряд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5640" y="278136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Законность, право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общественный поряд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26920" y="981000"/>
            <a:ext cx="749016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поряд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реализованная законность,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рядоченных на основе норм права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редставляет собой цель правового регул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торого принимаются законы и иные норм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ые акты, осуществляется совершен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д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87280" y="1197000"/>
            <a:ext cx="6842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порядок всегд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ич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отно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законности. Поэтому укреплен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о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ее принципов в полном объеме неизб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реп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чем слабее реализуются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ности, тем слабее правопорядок и силь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л, тем ниже защищенность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, уровень их лич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16000" y="2708280"/>
            <a:ext cx="71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Гарантии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00000" y="1125360"/>
            <a:ext cx="75596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Эконом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значают, что производство материальных бл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 и доходы граждан, государ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о и управление и частное предприниматель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 собственности материально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установленных законами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х гражд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66760" y="114444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58920" y="1341360"/>
            <a:ext cx="6624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лит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е гарантии означают, что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 свою политику в различных сферах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нтересах большинства граждан, реализ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онах волю народа, обеспечивает соблю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 всеми должностными лицами в госуда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620640"/>
            <a:ext cx="806436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ые законы принимаются в интересах тех или ины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х социальных групп и приводятся в действие людьми, поэт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ализации закона не может не быть заинтересов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. К сожалению, далеко не всегда законы исполн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вольно, в том числе по вине должностных л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 в обществе должны дей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осударственные средства обеспечения исполнения люб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а также способствующие отмене законов (и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х актов или их отдельных положен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ных дл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55640" y="981000"/>
            <a:ext cx="77770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еологические гаран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ологические гарантии подразумевают целенаправл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активное повышение правовых знаний у нас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общей грамотности, уровня образования и культу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ъяснение причин принятия тех или иных правовых а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мнения граждан при разработке и совершенств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разъяснение в общедоступных формах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рядка применения правовых а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692280"/>
            <a:ext cx="79930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 законности и право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ются от других гаран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первых, правовые нормы не только закрепляют сложивш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пределенное время экономические, полит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е и некоторые духовные основы обще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изменяют их посредством установления законами прав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ения хозяйственной деятельности, порядка при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х решений, бюджетного финансирования разл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й деятельност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вторых, юридические гарантии включают собственные 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епления законности и правопоря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76360" y="285264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УКРЕПЛЕНИЯ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116000" y="328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116000" y="1341360"/>
            <a:ext cx="705636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овершенствование законодате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я из интересов всего общест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ая мера. Она предполагает своевреме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и из потребностей общественной практ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овление законов, устранение в них пробе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тиворе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900000" y="1052640"/>
            <a:ext cx="77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ановление законами понятных, лег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ыстро реализуемых правил обжал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, действий и бездействия люб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ов и должностных л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обра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целью признания любых актов или их отд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й не соответствующими актам 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й юридической силы, в том числе сам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71640" y="1052640"/>
            <a:ext cx="71294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едотвращение правонаруш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ьба с правонарушениями — важная государ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. Однако не менее важна и даже первична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изации правонарушений по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предупреждения, устранения причин и услов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ующих их совершению. В идеале след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к предотвращению любых, даже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начительных правонарушений, особенно с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вершеннолет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26920" y="1125360"/>
            <a:ext cx="74170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ивлечение правонаруш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юридической ответств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случаях данная мера не требует знач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й государства. Вред же, который нанос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наказанными правонарушителями, многок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осходит затраты по привлечению их к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35280" y="3213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332000" y="765000"/>
            <a:ext cx="6553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МЕРН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омерное по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поступки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не противоречат правовым норм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оответствует зак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 нарушает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государство должно быть заинтерес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омерном поведении свои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сячески поддержи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619280" y="3284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равомерного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4360" y="620640"/>
            <a:ext cx="784836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ани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Б Л А Г О Д А Р 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5877000"/>
            <a:ext cx="720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Зульфугарзаде Т.Э.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Финансовая академия при Правительстве Российской Федерации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42920" y="1484280"/>
            <a:ext cx="70581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е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кон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уклонное соблюдение норм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и субъектами (участниками)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 (гражданами, организац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ми органами, должностными лиц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16000" y="3068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87280" y="155736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Верховенство зак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ый принцип зако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означает, что закон облада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ш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ой по отношению к любым другим ак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71640" y="836640"/>
            <a:ext cx="748980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общ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данным принципом любой закон дол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ообразно реализовываться на всей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а при осуществлении люб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отношении любого лица: бедного или бога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ющего на начальственной должности, подчин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безработного, атеиста или верующег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 исключает особенностей действия законов,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ы в них сам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826920" y="765000"/>
            <a:ext cx="756144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ая поль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значает, что должны приниматься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 законы, которые продиктованы потребностям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а, а не корыстными и иными субъекти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ями отдельных государственных дея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вла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не в искусственном создании зако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том, чтобы открывать объективные законы в са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и и соответственно их формулировать, не навязы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ой необходимости свои произвольные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71640" y="981000"/>
            <a:ext cx="727236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пустимость противопо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ности и целесообраз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анного принципа обусловлено объекти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таванием изменения отдельных положений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ринятия новых законов от изменения и по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общественных отношений либо, напроти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беганием» закона вперед сложившихся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042920" y="907920"/>
            <a:ext cx="7201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твратимость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нарушение зак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дновременно является и принци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ой ответственности, что лишь подчерк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авовое значение. Неотвратимость ответ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нарушение закона позволяет воплощать 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нной практике и поддерживать ее, без 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останется отвлеченной теоретико-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10:12:12Z</dcterms:modified>
  <cp:revision>223</cp:revision>
  <dc:subject/>
  <dc:title>Правоведение</dc:title>
</cp:coreProperties>
</file>