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9C192-F976-46ED-85B9-47C72544964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Times New Roman"/>
              </a:rPr>
              <a:t>Учебная дисциплина </a:t>
            </a:r>
            <a:r>
              <a:rPr b="1" lang="en-US" sz="1200" spc="-1" strike="noStrike">
                <a:solidFill>
                  <a:srgbClr val="1f497d"/>
                </a:solidFill>
                <a:latin typeface="Times New Roman"/>
              </a:rPr>
              <a:t>“</a:t>
            </a:r>
            <a:r>
              <a:rPr b="1" lang="ru-RU" sz="1200" spc="-1" strike="noStrike">
                <a:solidFill>
                  <a:srgbClr val="1f497d"/>
                </a:solidFill>
                <a:latin typeface="Times New Roman"/>
              </a:rPr>
              <a:t>ПРАВОВЕДЕНИЕ</a:t>
            </a:r>
            <a:r>
              <a:rPr b="1" lang="en-US" sz="1200" spc="-1" strike="noStrike">
                <a:solidFill>
                  <a:srgbClr val="1f497d"/>
                </a:solidFill>
                <a:latin typeface="Times New Roman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ма 7. Значение законности и правопорядка в современн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естве. Правовое государ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Times New Roman"/>
              </a:rPr>
              <a:t>ПЛА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 Понятие и принципы закон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Законность, правопорядок и общественный порядо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Гарантии законности и правопоряд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 Правомерное повед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B0714-11CD-456E-A72D-F5B30B52B24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Законность, правопоряд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общественный порядо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19A3F-5204-4B45-B750-2F348710953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ОНЯТИЕ ПРАВОПОРЯД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опорядо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это реализованная законность, состоя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орядоченных на основе норм права обществе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представляет собой цель правового регулирован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которого принимаются законы и иные норматив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ые акты, осуществляется совершенств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одатель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9369D-D6A3-4F10-9C52-5DA335AFEC3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порядок всегда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ториче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 отнош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законности. Поэтому укрепление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акон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изация ее принципов в полном объеме неизбеж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укрепляе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правопоряд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вою очередь, чем слабее реализуются принци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ности, тем слабее правопорядок и сильн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л, тем ниже защищенность прав и своб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, уровень их личной безопас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3146E-08A3-4E05-BB44-591127968A9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Гарантии зако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правопоряд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0DD5B-C14E-4D33-9441-B1A1820C1B4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Экономические гаранти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означают, что производство материальных бл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бществе и доходы граждан, государстве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о и управление и частное предпринимательств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я собственности материально обеспечива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ение установленных законами прав и своб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х гражда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4A5CA-75F4-4431-A078-ACC296376BC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 Политические гаранти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ческие гарантии означают, что государ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одит свою политику в различных сферах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интересах большинства граждан, реализу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конах волю народа, обеспечивает соблю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ов всеми должностными лицами в государ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AC15E-C648-4F14-853A-5709A39E6AE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оциальные гаранти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ые законы принимаются в интересах тех или иных гражд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их социальных групп и приводятся в действие людьми, поэто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ализации закона не может не быть заинтересова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ов. К сожалению, далеко не всегда законы исполняю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ровольно, в том числе по вине должностных лиц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овательно, в обществе должны действов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государственные средства обеспечения исполнения люб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ов, а также способствующие отмене законов (и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их актов или их отдельных положений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дных для 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6E880-BAE6-49ED-87D3-FC8DFB4BC5F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деологические гарантии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деологические гарантии подразумевают целенаправле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активное повышение правовых знаний у населен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о общей грамотности, уровня образования и культур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ъяснение причин принятия тех или иных правовых акто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т мнения граждан при разработке и совершенствов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ов, разъяснение в общедоступных формах смыс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порядка применения правовых ак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DB548-4548-4E74-A309-1F522C2BEA0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Юридические (правовые) гаранти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ие (правовые) гарантии законности и правопоряд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личаются от других гарант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первых, правовые нормы не только закрепляют сложившие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пределенное время экономические, политическ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ые и некоторые духовные основы обществ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и изменяют их посредством установления законами прави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ения хозяйственной деятельности, порядка при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ческих решений, бюджетного финансирования различ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ий деятельности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вторых, юридические гарантии включают собственные м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репления законности и правопоряд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89AEB-550B-4670-9EE7-F3A06731153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РЫ УКРЕПЛЕНИЯ ЗАКО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ПРАВОПОРЯД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E76A6-3709-4AFC-9851-BA9CFB2DD54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 Понятие и принципы закон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57164-D37F-4D39-B3CA-8389B254500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Совершенствование законодательства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сходя из интересов всего общества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главная мера. Она предполагает своевременно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ходи из потребностей общественной практик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новление законов, устранение в них пробе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противореч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07BD7-9298-466F-9CA9-9D73D4E3D61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Установление законами понятных, лег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быстро реализуемых правил обжал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шений, действий и бездействия люб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рганов и должностных ли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также обращ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целью признания любых актов или их отдель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жений не соответствующими актам бол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ой юридической силы, в том числе сам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62ACE-4747-4D19-B3DE-BBB43AF2B4E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. Предотвращение правонарушений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рьба с правонарушениями — важная государстве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а. Однако не менее важна и даже первична зада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нимизации правонарушений посред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предупреждения, устранения причин и услови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ствующих их совершению. В идеале следу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емиться к предотвращению любых, даже сам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значительных правонарушений, особенно сре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овершеннолетн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8E24D-9D54-4B46-BD77-D9BAD4FBFE3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4. Привлечение правонарушителе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 юридической ответственности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многих случаях данная мера не требует значитель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илий государства. Вред же, который наноси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наказанными правонарушителями, многократ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восходит затраты по привлечению их к ответствен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6EBF5-D5EC-485F-86A3-B697E3C3165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 Правомерное повед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5C93E-F79A-40C0-AD37-4628EE3175E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ОНЯТИЕ ПРАВОМЕРНОГО ПОВЕД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Правомерное повед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это поступки челове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торые не противоречат правовым норм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мерное поведение соответствует зако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не нарушает правопоряд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ое государство должно быть заинтересова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авомерном поведении своих гражд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всячески поддерживать 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4B955-EEC0-47CE-8338-186D007AE92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иды правомерного повед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341E7-3136-4736-B5AE-14AC7068598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ктивно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мерное поведение характеризуется осознанной и целенаправленной деятельностью для достижения какого-либо полезного результа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ычно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мерное поведение свойственно людям, для которых оно является способом удовлетворения прежде всего индивидуальных интере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ассивно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мерное поведение проявляется в том, что человек сознательно уклоняется от использования некоторых прав и свобод, даже если они принесут ему материальную выг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гранично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мерное поведение получило такое название потому, что находится на грани правомерного и неправомерного по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58992-86F7-4DD6-898C-5C7C263E177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Verdana"/>
                <a:ea typeface="Arial"/>
              </a:rPr>
              <a:t>Б Л А Г О Д А Р 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Verdana"/>
                <a:ea typeface="Arial"/>
              </a:rPr>
              <a:t>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136AE-2277-4359-9219-3C9081254E1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нятие законнос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Законност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неуклонное соблюдение норм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ми субъектами (участниками) обществе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й (гражданами, организациям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ми органами, должностными лицам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75002-07A7-48BC-A522-6CC53DE2437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НЦИПЫ ЗАКО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83EFC-0CCC-4F44-B37F-4271BC65A57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Верховенство закона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главный принцип зако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означает, что закон обладает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ысш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юридичес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лой по отношению к любым другим акт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0BB63-F1E9-439E-84B3-1F33F16F6FB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сеобщность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тветствии с данным принципом любой закон долж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ообразно реализовываться на всей террит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а при осуществлении любой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в отношении любого лица: бедного или богатог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ющего на начальственной должности, подчинен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безработного, атеиста или верующего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не исключает особенностей действия законов, котор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ы в них сам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FC09A-1AF3-4185-A87C-C93CB8D4510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бщественная польза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ый принцип означает, что должны приниматься толь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 законы, которые продиктованы потребностями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а, а не корыстными и иными субъективны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ениями отдельных государственных дея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а вла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не в искусственном создании законо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в том, чтобы открывать объективные законы в сам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зни и соответственно их формулировать, не навязыв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ческой необходимости свои произвольные реш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75DD2-5A2E-49D2-925A-52C7BE713C0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Недопустимость противопоставл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законности и целесообразности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данного принципа обусловлено объектив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таванием изменения отдельных положений зак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принятия новых законов от изменения и поя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ых общественных отношений либо, напроти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абеганием» закона вперед сложившихся обществе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EFF2E-D047-4EC5-B876-4D7AA952990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Неотвратимость ответственно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за нарушение закона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ый принцип одновременно является и принцип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ой ответственности, что лишь подчеркив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о правовое значение. Неотвратимость ответств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нарушение закона позволяет воплощать зако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бщественной практике и поддерживать ее, без ч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а останется отвлеченной теоретико-юридичес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рукци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E8114-F2F9-4B90-BD2F-C5C54CC3630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C072-D95E-4057-B8E3-2BE51D0B8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01A6-4BF5-4970-AF3D-D61A29CBA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46CA-971A-4030-893F-08C7DE52B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CFEA-51C4-4FC4-8612-5A0F32648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117C-9174-4874-990C-EE2F6BA43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F9EE-67A0-471D-BE8B-72F5A4B78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AE06-3BFF-4BAD-980A-34CEAF4DF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878B-69B4-4B5B-9E5B-278BE1EDB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8912-3A4C-494A-9248-53FDD8781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11C1-4E05-4C40-9E21-385D70DC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41FE-4D45-48FF-A55A-ED09017D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4749-EC0B-44D0-8982-8EC330CF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410E4-64F8-4EEC-BF87-79495418FC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1187280" y="62064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ебная дисциплина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АВОВЕДЕНИ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611280" y="1413000"/>
            <a:ext cx="8064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ма 7. Значение законности и правопорядка в современн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ществе. Правовое государ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3564000" y="263700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ЛА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1042920" y="3429000"/>
            <a:ext cx="69138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Понятие и принципы законно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Законность, правопорядок и общественный порядо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Гарантии законности и правопоряд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Правомерное повед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755640" y="2781360"/>
            <a:ext cx="770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Законность, правопоряд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общественный порядо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826920" y="981000"/>
            <a:ext cx="7490160" cy="45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НЯТИЕ ПРАВОПОРЯД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авопорядо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это реализованная законность, состоя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порядоченных на основе норм права обществе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нош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 представляет собой цель правового регулирован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которого принимаются законы и иные норматив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овые акты, осуществляется совершенств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онодатель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1187280" y="1197000"/>
            <a:ext cx="6842160" cy="39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опорядок всегда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ториче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 отноше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законности. Поэтому укрепление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аконн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ализация ее принципов в полном объеме неизбеж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крепляе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правопоряд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вою очередь, чем слабее реализуются принци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онности, тем слабее правопорядок и сильн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звол, тем ниже защищенность прав и своб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ждан, уровень их личной безопас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1116000" y="2708280"/>
            <a:ext cx="7128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Гарантии зако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правопоряд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900000" y="1125360"/>
            <a:ext cx="75596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Экономические гарант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и означают, что производство материальных бла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бществе и доходы граждан, государствен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зводство и управление и частное предпринимательств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ношения собственности материально обеспечива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уществление установленных законами прав и своб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х гражда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1166760" y="1144440"/>
            <a:ext cx="578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1258920" y="1341360"/>
            <a:ext cx="6624720" cy="33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Политические гарант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итические гарантии означают, что государ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одит свою политику в различных сферах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интересах большинства граждан, реализу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законах волю народа, обеспечивает соблю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онов всеми должностными лицами в государст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684360" y="620640"/>
            <a:ext cx="8064360" cy="55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циальные гарант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юбые законы принимаются в интересах тех или иных гражд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их социальных групп и приводятся в действие людьми, поэто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еализации закона не может не быть заинтересова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бъектов. К сожалению, далеко не всегда законы исполняю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бровольно, в том числе по вине должностных лиц государ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едовательно, в обществе должны действо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государственные средства обеспечения исполнения люб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онов, а также способствующие отмене законов (и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юридических актов или их отдельных положений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редных для общ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755640" y="981000"/>
            <a:ext cx="7777080" cy="41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деологические гарант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деологические гарантии подразумевают целенаправлен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активное повышение правовых знаний у населен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го общей грамотности, уровня образования и культур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ъяснение причин принятия тех или иных правовых акт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т мнения граждан при разработке и совершенствов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онов, разъяснение в общедоступных формах смыс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порядка применения правовых ак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539640" y="692280"/>
            <a:ext cx="7993080" cy="47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Юридические (правовые) гарант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Юридические (правовые) гарантии законности и правопоряд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личаются от других гарант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-первых, правовые нормы не только закрепляют сложившие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пределенное время экономические, политически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циальные и некоторые духовные основы обществ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 и изменяют их посредством установления законами прави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дения хозяйственной деятельности, порядка прин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итических решений, бюджетного финансирования различ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равлений деятельности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-вторых, юридические гарантии включают собственные м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крепления законности и правопоряд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476360" y="2852640"/>
            <a:ext cx="648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РЫ УКРЕПЛЕНИЯ ЗАКО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ПРАВОПОРЯД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5"/>
          <p:cNvSpPr/>
          <p:nvPr/>
        </p:nvSpPr>
        <p:spPr>
          <a:xfrm>
            <a:off x="1116000" y="3284640"/>
            <a:ext cx="70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 Понятие и принципы законно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1116000" y="1341360"/>
            <a:ext cx="7056360" cy="34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Совершенствование законодательств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ходя из интересов всего обществ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главная мера. Она предполагает своевременно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ходи из потребностей общественной практик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новление законов, устранение в них пробе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противореч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3"/>
          <p:cNvSpPr/>
          <p:nvPr/>
        </p:nvSpPr>
        <p:spPr>
          <a:xfrm>
            <a:off x="900000" y="1052640"/>
            <a:ext cx="7704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Установление законами понятных, лег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быстро реализуемых правил обжал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й, действий и бездействия люб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ганов и должностных лиц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также обращ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целью признания любых актов или их отдель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ожений не соответствующими актам бол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окой юридической силы, в том числе сам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он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971640" y="1052640"/>
            <a:ext cx="7129440" cy="46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Предотвращение правонарушений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рьба с правонарушениями — важная государстве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ча. Однако не менее важна и даже первична задач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инимизации правонарушений посредств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х предупреждения, устранения причин и услови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собствующих их совершению. В идеале следу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емиться к предотвращению любых, даже сам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значительных правонарушений, особенно сре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совершеннолетни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826920" y="1125360"/>
            <a:ext cx="7417080" cy="33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Привлечение правонаруш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 юридической ответственности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 многих случаях данная мера не требует значитель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илий государства. Вред же, который наноси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знаказанными правонарушителями, многократ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восходит затраты по привлечению их к ответствен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1835280" y="3213000"/>
            <a:ext cx="56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 Правомерное поведе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1332000" y="765000"/>
            <a:ext cx="6553080" cy="50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НЯТИЕ ПРАВОМЕРНОГО ПОВЕ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равомерное повед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это поступки челове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торые не противоречат правовым норма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омерное поведение соответствует зако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не нарушает правопоряд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юбое государство должно быть заинтересова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равомерном поведении своих гражд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всячески поддерживать е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1619280" y="328464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иды правомерного повед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684360" y="620640"/>
            <a:ext cx="7848360" cy="55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ктивно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омерное поведение характеризуется осознанной и целенаправленной деятельностью для достижения какого-либо полезного результ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ычно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омерное поведение свойственно людям, для которых оно является способом удовлетворения прежде всего индивидуальных интере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ссивно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омерное поведение проявляется в том, что человек сознательно уклоняется от использования некоторых прав и свобод, даже если они принесут ему материальную выго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гранично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омерное поведение получило такое название потому, что находится на грани правомерного и неправомерного пове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900000" y="1844640"/>
            <a:ext cx="7344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Verdana"/>
              </a:rPr>
              <a:t>Б Л А Г О Д А Р 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Verdana"/>
              </a:rPr>
              <a:t>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68360" y="5877000"/>
            <a:ext cx="7200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Зульфугарзаде Т.Э., 2008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Финансовая академия при Правительстве Российской Федерации, 2008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1042920" y="1484280"/>
            <a:ext cx="705816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нятие зако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Законност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неуклонное соблюдение норм пра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ми субъектами (участниками) обществе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ношений (гражданами, организациям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сударственными органами, должностными лицами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1116000" y="3068640"/>
            <a:ext cx="70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НЦИПЫ ЗАКО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1187280" y="1557360"/>
            <a:ext cx="6985080" cy="27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Верховенство зако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главный принцип закон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 означает, что закон обладает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ысше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юридичес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лой по отношению к любым другим акта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971640" y="836640"/>
            <a:ext cx="7489800" cy="50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общ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оответствии с данным принципом любой закон долж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динообразно реализовываться на всей террит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сударства при осуществлении люб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в отношении любого лица: бедного или богатог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ющего на начальственной должности, подчинен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безработного, атеиста или верующего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не исключает особенностей действия законов, котор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тановлены в них сами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826920" y="765000"/>
            <a:ext cx="7561440" cy="50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щественная польз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ный принцип означает, что должны приниматься толь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 законы, которые продиктованы потребностями разви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щества, а не корыстными и иными субъективны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ставлениями отдельных государственных дея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ча вла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не в искусственном создании закон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в том, чтобы открывать объективные законы в сам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изни и соответственно их формулировать, не навязыв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орической необходимости свои произвольные реш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971640" y="981000"/>
            <a:ext cx="7272360" cy="42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допустимость противопоста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конности и целесообраз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личие данного принципа обусловлено объектив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ставанием изменения отдельных положений зак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принятия новых законов от изменения и поя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вых общественных отношений либо, напроти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забеганием» закона вперед сложившихся обществе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нош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1042920" y="907920"/>
            <a:ext cx="7201080" cy="47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отвратимость ответств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 нарушение зако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ный принцип одновременно является и принцип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юридической ответственности, что лишь подчеркив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го правовое значение. Неотвратимость ответств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нарушение закона позволяет воплощать зако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бщественной практике и поддерживать ее, без че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а останется отвлеченной теоретико-юридичес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струкци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20:32:54Z</dcterms:created>
  <dc:creator>ТЗ</dc:creator>
  <dc:description/>
  <dc:language>en-US</dc:language>
  <cp:lastModifiedBy>LEGION</cp:lastModifiedBy>
  <dcterms:modified xsi:type="dcterms:W3CDTF">2015-01-28T10:12:12Z</dcterms:modified>
  <cp:revision>223</cp:revision>
  <dc:subject/>
  <dc:title>Правоведение</dc:title>
</cp:coreProperties>
</file>